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665-E624-4D99-B556-8B3614CC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3CB-6EBF-4268-9E0C-B69FCA57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0FA-986B-420D-9F17-D07488E7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727-B85E-47DD-9634-C7F465D9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21A4-8730-410E-BF3A-0865EE5E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0AD9-85A2-4371-84DC-32730813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DD5C-5634-40A2-B700-7D944723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C7BB-8F28-465E-B699-28CC3D0B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49F3-A676-4706-AD1C-D210D445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FA7E-3FE6-4713-AB63-E7B3A9DB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293D-A0E0-4E4B-858B-4AD841AD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6DD-0659-4804-9DDF-1AD740E5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9AE3-8380-4512-BBE2-81A3D17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8439-4A87-4EF0-A0B0-DEE035AF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5AB6-0E9C-4B8E-9E3A-F0F56A93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3C0A-625B-453D-BC15-AC15EE87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6895-A5A4-49BA-98B8-F45EB05C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7D5-34D7-443A-8B2F-7CA77390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6DE-7B6D-444C-8624-5997F582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55F-C6A8-4D61-9F17-B63D83DB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BF5-C2D0-4DF3-A138-73E2AEB3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F81-6439-4CD2-B833-DFD4B37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26D-A22D-4B5C-8BBA-7CEEA12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932-B522-49BC-B471-D803130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5C78-C4B7-4A64-BCAE-98941193AB3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E6F1-6D56-4A41-B891-A4BA848474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指令系统与汇编语言程序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206028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3.1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寻址方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2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指令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3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的汇编与调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4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设计举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5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计算机中的数据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85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累加器有关的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和执行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操作数均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A=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操作数为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@ 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为寄存器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8880" y="78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操作码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间址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DPTR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PTR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0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2000H)=0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F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0F0H)=0A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DP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@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(0F0H)=05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49240" y="149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共两条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DPTR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PC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的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换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A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偏移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的首地址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间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A + PC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表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0H,31H,32H,33H,34H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程序存储器中顺序存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5H,36H,37H,38H,39H 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41H,42H,43H,44H,45H,46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0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程序存储器取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= 2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PC=201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(2011H)=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成相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; A← 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; A← 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; A← 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Ri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 →(Ri)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址的内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A    ; 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0)← →A(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78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irect   ;SP←SP +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direct   ; (direct)←(S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←SP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8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3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 123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DPL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9240" y="121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0160" y="620640"/>
            <a:ext cx="885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减运算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      乘除法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1989000"/>
            <a:ext cx="71640" cy="208764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,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：将累加器和源操作数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 = 0A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 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影响程序状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(Addition with Ca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与加法指令相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不同寻址方式的源操作数以及进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算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带进位加法指令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对状态标志位的影响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借位减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(Subtraction with Borr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800" y="1125000"/>
            <a:ext cx="8569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加法指令相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累加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。所以带借位减法指令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Rn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direct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Ri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data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0 = 7A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指令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A,R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5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进行不减借位的减法运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需将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清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带借位减法指令对状态标志位的影响与加法指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INCrement destination by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C 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操作是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回原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共有以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             ;A + 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n             ;Rn + 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irect           ;(direct)+ 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@ Ri            ;(Ri)+ 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PTR           ;DPTR + 1→DP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主要用于修改地址指针和计数次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没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是指在指令执行过程中，如何找到操作数有效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址的方法。绝大多数指令执行时都需要使用操作数，而操作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指一个直接参与指令运行的数据，也可以指一个寄存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可以指一个存储器单元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指令系统提供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(Decre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相似，只有一个操作数，该指令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A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Rn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direct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-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@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-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不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功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无符号数相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乘积的低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AH,B = 20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0H,B = 03H,OV = 1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乘法运算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状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是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除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得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余数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只有当除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表示除法的结果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F4H,B = 0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8H,B = 04H,OV = 0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：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作为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相加之和进行调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3-54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AH-5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得到补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3H+46H=0B9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执行调整指令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得到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         逻辑异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取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移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1341360"/>
            <a:ext cx="503280" cy="2951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direct       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@Ri 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 # data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A       ;(direct)∧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 # data    ;(direct)∧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A,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A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常用作字节清零或位清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520" y="90792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Rn        ;A∨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direct      ;A∨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@Ri       ;A∨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 # data      ;A∨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A       ;(direct)∨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 # data    ;(direct)∨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传送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保持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SH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内容入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A, # 0F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P0, # 0F0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RL P0,A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OP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累加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逻辑或运算可以实现对某个单元的某些位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余位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2520" y="78480"/>
            <a:ext cx="489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Rn            ;A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direct          ;A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@Ri            ;A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 # data          ;A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A           ;(direct)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 # data       ;(direct)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RL 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=0D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异或运算可以用来比较两个数据是否相等。当两个数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结果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表示相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否则表示不相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：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按位取反指令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5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指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循环右移一位。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6AH=01101010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3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3H=10100011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7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0520" y="1484280"/>
            <a:ext cx="51847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432160" y="4076640"/>
            <a:ext cx="5256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C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右移一位，如图所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BH=01001011B,CY=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L 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5H,CY=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两操作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32160" y="1628640"/>
            <a:ext cx="44640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89240" y="4365720"/>
            <a:ext cx="468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寻址方式</a:t>
            </a:r>
            <a:br>
              <a:rPr sz="3200"/>
            </a:b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62828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寻址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对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址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6520" y="184464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操作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6520" y="162864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3933720"/>
            <a:ext cx="2592360" cy="1008000"/>
          </a:xfrm>
          <a:prstGeom prst="wedgeRectCallout">
            <a:avLst>
              <a:gd name="adj1" fmla="val -58694"/>
              <a:gd name="adj2" fmla="val -67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1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该指令不执行任何操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程序的等待或时间的延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addr16 ;addr16→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接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 + DPT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+ DPTR→P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1341360"/>
            <a:ext cx="142920" cy="273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29600" y="260280"/>
            <a:ext cx="2376360" cy="2016360"/>
          </a:xfrm>
          <a:prstGeom prst="wedgeRectCallout">
            <a:avLst>
              <a:gd name="adj1" fmla="val -78722"/>
              <a:gd name="adj2" fmla="val 36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,addr11→PC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若转移指令首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 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26AH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PC = 226A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转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26A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880" y="692280"/>
            <a:ext cx="2232000" cy="1439640"/>
          </a:xfrm>
          <a:prstGeom prst="wedgeRectCallout">
            <a:avLst>
              <a:gd name="adj1" fmla="val 77523"/>
              <a:gd name="adj2" fmla="val 79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装入程序计数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转移范围可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都是直接寻址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800" y="3141720"/>
            <a:ext cx="1944720" cy="2519280"/>
          </a:xfrm>
          <a:prstGeom prst="wedgeRectCallout">
            <a:avLst>
              <a:gd name="adj1" fmla="val 103712"/>
              <a:gd name="adj2" fmla="val -1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采用基址变址寻址方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地址由数据指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累加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相加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 = 45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+ DPTR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464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指令采用相对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PC + r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的操作数有两种形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偏移量和目标地址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果是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在程序汇编时由汇编程序自动计算并填入偏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高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=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址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低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转移指令的首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标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指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2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偏移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 = 0120H - (0100H + 2)= 1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机器码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1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累加器判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控制转移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155736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40520" y="765000"/>
            <a:ext cx="2865600" cy="2951280"/>
          </a:xfrm>
          <a:prstGeom prst="wedgeRectCallout">
            <a:avLst>
              <a:gd name="adj1" fmla="val -66175"/>
              <a:gd name="adj2" fmla="val -16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≠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1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1 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1,A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下一条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 A        ;A - 1→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333360"/>
            <a:ext cx="2233800" cy="2016000"/>
          </a:xfrm>
          <a:prstGeom prst="wedgeRectCallout">
            <a:avLst>
              <a:gd name="adj1" fmla="val 94277"/>
              <a:gd name="adj2" fmla="val 59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r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(direc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R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@R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Ri)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" y="3141720"/>
            <a:ext cx="2521080" cy="1800000"/>
          </a:xfrm>
          <a:prstGeom prst="wedgeRectCallout">
            <a:avLst>
              <a:gd name="adj1" fmla="val 79347"/>
              <a:gd name="adj2" fmla="val -3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Rn,rel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-1→Rn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direct,rel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-1→(direct)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3933720"/>
            <a:ext cx="3024000" cy="2303640"/>
          </a:xfrm>
          <a:prstGeom prst="wedgeRectCallout">
            <a:avLst>
              <a:gd name="adj1" fmla="val -70050"/>
              <a:gd name="adj2" fmla="val -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C rel 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C rel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 bit,rel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B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C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 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绝对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ACALL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LCALL addr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4520" y="2637000"/>
            <a:ext cx="289080" cy="1871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160" y="0"/>
            <a:ext cx="2808000" cy="2060640"/>
          </a:xfrm>
          <a:prstGeom prst="wedgeRectCallout">
            <a:avLst>
              <a:gd name="adj1" fmla="val 84199"/>
              <a:gd name="adj2" fmla="val 7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2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 ,  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  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addr11,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1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1240" y="0"/>
            <a:ext cx="3944880" cy="2421000"/>
          </a:xfrm>
          <a:prstGeom prst="wedgeRoundRectCallout">
            <a:avLst>
              <a:gd name="adj1" fmla="val -58773"/>
              <a:gd name="adj2" fmla="val 5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，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60H,PC = 2100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首地址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执行下面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100H:ACALL sub1 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代码是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1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= PC + 2 = 2102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压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61H)= 02H,(62H) = 21H,SP = 62H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令提供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1110100000B (3A0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替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形成目的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010001110100000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进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860640"/>
            <a:ext cx="2649600" cy="1729080"/>
          </a:xfrm>
          <a:prstGeom prst="wedgeRectCallout">
            <a:avLst>
              <a:gd name="adj1" fmla="val 97875"/>
              <a:gd name="adj2" fmla="val -69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3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addr16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61240" y="4221000"/>
            <a:ext cx="3384360" cy="1295640"/>
          </a:xfrm>
          <a:prstGeom prst="wedgeRectCallout">
            <a:avLst>
              <a:gd name="adj1" fmla="val -71625"/>
              <a:gd name="adj2" fmla="val -25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子程序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I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P)→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, SP-1→SP , (SP)→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, SP - 1→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856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62064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传送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       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位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4160" y="1844640"/>
            <a:ext cx="432000" cy="1944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5240" y="907920"/>
            <a:ext cx="2592360" cy="576360"/>
          </a:xfrm>
          <a:prstGeom prst="wedgeRectCallout">
            <a:avLst>
              <a:gd name="adj1" fmla="val 38486"/>
              <a:gd name="adj2" fmla="val 11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i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bi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Y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3600" y="765000"/>
            <a:ext cx="3382920" cy="1584360"/>
          </a:xfrm>
          <a:prstGeom prst="wedgeRoundRectCallout">
            <a:avLst>
              <a:gd name="adj1" fmla="val -70365"/>
              <a:gd name="adj2" fmla="val 27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10H,C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;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0H,C    ;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10H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2520" y="2421000"/>
            <a:ext cx="2016000" cy="1008000"/>
          </a:xfrm>
          <a:prstGeom prst="wedgeRectCallout">
            <a:avLst>
              <a:gd name="adj1" fmla="val -82046"/>
              <a:gd name="adj2" fmla="val 2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        ;0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bit       ;0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       ;1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bit     ;1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52640"/>
            <a:ext cx="3600360" cy="1656000"/>
          </a:xfrm>
          <a:prstGeom prst="wedgeRoundRectCallout">
            <a:avLst>
              <a:gd name="adj1" fmla="val 55643"/>
              <a:gd name="adj2" fmla="val -54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P0 = 01011010B,CY = 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P0.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P0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结果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CY = 1,P0 =010100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8520" y="4724280"/>
            <a:ext cx="3673440" cy="1513080"/>
          </a:xfrm>
          <a:prstGeom prst="wedgeRectCallout">
            <a:avLst>
              <a:gd name="adj1" fmla="val 22300"/>
              <a:gd name="adj2" fmla="val -110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bit       ;CY∧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bit     ;CY ∧ (/bit) → 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bit       ;CY∨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 / bit      ;CY ∨ (/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C          ; (/CY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bit         ; (/bit) →(bi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6520" y="3645000"/>
            <a:ext cx="3457800" cy="2448000"/>
          </a:xfrm>
          <a:prstGeom prst="wedgeRoundRectCallout">
            <a:avLst>
              <a:gd name="adj1" fmla="val -70157"/>
              <a:gd name="adj2" fmla="val -49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位地址，计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 = D  E =(/D)E+ D(/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D      ;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E       ;D(/E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F         ;D(/E) +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        ;D  E→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392880" y="4076640"/>
          <a:ext cx="2253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92880" y="407664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400880" y="5734080"/>
          <a:ext cx="225360" cy="2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00880" y="57340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程序的汇编与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汇编语言程序的一般组成与设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程序、汇编程序和目标程序之间的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357336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源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452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68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0160" y="37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的语句种类和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4520" y="-360"/>
            <a:ext cx="358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08160" y="1600200"/>
          <a:ext cx="7273440" cy="4204080"/>
        </p:xfrm>
        <a:graphic>
          <a:graphicData uri="http://schemas.openxmlformats.org/drawingml/2006/table">
            <a:tbl>
              <a:tblPr/>
              <a:tblGrid>
                <a:gridCol w="2181240"/>
                <a:gridCol w="509220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执行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D    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伪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      1000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宏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代替汇编语言源程序中重复使用的程序的一种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汇编语言程序设计，就是使用汇编语言指令来编写计算机程序。一个高质量的汇编语言源程序，应该具备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简明、清晰，便于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阅读、修改和调试，具有较好的维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较高的可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应该是高效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汇编语言进行程序设计的步骤可以概括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算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算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程序流程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地分配存储空间和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写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机调试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流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6160" y="4723920"/>
            <a:ext cx="835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一节中会着重介绍流程图画法及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81240" y="1125360"/>
          <a:ext cx="6551640" cy="3186360"/>
        </p:xfrm>
        <a:graphic>
          <a:graphicData uri="http://schemas.openxmlformats.org/drawingml/2006/table">
            <a:tbl>
              <a:tblPr/>
              <a:tblGrid>
                <a:gridCol w="1584360"/>
                <a:gridCol w="2046240"/>
                <a:gridCol w="2921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图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起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开始或结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矩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计算或处理等基本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断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判断给出的条件是否成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根据判断的结果决定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流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相关两框的连接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圆圈内数字相同表示连接在一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368520" y="1557360"/>
            <a:ext cx="792360" cy="35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1989000"/>
            <a:ext cx="79236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2565360"/>
            <a:ext cx="9349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1324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93372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指令系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642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数据传送指令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29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）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令系统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89240" y="1916280"/>
            <a:ext cx="505080" cy="29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563400"/>
            <a:ext cx="864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伪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伪指令又称伪操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源程序发送给汇编程序的指令。下面介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中常用的伪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31800" y="1844640"/>
          <a:ext cx="8569080" cy="4848120"/>
        </p:xfrm>
        <a:graphic>
          <a:graphicData uri="http://schemas.openxmlformats.org/drawingml/2006/table">
            <a:tbl>
              <a:tblPr/>
              <a:tblGrid>
                <a:gridCol w="2545920"/>
                <a:gridCol w="2707200"/>
                <a:gridCol w="3315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用伪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赋值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1D56BE6tCID-WinCharSetFFFF-H"/>
                        </a:rPr>
                        <a:t>EQ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EQ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后的符号可以作地址使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也可以作立即数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节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字节数据存入从标号开始的连续存储单元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W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数据存入由标号开始的连续存储单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低地址单元存放高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高地址单元存放低字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存储区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知汇编程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指定的地址开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留指定数目的字节单元作为存储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供程序运行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给符号名赋以位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置起始地址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OR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定目标程序或数据块在存储器中的起始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编结束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于终止源程序的汇编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汇编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49240" y="1268280"/>
          <a:ext cx="8280000" cy="3744360"/>
        </p:xfrm>
        <a:graphic>
          <a:graphicData uri="http://schemas.openxmlformats.org/drawingml/2006/table">
            <a:tbl>
              <a:tblPr/>
              <a:tblGrid>
                <a:gridCol w="2179080"/>
                <a:gridCol w="1198080"/>
                <a:gridCol w="4902840"/>
              </a:tblGrid>
              <a:tr h="101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 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机器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先将汇编语言源程序输入计算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再利用汇编程序将其翻译成二进制代码的目标文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. OBJ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手工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通过人工查找指令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每一条指令的机器代码查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分配存储空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算地址偏移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得到目标文件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调 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224160" y="3789360"/>
            <a:ext cx="187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编写汇编语言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73600" y="3789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源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A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0160" y="4508640"/>
            <a:ext cx="2233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编成目标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3"/>
          </p:cNvCxnSpPr>
          <p:nvPr/>
        </p:nvCxnSpPr>
        <p:spPr>
          <a:xfrm flipH="1">
            <a:off x="7473240" y="3970080"/>
            <a:ext cx="361080" cy="719640"/>
          </a:xfrm>
          <a:prstGeom prst="bentConnector3">
            <a:avLst>
              <a:gd name="adj1" fmla="val -62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97240" y="4508640"/>
            <a:ext cx="144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传送到单片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1"/>
            <a:endCxn id="228" idx="3"/>
          </p:cNvCxnSpPr>
          <p:nvPr/>
        </p:nvCxnSpPr>
        <p:spPr>
          <a:xfrm flipH="1">
            <a:off x="4738320" y="468900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3"/>
            <a:endCxn id="225" idx="1"/>
          </p:cNvCxnSpPr>
          <p:nvPr/>
        </p:nvCxnSpPr>
        <p:spPr>
          <a:xfrm>
            <a:off x="5097600" y="39700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642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实现如图所示的逻辑功能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逻辑电路的功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   ;2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C,2FH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L C    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C,2AH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A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P1.0,C     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28880" y="1557360"/>
            <a:ext cx="6192720" cy="1606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81600" y="3213000"/>
          <a:ext cx="18716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3213000"/>
                    <a:ext cx="18716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中无符号数的大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大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先清进位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然后两数作带借位减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借位标志判断两      数大小。程序流程图如右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DON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无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≥(31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&lt;(31H)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1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30H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   SJMP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54600" y="1557360"/>
            <a:ext cx="3230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统计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个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判断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程序结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再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进位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这一过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直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程序流程图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73240" y="1963800"/>
            <a:ext cx="5759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1, # 0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ACC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保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1:  JZ DONE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R C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位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A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LOOP1              ;CY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1                      ;CY = 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LOO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POP ACC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算术、逻辑运算模拟系统软件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56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的数据编码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带符号数的编码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计算机中，常常需要表示正数和负数，如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数据的符号位？如何表示带符号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表示带符号的数，可以把数的最高位作为符号位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余各位表示数值本身。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把符号数码化了的数称为机器数，而把原来符号未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数码化的数称为机器数的真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真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机器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表示带符号数的规则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表示符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；其余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数值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数补码的数值位与二进制真值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数补码的数值位是其二进制真值取反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补码表示八位带符号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89000"/>
            <a:ext cx="87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指令的一些符号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49360"/>
          <a:ext cx="9632880" cy="6119640"/>
        </p:xfrm>
        <a:graphic>
          <a:graphicData uri="http://schemas.openxmlformats.org/drawingml/2006/table">
            <a:tbl>
              <a:tblPr/>
              <a:tblGrid>
                <a:gridCol w="2066760"/>
                <a:gridCol w="756612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  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  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前工作寄存器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的某一个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@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间接寻址的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“@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间接寻址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r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以是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00H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FH)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立即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中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#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立即数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位立即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对转移指令中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偏移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范围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2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P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据指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的地址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中的直接寻址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操作码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寄存器的编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累加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寄存器寻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C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直接寻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殊功能寄存器，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U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V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令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操作数的前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对该位操作数取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某存储单元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间址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由寄存器间接寻址的单元中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8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可以直接参加运算，符号位与数值位一起参加运算。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补码加法的公式是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0111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0011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0 1 1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1 1 1 0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1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例表示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十进制真值相加，等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正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1417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-57240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，由于机器码的位数是固定的，所以计算机中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范围有限。若两数运算的结果超出了给定的取值范围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运算溢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0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0 0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0 1 0 0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1 0 0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位自动丢失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1001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负数相加，结果为正数，这显然是错误的，出错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是运算发生了溢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89240" y="364500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inary Coded Decima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0488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解释：寻址方式、操作数、汇编语言、机器码、伪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令、汇编、算术运算、逻辑运算、散转、子程序、程序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指令运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问执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程序段后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1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1440" y="-232560"/>
            <a:ext cx="864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现计算机内不同存储区域之间的信息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递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系统中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数据传送指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同存储单元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间的数据传递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440" y="-123840"/>
            <a:ext cx="900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内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 action="ppaction://hlinksldjump"/>
              </a:rPr>
              <a:t>、特殊功能寄存器之间的数据传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操作码助记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9" action="ppaction://hlinksldjump"/>
              </a:rPr>
              <a:t>累加器与外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11" action="ppaction://hlinksldjump"/>
              </a:rPr>
              <a:t>之间的数据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操作码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只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间址寄存器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序存储器中的数据传送到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数据传送是单向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从程序存储器向累加器传送数据。指令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两条指令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元与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之间数据交换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包括三种指令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节交换指令、半字节交换指令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交换指令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堆栈操作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包括进栈、出栈指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523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立即数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 # data       ;  A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, # data    ; (direct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, # data      ; Rn 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, # data    ; (Ri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PTR, # data16 ; DPH ←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L←dat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以及指令执行后存储单元和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, # 2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2H, # 23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2H)=2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R4, # 2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4=2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MOV @ R0, # 5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间接寻址，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0)=5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, # 203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3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之间的数据传送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1)←(direc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指令的寻址方式和执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P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源操作数为寄存器寻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2=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指令等价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操作数均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FH)= (30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 R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直接寻址，源操作数为寄存器间接寻址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H)=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艳之语</cp:lastModifiedBy>
  <dcterms:modified xsi:type="dcterms:W3CDTF">2008-05-30T05:13:36Z</dcterms:modified>
  <cp:revision>6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