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CFA2-1A18-4269-937C-2AF8F730B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C263-DCB3-4529-9BFC-A1BB9703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5C9E-8039-4BCC-97E6-6B24353EA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2412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900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4924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2412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900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458D-D781-4335-B78D-E698AE096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49240" y="563040"/>
            <a:ext cx="53992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1C25-CBC1-406E-8866-59DF0C881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2412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9900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4924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62412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39900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0899-8F07-4B20-B7E6-675584111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3737-1CDE-457C-BD58-A1890D7F2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3685-9A3F-4A2B-A18F-83F44F0BA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49240" y="563040"/>
            <a:ext cx="53992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6904-DA24-40B9-89BE-8C2713054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CB36-1ED3-4AA8-96D4-1062C9E6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883B-7E0C-4B9A-8348-A5437AC8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3F6B-1F8A-4ED0-A311-E53D5982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81360"/>
            <a:ext cx="23112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81360"/>
            <a:ext cx="31366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81360"/>
            <a:ext cx="23115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01420-B646-4B00-BA3F-7C666D8433B3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华文彩云"/>
              </a:rPr>
              <a:t>Click to edit the title text format</a:t>
            </a:r>
            <a:endParaRPr b="1" i="1" lang="en-US" sz="3200" spc="-1" strike="noStrike">
              <a:solidFill>
                <a:srgbClr val="000000"/>
              </a:solidFill>
              <a:latin typeface="华文彩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cc6600"/>
                </a:solidFill>
                <a:latin typeface="宋体"/>
                <a:ea typeface="宋体"/>
              </a:rPr>
              <a:t>电子与信息技术专业教学课程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i="1" lang="zh-CN" sz="3200" spc="-1" strike="noStrike">
                <a:solidFill>
                  <a:srgbClr val="cc6600"/>
                </a:solidFill>
                <a:latin typeface="宋体"/>
                <a:ea typeface="宋体"/>
              </a:rPr>
              <a:t>        </a:t>
            </a:r>
            <a:br>
              <a:rPr sz="3200"/>
            </a:br>
            <a:r>
              <a:rPr b="1" i="1" lang="zh-CN" sz="3200" spc="-1" strike="noStrike">
                <a:solidFill>
                  <a:srgbClr val="cc6600"/>
                </a:solidFill>
                <a:latin typeface="宋体"/>
                <a:ea typeface="宋体"/>
              </a:rPr>
              <a:t>        </a:t>
            </a:r>
            <a:r>
              <a:rPr b="1" i="1" lang="zh-CN" sz="6000" spc="-1" strike="noStrike">
                <a:solidFill>
                  <a:srgbClr val="cc6600"/>
                </a:solidFill>
                <a:latin typeface="宋体"/>
                <a:ea typeface="宋体"/>
              </a:rPr>
              <a:t>单片机原理与应用</a:t>
            </a:r>
            <a:br>
              <a:rPr sz="6000"/>
            </a:br>
            <a:endParaRPr b="1" i="1" lang="en-US" sz="6000" spc="-1" strike="noStrike">
              <a:solidFill>
                <a:srgbClr val="000000"/>
              </a:solidFill>
              <a:latin typeface="华文彩云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-360" y="3428640"/>
            <a:ext cx="9906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Arial"/>
                <a:ea typeface="宋体"/>
              </a:rPr>
              <a:t>2008</a:t>
            </a:r>
            <a:r>
              <a:rPr b="1" i="1" lang="zh-CN" sz="3600" spc="-1" strike="noStrike">
                <a:solidFill>
                  <a:srgbClr val="cc6600"/>
                </a:solidFill>
                <a:latin typeface="Arial"/>
                <a:ea typeface="宋体"/>
              </a:rPr>
              <a:t>年</a:t>
            </a:r>
            <a:r>
              <a:rPr b="1" i="1" lang="en-US" sz="3600" spc="-1" strike="noStrike">
                <a:solidFill>
                  <a:srgbClr val="cc6600"/>
                </a:solidFill>
                <a:latin typeface="Arial"/>
                <a:ea typeface="宋体"/>
              </a:rPr>
              <a:t>7</a:t>
            </a:r>
            <a:r>
              <a:rPr b="1" i="1" lang="zh-CN" sz="3600" spc="-1" strike="noStrike">
                <a:solidFill>
                  <a:srgbClr val="cc6600"/>
                </a:solidFill>
                <a:latin typeface="Arial"/>
                <a:ea typeface="宋体"/>
              </a:rPr>
              <a:t>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" action="ppaction://hlinkshowjump?jump=nextslide"/>
          </p:cNvPr>
          <p:cNvSpPr/>
          <p:nvPr/>
        </p:nvSpPr>
        <p:spPr>
          <a:xfrm>
            <a:off x="9129600" y="616572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48880" y="113760"/>
            <a:ext cx="842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31440" y="691920"/>
            <a:ext cx="86425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学习方法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 熟悉单片机的内部资源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 熟悉单片机的指令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理论与实践相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软件设计与硬件电路设计相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5616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三、单片机实验开发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04520" y="1196640"/>
            <a:ext cx="1655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marL="116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右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一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验开发板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rcRect l="3448" t="3831" r="3448" b="5745"/>
          <a:stretch/>
        </p:blipFill>
        <p:spPr>
          <a:xfrm>
            <a:off x="2360520" y="1197000"/>
            <a:ext cx="7344000" cy="53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49240" y="563400"/>
            <a:ext cx="820728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测试与练习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49240" y="1125360"/>
            <a:ext cx="820728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举例说明单片机的一般组成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举例说明单片机应用在哪些领域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因特网查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hilip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现更名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X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半导体）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icrochi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TME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等公司的单片机产品系列，哪些产品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属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CS-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系列？并搜索相关主要技术参数，归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产品特点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49240" y="-65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31440" y="549000"/>
            <a:ext cx="86425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一章    单片机概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1.1 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单片机的组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1.2 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单片机的特点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1.3 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单片机的应用领域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1.4 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单片机的发展方向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1.5  MCS-51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系列单片机产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1.6  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单片机技术的学习方法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1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单片机的组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72880" y="1557360"/>
            <a:ext cx="93600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单片机又称单片微型计算机，是将中央处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器、存储器、输入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输出接口电路集成到同一块芯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上，具有独特功能的微型计算机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80880" y="6688440"/>
            <a:ext cx="799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75800" y="188640"/>
            <a:ext cx="86425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281240" y="1989000"/>
            <a:ext cx="7127640" cy="4083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88880" y="692280"/>
            <a:ext cx="3024360" cy="1152360"/>
          </a:xfrm>
          <a:prstGeom prst="wedgeRectCallout">
            <a:avLst>
              <a:gd name="adj1" fmla="val -4856"/>
              <a:gd name="adj2" fmla="val 925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即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，是单片机的核心部件。包括算术逻辑单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LU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rithmetic Logic Uni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和控制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68520" y="5084640"/>
            <a:ext cx="2592360" cy="1197000"/>
          </a:xfrm>
          <a:prstGeom prst="wedgeRectCallout">
            <a:avLst>
              <a:gd name="adj1" fmla="val 38671"/>
              <a:gd name="adj2" fmla="val -950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计算机的记忆部件，用于存放程序和数据。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分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只读存储器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OM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和随机存储器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AM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05600" y="549360"/>
            <a:ext cx="2449440" cy="1439640"/>
          </a:xfrm>
          <a:prstGeom prst="wedgeRectCallout">
            <a:avLst>
              <a:gd name="adj1" fmla="val -38851"/>
              <a:gd name="adj2" fmla="val 156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接口电路，用来连接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和输入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设备，完成信号转换与驱动、数据传输和控制等功能。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.2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的特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31440" y="1599840"/>
            <a:ext cx="86425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干扰性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高可靠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控制功能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指令系统简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nextslide"/>
          </p:cNvPr>
          <p:cNvSpPr/>
          <p:nvPr/>
        </p:nvSpPr>
        <p:spPr>
          <a:xfrm>
            <a:off x="9201240" y="6308640"/>
            <a:ext cx="504720" cy="54936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09">
                <a:moveTo>
                  <a:pt x="0" y="0"/>
                </a:moveTo>
                <a:lnTo>
                  <a:pt x="21600" y="0"/>
                </a:lnTo>
                <a:lnTo>
                  <a:pt x="21600" y="23509"/>
                </a:lnTo>
                <a:lnTo>
                  <a:pt x="0" y="23509"/>
                </a:lnTo>
                <a:close/>
              </a:path>
              <a:path fill="lightenLess" w="21600" h="235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9">
                <a:moveTo>
                  <a:pt x="21600" y="0"/>
                </a:moveTo>
                <a:lnTo>
                  <a:pt x="21600" y="23509"/>
                </a:lnTo>
                <a:lnTo>
                  <a:pt x="20200" y="22109"/>
                </a:lnTo>
                <a:lnTo>
                  <a:pt x="20200" y="1400"/>
                </a:lnTo>
                <a:close/>
              </a:path>
              <a:path fill="darkenLess" w="21600" h="23509">
                <a:moveTo>
                  <a:pt x="21600" y="23509"/>
                </a:moveTo>
                <a:lnTo>
                  <a:pt x="0" y="23509"/>
                </a:lnTo>
                <a:lnTo>
                  <a:pt x="1400" y="22109"/>
                </a:lnTo>
                <a:lnTo>
                  <a:pt x="20200" y="22109"/>
                </a:lnTo>
                <a:close/>
              </a:path>
              <a:path fill="lighten" w="21600" h="23509">
                <a:moveTo>
                  <a:pt x="0" y="235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9"/>
                </a:lnTo>
                <a:close/>
              </a:path>
              <a:path fill="darken" w="21600" h="23509">
                <a:moveTo>
                  <a:pt x="3794" y="4748"/>
                </a:moveTo>
                <a:lnTo>
                  <a:pt x="17806" y="11755"/>
                </a:lnTo>
                <a:lnTo>
                  <a:pt x="3794" y="1876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previousslide"/>
          </p:cNvPr>
          <p:cNvSpPr/>
          <p:nvPr/>
        </p:nvSpPr>
        <p:spPr>
          <a:xfrm>
            <a:off x="8481960" y="6308640"/>
            <a:ext cx="574560" cy="549360"/>
          </a:xfrm>
          <a:custGeom>
            <a:avLst/>
            <a:gdLst>
              <a:gd name="textAreaLeft" fmla="*/ 35280 w 574560"/>
              <a:gd name="textAreaRight" fmla="*/ 539280 w 5745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590" h="21600">
                <a:moveTo>
                  <a:pt x="0" y="0"/>
                </a:moveTo>
                <a:lnTo>
                  <a:pt x="22590" y="0"/>
                </a:lnTo>
                <a:lnTo>
                  <a:pt x="22590" y="21600"/>
                </a:lnTo>
                <a:lnTo>
                  <a:pt x="0" y="21600"/>
                </a:lnTo>
                <a:close/>
              </a:path>
              <a:path fill="lightenLess" w="22590" h="21600">
                <a:moveTo>
                  <a:pt x="0" y="0"/>
                </a:moveTo>
                <a:lnTo>
                  <a:pt x="22590" y="0"/>
                </a:lnTo>
                <a:lnTo>
                  <a:pt x="21190" y="1400"/>
                </a:lnTo>
                <a:lnTo>
                  <a:pt x="1400" y="1400"/>
                </a:lnTo>
                <a:close/>
              </a:path>
              <a:path fill="darken" w="22590" h="21600">
                <a:moveTo>
                  <a:pt x="22590" y="0"/>
                </a:moveTo>
                <a:lnTo>
                  <a:pt x="22590" y="21600"/>
                </a:lnTo>
                <a:lnTo>
                  <a:pt x="21190" y="20200"/>
                </a:lnTo>
                <a:lnTo>
                  <a:pt x="21190" y="1400"/>
                </a:lnTo>
                <a:close/>
              </a:path>
              <a:path fill="darkenLess" w="22590" h="21600">
                <a:moveTo>
                  <a:pt x="225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90" y="20200"/>
                </a:lnTo>
                <a:close/>
              </a:path>
              <a:path fill="lighten" w="225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90" h="21600">
                <a:moveTo>
                  <a:pt x="4289" y="10800"/>
                </a:moveTo>
                <a:lnTo>
                  <a:pt x="18302" y="3794"/>
                </a:lnTo>
                <a:lnTo>
                  <a:pt x="1830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83520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.3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的应用领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49240" y="1699920"/>
            <a:ext cx="82072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752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智能控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办公自动化领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商业营销领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工业自动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家用电器领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48880" y="563400"/>
            <a:ext cx="842508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.4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的发展方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04520" y="1557360"/>
            <a:ext cx="849636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低功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MO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上个世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年代，作为主流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CS-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系列单片机（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3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功耗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00mW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上，而现在的单片机普遍都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左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微型单片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现在的单片机产品普遍要求体积小、重量轻，所以大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数单片机具有多种封装形式，其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M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表面封装）越来越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欢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流与多种产品共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现在虽然单片机的产品繁多，各具特色，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机仍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C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核心的单片机占主流，兼容其结构和指令系统的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HILI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公司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TME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公司、中国台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INBON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公司等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品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48880" y="620280"/>
            <a:ext cx="82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.5  MCS-5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系列单片机产品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1800" y="1344960"/>
            <a:ext cx="864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CS-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系列单片机是美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T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公司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98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年推出的产品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早期的最典型的代表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 MCS-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核实际上已经成为一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单片机的标准。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单片机之后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单片机也有很大的发展，例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te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公司推出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CS-9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系列单片机。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CS-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相比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CS-9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字长增加了一倍，另外其指令系统、中断系统、定时器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接口电路等其它性能也有很大的提高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8352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.6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技术的学习方法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学习条件和环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硬件环境：个人计算机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工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套（含万用表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仿真器或实验开发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软件环境：用于编辑、编译、调试源程序的工具软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套（如“伟福”模拟调试软件或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ile 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软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下载目标代码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S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在系统编程）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载软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7T12:32:29Z</dcterms:created>
  <dc:creator>艳之语</dc:creator>
  <dc:description/>
  <cp:keywords/>
  <dc:language>en-US</dc:language>
  <cp:lastModifiedBy>hep</cp:lastModifiedBy>
  <dcterms:modified xsi:type="dcterms:W3CDTF">2008-07-14T07:01:39Z</dcterms:modified>
  <cp:revision>3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962582052</vt:lpwstr>
  </property>
</Properties>
</file>