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gif" ContentType="image/gif"/>
  <Override PartName="/ppt/media/image7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0560" y="394560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16240" y="15573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0560" y="39456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116240" y="39456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801160" y="155736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52120" y="155736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0560" y="394560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801160" y="394560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352120" y="394560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C96F-3C4B-4D30-89AB-E3ACE1253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50560" y="155736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69E7-5A54-469F-90B7-8468AFE5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9FAF-C5A3-4238-AF63-E95C0FF2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116240" y="155736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DC28-29FB-48AF-A56C-54230C51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E25A-0328-4312-9F9F-91682558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59760"/>
            <a:ext cx="7467840" cy="55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C5B7-A0B1-47AF-976F-BEAB8B46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116240" y="155736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50560" y="39456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866E-A4B6-4B86-AD59-229757D7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50560" y="155736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16240" y="15573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116240" y="39456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4B8A-1C2E-4DBB-A8CE-B0665D6D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16240" y="15573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50560" y="394560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6DEA-5BF8-4012-9990-41318CE0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50560" y="394560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623A-9155-40AA-B4A9-58D157CB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16240" y="15573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560" y="39456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116240" y="39456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4C15-5211-4144-8DEB-3CDD4D57C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801160" y="155736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52120" y="155736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50560" y="394560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801160" y="394560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52120" y="394560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C961-67FD-4B9A-8B4F-E79E098BE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471E-B285-43EA-A19A-53DD5293A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0560" y="155736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7CF3-ACC1-459F-94C8-642F42E7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329E-6527-4214-91AD-C06AA1BD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116240" y="155736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8E94-3FF9-4FF8-B3C4-50E706B0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02B5-9EBA-475A-B426-374A1FA0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80880" y="59760"/>
            <a:ext cx="7467840" cy="55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A81A-4EAD-44DC-A53D-F5B041A2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116240" y="155736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50560" y="39456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A4A5-F4DF-4D13-B5F1-9A5E23DC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116240" y="15573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116240" y="39456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52C3-0575-4A9B-93FB-E11C958E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116240" y="15573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50560" y="394560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2EAA-FAA7-4D07-AC26-9AD97196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50560" y="394560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55BA-9110-4F1F-9E7E-7255D2A5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16240" y="15573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0560" y="39456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116240" y="39456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9ACD-31EE-41A8-A743-1952EFD15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801160" y="155736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52120" y="155736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50560" y="394560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2801160" y="394560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352120" y="394560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42AA-0D40-431F-8E3F-E45614AC1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962A0-A167-4ED3-8639-C40974D8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50560" y="155736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FBE71-E444-4097-8BBA-FBE62F51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62AC3-5502-422D-9E19-FC70A81D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116240" y="155736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116240" y="155736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A50C0-55F5-415E-889E-E0995B84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85832-B533-4F7A-B470-0619D081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80880" y="59760"/>
            <a:ext cx="7467840" cy="55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64D54-4039-469C-8788-1A656E23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116240" y="155736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50560" y="39456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57CE7-A191-4D59-9BA6-9E8FC159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116240" y="15573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116240" y="39456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829B3-C27F-4969-82F6-EF0218CC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16240" y="15573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0560" y="394560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46F24-77C2-44E8-9CC2-D939FFA6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50560" y="394560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5AECF-C7CD-4BFD-8B4D-905CBFC0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116240" y="15573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50560" y="39456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116240" y="39456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93F05-455D-4168-A105-B33FB24BC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801160" y="155736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352120" y="155736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50560" y="394560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2801160" y="394560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352120" y="394560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16D0B-2AEE-4A63-92EF-D281B3E42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59760"/>
            <a:ext cx="7467840" cy="55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16240" y="155736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50560" y="39456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16240" y="15573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16240" y="39456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16240" y="15573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0560" y="394560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59760"/>
            <a:ext cx="746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560" y="155736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285840">
              <a:lnSpc>
                <a:spcPct val="12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77920" indent="-228600">
              <a:lnSpc>
                <a:spcPct val="12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12760" y="73080"/>
            <a:ext cx="893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6600"/>
                </a:solidFill>
                <a:uFillTx/>
                <a:latin typeface="仿宋_GB2312"/>
                <a:ea typeface="仿宋_GB2312"/>
              </a:rPr>
              <a:t>第</a:t>
            </a:r>
            <a:r>
              <a:rPr b="1" lang="en-US" sz="2000" spc="-1" strike="noStrike" u="sng">
                <a:solidFill>
                  <a:srgbClr val="006600"/>
                </a:solidFill>
                <a:uFillTx/>
                <a:latin typeface="仿宋_GB2312"/>
                <a:ea typeface="仿宋_GB2312"/>
              </a:rPr>
              <a:t>9</a:t>
            </a:r>
            <a:r>
              <a:rPr b="1" lang="zh-CN" sz="2000" spc="-1" strike="noStrike" u="sng">
                <a:solidFill>
                  <a:srgbClr val="006600"/>
                </a:solidFill>
                <a:uFillTx/>
                <a:latin typeface="仿宋_GB2312"/>
                <a:ea typeface="仿宋_GB2312"/>
              </a:rPr>
              <a:t>章  点阵应用</a:t>
            </a:r>
            <a:r>
              <a:rPr b="1" lang="en-US" sz="20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                 </a:t>
            </a:r>
            <a:r>
              <a:rPr b="1" lang="zh-CN" sz="20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 </a:t>
            </a:r>
            <a:r>
              <a:rPr b="1" lang="zh-CN" sz="2000" spc="-1" strike="noStrike" u="sng">
                <a:solidFill>
                  <a:srgbClr val="0000cc"/>
                </a:solidFill>
                <a:uFillTx/>
                <a:latin typeface="仿宋_GB2312"/>
                <a:ea typeface="仿宋_GB2312"/>
              </a:rPr>
              <a:t>宜春学院新概念教材系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399680"/>
            <a:ext cx="6248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0889-87AE-4B98-BFD7-61F77FAD72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8D08-A075-4255-B675-74720EB763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B9AA-2A53-43FF-8530-336975498A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&#35838;&#20214;&#37197;&#22871;&#28304;&#31243;&#24207;/DS18B20&#20013;&#25991;&#36164;&#26009;.pdf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第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9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章  点阵应用设计</a:t>
            </a: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92000" y="1916280"/>
            <a:ext cx="4608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.1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点阵极性测试知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.2   8*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点阵应用设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.3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点阵式汉字显示原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.4   16*1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点阵应用设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.5   24*2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点阵应用设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1"/>
          </p:cNvPr>
          <p:cNvSpPr/>
          <p:nvPr/>
        </p:nvSpPr>
        <p:spPr>
          <a:xfrm>
            <a:off x="900000" y="6099480"/>
            <a:ext cx="6120000" cy="642600"/>
          </a:xfrm>
          <a:prstGeom prst="rect">
            <a:avLst/>
          </a:prstGeom>
          <a:solidFill>
            <a:srgbClr val="006666"/>
          </a:solidFill>
          <a:ln w="0">
            <a:noFill/>
          </a:ln>
          <a:effectLst>
            <a:outerShdw dist="89604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DS18B20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传感器详细资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ove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去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去除的前提是用户必须有一个属性的关键字，并且这个属性将从所选的对象中去除，只有使用属性才可以被清除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name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更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包含如下形式的字符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rent_keyword=new_keywor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等号左边的字符是用户想要更名的属性，右边是用户改成的名字。只有使用属性才可以更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w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显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必须包含属性的关键字，所有的使用属性和系统属性都可以显示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de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隐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必须包含属性的关键字， 并且这个属性是所选择对象要隐藏的。所有的使用属性和隐藏属性都可以被隐藏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ize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重定义尺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包含如下形式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=20,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这样，所选择元件的尺寸属性将会被成一个新的高和宽。只有文本的系统属性可以重定义尺寸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Black"/>
                <a:ea typeface="黑体"/>
              </a:rPr>
              <a:t>9.2  8*8</a:t>
            </a:r>
            <a:r>
              <a:rPr b="1" lang="zh-CN" sz="3600" spc="-1" strike="noStrike">
                <a:solidFill>
                  <a:srgbClr val="0000ff"/>
                </a:solidFill>
                <a:latin typeface="Arial Black"/>
                <a:ea typeface="黑体"/>
              </a:rPr>
              <a:t>点阵应用设计</a:t>
            </a: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58560" y="1341000"/>
            <a:ext cx="259236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程序运行效果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900000" y="2095560"/>
            <a:ext cx="60962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Black"/>
              </a:rPr>
              <a:t>9.2.1  </a:t>
            </a:r>
            <a:r>
              <a:rPr b="1" lang="en-US" sz="3600" spc="-1" strike="noStrike">
                <a:solidFill>
                  <a:srgbClr val="0000ff"/>
                </a:solidFill>
                <a:latin typeface="Arial Black"/>
                <a:ea typeface="黑体"/>
              </a:rPr>
              <a:t>8*8</a:t>
            </a:r>
            <a:r>
              <a:rPr b="1" lang="zh-CN" sz="3600" spc="-1" strike="noStrike">
                <a:solidFill>
                  <a:srgbClr val="0000ff"/>
                </a:solidFill>
                <a:latin typeface="Arial Black"/>
                <a:ea typeface="黑体"/>
              </a:rPr>
              <a:t>点阵应用设计</a:t>
            </a: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258920" y="2095560"/>
            <a:ext cx="6095880" cy="47624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258920" y="1341360"/>
            <a:ext cx="25923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程序运行效果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 Black"/>
              </a:rPr>
              <a:t>程序代码分析</a:t>
            </a: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129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一、题目要求</a:t>
            </a:r>
            <a:r>
              <a:rPr b="1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805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控制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8*8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点阵，使其先从左到右动态点亮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次，后从右到左动态点亮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再从到下点亮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次，最后从下到上点亮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次，如此动态循环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二、设计目的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． 进一步熟悉和掌握单片机中点阵的结构、工作原理及典型程序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． 掌握单片机的接口技术及相关外围芯片的特性，控制方法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50560" y="549000"/>
            <a:ext cx="82818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ORG 00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START: NO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;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第一部分扫描次序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: 80H,40H,20H,10H,08H,04H,02H,01H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;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使其从左到右动态点亮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次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MOV R3,#3              ;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扫描三轮从头到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LOP2:  MOV R4,#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MOV R2,#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LOP1:   MOV P1,#00H         ;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扫描指针清零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MOV DPTR,#TABA ;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取数据表内容的代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MOV A,R2               ;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取码指针存入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MOVC A, @A+DPT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MOV P3,A               ;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输出到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P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LCALL DELA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INC R2                     ;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取码指针加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，取下一个码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DJNZ R4,LOP1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DJNZ R3, LOP2      ;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扫描三轮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560" y="549000"/>
            <a:ext cx="7543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;</a:t>
            </a:r>
            <a:r>
              <a:rPr b="1" lang="zh-CN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第二部分扫描次序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: 01H,02H,04H,08H,10H,20H,40H, 80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;</a:t>
            </a:r>
            <a:r>
              <a:rPr b="1" lang="zh-CN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即与第一部分反序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从右到左动态点亮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次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MOV   R3,#3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LOP4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MOV   R4,#8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MOV   R2,#7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LOP3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MOV   P1,#00H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MOV   DPTR,#TAB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MOV   A,R2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MOVC A,@A+DPT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MOV   P3,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LCALL DELAY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DEC   R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DJNZ R4,LOP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DJNZ R3,LOP4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920" y="620280"/>
            <a:ext cx="8642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;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第三部分数据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:0FFH,0FDH,0FBH,0F7H,0EFH,0DFH,0BFH,75H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;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再从上到下点亮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次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MOV   R3,#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LOP6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MOV   R4,#8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MOV   R2,#0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LOP5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MOV   P3,#0FFH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MOV   DPTR,#TABB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MOV   A,R2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MOVC A,@A+DPT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MOV   P1,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LCALL DELAY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INC    R2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DJNZ R4,LOP5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DJNZ R3,LOP6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560" y="620640"/>
            <a:ext cx="84978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;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第四部分次序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:075H,0BFH,0DFH,0EFH,0F7H,0FBH,0FDH, 0FF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;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即与第三部分反序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从下到上动态点亮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次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MOV   R3,#3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LOP8: MOV   R4,#8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MOV   R2,#7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LOP7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MOV   P3,#0FFH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MOV   DPTR,#TABB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MOV   A,R2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MOVC A,@A+DPT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MOV   P1,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LCALL DELA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DEC   R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DJNZ R4,LOP7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DJNZ R3,LOP8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LJMP STAR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Black"/>
              </a:rPr>
              <a:t>9.1   </a:t>
            </a:r>
            <a:r>
              <a:rPr b="1" lang="zh-CN" sz="3600" spc="-1" strike="noStrike">
                <a:solidFill>
                  <a:srgbClr val="0000ff"/>
                </a:solidFill>
                <a:latin typeface="Arial Black"/>
              </a:rPr>
              <a:t>点阵极性测试知识</a:t>
            </a: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000" y="2565360"/>
            <a:ext cx="69850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   运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u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在编辑区里放上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X8LE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RIX-8x8-GREE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在某些引脚上接上电源和地，试试能不能点亮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X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默认是上下引脚 ，按习惯接法，上面接电源，下面接地，若不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图左）。用左下角垂直翻转工具，垂直翻转，再接上电源和地，就可以点亮了（图右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177336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仿宋_GB2312"/>
              </a:rPr>
              <a:t>　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  <a:ea typeface="仿宋_GB2312"/>
              </a:rPr>
              <a:t>9.1.1  </a:t>
            </a:r>
            <a:r>
              <a:rPr b="1" lang="zh-CN" sz="2800" spc="-1" strike="noStrike">
                <a:solidFill>
                  <a:srgbClr val="ff0000"/>
                </a:solidFill>
                <a:latin typeface="Arial Black"/>
                <a:ea typeface="仿宋_GB2312"/>
              </a:rPr>
              <a:t>判断点阵的逻辑引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26560" y="620280"/>
            <a:ext cx="7543800" cy="56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DELAY:  MOV R6,#0FFH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LOOP:  MOV R7,#0FFH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D1:  DJNZ R7,D1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DJNZ R6,LOOP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RE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TABA: DB 80H,40H,20H,10H,08H,04H,02H,01H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TABB: DB 0FEH,0FDH,0FBH,0F7H,0EFH,0DFH,0BFH,07FH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;0FEH=111111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;0FDH=1111110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;0FBH=11111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;0F7H=111101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;0EFH=111011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;0DFH=110111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;0BFH=101111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;07FH=011111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3640" y="6904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9.3 </a:t>
            </a:r>
            <a:r>
              <a:rPr b="1" lang="zh-CN" sz="3600" spc="-1" strike="noStrike">
                <a:solidFill>
                  <a:srgbClr val="ff0000"/>
                </a:solidFill>
                <a:latin typeface="Arial Black"/>
              </a:rPr>
              <a:t>点阵式汉字显示的原理</a:t>
            </a: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汉字显示屏广泛应用与汽车报站器，广告屏等。下面介绍一种实用的汉字显示屏的制作，考虑到电路元件的使用，可以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*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点阵发光管模块， 也可直接使用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高量度发光管，组成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列的发光点阵。同时为了降低制作难度， 仅作了一个字的轮流显示，实际使用时可根据这个原理自行扩充显示的字数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 Black"/>
              </a:rPr>
              <a:t>、汉字显示的原理： </a:t>
            </a: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我们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CDO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文宋体字库为例，每一个字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列的点阵组成显示。即国标汉字库中的每一个字均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阵来表示。我们可以把每一个点理解为一个像素，而把每一个字的字形理解为一幅图像。事实上这个汉字屏不仅可以显示汉字， 也可以显示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像素范围内的任何图形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140360" y="549360"/>
            <a:ext cx="40320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以显示汉字“大”为例，来说明其扫描原理：每一个字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列的点阵组成显示。如果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89C5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片机控制， 由于单片机的总线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，一个字需要拆分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部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40003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284360" y="692280"/>
            <a:ext cx="3816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般我们把它拆分为上部和下部，上部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*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点阵组成， 下部也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*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点阵组成。在本例中单片机首先显示的是左上角的第一列的上半部分，即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列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00---p0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口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356000" cy="40543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79280" y="4724280"/>
            <a:ext cx="813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方向为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p0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到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p07 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显示汉字“大”时，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p05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点亮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由上往下排列，为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p0.0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灭，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p0.1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灭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 p0.2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灭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p0.3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灭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 p0.4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灭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 p0.5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亮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p0.6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灭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p0.7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灭。即二进制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0000010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转换为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进制为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04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7632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半部第一列完成后，继续扫描下半部的第一列，为了接线的方便，我们仍设计成由上往下扫描，即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2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向扫描，从上图可以看到，这一列全部为不亮， 即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0000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进制则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0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然后单片机转向上半部第二列，仍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0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点亮，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00001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进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4h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一列完成后继续进行下半部分的扫描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点亮，为二进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00000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进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2h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7634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依照这个方法，继续进行下面的扫描，一共扫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， 可以得出汉字“大”的扫描代码为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4H,00H,04H,02H,04H,02H,04H,04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4H,08H,04H,30H,05H,0C0H,0FEH,00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5H,80H,04H,60H,04H,10H,04H,08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4H,04H,0CH,06H,04H,04H,00H,00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由这个原理可以看出， 无论显示何种字体或图像， 都可以用这个方法来分析出它的扫描代码从而显示在屏幕上。不过现在有很多现成的汉字字模生成软件， 我们就不必自己去画表格算代码了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软件打开后输入汉字，十六进制数据的汉字代码即可自动生成，把我们所需要的数据取模格式复制到我们的程序中即可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7543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将行列总线接在单片机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口，然后把上面分析到的扫描代码送入总线， 就可以得到显示的汉字。 在本例中，由于一共用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行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列， 如果将其全部接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9c5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片机， 一共使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口，这样造成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资源的耗尽，系统也再无扩充的余地。 因此本题仿真我们使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-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线译码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4ls15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来完成列方向的显示。 而行方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条线则接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口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口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在实物应用过程中，我们使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-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线译码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4ls13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-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线译码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4ls15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来完成列方向的级联扫描控制。 而行方向所有引脚则接级联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4LS59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芯片的输出引脚用于数据显示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000" y="558936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左边不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则将该图垂直翻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源与地重连即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76360" y="404640"/>
            <a:ext cx="53290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560" y="4508280"/>
            <a:ext cx="7543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该图左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度，左边引脚是用于行控制，右边引脚是用于列控制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       由于点阵引线较多，特别是以后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X2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阵，所以布线方式不用连线，而用终端加上网络标号，这样可以使画面简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908000" y="549360"/>
            <a:ext cx="46771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Black"/>
              </a:rPr>
              <a:t>9.1.2  </a:t>
            </a:r>
            <a:r>
              <a:rPr b="1" lang="zh-CN" sz="3600" spc="-1" strike="noStrike">
                <a:solidFill>
                  <a:srgbClr val="0000ff"/>
                </a:solidFill>
                <a:latin typeface="Arial Black"/>
              </a:rPr>
              <a:t>连续标号的快捷画法</a:t>
            </a: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741708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teus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的属性配置工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u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里有个很好用的工具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(Property Assignment Tool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属性分配工具，工具按钮如图中最后一个即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的最后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627280" y="4076640"/>
            <a:ext cx="309708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280" y="404640"/>
            <a:ext cx="7543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单击属性分配工具按钮或用键盘快捷键“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”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弹出如下对话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按图设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12764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907560"/>
            <a:ext cx="75438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主要内容如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String”(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字符串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应于要改变对象属性的赋值，或者属性的关键字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“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Count”(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数量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计数的初始值，每次执行参数标注都会自动增加，这个当前数值可以用一个“＃”字符代入前面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ing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字符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义中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6084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70801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“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Acting”(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操作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用户想要执行的操作，在上述工具中有不同的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ng”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操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“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Apply To”(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应用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个应用模式是用户进行属性配置时所做的操作，在该工具中有几种不同的的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ly To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4920" y="61956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Black"/>
                <a:ea typeface="隶书"/>
              </a:rPr>
              <a:t>属性配置说明</a:t>
            </a:r>
            <a:endParaRPr b="1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属性配置工具，可以执行如下功能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ign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赋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赋值属性包含如下形式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word=valu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并且这些属性会被赋值到所选择的对象。如果欲连续赋值，比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0,D1,D2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使用＃字符代替这个值并且设置初始值。使用属性和系统属性都有可能需要赋值，对系统属性赋值可以改变所画的图形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7T00:12:16Z</dcterms:created>
  <dc:creator>ycucs</dc:creator>
  <dc:description/>
  <dc:language>en-US</dc:language>
  <cp:lastModifiedBy>微软用户</cp:lastModifiedBy>
  <dcterms:modified xsi:type="dcterms:W3CDTF">2008-05-25T16:09:27Z</dcterms:modified>
  <cp:revision>420</cp:revision>
  <dc:subject/>
  <dc:title>专业工具软件教案</dc:title>
</cp:coreProperties>
</file>