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4A3-10F1-4088-B8BC-25057D38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22C-8896-47FE-8174-DB200087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1F5-4263-4793-8E12-CA144B2B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254-2EA9-4083-9497-E5EC2DB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088-0B55-46E2-866F-F7E1AB3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428-DB7B-481B-9849-620A5AE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B82-A98B-40C7-A5FE-A678CD3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F1B-786B-427E-8E1F-B17F4B2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F5F-6C6B-415C-B5D9-22AB54A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A0E-7DA6-41C0-AC35-680300F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156-CFC2-4A25-A494-6ABE5AAB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33A-0D28-41A1-BE20-BF25BF6C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1C1-477F-4205-BBFC-2C086382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66B7-D004-4C01-8C46-09EDFB6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C9C-0B04-4343-8472-7B51344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7B7C-0AC3-467B-B077-04B1D0CB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A7D9-D92C-44ED-B96C-8990F91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56A-6AD0-4BC9-8E44-3B4FDC0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C4DE-023C-47FC-AECA-6905E17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CE9C-647D-4535-91CD-C76D61E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44AB-CEC8-4FD1-A688-7FAFCBA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22AB-305C-4823-9547-93B1C3B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281-4263-4FA5-BF75-30E9232F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823-EF71-4230-9C0A-63A054AE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CB95-839B-48A8-A15A-C331B670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3B90-2800-473E-B993-56A800D9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7B6C-1F2B-41BA-9909-07A537F1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8197-B50B-40DA-8635-97E08F6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1614-AB90-490C-9876-C4E365B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7D74-E5EE-437A-999E-25A3D204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E4FA-DFFF-492A-8226-63DB374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3AE0-4B85-4AFF-9FF5-32E0414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5B9F-A4E7-4886-A35B-FE8200B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742E-C64A-45A7-8AA6-6E91F4D5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B990-A642-4B5D-9C42-07AB4570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D303-5185-42A7-9437-E8603F62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730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第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9</a:t>
            </a:r>
            <a:r>
              <a:rPr b="1" lang="zh-CN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章  点阵应用</a:t>
            </a:r>
            <a:r>
              <a:rPr b="1" lang="en-US" sz="20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                </a:t>
            </a:r>
            <a:r>
              <a:rPr b="1" lang="zh-CN" sz="20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仿宋_GB2312"/>
                <a:ea typeface="仿宋_GB2312"/>
              </a:rPr>
              <a:t>宜春学院新概念教材系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99680"/>
            <a:ext cx="6248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3D8C-E367-48A6-96E7-132AA97BF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D46-4619-41D7-AB6A-5E6A48A90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D07-AD54-462D-8455-BF51E95C8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5838;&#20214;&#37197;&#22871;&#28304;&#31243;&#24207;/DS18B20&#20013;&#25991;&#36164;&#26009;.pdf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章  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2000" y="1916280"/>
            <a:ext cx="460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1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极性测试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2   8*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3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式汉字显示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4   16*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5   24*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/>
          </p:cNvPr>
          <p:cNvSpPr/>
          <p:nvPr/>
        </p:nvSpPr>
        <p:spPr>
          <a:xfrm>
            <a:off x="900000" y="6099480"/>
            <a:ext cx="612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89604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DS18B2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传感器详细资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去除的前提是用户必须有一个属性的关键字，并且这个属性将从所选的对象中去除，只有使用属性才可以被清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m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包含如下形式的字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_keyword=new_key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等号左边的字符是用户想要更名的属性，右边是用户改成的名字。只有使用属性才可以更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必须包含属性的关键字，所有的使用属性和系统属性都可以显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de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必须包含属性的关键字， 并且这个属性是所选择对象要隐藏的。所有的使用属性和隐藏属性都可以被隐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ze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定义尺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包含如下形式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=20,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样，所选择元件的尺寸属性将会被成一个新的高和宽。只有文本的系统属性可以重定义尺寸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9.2  8*8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25923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运行效果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00000" y="2095560"/>
            <a:ext cx="6096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2.1  </a:t>
            </a: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8*8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58920" y="209556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1341360"/>
            <a:ext cx="2592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运行效果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程序代码分析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12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题目要求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5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控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*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阵，使其先从左到右动态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后从右到左动态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从到下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最后从下到上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如此动态循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设计目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 进一步熟悉和掌握单片机中点阵的结构、工作原理及典型程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 掌握单片机的接口技术及相关外围芯片的特性，控制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281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RG 00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RT: N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一部分扫描次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 80H,40H,20H,10H,08H,04H,02H,01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使其从左到右动态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R3,#3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三轮从头到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2:  MOV R4,#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R2,#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1:   MOV P1,#00H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指针清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DPTR,#TABA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数据表内容的代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A,R2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码指针存入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 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P3,A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输出到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C R2      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码指针加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，取下一个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 LOP2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三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754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第二部分扫描次序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: 01H,02H,04H,08H,10H,20H,40H, 80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即与第一部分反序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从右到左动态点亮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3,#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OP4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4,#8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2,#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OP3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P1,#00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DPTR,#TAB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A,R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C A,@A+DPT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P3,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CALL DELAY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EC   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JNZ R4,LOP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JNZ R3,LOP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三部分数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0FFH,0FDH,0FBH,0F7H,0EFH,0DFH,0BFH,75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再从上到下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3,#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6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4,#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2,#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3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DPTR,#TAB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A,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1,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C    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LOP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497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四部分次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075H,0BFH,0DFH,0EFH,0F7H,0FBH,0FDH, 0FF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即与第三部分反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从下到上动态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3,#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8: MOV   R4,#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2,#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7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3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DPTR,#TAB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A,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1,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C   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LOP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JMP STA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1   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点阵极性测试知识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6985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编辑区里放上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X8L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-8x8-GRE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某些引脚上接上电源和地，试试能不能点亮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X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是上下引脚 ，按习惯接法，上面接电源，下面接地，若不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左）。用左下角垂直翻转工具，垂直翻转，再接上电源和地，就可以点亮了（图右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773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仿宋_GB2312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仿宋_GB2312"/>
              </a:rPr>
              <a:t>9.1.1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仿宋_GB2312"/>
              </a:rPr>
              <a:t>判断点阵的逻辑引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620280"/>
            <a:ext cx="75438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LAY:  MOV R6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OP:  MOV R7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1:  DJNZ R7,D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6,LOO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BA: DB 80H,40H,20H,10H,08H,04H,02H,01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BB: DB 0FEH,0FDH,0FBH,0F7H,0EFH,0DFH,0BFH,07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EH=111111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DH=111111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BH=11111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7H=11110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EFH=1110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DFH=110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BFH=101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7FH=011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9.3 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点阵式汉字显示的原理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字显示屏广泛应用与汽车报站器，广告屏等。下面介绍一种实用的汉字显示屏的制作，考虑到电路元件的使用，可以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*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阵发光管模块， 也可直接使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高量度发光管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的发光点阵。同时为了降低制作难度， 仅作了一个字的轮流显示，实际使用时可根据这个原理自行扩充显示的字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、汉字显示的原理： 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们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宋体字库为例，每一个字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的点阵组成显示。即国标汉字库中的每一个字均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阵来表示。我们可以把每一个点理解为一个像素，而把每一个字的字形理解为一幅图像。事实上这个汉字屏不仅可以显示汉字， 也可以显示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素范围内的任何图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140360" y="549360"/>
            <a:ext cx="4032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以显示汉字“大”为例，来说明其扫描原理：每一个字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的点阵组成显示。如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89C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片机控制， 由于单片机的总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一个字需要拆分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部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00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4360" y="692280"/>
            <a:ext cx="3816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我们把它拆分为上部和下部，上部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阵组成， 下部也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阵组成。在本例中单片机首先显示的是左上角的第一列的上半部分，即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00---p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356000" cy="405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4724280"/>
            <a:ext cx="81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向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7 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汉字“大”时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上往下排列，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0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3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4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5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p0.6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p0.7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。即二进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00001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转换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制为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763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半部第一列完成后，继续扫描下半部的第一列，为了接线的方便，我们仍设计成由上往下扫描，即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扫描，从上图可以看到，这一列全部为不亮， 即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则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然后单片机转向上半部第二列，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亮，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4h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列完成后继续进行下半部分的扫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亮，为二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0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2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634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依照这个方法，继续进行下面的扫描，一共扫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 可以得出汉字“大”的扫描代码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0H,04H,02H,04H,02H,04H,04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8H,04H,30H,05H,0C0H,0FEH,00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5H,80H,04H,60H,04H,10H,04H,08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4H,0CH,06H,04H,04H,00H,00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由这个原理可以看出， 无论显示何种字体或图像， 都可以用这个方法来分析出它的扫描代码从而显示在屏幕上。不过现在有很多现成的汉字字模生成软件， 我们就不必自己去画表格算代码了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软件打开后输入汉字，十六进制数据的汉字代码即可自动生成，把我们所需要的数据取模格式复制到我们的程序中即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54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将行列总线接在单片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，然后把上面分析到的扫描代码送入总线， 就可以得到显示的汉字。 在本例中，由于一共用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， 如果将其全部接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9c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片机， 一共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，这样造成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源的耗尽，系统也再无扩充的余地。 因此本题仿真我们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完成列方向的显示。 而行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线则接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在实物应用过程中，我们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3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完成列方向的级联扫描控制。 而行方向所有引脚则接级联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5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芯片的输出引脚用于数据显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558936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边不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将该图垂直翻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源与地重连即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32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7543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该图左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度，左边引脚是用于行控制，右边引脚是用于列控制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      由于点阵引线较多，特别是以后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X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阵，所以布线方式不用连线，而用终端加上网络标号，这样可以使画面简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677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1.2  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连续标号的快捷画法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417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的属性配置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有个很好用的工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(Property Assignment Tool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性分配工具，工具按钮如图中最后一个即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最后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0970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404640"/>
            <a:ext cx="7543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单击属性分配工具按钮或用键盘快捷键“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弹出如下对话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按图设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127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内容如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tring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字符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于要改变对象属性的赋值，或者属性的关键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unt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数量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数的初始值，每次执行参数标注都会自动增加，这个当前数值可以用一个“＃”字符代入前面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义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080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cting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操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用户想要执行的操作，在上述工具中有不同的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ng”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操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pply To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应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应用模式是用户进行属性配置时所做的操作，在该工具中有几种不同的的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y To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1956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隶书"/>
              </a:rPr>
              <a:t>属性配置说明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性配置工具，可以执行如下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赋值属性包含如下形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=val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并且这些属性会被赋值到所选择的对象。如果欲连续赋值，比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0,D1,D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＃字符代替这个值并且设置初始值。使用属性和系统属性都有可能需要赋值，对系统属性赋值可以改变所画的图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0:12:16Z</dcterms:created>
  <dc:creator>ycucs</dc:creator>
  <dc:description/>
  <dc:language>en-US</dc:language>
  <cp:lastModifiedBy>微软用户</cp:lastModifiedBy>
  <dcterms:modified xsi:type="dcterms:W3CDTF">2008-05-25T16:09:27Z</dcterms:modified>
  <cp:revision>420</cp:revision>
  <dc:subject/>
  <dc:title>专业工具软件教案</dc:title>
</cp:coreProperties>
</file>