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B37-C079-415E-B84E-103E9DDA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744-6BC4-4916-8E0D-ABBD1A9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E56-05D3-476B-98BD-1D488322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7FF-5486-42B1-9EAA-5A3A5E49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AFA-3C34-49B8-B5E8-E44A4BA1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049-15D7-45B1-A1A3-B136DBDA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883-2378-4C6B-AAD7-469CAD38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B14-6413-4BD4-9F32-118E9C2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704-592E-41A2-B459-5674DEB7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D8F-58A6-4C06-BA71-419FFF4B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432-DC51-49C3-BFBD-6C90280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75C-DE53-4F8B-87C4-F826DC1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8FC8-670D-4CEE-B2D4-DFFB1BFFA84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华文彩云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电子与信息技术专业教学课程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r>
              <a:rPr b="1" i="1" lang="zh-CN" sz="6000" spc="-1" strike="noStrike">
                <a:solidFill>
                  <a:srgbClr val="cc6600"/>
                </a:solidFill>
                <a:latin typeface="宋体"/>
                <a:ea typeface="宋体"/>
              </a:rPr>
              <a:t>单片机原理与应用</a:t>
            </a:r>
            <a:br>
              <a:rPr sz="6000"/>
            </a:br>
            <a:endParaRPr b="1" i="1" lang="en-US" sz="60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9906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2008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年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7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912960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8880" y="1137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691920"/>
            <a:ext cx="8642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学习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内部资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指令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理论与实践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软件设计与硬件电路设计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5616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单片机实验开发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4520" y="1196640"/>
            <a:ext cx="165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验开发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3448" t="3831" r="3448" b="5745"/>
          <a:stretch/>
        </p:blipFill>
        <p:spPr>
          <a:xfrm>
            <a:off x="2360520" y="1197000"/>
            <a:ext cx="73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9240" y="563400"/>
            <a:ext cx="82072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9240" y="1125360"/>
            <a:ext cx="8207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的一般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应用在哪些领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因特网查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更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导体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ch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公司的单片机产品系列，哪些产品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列？并搜索相关主要技术参数，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品特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章    单片机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1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2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特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3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应用领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4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发展方向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5  MCS-5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系列单片机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6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技术的学习方法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片机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2880" y="155736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单片机又称单片微型计算机，是将中央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器、存储器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接口电路集成到同一块芯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，具有独特功能的微型计算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0880" y="6688440"/>
            <a:ext cx="79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88640"/>
            <a:ext cx="8642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7127640" cy="408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8880" y="692280"/>
            <a:ext cx="3024360" cy="1152360"/>
          </a:xfrm>
          <a:prstGeom prst="wedgeRectCallout">
            <a:avLst>
              <a:gd name="adj1" fmla="val -4856"/>
              <a:gd name="adj2" fmla="val 92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单片机的核心部件。包括算术逻辑单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ithmetic Logic Un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控制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68520" y="5084640"/>
            <a:ext cx="2592360" cy="1197000"/>
          </a:xfrm>
          <a:prstGeom prst="wedgeRectCallout">
            <a:avLst>
              <a:gd name="adj1" fmla="val 38671"/>
              <a:gd name="adj2" fmla="val -95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的记忆部件，用于存放程序和数据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只读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随机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0" y="549360"/>
            <a:ext cx="2449440" cy="1439640"/>
          </a:xfrm>
          <a:prstGeom prst="wedgeRectCallout">
            <a:avLst>
              <a:gd name="adj1" fmla="val -38851"/>
              <a:gd name="adj2" fmla="val 156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，用来连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设备，完成信号转换与驱动、数据传输和控制等功能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99840"/>
            <a:ext cx="8642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干扰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可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控制功能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令系统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20124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4819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应用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69992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能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办公自动化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业营销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工业自动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家用电器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8880" y="563400"/>
            <a:ext cx="8425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发展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功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个世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代，作为主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（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功耗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0m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而现在的单片机普遍都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微型单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的单片机产品普遍要求体积小、重量轻，所以大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单片机具有多种封装形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表面封装）越来越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流与多种产品共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虽然单片机的产品繁多，各具特色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机仍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核心的单片机占主流，兼容其结构和指令系统的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中国台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BO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等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8880" y="62028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5  MCS-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产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134496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是美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推出的产品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早期的最典型的代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核实际上已经成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的标准。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之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也有很大的发展，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推出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。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比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长增加了一倍，另外其指令系统、中断系统、定时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等其它性能也有很大的提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技术的学习方法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学习条件和环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环境：个人计算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工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含万用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仿真器或实验开发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环境：用于编辑、编译、调试源程序的工具软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如“伟福”模拟调试软件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ile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下载目标代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在系统编程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载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2:32:29Z</dcterms:created>
  <dc:creator>艳之语</dc:creator>
  <dc:description/>
  <cp:keywords/>
  <dc:language>en-US</dc:language>
  <cp:lastModifiedBy>hep</cp:lastModifiedBy>
  <dcterms:modified xsi:type="dcterms:W3CDTF">2008-07-14T07:01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