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6D3-C1E4-4C03-A6DA-75C35E89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AFE-EF47-45EC-A6FB-F42697E5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229-0796-41CF-B4A6-5603902C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6DB-E8AB-490D-B7B2-94D396B4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5929-CB1D-4078-9A06-9D1EC8A7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1787-F35E-47F9-86B7-C26AB15B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3350-32BD-44FF-8921-878DAEA1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8898-21D8-4D02-A3DE-67420430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679C-1247-4F54-841F-CBA68F6A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A00F-7BAB-4557-8BF4-DF36405F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AAFB-15E9-4717-A066-055A24DF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3D8-13EC-47BF-AB80-1603EFAB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1D82-5527-402B-AF0D-BB00EA56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C226-D3F2-4ECC-B06A-4B55875A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C495-4441-494A-83E2-44C67BF6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3AE9-EE05-437A-9AC5-B5ECF061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32D3-D486-46DD-A3F1-1B4C6448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BB0-66B3-495F-9063-70D301C9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D54-5A95-47CB-A6AB-D0873E64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2FE-A661-4793-A518-DD19A9A1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F2F-74FA-453C-9A0F-5C91B660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BCB-CD91-424D-ABF7-901FA7C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265-B8BA-42FB-BD9D-C2A6481C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7BD-76EF-480D-BC1C-DC6B896E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C08B-F0BD-49A3-A8B8-FF1454AAF15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E8F6-29F1-4F1D-B879-3BC72476F4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中断系统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和串行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.1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中断系统</a:t>
            </a:r>
            <a:r>
              <a:rPr b="0" lang="zh-CN" sz="3200" spc="-1" strike="noStrike">
                <a:solidFill>
                  <a:srgbClr val="33cc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2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定时器</a:t>
            </a: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.3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串行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查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每个机器周期结束时查询中断源是否有中断申请，若没有，则继续当前任务；若有，则自动设置相应中断请求标志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48160" y="3068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76880" y="2781360"/>
                <a:ext cx="576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76880" y="4292640"/>
                <a:ext cx="576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496880" y="1832040"/>
          <a:ext cx="7488360" cy="5025960"/>
        </p:xfrm>
        <a:graphic>
          <a:graphicData uri="http://schemas.openxmlformats.org/drawingml/2006/table">
            <a:tbl>
              <a:tblPr/>
              <a:tblGrid>
                <a:gridCol w="1638360"/>
                <a:gridCol w="4483080"/>
                <a:gridCol w="1366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效的申请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的标志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发送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接收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48160" y="472428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开放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相应中断允许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同级或更高优先级中断正在被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保证指令执行得正确，必须现行指令执行完，若现行指令为中断返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访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指令，必须执行完该指令和紧接着的下一条指令后才能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上述只要有一个条件不满足，就不会立即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8880" y="764640"/>
            <a:ext cx="4103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中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设置相应的优先级状态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器，以便屏蔽后面的同级或低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现行程序断点地址，即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送入堆栈（硬件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指定的中断服务程序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各中断源有相应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服务程序入口地址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13240" y="1052640"/>
          <a:ext cx="4103280" cy="4751640"/>
        </p:xfrm>
        <a:graphic>
          <a:graphicData uri="http://schemas.openxmlformats.org/drawingml/2006/table">
            <a:tbl>
              <a:tblPr/>
              <a:tblGrid>
                <a:gridCol w="1996560"/>
                <a:gridCol w="210672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服务程序入口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2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中断服务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服务程序的设计不仅要考虑完成相应的服务任务，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还要考虑现场保护与现场恢复，以便保护主程序中不应破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响应时设置的优先级状态触发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主程序断点地址，即把堆栈的内容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的撤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中断后，在返回之前必须撤除上一次中断请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会错误地引起另一次中断的发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49360"/>
            <a:ext cx="86425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外部中断源的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836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只有两个外部中断源，在实际应用中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会遇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个外设进行服务的情况，此时系统需要扩展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源的扩展有两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查询方式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定时器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4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与打印机的数据传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与打印机数据传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31800" y="62028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内部集成有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的总体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76160" y="2997360"/>
            <a:ext cx="8280360" cy="35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97600" y="2276640"/>
            <a:ext cx="1943280" cy="647640"/>
          </a:xfrm>
          <a:prstGeom prst="wedgeRectCallout">
            <a:avLst>
              <a:gd name="adj1" fmla="val -32759"/>
              <a:gd name="adj2" fmla="val 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0,TLO.TH1,TL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方式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800" y="1125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功能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控制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启动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、计数脉冲源的选择、工作方式的选择。其各位含义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2160" y="2421000"/>
            <a:ext cx="8064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控制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各位含义如图所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68520" y="1628640"/>
            <a:ext cx="67672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的基本工作过程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00160" y="1628640"/>
            <a:ext cx="511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方式及中断的概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外设的信息交换称为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。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方式有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条件传送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81960" y="3500280"/>
            <a:ext cx="1839600" cy="23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57240" y="4365720"/>
            <a:ext cx="3382920" cy="1871640"/>
          </a:xfrm>
          <a:prstGeom prst="wedgeRectCallout">
            <a:avLst>
              <a:gd name="adj1" fmla="val 94111"/>
              <a:gd name="adj2" fmla="val -2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的传送取决于程序执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指令，而与外设的状态无关。它适合于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步的快速设备或状态已知外设，软、硬件系统简单。如：驱动继电器、驱动数码显示器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，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65240" y="1916280"/>
            <a:ext cx="7200720" cy="282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0520" y="4797360"/>
            <a:ext cx="2520720" cy="1368360"/>
          </a:xfrm>
          <a:prstGeom prst="wedgeRectCallout">
            <a:avLst>
              <a:gd name="adj1" fmla="val 15615"/>
              <a:gd name="adj2" fmla="val -159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进位（即溢出）时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。响应中断后，系统自动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0" y="1700280"/>
            <a:ext cx="1295280" cy="1657440"/>
          </a:xfrm>
          <a:prstGeom prst="wedgeRectCallout">
            <a:avLst>
              <a:gd name="adj1" fmla="val -109680"/>
              <a:gd name="adj2" fmla="val 2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定时功能；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计数功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840880" y="170028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345600" y="227664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265960" y="4005360"/>
            <a:ext cx="1150920" cy="647640"/>
          </a:xfrm>
          <a:prstGeom prst="wedgeRectCallout">
            <a:avLst>
              <a:gd name="adj1" fmla="val -121722"/>
              <a:gd name="adj2" fmla="val -3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三者为启动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计数器的位数、设置的计数初值（又称时间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）、时钟频率有关。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间常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钟频率。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―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8.1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9240" y="-572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功能，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启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定时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 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由上述公式计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3192=1100011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其余高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=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=1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6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时间常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  T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977240" y="1484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下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唯一区别在于计数位数不同，其它工作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2160" y="1989000"/>
            <a:ext cx="7705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=65.5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08160" y="1557360"/>
          <a:ext cx="43200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8160" y="1557360"/>
                    <a:ext cx="432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52880" y="2492280"/>
          <a:ext cx="431640" cy="3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2880" y="2492280"/>
                    <a:ext cx="4316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0520" y="-12384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05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计数功能，计数数目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启动由     引脚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计数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16―10000=55536=0D8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其余高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=0D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=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8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计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T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由引脚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81960" y="134136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89960" y="1341360"/>
                <a:ext cx="255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65600" y="83664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可重栽时间常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52520" y="2133720"/>
            <a:ext cx="7201080" cy="306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08160" y="5445000"/>
            <a:ext cx="3457440" cy="1224000"/>
          </a:xfrm>
          <a:prstGeom prst="wedgeRectCallout">
            <a:avLst>
              <a:gd name="adj1" fmla="val 22587"/>
              <a:gd name="adj2" fmla="val -10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重载时间常数寄存器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满溢出后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申请中断，同时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据自动装载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重新工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.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48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36880" y="1413000"/>
          <a:ext cx="4064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6880" y="141300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297240" y="2276640"/>
          <a:ext cx="40644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227664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停止工作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分成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独立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理图如图所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1440" y="119664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5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产线零件打包机控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三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生产线零件打包机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查询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92880" y="333360"/>
            <a:ext cx="259092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37240" y="357336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65600" y="476280"/>
            <a:ext cx="2879640" cy="2808360"/>
          </a:xfrm>
          <a:prstGeom prst="wedgeRectCallout">
            <a:avLst>
              <a:gd name="adj1" fmla="val 70231"/>
              <a:gd name="adj2" fmla="val -3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查询方式是一种条件传送。在传送数据前，首先读取外设状态信息，并加以测试判断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特点是：在硬件上不仅要考虑数据信息的传送，而且还要考虑状态信息的输入；在查询过程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利用率不高，适合于实时性能要求不高的情况下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65600" y="3933720"/>
            <a:ext cx="3240000" cy="2160720"/>
          </a:xfrm>
          <a:prstGeom prst="wedgeRectCallout">
            <a:avLst>
              <a:gd name="adj1" fmla="val 71509"/>
              <a:gd name="adj2" fmla="val -8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方式也是一种条件传送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外设同时工作，并执行与外设无关的操作，一旦外设需要服务，就主动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申请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在的操作去执行对外设的输入输出程序，执行完毕又返回继续执行现在的操作。 应用范围较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堂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功能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产生周期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波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四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方波发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串行通信的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24520" y="4005360"/>
          <a:ext cx="259236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4520" y="4005360"/>
                    <a:ext cx="259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68880" y="4869000"/>
          <a:ext cx="2521080" cy="10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68880" y="4869000"/>
                    <a:ext cx="2521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4520" y="5877000"/>
          <a:ext cx="24494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4520" y="5877000"/>
                    <a:ext cx="2449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20880" y="1557360"/>
          <a:ext cx="8569080" cy="5184720"/>
        </p:xfrm>
        <a:graphic>
          <a:graphicData uri="http://schemas.openxmlformats.org/drawingml/2006/table">
            <a:tbl>
              <a:tblPr/>
              <a:tblGrid>
                <a:gridCol w="936360"/>
                <a:gridCol w="792360"/>
                <a:gridCol w="1366920"/>
                <a:gridCol w="547344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位信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常为一个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各位数据同时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31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同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和接收同步进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而实现数据的不间断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与接收没有用同步时钟同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过程中数据之间有间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半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的概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秒传送数据的位数称为波特率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ud R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单位为波特，即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/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波特率的倒数称为位传送时间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，单位为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传送速率每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数据，每一帧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则传送波特率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9.1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8424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串行口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的总体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2880" y="1484280"/>
            <a:ext cx="6264360" cy="496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113600" y="3500280"/>
            <a:ext cx="2519280" cy="1368720"/>
          </a:xfrm>
          <a:prstGeom prst="wedgeRectCallout">
            <a:avLst>
              <a:gd name="adj1" fmla="val -128763"/>
              <a:gd name="adj2" fmla="val -20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设置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控制串行口的工作方式与波特率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0520" y="-17136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180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串行口工作方式选择位。可以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92160" y="1413000"/>
          <a:ext cx="7632360" cy="988920"/>
        </p:xfrm>
        <a:graphic>
          <a:graphicData uri="http://schemas.openxmlformats.org/drawingml/2006/table">
            <a:tbl>
              <a:tblPr/>
              <a:tblGrid>
                <a:gridCol w="900000"/>
                <a:gridCol w="833400"/>
                <a:gridCol w="838080"/>
                <a:gridCol w="836640"/>
                <a:gridCol w="836640"/>
                <a:gridCol w="846360"/>
                <a:gridCol w="834840"/>
                <a:gridCol w="836640"/>
                <a:gridCol w="869760"/>
              </a:tblGrid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E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24160" y="3357720"/>
          <a:ext cx="7343640" cy="2238120"/>
        </p:xfrm>
        <a:graphic>
          <a:graphicData uri="http://schemas.openxmlformats.org/drawingml/2006/table">
            <a:tbl>
              <a:tblPr/>
              <a:tblGrid>
                <a:gridCol w="1271520"/>
                <a:gridCol w="1073160"/>
                <a:gridCol w="2185920"/>
                <a:gridCol w="281304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波特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移位寄存器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97600" y="260280"/>
            <a:ext cx="2160360" cy="865080"/>
          </a:xfrm>
          <a:prstGeom prst="wedgeRectCallout">
            <a:avLst>
              <a:gd name="adj1" fmla="val -54703"/>
              <a:gd name="adj2" fmla="val 109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接收允许位。由软件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接收，设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禁止接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00880" y="333360"/>
            <a:ext cx="2305080" cy="1440000"/>
          </a:xfrm>
          <a:prstGeom prst="wedgeRectCallout">
            <a:avLst>
              <a:gd name="adj1" fmla="val -110124"/>
              <a:gd name="adj2" fmla="val 66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异步通信方式下，由于缓冲器只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发送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接收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69240" y="2637000"/>
            <a:ext cx="1136880" cy="1152360"/>
          </a:xfrm>
          <a:prstGeom prst="wedgeRectCallout">
            <a:avLst>
              <a:gd name="adj1" fmla="val -146925"/>
              <a:gd name="adj2" fmla="val -7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发送中断标志与接收中断标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允许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机通信控制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5240" y="1628640"/>
          <a:ext cx="7705800" cy="3841560"/>
        </p:xfrm>
        <a:graphic>
          <a:graphicData uri="http://schemas.openxmlformats.org/drawingml/2006/table">
            <a:tbl>
              <a:tblPr/>
              <a:tblGrid>
                <a:gridCol w="1527120"/>
                <a:gridCol w="1113120"/>
                <a:gridCol w="50655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口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此位无意义，设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有效的停止位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有效的停止位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25992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控制串行口的波特率倍增，以及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M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实现电源控制，其格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76160" y="2060640"/>
          <a:ext cx="7992720" cy="431640"/>
        </p:xfrm>
        <a:graphic>
          <a:graphicData uri="http://schemas.openxmlformats.org/drawingml/2006/table">
            <a:tbl>
              <a:tblPr/>
              <a:tblGrid>
                <a:gridCol w="885600"/>
                <a:gridCol w="865080"/>
                <a:gridCol w="863640"/>
                <a:gridCol w="868320"/>
                <a:gridCol w="868680"/>
                <a:gridCol w="887400"/>
                <a:gridCol w="866520"/>
                <a:gridCol w="866880"/>
                <a:gridCol w="10206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57240" y="3429000"/>
            <a:ext cx="3527640" cy="1152360"/>
          </a:xfrm>
          <a:prstGeom prst="wedgeRectCallout">
            <a:avLst>
              <a:gd name="adj1" fmla="val -42486"/>
              <a:gd name="adj2" fmla="val -118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倍增位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使串行口波特率加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0520" y="189000"/>
            <a:ext cx="8496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送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据送入发送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自动启动串口发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以固定的波特率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低位在前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串行输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发送移位时钟信号（频率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移位时钟对应一个输出的数据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发送完毕，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发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个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启动接收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定的波特率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串行输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低位在前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输出移位时钟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接收完毕，将数据送入接收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走数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发送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将数据送入发送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后，启动串行口发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指定的波特率，串行发送一位起始位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位（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在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帧数据发送完毕，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送下一个数据。在未发送下一帧数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始终为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软件设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启动接收过程，串行口检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，当检测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负跳变（起始位到来）时，开始接收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行口以指定的波特率，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串行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（低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数据接收完毕，当数据接收完毕，必须同时满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2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收到有效的停止位，才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送入接收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存，并置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取走数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04520" y="112536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发送和接受过程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800" y="33300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执行程序的过程中，由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之外的某种原因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暂停该程序的执行，转而去执行相应的处理程序，待处理程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束之后，再返回原程序断点处继续运行的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中断过程的软、硬件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中断申请的来源。中断源一般有外设、定时时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故障源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与中断服务程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的当前程序称为主程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去对突发事件的处理程序，称为中断服务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多个中断源同时申请中断时，为了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按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的规定先处理最紧急的，然后再处理其他事件，中断系统设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权排队电路，通过用户的设置，排在前面的中断源称为高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，排在后面的称为低级中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嵌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一中断源请求而进入中断处理时，若更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级别的中断源发出申请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行的中断服务程序，去响应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级更高的中断，待更高级别的中断处理完毕后，再返回低级中断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务程序，继续原先的处理，这个过程称为中断嵌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0520" y="563040"/>
            <a:ext cx="8640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0160" y="119664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6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双机通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五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双机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编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，高级中断，边沿触发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写出初始化程序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工作，时间常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软件启动定时，溢出允许中断，低级中断。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断系统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中断源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。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49240" y="2060640"/>
            <a:ext cx="7920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寄存器是由定时器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口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若干位构成，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5800" y="1557360"/>
            <a:ext cx="9074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控制着中断的允许与禁止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6160" y="1484280"/>
            <a:ext cx="8425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，每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都可以软件设置为高级中断或低级中断，由中断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相应位置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此中断为高级中断，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设置为低级中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1800" y="2421000"/>
            <a:ext cx="8424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中断的处理过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S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处理过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29240" y="404640"/>
            <a:ext cx="3541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05:44Z</dcterms:modified>
  <cp:revision>7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