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32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6840" y="15238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32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6840" y="3952080"/>
            <a:ext cx="250488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761760"/>
            <a:ext cx="6400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520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755640"/>
            <a:ext cx="6400800" cy="545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523880"/>
            <a:ext cx="37965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803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6320" y="76320"/>
            <a:ext cx="1676160" cy="5061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35680" y="640008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DEE7-B0FF-4C99-B13F-1F47E3377CAE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6477120" y="119160"/>
          <a:ext cx="251460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119160"/>
                    <a:ext cx="25146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Protel 99 SE</a:t>
            </a:r>
            <a:r>
              <a:rPr b="1" lang="zh-CN" sz="4400" spc="-1" strike="noStrike">
                <a:solidFill>
                  <a:srgbClr val="800080"/>
                </a:solidFill>
                <a:latin typeface="Times New Roman"/>
              </a:rPr>
              <a:t>简介</a:t>
            </a:r>
            <a:endParaRPr b="1" lang="en-US" sz="4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5486400"/>
            <a:ext cx="5410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onotype Corsiva"/>
              </a:rPr>
              <a:t>____________________________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清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Motorola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单片机与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DSP</a:t>
            </a:r>
            <a:r>
              <a:rPr b="0" lang="zh-CN" sz="2000" spc="-1" strike="noStrike">
                <a:solidFill>
                  <a:srgbClr val="000000"/>
                </a:solidFill>
                <a:latin typeface="Monotype Corsiva"/>
                <a:ea typeface="幼圆"/>
              </a:rPr>
              <a:t>应用开发研究中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48160" y="5410080"/>
            <a:ext cx="19047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003-8-1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Protel99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主要特色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基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in95 /Win NT/ Win98/ Win2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位电路设计制版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提供了一个集成的设计环境，包括了原理图设计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布线工具，集成的设计文档管理，支持通过网络进行工作组协同设计功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Protel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99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 SE</a:t>
            </a:r>
            <a:r>
              <a:rPr b="1" lang="en-US" sz="3000" spc="-1" strike="noStrike">
                <a:solidFill>
                  <a:srgbClr val="800080"/>
                </a:solidFill>
                <a:latin typeface="Times New Roman"/>
              </a:rPr>
              <a:t>组成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39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理图设计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印刷电路板设计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号模拟仿真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编程逻辑设计系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内置编辑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原理图设计系统</a:t>
            </a:r>
            <a:endParaRPr b="1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80320" cy="39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理图设计系统是用于原理图设计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vanced Schemati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部分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原理图的原理图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改、生成零件的零件库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h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印刷电路板设计系统</a:t>
            </a:r>
            <a:endParaRPr b="1" lang="en-US" sz="2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80320" cy="39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印刷电路板设计系统是用于电路板设计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dvanced P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部分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电路板的电路板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修改、生成零件封装的零件封装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BLi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</a:rPr>
              <a:t>信号模拟仿真系统</a:t>
            </a:r>
            <a:endParaRPr b="1" lang="en-US" sz="2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7780320" cy="93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信号模拟仿真系统是用于原理图上进行信号模拟仿真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ICE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3f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2880" y="249084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可编程逻辑设计系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3680" y="3070080"/>
            <a:ext cx="77803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编程逻辑设计系统是基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UP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集成于原理图设计系统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L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系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22100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Protel99</a:t>
            </a: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内置编辑器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4727520"/>
            <a:ext cx="7848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462960" indent="-46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部分包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-46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、编辑文本的文本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2960" indent="-46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显示、编辑电子表格的电子表格编辑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p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00080"/>
                </a:solidFill>
                <a:latin typeface="Times New Roman"/>
              </a:rPr>
              <a:t>电路板设计步骤</a:t>
            </a:r>
            <a:endParaRPr b="1" lang="en-US" sz="30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80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电路原理图的设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电路原理图的设计主要是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原理图设计系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dvanced Schemati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来绘制一张电路原理图。在这一过程中，要充分利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所提供的各种原理图绘图工具、各种编辑功能，来实现目的，即得到一张正确、精美的电路原理图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产生网络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网络表是电路原理图与印制电路板之间的一座桥梁。网络表可以从电路原理图中获得，也可从印制电路板中提取出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3. </a:t>
            </a:r>
            <a:r>
              <a:rPr b="1" lang="zh-CN" sz="2000" spc="-1" strike="noStrike">
                <a:solidFill>
                  <a:srgbClr val="618ffd"/>
                </a:solidFill>
                <a:latin typeface="Times New Roman"/>
              </a:rPr>
              <a:t>印制电路板的设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印制电路板的设计主要是利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rotel 99 S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印刷电路板设计系统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PC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提供的强大功能来实现电路板的版面设计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9T01:57:52Z</dcterms:created>
  <dc:creator>jovy jiang</dc:creator>
  <dc:description/>
  <dc:language>en-US</dc:language>
  <cp:lastModifiedBy>jiang junfeng</cp:lastModifiedBy>
  <dcterms:modified xsi:type="dcterms:W3CDTF">2003-07-17T07:18:43Z</dcterms:modified>
  <cp:revision>29</cp:revision>
  <dc:subject/>
  <dc:title>MC68HC908GP32IDK 在线编程开发系统</dc:title>
</cp:coreProperties>
</file>