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BAEC-F5EE-4586-8A64-BF4FFA540D5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原理图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编辑元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700280"/>
            <a:ext cx="50767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用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ttribut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在元件库中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heet Pat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成为绘图页元件时，定义下层绘图页的路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定义子元件序号，如与门电路的第一个逻辑门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第二个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等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切换选取状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Pi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的隐藏引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Fiel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1-8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9-16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　元件数据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ield Na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数据栏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419640" cy="4969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836640"/>
            <a:ext cx="49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将元件放置到绘图页之前按下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〗，或放置后双击鼠标，就可打开如图所示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2232000" cy="105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216036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476360" y="2959200"/>
            <a:ext cx="1440000" cy="1320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16040" y="2421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原理图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70360" y="2421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图形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43275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源符号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435640" y="2887560"/>
            <a:ext cx="1511280" cy="1409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76720" y="4437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字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87280" y="4821120"/>
            <a:ext cx="2089440" cy="984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5508720" y="5084640"/>
            <a:ext cx="1368360" cy="627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3880" y="580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信号源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44640" y="58053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原理图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2232000" cy="105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876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导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263320" y="1844280"/>
            <a:ext cx="122868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7300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总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910960" y="1844280"/>
            <a:ext cx="93996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7560" y="1536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总线分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850920" y="1844280"/>
            <a:ext cx="289080" cy="1297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8640" y="15573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网络标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72000" y="1844280"/>
            <a:ext cx="28404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1360" y="1557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电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32360" y="1844280"/>
            <a:ext cx="787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55360" y="1557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选取元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292720" y="1844280"/>
            <a:ext cx="1219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44600" y="4892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24240" y="479268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输入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380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路输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1800" y="4892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线路节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56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忽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气检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64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线提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763640" y="3716280"/>
            <a:ext cx="165600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43280" y="3789000"/>
            <a:ext cx="93672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51280" y="3789360"/>
            <a:ext cx="28908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572000" y="3789000"/>
            <a:ext cx="28728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932360" y="3716280"/>
            <a:ext cx="79200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3716280"/>
            <a:ext cx="151128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连接线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125360"/>
            <a:ext cx="8497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电路绘制工具栏上的按钮     或执行菜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编辑状态切换到连线模式，此时鼠标指针由空心箭头变为十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需将鼠标指针指向欲拉连线的元件端点，单击鼠标左键，就会出现一条随鼠标指针移动的预拉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鼠标指针移动到连线的转弯点时，单击鼠标左键就可定位一次转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想将编辑状态切回到待命模式，可单击鼠标右键可按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191124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120348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16000" y="4149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快捷的连线方法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待命模式，按鼠标右键，出现如图所示的右键菜单，点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项就可以进行连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总线及总线分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341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一条线表示数条并行的导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总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绘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分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网络标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2521080"/>
            <a:ext cx="612144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90792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电源及接地符号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87640" cy="265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15573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电源工具栏放置电源和接地符号，或者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Power Object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放置后，设置电源和地的网络标识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15130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原理图设计过程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7201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图纸大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首先要构思好零件图，设计好图纸大小。图纸大小是根据电路图的规模和复杂程度而定的，设置合适的图纸大小是设计好原理图的第一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Protel 99SE/Schematic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计环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包括设置格点大小和类型等，大多数参数也可以使用系统默认值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放置零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根据电路图的需要，将零件从零件库里取出放置到图纸上，并对放置零件的序号、零件封装进行定义和设定等工作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4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原理图布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工具，将图纸上的元件用具有电气意义的导线、符号连接起来，构成一个完整的原理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5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调整线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将初步绘制的电路图作进一步的调整和修改，使原理图更加美观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6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报表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通过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报表工具生成各种报表，其中最重要的报表是网络表，通过网络表为后续的电路板设计作准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7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文件保存及打印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最后的步骤是文件保存及打印输出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08720" y="1341360"/>
            <a:ext cx="154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323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的启动界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4105080" cy="280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960720" cy="306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148428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后出现的窗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413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菜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新建一个设计库，出现如下图对话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base File Na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可输入设计库存盘文件名，点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rowse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变存盘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969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413000"/>
            <a:ext cx="792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您想用口令保护您的设计文件，可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卡，再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输入口令，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后，出现如图主设计窗口。在右边的设计管理窗口可以看到新建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yDesig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40072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原理图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413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ew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话框，如图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chematic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一个新的原理图文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6192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置图纸大小和环境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141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ign/Options..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ocument Op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如图所示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ndard Sty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选择图纸大小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ienta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图纸方向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rid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格点大小、可见性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9752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从元件列表中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484280"/>
            <a:ext cx="56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元件的一种方法是直接从元件列表中选取，该操作必须通过设计库管理器窗口左边的元件库面板来进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Arial"/>
              </a:rPr>
              <a:t>从元件库管理面板中选取与门元件示范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首先在面板上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iscellaneous Devices.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ponents In 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利用滚动条找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选定它。（也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ilt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栏中输入元器件名称直接查找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，此时屏幕上会出现一个随鼠标移动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符号，按空格键可旋转元件，按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镜像，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键可打开编辑元件对话框。将符号移动到适当的位置后单击鼠标左键使其定位即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659640" y="550800"/>
            <a:ext cx="21715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输入元件编号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12536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菜单命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/Pa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如图所示的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 Part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然后在该对话框中输入元件的名称及属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671640" cy="234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43657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otel 99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包括以下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元件库中所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20:08Z</dcterms:modified>
  <cp:revision>45</cp:revision>
  <dc:subject/>
  <dc:title>MC68HC908GP32IDK 在线编程开发系统</dc:title>
</cp:coreProperties>
</file>