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657D-5643-4827-9E5C-CF9AAA96F6A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原理图设计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编辑元件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700280"/>
            <a:ext cx="50767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常用的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ttributes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项卡中的选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在元件库中定义的元件名称，不会显示在绘图页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otprin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包装形式。应输入该元件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里的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signat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流水序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Typ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显示在绘图页中的元件名称，默认值与元件库中名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heet Pat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成为绘图页元件时，定义下层绘图页的路径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定义子元件序号，如与门电路的第一个逻辑门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第二个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等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切换选取状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idden Pin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元件的隐藏引脚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idden Field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Fields 1-8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Fields 9-16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选项卡中的　元件数据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ield Nam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是否显示元件数据栏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92720" y="1268280"/>
            <a:ext cx="3419640" cy="4969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836640"/>
            <a:ext cx="49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将元件放置到绘图页之前按下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〗，或放置后双击鼠标，就可打开如图所示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话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工具栏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2232000" cy="1052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216036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476360" y="2959200"/>
            <a:ext cx="1440000" cy="1320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16040" y="24210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画原理图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70360" y="24210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画图形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43275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源符号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5435640" y="2887560"/>
            <a:ext cx="1511280" cy="1409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076720" y="4437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数字器件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87280" y="4821120"/>
            <a:ext cx="2089440" cy="984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5508720" y="5084640"/>
            <a:ext cx="1368360" cy="627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23880" y="580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仿真信号源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44640" y="58053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器件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32000" y="6206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画原理图工具栏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2232000" cy="1052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58760" y="15368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导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263320" y="1844280"/>
            <a:ext cx="122868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73000" y="153684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总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910960" y="1844280"/>
            <a:ext cx="93996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7560" y="15368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总线分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850920" y="1844280"/>
            <a:ext cx="289080" cy="129708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08640" y="15573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网络标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572000" y="1844280"/>
            <a:ext cx="28404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1360" y="1557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画电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32360" y="1844280"/>
            <a:ext cx="78732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55360" y="15573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选取元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292720" y="1844280"/>
            <a:ext cx="1219320" cy="1368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44600" y="48927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画层次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24240" y="4792680"/>
            <a:ext cx="79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层次电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输入输出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380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电路输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输出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1800" y="48927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线路节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5688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忽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18ffd"/>
                </a:solidFill>
                <a:latin typeface="Arial"/>
              </a:rPr>
              <a:t>电气检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64880" y="4792680"/>
            <a:ext cx="668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布线提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763640" y="3716280"/>
            <a:ext cx="1656000" cy="12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43280" y="3789000"/>
            <a:ext cx="936720" cy="10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51280" y="3789360"/>
            <a:ext cx="28908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4572000" y="3789000"/>
            <a:ext cx="28728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4932360" y="3716280"/>
            <a:ext cx="79200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3716280"/>
            <a:ext cx="1511280" cy="11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3280" y="4762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连接线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125360"/>
            <a:ext cx="84978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电路绘制工具栏上的按钮     或执行菜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/Wi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将编辑状态切换到连线模式，此时鼠标指针由空心箭头变为十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只需将鼠标指针指向欲拉连线的元件端点，单击鼠标左键，就会出现一条随鼠标指针移动的预拉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鼠标指针移动到连线的转弯点时，单击鼠标左键就可定位一次转弯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若想将编辑状态切回到待命模式，可单击鼠标右键可按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键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00720" y="3716280"/>
            <a:ext cx="1911240" cy="2808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27640" y="1203480"/>
            <a:ext cx="209520" cy="209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16000" y="4149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快捷的连线方法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待命模式，按鼠标右键，出现如图所示的右键菜单，点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 Wir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菜单项就可以进行连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画总线及总线分支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4360" y="1341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线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：一条线表示数条并行的导线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绘制总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绘制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总线分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设置网络标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2521080"/>
            <a:ext cx="6121440" cy="37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90792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放置电源及接地符号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887640" cy="2658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155736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使用电源工具栏放置电源和接地符号，或者使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/Power Object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命令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放置后，设置电源和地的网络标识名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151308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原理图设计过程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7201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置图纸大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首先要构思好零件图，设计好图纸大小。图纸大小是根据电路图的规模和复杂程度而定的，设置合适的图纸大小是设计好原理图的第一步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置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Protel 99SE/Schematic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设计环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包括设置格点大小和类型等，大多数参数也可以使用系统默认值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3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放置零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根据电路图的需要，将零件从零件库里取出放置到图纸上，并对放置零件的序号、零件封装进行定义和设定等工作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4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原理图布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otel 99 SE/Schemati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提供的各种工具，将图纸上的元件用具有电气意义的导线、符号连接起来，构成一个完整的原理图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5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调整线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将初步绘制的电路图作进一步的调整和修改，使原理图更加美观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6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报表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通过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rotel 99 SE/Schematic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提供的各种报表工具生成各种报表，其中最重要的报表是网络表，通过网络表为后续的电路板设计作准备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7. </a:t>
            </a:r>
            <a:r>
              <a:rPr b="0" lang="zh-CN" sz="2000" spc="-1" strike="noStrike">
                <a:solidFill>
                  <a:srgbClr val="618ffd"/>
                </a:solidFill>
                <a:latin typeface="Times New Roman"/>
              </a:rPr>
              <a:t>文件保存及打印输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最后的步骤是文件保存及打印输出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08720" y="1341360"/>
            <a:ext cx="1549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40323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后的启动界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2637000"/>
            <a:ext cx="4105080" cy="280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88000" y="2637000"/>
            <a:ext cx="3960720" cy="306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03640" y="1484280"/>
            <a:ext cx="352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启动后出现的窗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413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取菜单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le/New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新建一个设计库，出现如下图对话框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atabase File Nam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处可输入设计库存盘文件名，点击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rowse.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改变存盘目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49690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一个设计库（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）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413000"/>
            <a:ext cx="7920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如果您想用口令保护您的设计文件，可点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项卡，再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输入口令，点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后，出现如图主设计窗口。在右边的设计管理窗口可以看到新建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yDesig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目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40072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新建原理图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41300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ile/New..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New Docume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话框，如图选取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chematic Documen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建立一个新的原理图文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6192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设置图纸大小和环境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1413000"/>
            <a:ext cx="79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选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sign/Options..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ocument Option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话框，如图所示。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tandard Sty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选择图纸大小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rientatio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设置图纸方向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Grid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设置格点大小、可见性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9752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添加元件——从元件列表中选取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1484280"/>
            <a:ext cx="5688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元件的一种方法是直接从元件列表中选取，该操作必须通过设计库管理器窗口左边的元件库面板来进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18ffd"/>
                </a:solidFill>
                <a:latin typeface="Arial"/>
              </a:rPr>
              <a:t>从元件库管理面板中选取与门元件示范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首先在面板上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栏中选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iscellaneous Devices.l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mponents In Librar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栏中利用滚动条找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并选定它。（也可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ilt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输入栏中输入元器件名称直接查找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单击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按钮，此时屏幕上会出现一个随鼠标移动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符号，按空格键可旋转元件，按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或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方向镜像，按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键可打开编辑元件对话框。将符号移动到适当的位置后单击鼠标左键使其定位即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659640" y="550800"/>
            <a:ext cx="21715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添加元件——输入元件编号选取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12536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通过菜单命令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/Par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打开如图所示的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lace Part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对话框，然后在该对话框中输入元件的名称及属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3671640" cy="234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43657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rotel 99s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ce Par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话框包括以下选项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元件库中所定义的元件名称，不会显示在绘图页中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esignator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流水序号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 Type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显示在绘图页中的元件名称，默认值与元件库中名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ib R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ootprint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包装形式。应输入该元件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库里的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jiang junfeng</cp:lastModifiedBy>
  <dcterms:modified xsi:type="dcterms:W3CDTF">2003-07-17T07:20:08Z</dcterms:modified>
  <cp:revision>45</cp:revision>
  <dc:subject/>
  <dc:title>MC68HC908GP32IDK 在线编程开发系统</dc:title>
</cp:coreProperties>
</file>