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5D90-1F1F-4218-BA9D-F0A6A9055A6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简介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rotel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主要特色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基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n95 /Win NT/ Win98/ Win2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电路设计制版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了一个集成的设计环境，包括了原理图设计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布线工具，集成的设计文档管理，支持通过网络进行工作组协同设计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rotel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 SE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组成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理图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印刷电路板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模拟仿真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编程逻辑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置编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原理图设计系统</a:t>
            </a:r>
            <a:endParaRPr b="1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理图设计系统是用于原理图设计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vanced Schemat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原理图的原理图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、生成零件的零件库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h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印刷电路板设计系统</a:t>
            </a:r>
            <a:endParaRPr b="1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印刷电路板设计系统是用于电路板设计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vanced 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电路板的电路板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、生成零件封装的零件封装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Li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信号模拟仿真系统</a:t>
            </a:r>
            <a:endParaRPr b="1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78032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模拟仿真系统是用于原理图上进行信号模拟仿真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ICE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3f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2880" y="249084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可编程逻辑设计系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3680" y="3070080"/>
            <a:ext cx="77803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编程逻辑设计系统是基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UP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集成于原理图设计系统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2210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rotel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内置编辑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727520"/>
            <a:ext cx="78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、编辑文本的文本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、编辑电子表格的电子表格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电路板设计步骤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电路原理图的设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电路原理图的设计主要是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原理图设计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dvanced Schemati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绘制一张电路原理图。在这一过程中，要充分利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提供的各种原理图绘图工具、各种编辑功能，来实现目的，即得到一张正确、精美的电路原理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产生网络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网络表是电路原理图与印制电路板之间的一座桥梁。网络表可以从电路原理图中获得，也可从印制电路板中提取出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3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印制电路板的设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印制电路板的设计主要是利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印刷电路板设计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提供的强大功能来实现电路板的版面设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jiang junfeng</cp:lastModifiedBy>
  <dcterms:modified xsi:type="dcterms:W3CDTF">2003-07-17T07:18:43Z</dcterms:modified>
  <cp:revision>29</cp:revision>
  <dc:subject/>
  <dc:title>MC68HC908GP32IDK 在线编程开发系统</dc:title>
</cp:coreProperties>
</file>