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FCE2C-EFDB-484C-8D42-F0DC07F4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02C47-6F3F-498B-81DC-E0182F5D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A3833-2B99-4178-A80E-E39A99BB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6FEBD-A434-49CD-9873-DFA99C91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887EF-3721-4743-91A0-A30F195B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B5D48-3C63-4FB5-8D43-2015A2A5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BBA2C-6CCD-4B39-AF1B-11589C88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6F513-4C2D-4428-9C7F-89622B72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FA5BE-0994-43A0-B778-556F21E5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578C0-B813-47D3-88D7-CECB2710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CB4BB-203C-4A01-9E1D-7FA67AE7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04CB8-611B-438C-A8AD-6964D1CA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9B8F3-A089-4683-B824-83C1C59A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EC390-F190-4B4C-A714-762B7E4E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395F0-94D7-4974-94D8-7286D601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29831-E385-47C6-AFCE-9A6E5CFD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947AF-5841-4C75-A7BA-D970B44B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530AC-648A-4106-A498-9FD1272B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90E7E-C733-4B7B-BB63-47CF15BF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12DFA-3B5D-42B4-A9BE-E8836B54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4B564-AF48-407B-BEA5-61A14CFF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22B71-F12B-481B-ACA5-795546C5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A16F5-4159-47ED-8A65-A0262612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21370-CC2A-4ABA-B085-B8A21B2A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F8B56-6F4A-40D1-969F-AA0BBCF8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192AC-349E-4480-9928-6DFC6439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616B9-FA35-4033-B2D1-AF2E0380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F64E2-A00F-49EC-AC59-F46D2669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49C5A-FD9A-428C-A863-9D3ACF2E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B2C48-5C5A-4888-AA2C-E5463857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0D8-8D7B-4207-89E6-94AE794E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EB8B3-C68B-4715-89FA-02744C3D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96D04-FF93-45B2-AA02-87EDD108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0F4ED-E762-4F66-A720-87D32F83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F3A35-578C-47E0-8623-93224814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9B182-5E6A-4868-8D5D-698C28A3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645EB-CE56-4DF4-BAE3-34C7AE64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03CED-8397-4321-9276-D270FC25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B920F-6CCF-460E-B9C0-66B81070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38B87-925C-4AAE-BF4F-74BDC495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63FAE-8B3B-40E7-8920-6F98B27A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C46-E6FE-46BF-A8F7-E0C6D508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22F5C-70DB-45F7-B35C-27AA1672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B831E-C0CC-4A7D-9B15-7E8EF83C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0DBFB-68B4-4B10-AB7F-E67C69DB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83B97-29AE-4BAA-A9CA-EF131CAB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CD8F1-65EF-44CB-A91C-07174D64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2BD-1BB0-4E7D-8174-ADA408DE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62B-BF1A-4552-ACC8-3B53DEEB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FAD-99E9-4C46-81DB-8ADE9FDF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4E3-E8B5-41CE-9B06-9F26013F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8D2-9517-42F9-827C-FFB71CBA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0F5-9829-4ABB-A9DC-0039DDFF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F4D0-0805-4C16-8D80-75CD7B17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AD9-C051-462B-B3C0-9154C0DE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05E-9BFA-4241-BDCF-0081296D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A97-CF6F-4A0F-B89D-C8399FEC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0023-D1B8-46F2-B2A0-BF26C3CF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A584-AE86-4BB2-A669-DD25B9C3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3C9C-0D6B-4D5B-9949-46CD4016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8B57-D614-4452-BFD3-D0B3245D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DFF9-09CE-41FE-8394-DA574FC0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00D8-EC02-4792-96C6-A896DE74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785E-2133-451B-8B58-B33DD101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4120-0205-45DA-B81B-3AD4F71A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CDC9-9658-4D7E-A619-5B258E29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D616-384C-4884-AFCE-0480C5F2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6EAC-15D1-4A2B-A8D8-FB4EDF09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626A-50B3-4EF9-A0BD-E68E7B74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EE7CD-284D-4CBF-889D-A38DC47E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F71DE-4A20-45A0-8587-1CEEB5C7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677D0-F431-4B0B-B3C2-4965DDE2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20B2-8D0D-45A6-B495-E487BF1F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27B99-6FF6-4533-8F51-9929BA2A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19B3-E1AB-48C5-B09B-B9EDDCEB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F2327-54DB-4E52-946F-6506C004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D790A-A28E-4E79-A1B0-39FC8370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42CA2-BC67-4037-B11F-C0FDCA36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B60EF-5506-4648-8F47-43E6C5C7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2C36-83D0-4929-83A5-7C4C992C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5691D-DA6C-4D8D-9AE3-79E313F4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70188-A805-4431-92DC-3F52A99E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00D97-BECA-4D0E-A518-75E49F09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D4A16-1D7C-4B8B-9EA0-8DA591B8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D5C79-38CC-451B-8875-7AEB7EA7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001DC-DF00-48F6-B165-C315FD36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64A7C-A51D-435C-92DE-E4C00FA0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75A16-057E-4351-A1FD-07BDECDF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ACE23-E088-4A47-9E0B-42EF2861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D7C27-E76B-4690-B13D-6F923BFA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2075F-E83E-4FA3-82D9-900DD7CA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2667F-9770-468D-9B34-A0AE7F7D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C7F3F-4CD3-4DC9-9101-00B404B0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C28E0-E74F-48F9-80D6-FA9D7E73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9FFB8-7CD8-4A50-8E7C-08A8AC65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DFCFE-B126-4CBE-8546-EB23AD43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029E1-3155-4BAA-A71E-10FD31CC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3A55A-4CAD-48E3-943D-5965B7A0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D89EF-52A4-4B5C-B772-8C48E6AB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03BC7-9443-4A6C-9D10-3C0230AB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A3161-3370-4C8B-BE1B-8D06D798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F2429-4BC6-432D-9222-8C4FCC9B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3B852-B5EB-4313-A849-72BC57C6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566D4-A85B-47A3-9501-F8C1B516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A6B75-4991-48DE-9409-17C49A81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BC50F-696D-4F8D-B3EF-74C41D89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C84BD-CE74-45CF-A8CA-E418C75E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90169-2007-4E67-977D-E74E2876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AFC16-CAB2-4BEE-83E7-DA19BF56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E0C68-B5DD-4499-992E-49889CD9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CC861-7187-41A5-A182-43559DC7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11345-D71F-4E60-B5B2-12F0BE22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61468-B6B4-446B-B575-B19B767F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FC8F5-E1B6-45A2-A576-0A3FFD38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E37B6-F4B9-4D92-B78C-8CF97B4C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EB8B6-70A3-47E8-AAED-5F2FC400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3076B-7522-4180-9B05-D1C00C70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85437-A7F5-4945-8B2D-AC9C40A8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CB3C4-BD90-4EC5-9FBD-185B72D9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AA47F-AC95-447E-B099-791767BB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45380-9A13-4456-8394-9380E875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46A00-DC04-4981-99CC-6319B8AD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AF467-93FD-478F-83C0-1290960F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E4926-5C2F-48E6-B8E3-AA12EDAD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C903C-F0C4-429E-8328-FB54758B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A85DD-B07F-472E-A8A9-5158496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5CFC8-596A-4FB2-83E0-7352A239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D93D0-846D-485C-A7A6-19C1119B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FAC53-870C-4A80-A8AF-103CB411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C95BA-0299-483A-BDCD-92376EF3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558B7-2730-4DE7-B541-E1136406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E8C44-C94E-4335-8AAA-34053FE5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4C93-4DA3-4920-BDE9-EEAA6099B8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B578-7C4D-4898-B8B8-5CF2B8888B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3F91-0C84-409C-A19C-D93F8458D2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7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0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75" name="Text Box 46"/>
          <p:cNvSpPr/>
          <p:nvPr/>
        </p:nvSpPr>
        <p:spPr>
          <a:xfrm>
            <a:off x="6805440" y="189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Verdana"/>
                <a:ea typeface="楷体_GB2312"/>
              </a:rPr>
              <a:t>电路分析与应用精品课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Text Box 47"/>
          <p:cNvSpPr/>
          <p:nvPr/>
        </p:nvSpPr>
        <p:spPr>
          <a:xfrm>
            <a:off x="179280" y="623736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楷体_GB2312"/>
              </a:rPr>
              <a:t>重庆电子工程职业学院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0C68-645C-4F7F-AC81-05967A8421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506D-A6EA-45A2-9933-591AE0160B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DE1A-4DBC-4022-B70C-70ACAFA543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6F94-5D08-4D20-8D84-D8E2C9F815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550B-A140-42D0-B529-1ECA7F4E1E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515F-1F8A-42F5-8CEE-6E479FB10C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314A-33A4-42BC-8B48-EED04CB2F4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470B-60C3-4DAF-8AC8-1FC569DA4D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元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2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测量分析等效变换电阻电路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92360" y="4079880"/>
            <a:ext cx="41860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电子信息系    陈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Picture 4" descr="chenwei"/>
          <p:cNvPicPr/>
          <p:nvPr/>
        </p:nvPicPr>
        <p:blipFill>
          <a:blip r:embed="rId1"/>
          <a:stretch/>
        </p:blipFill>
        <p:spPr>
          <a:xfrm>
            <a:off x="6300720" y="2997360"/>
            <a:ext cx="20541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电路等效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如果两个电路的端口电压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与电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关系完全相同，则称两个电路等效。对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所示电路，当两个电路等效时，则有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4"/>
              <p:cNvSpPr txBox="1"/>
              <p:nvPr/>
            </p:nvSpPr>
            <p:spPr>
              <a:xfrm>
                <a:off x="2700360" y="2205000"/>
                <a:ext cx="3456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41" name="Picture 7" descr="图2_2"/>
          <p:cNvPicPr/>
          <p:nvPr/>
        </p:nvPicPr>
        <p:blipFill>
          <a:blip r:embed="rId2"/>
          <a:stretch/>
        </p:blipFill>
        <p:spPr>
          <a:xfrm>
            <a:off x="1332000" y="3068640"/>
            <a:ext cx="6267240" cy="232416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611280" y="5516640"/>
            <a:ext cx="8137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阻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称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串联的等效电阻。图（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电路与图（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电路互为等效电路，等效电路之间的相互替代称为等效变换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20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个电阻的串联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4" name="Picture 6" descr="C2_1"/>
          <p:cNvPicPr/>
          <p:nvPr/>
        </p:nvPicPr>
        <p:blipFill>
          <a:blip r:embed="rId1"/>
          <a:stretch/>
        </p:blipFill>
        <p:spPr>
          <a:xfrm>
            <a:off x="1042920" y="1144440"/>
            <a:ext cx="7415280" cy="51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例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1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6" name="Picture 4" descr="C2_2"/>
          <p:cNvPicPr/>
          <p:nvPr/>
        </p:nvPicPr>
        <p:blipFill>
          <a:blip r:embed="rId1"/>
          <a:stretch/>
        </p:blipFill>
        <p:spPr>
          <a:xfrm>
            <a:off x="1187280" y="1500120"/>
            <a:ext cx="68407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1.2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电阻的并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现实中的各种电器设备大都是以并联方式连接到电源线上的。为了分析方便，可将各种电器设备简化为并联的负载电阻，以便对电路特性进行分析测算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若电路中有两个或两个以上的电阻，其首、尾两端分别连接于两个节点，在两个节点之间加上电压后，则每个电阻两端的电压都相同，此种连接方式称为电阻的并联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92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三个电阻的并联电路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0" name="Picture 4" descr="图2_4"/>
          <p:cNvPicPr/>
          <p:nvPr/>
        </p:nvPicPr>
        <p:blipFill>
          <a:blip r:embed="rId1"/>
          <a:stretch/>
        </p:blipFill>
        <p:spPr>
          <a:xfrm>
            <a:off x="1332000" y="1500120"/>
            <a:ext cx="6419880" cy="19861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C2_3"/>
          <p:cNvPicPr/>
          <p:nvPr/>
        </p:nvPicPr>
        <p:blipFill>
          <a:blip r:embed="rId2"/>
          <a:stretch/>
        </p:blipFill>
        <p:spPr>
          <a:xfrm>
            <a:off x="2340000" y="3573360"/>
            <a:ext cx="4762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个电导并联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3" name="Picture 4" descr="C2_4"/>
          <p:cNvPicPr/>
          <p:nvPr/>
        </p:nvPicPr>
        <p:blipFill>
          <a:blip r:embed="rId1"/>
          <a:stretch/>
        </p:blipFill>
        <p:spPr>
          <a:xfrm>
            <a:off x="1042920" y="1363680"/>
            <a:ext cx="7416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57456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两个电阻的并联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5" name="Picture 4" descr="C2_5"/>
          <p:cNvPicPr/>
          <p:nvPr/>
        </p:nvPicPr>
        <p:blipFill>
          <a:blip r:embed="rId1"/>
          <a:stretch/>
        </p:blipFill>
        <p:spPr>
          <a:xfrm>
            <a:off x="1619280" y="1900080"/>
            <a:ext cx="60976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9168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并联电路的应用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在汽车照明电路中，采用了并联电路控制方式（如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所示），其优点是各个支路控制独立，不会产生相互影响。当刹车灯亮时，不会影响照明灯；当关闭远光灯时，不会影响近光灯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8" name="Picture 4" descr="图2_5"/>
          <p:cNvPicPr/>
          <p:nvPr/>
        </p:nvPicPr>
        <p:blipFill>
          <a:blip r:embed="rId2"/>
          <a:stretch/>
        </p:blipFill>
        <p:spPr>
          <a:xfrm>
            <a:off x="826920" y="2781360"/>
            <a:ext cx="7560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2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现有一个满刻度偏转电流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 μ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内阻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kΩ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表头，需制成量程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m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直流电流表，请问应如何连接电路并正确及参数？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1" name="Picture 4" descr="图2_6"/>
          <p:cNvPicPr/>
          <p:nvPr/>
        </p:nvPicPr>
        <p:blipFill>
          <a:blip r:embed="rId2"/>
          <a:stretch/>
        </p:blipFill>
        <p:spPr>
          <a:xfrm>
            <a:off x="468360" y="3284640"/>
            <a:ext cx="83883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9168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2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63" name="Picture 4" descr="C2_6"/>
          <p:cNvPicPr/>
          <p:nvPr/>
        </p:nvPicPr>
        <p:blipFill>
          <a:blip r:embed="rId1"/>
          <a:stretch/>
        </p:blipFill>
        <p:spPr>
          <a:xfrm>
            <a:off x="539640" y="1268280"/>
            <a:ext cx="8172720" cy="47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单元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测量分析等效变换电阻电路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4000" y="1612800"/>
            <a:ext cx="7786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基本要求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建立电路等效变换的概念，掌握多种等效变换方法和电路模型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阻的串联和并联电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形电路与△形电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源模型的等效变换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受控源模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熟练掌握实验电路连接的方法，实现电路图与实物连接的相互转换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熟练掌握使用电源和数字万用表测量电路各种状态参数的技能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1.3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电阻的混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如果电阻电路中，既有电阻串联又有电阻并联，称此为电阻混联电路。对于电阻混联电路在实际工作中应用很广、形式多样，在分析简化时可应用等效的概念，逐次求出各串、并联部分的等效电路，最终将其简化成一个无分支的等效电阻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在电阻串并混联电路中，对于给定的端口，如果已知端口电流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（或电压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，需要分析计算各个支路电流和电压，通常求解步骤是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求出串并联混联电路对于给定端口的等效电阻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（或等效电导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应用欧姆定律求端口的电压（或电流）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应用电流和电压分配公式分别求出各电阻的电流和电压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如图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7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所示电路中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已知：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1=10Ω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2= R4=20Ω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3= R5=40Ω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=12V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求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端口的等效电阻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端口电流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支路电流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电压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ac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8" name="Picture 4" descr="图2_7"/>
          <p:cNvPicPr/>
          <p:nvPr/>
        </p:nvPicPr>
        <p:blipFill>
          <a:blip r:embed="rId1"/>
          <a:stretch/>
        </p:blipFill>
        <p:spPr>
          <a:xfrm>
            <a:off x="4067280" y="1916280"/>
            <a:ext cx="47527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67932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3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70" name="Picture 5" descr="C2_7"/>
          <p:cNvPicPr/>
          <p:nvPr/>
        </p:nvPicPr>
        <p:blipFill>
          <a:blip r:embed="rId1"/>
          <a:stretch/>
        </p:blipFill>
        <p:spPr>
          <a:xfrm>
            <a:off x="1255680" y="1428840"/>
            <a:ext cx="68166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408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4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39704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在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1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路中，要求负载电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0.015A≤IL≤0.020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，试求滑线变阻器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P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调节范围？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3" name="Picture 4" descr="图2_1"/>
          <p:cNvPicPr/>
          <p:nvPr/>
        </p:nvPicPr>
        <p:blipFill>
          <a:blip r:embed="rId1"/>
          <a:stretch/>
        </p:blipFill>
        <p:spPr>
          <a:xfrm>
            <a:off x="4932360" y="1628640"/>
            <a:ext cx="361944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60768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2.4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75" name="Picture 4" descr="C2_8"/>
          <p:cNvPicPr/>
          <p:nvPr/>
        </p:nvPicPr>
        <p:blipFill>
          <a:blip r:embed="rId1"/>
          <a:stretch/>
        </p:blipFill>
        <p:spPr>
          <a:xfrm>
            <a:off x="1547640" y="1193760"/>
            <a:ext cx="54864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8125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实训题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1 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现有一磁电式微安表表头，内阻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.5 kΩ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量程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00μ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现欲改装成量程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0V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00V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的电压表，请完成相关电路设计和元器件的选择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引   言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路的等效变换方法在电子产品设计、调试优化和分析计算过程中具有重要作用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运用电路等效方法，可以把多个元件组成的电路简化成一个或几个元件组成的电路，从而降低产品成本，提高可靠性，简化电路分析和故障检测维修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运用等效变换分析电路，是电路分析中经常使用的方法，在电路理论中有着重要的地位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主要方法有：电阻电路的等效变换、有源电路的等效变换、受控源的等效变换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任务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2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测量分析电阻的串、并、混联电路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82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任务目标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掌握电阻串、并、混联电路连接的方法，熟练使用数字万用表测量分析相关参数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掌握应用欧姆定律和基尔霍夫定律分析电阻的串、并、混联电路参数的方法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建立等效电路的概念，掌握简化、优化电阻电路的等效变换方法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在满足功能要求的条件下，能选择标称电阻代替串、并、混联电路中的等效电阻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509400"/>
            <a:ext cx="8229600" cy="7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任务安排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52560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任务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1-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现有某电子产品的局部电路如图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所示，要求负载电流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0.015A≤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≤0.020A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请选择元器件连接电路，测量分析电位器应调节的阻值范围，并测量分析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L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分别为表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中的工作电流时的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P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调节阻值，画出测量电路图，提出实验步骤。如果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L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正常工作电流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0.018A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请问能否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P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合并用一个电阻代替，并为合并电阻选择合适的标称电阻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Picture 4" descr="图2_1"/>
          <p:cNvPicPr/>
          <p:nvPr/>
        </p:nvPicPr>
        <p:blipFill>
          <a:blip r:embed="rId2"/>
          <a:stretch/>
        </p:blipFill>
        <p:spPr>
          <a:xfrm>
            <a:off x="5651640" y="1341360"/>
            <a:ext cx="3138480" cy="3311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表2_1"/>
          <p:cNvPicPr/>
          <p:nvPr/>
        </p:nvPicPr>
        <p:blipFill>
          <a:blip r:embed="rId3"/>
          <a:stretch/>
        </p:blipFill>
        <p:spPr>
          <a:xfrm>
            <a:off x="755640" y="4941720"/>
            <a:ext cx="79930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6314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等效电路应用与等效条件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在实际应用中，经常使用限流电阻、可调电阻对输出的电流、电压进行调节，以满足负载的要求；在不同工作状态的测量分析、优化定型时，通常会对多个电阻进行合并，用一个等效电阻来替换，以减少电路元件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路等效的条件是相互等效的两个电路具有相同的电压、电流关系，是用简单电路替换复杂电路后外电路中的电压、电流及功率完全相同，其目的是简化电路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阻电路有两种基本形式：串联电路和并联电路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1.1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电阻的串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在现代数字集成电路电子产品中，大量采用串联电阻来得到不同的分压电压；在测量仪器仪表中，大量采用串联不同阻值的电阻来得到不同的测量量程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若电路中有两个或两个以上的电阻首尾相接、中间没有分支，在电源的作用下，通过各电阻的电流都相同，则称这种连接方式为电阻的串联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6314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三个电阻串联的电路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设电流、电压参考方向如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所示，根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V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欧姆定律，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4"/>
              <p:cNvSpPr txBox="1"/>
              <p:nvPr/>
            </p:nvSpPr>
            <p:spPr>
              <a:xfrm>
                <a:off x="1547640" y="2349360"/>
                <a:ext cx="60487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Rectangle 6"/>
          <p:cNvSpPr/>
          <p:nvPr/>
        </p:nvSpPr>
        <p:spPr>
          <a:xfrm>
            <a:off x="684360" y="3068640"/>
            <a:ext cx="80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即：串联电阻电路中总电压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等于每个电阻上的电压之和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1" name="Picture 8" descr="图2_2a"/>
          <p:cNvPicPr/>
          <p:nvPr/>
        </p:nvPicPr>
        <p:blipFill>
          <a:blip r:embed="rId2"/>
          <a:stretch/>
        </p:blipFill>
        <p:spPr>
          <a:xfrm>
            <a:off x="3132000" y="3645000"/>
            <a:ext cx="3019680" cy="214128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2"/>
          <p:cNvSpPr/>
          <p:nvPr/>
        </p:nvSpPr>
        <p:spPr>
          <a:xfrm>
            <a:off x="485640" y="591984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电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压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与电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关系为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4"/>
              <p:cNvSpPr txBox="1"/>
              <p:nvPr/>
            </p:nvSpPr>
            <p:spPr>
              <a:xfrm>
                <a:off x="3059280" y="2060640"/>
                <a:ext cx="2124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6" name="Picture 6" descr="图2_2b"/>
          <p:cNvPicPr/>
          <p:nvPr/>
        </p:nvPicPr>
        <p:blipFill>
          <a:blip r:embed="rId2"/>
          <a:stretch/>
        </p:blipFill>
        <p:spPr>
          <a:xfrm>
            <a:off x="2340000" y="3068640"/>
            <a:ext cx="37447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1:56:50Z</dcterms:created>
  <dc:creator>chenchen</dc:creator>
  <dc:description/>
  <dc:language>en-US</dc:language>
  <cp:lastModifiedBy>GP</cp:lastModifiedBy>
  <dcterms:modified xsi:type="dcterms:W3CDTF">2010-08-22T01:45:09Z</dcterms:modified>
  <cp:revision>11</cp:revision>
  <dc:subject/>
  <dc:title>单元1  测量分析电阻电路</dc:title>
</cp:coreProperties>
</file>