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CCCAA-BE84-46D3-85D4-FE699242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39851-F5F4-4A03-A2A8-7ED51625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38032-C462-4E38-8BC4-31D2170D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6146A-BE86-41CD-B9D6-85344A10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DC2E3-11C6-418A-98E3-568C61E1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DA894-EE82-4BF3-9E67-AFA1B085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EA92B-129F-408A-9620-73596EDB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C8A5A-C9F5-4195-B9AC-54CF17D5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1F1A5-651E-4BA3-B41C-028B87E3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E1723-5502-4E4D-BB57-EDD00D36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5256D-7B87-4FE7-B9D5-1E71F3CC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0F55C-96B0-4C35-B89B-73BD358A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04D46-2451-436D-A4C4-C2FEEF75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63DE1-8EAA-4968-A8E3-BF4A47D3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527D3-C21F-44DB-9CE7-97E28B32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EF2C8-E343-421B-ACDB-78E6FD53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108FC-BFCB-4AA6-B4C1-CEF7A11E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8FEFE-7A54-4B2B-AD32-8DAC65F3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C7A5E-A630-47F6-BC43-FD9A17AA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86457-55F9-4AA2-8523-F14211E0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97C35-50D1-4389-834B-611454CA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2EFFB-38FA-405C-8766-E43A4279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3EF6F-17E5-49A6-9B1E-AAAEA1E0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B11AB-F4FC-417A-825A-AEE82CFC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99608-3BDC-41FA-8C9F-7CA83E92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7DB53-F43C-4A32-A5D1-3A1E6E05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5D170-AB6B-466D-AF29-32370998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C6EC6-E5F4-43B2-9EC9-768FCC1A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BAD64-F766-4EC2-83E1-6989DD06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8E293-E055-451F-9712-37F80FB3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07B-4107-4262-89EA-1052FFA5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C8F83-0FA6-4295-A9C9-7154C416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21D2D-F610-4307-8EBA-475DDE15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63C78-FF00-4EAF-8538-2098F250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61D9B-C2AD-47C0-8705-1705B4BE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73709-1956-487A-AC21-634FBDA8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BA288-81E5-4158-876B-899EA04D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1DF9B-A008-4FDB-A259-20FD2473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01263-E236-41B1-98FB-5F1F99A7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30FE7-5929-44AF-BC09-92655A88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22BBB-6BB4-4DE7-BFEA-825CED1B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589-BB99-4A29-8B81-8A24C406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350C1-E384-4E08-A848-63F13D0E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73562-5295-42A5-91E3-8EB5FC21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3C5CF-66B9-4266-ACC6-B3E566CE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51F59-475A-43AA-99C6-429CF92A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B40EB-B9F8-430E-B567-82BF9B44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035-EB0D-4F98-9D35-DDBEBC76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9F8-2CFD-4616-A485-172B43C9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757-8EAA-4787-85E0-29EECEE5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E8F-D731-4F04-9EDC-F43D7186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3A7-C079-4671-B4D7-54D890D1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3BC-9DA5-4E42-A1F1-16EBE801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DF8-F5D3-400D-A7D0-F1AEBEE7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0EC-F096-4B5C-96EC-518BFBE3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03A-CCA5-4831-AE1F-6FAF67F5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0A5-B293-40AD-847B-6A157BDD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18DC-92D7-4732-9C3C-DB216C20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7DC2-B82A-459D-977B-873C117C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4C4C-ECD0-48BC-886D-4A6D2FE9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BB32-3D2B-498D-A767-B82ECAC6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B5DF-9D57-45E3-B419-515475CD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CA74-7B26-4807-9D35-473C19C7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F158-415B-499B-826D-C1FF3E8B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7351-BAB2-4E94-8CEC-212E6469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F4B1-62CB-4EE5-A95F-39611BF9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19B0-DBA2-494C-BD04-56E4721C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347D-1ACF-48E6-A1B0-77FDC709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EF00-67C9-4D5E-BE8E-12C427E3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FD8E-0947-4742-AA7B-9556D4C2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782EB-2CCB-4445-93EC-AA73A2D5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9BC47-7CEB-4C18-B1F0-B2E1C7EB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59F02-FA81-4642-B9CA-94BD533F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D612D-CB4E-4CD1-86BA-100C4AF3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F36E-4028-47A4-A23F-2D4F2EEF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73622-7F3E-467E-85B2-3421FC82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B561C-E7E8-4BA4-935B-35296EB1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9245B-0AF4-4EC3-B6F9-436F1439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30E27-85BE-4F2A-B8E8-5CD240FA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3FE0-0BA1-40A0-A1BE-91FC5EAA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FB820-3055-4B8E-8136-A70DC4FC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3036D-5F73-4DE5-B3B8-015CED34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6E0C3-BCC7-4A47-B151-44DE0817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B43B-FA98-443A-A972-95D2790B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2894A-5597-4E4A-9D5E-19C0F910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7DC91-04D8-4AEA-B188-A270D701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00B92-B7DB-47C2-85B1-123C3B40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73B39-2490-4064-857B-0BA2BE2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D5D9F-1533-4E58-A785-BDA7F89C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6BDF5-40A7-4DCA-8A12-64AC55FB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3142F-13D5-45FD-A1A6-32259C8D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E35CE-B728-4EA2-B548-3A1D81F7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9575-A790-4E32-87B0-32115A38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999F6-4D46-465B-AEAD-7375C55D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6963C-F12B-4EE0-A679-D2FE0AF1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7A113-9352-45D1-A480-06DF74F3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E3913-38ED-47B5-86E4-93784395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61EE9-CA4C-49D6-815D-9DE01E3B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FB522-3E53-4250-AC64-A531319B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51E20-1EAA-4ACE-8174-10A2EBD2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21DD8-E2C6-4802-A446-624ECF3C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0E87D-AC0E-4A36-8452-11F5D02D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B1E60-FCF6-49A3-88C1-0E10A2CA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79B9C-364E-454B-8802-A79A7C7A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ECA25-D427-4CF4-BE25-19BBD565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FCC25-BA0C-4005-82F4-B04C24DE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56990-A3EB-4E4C-BBDB-33C6DB66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6EC2C-1FA5-45A9-A3DE-8B57522C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B25E4-B90E-48B6-915A-0B53BAC1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C6B20-E355-458A-ACD2-BF338309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2004C-2B19-4049-9982-0DD805A0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AE04F-99DE-4E03-BB2C-B1C9C5CF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1305D-54CA-401B-9CB2-05DA1DAE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A646C-346D-40BE-AA23-90A4993A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A02CE-DFD4-4A46-B4F7-FA084923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941DA-1E68-4234-AC3C-B03870DC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7FEF9-7D66-458E-8682-0F8ED0CC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DBA9F-018B-4E9A-8F8F-8C3A0D29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5692A-7F29-4618-ABD7-5264A658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7C3B7-C534-46E1-9799-278BA84B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1C4C5-86F0-450E-935D-4004ED9C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44CCA-8362-4E26-9BE3-85303A9C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1397A-1FA3-4B5E-8BA4-81515130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739D3-DE66-456B-8830-D4200708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B7F0D-6335-4E20-B080-F2C6D1D5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31A7A-3C23-48DE-8F01-6E7C5F82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DE231-26EF-41ED-8B55-E12CE557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376E5-CE03-4931-9D44-51FCC2F1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AF4D7-76FD-4A6F-A1AC-7C152DBC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CC541-D61D-40CA-A579-5D856C3A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44627-F31A-4F1B-B5ED-8C585768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B6E7C-DC58-46B1-9A8D-B1BABB14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7075-DD04-443D-AF5B-FA24BE73F0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D5CD-220F-4C4A-AB93-C1486DCE04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3C77-C71C-44C7-96AA-7A36D2A259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7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0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75" name="Text Box 46"/>
          <p:cNvSpPr/>
          <p:nvPr/>
        </p:nvSpPr>
        <p:spPr>
          <a:xfrm>
            <a:off x="6805440" y="189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Verdana"/>
                <a:ea typeface="楷体_GB2312"/>
              </a:rPr>
              <a:t>电路分析与应用精品课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Text Box 47"/>
          <p:cNvSpPr/>
          <p:nvPr/>
        </p:nvSpPr>
        <p:spPr>
          <a:xfrm>
            <a:off x="179280" y="623736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楷体_GB2312"/>
              </a:rPr>
              <a:t>重庆电子工程职业学院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A7B8-56F6-4C54-A094-07F6B2AA74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BBA6-7843-4BDA-8DBA-F7FDC0CC8C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2FB9-31A3-45CD-8432-2B2A054408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F703-F347-4CB1-9AF0-0EB244AEB9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3252-B857-4510-BB18-CAEC7845E9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C3F6-BB5B-4C3D-B8A3-3E4CFA06D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9BFB-02F4-4925-A849-916BFA8829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6A6D-1F52-4EC5-8F1D-5FA91B83FC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元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2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测量分析等效变换电阻电路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92360" y="4079880"/>
            <a:ext cx="41860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电子信息系    陈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Picture 4" descr="chenwei"/>
          <p:cNvPicPr/>
          <p:nvPr/>
        </p:nvPicPr>
        <p:blipFill>
          <a:blip r:embed="rId1"/>
          <a:stretch/>
        </p:blipFill>
        <p:spPr>
          <a:xfrm>
            <a:off x="6300720" y="2997360"/>
            <a:ext cx="20541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电路等效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如果两个电路的端口电压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与电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关系完全相同，则称两个电路等效。对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所示电路，当两个电路等效时，则有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4"/>
              <p:cNvSpPr txBox="1"/>
              <p:nvPr/>
            </p:nvSpPr>
            <p:spPr>
              <a:xfrm>
                <a:off x="2700360" y="2205000"/>
                <a:ext cx="3456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41" name="Picture 7" descr="图2_2"/>
          <p:cNvPicPr/>
          <p:nvPr/>
        </p:nvPicPr>
        <p:blipFill>
          <a:blip r:embed="rId2"/>
          <a:stretch/>
        </p:blipFill>
        <p:spPr>
          <a:xfrm>
            <a:off x="1332000" y="3068640"/>
            <a:ext cx="6267240" cy="232416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611280" y="5516640"/>
            <a:ext cx="8137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阻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称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串联的等效电阻。图（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电路与图（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电路互为等效电路，等效电路之间的相互替代称为等效变换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20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个电阻的串联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4" name="Picture 6" descr="C2_1"/>
          <p:cNvPicPr/>
          <p:nvPr/>
        </p:nvPicPr>
        <p:blipFill>
          <a:blip r:embed="rId1"/>
          <a:stretch/>
        </p:blipFill>
        <p:spPr>
          <a:xfrm>
            <a:off x="1042920" y="1144440"/>
            <a:ext cx="7415280" cy="51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例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1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6" name="Picture 4" descr="C2_2"/>
          <p:cNvPicPr/>
          <p:nvPr/>
        </p:nvPicPr>
        <p:blipFill>
          <a:blip r:embed="rId1"/>
          <a:stretch/>
        </p:blipFill>
        <p:spPr>
          <a:xfrm>
            <a:off x="1187280" y="1500120"/>
            <a:ext cx="68407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1.2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电阻的并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现实中的各种电器设备大都是以并联方式连接到电源线上的。为了分析方便，可将各种电器设备简化为并联的负载电阻，以便对电路特性进行分析测算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若电路中有两个或两个以上的电阻，其首、尾两端分别连接于两个节点，在两个节点之间加上电压后，则每个电阻两端的电压都相同，此种连接方式称为电阻的并联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92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三个电阻的并联电路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0" name="Picture 4" descr="图2_4"/>
          <p:cNvPicPr/>
          <p:nvPr/>
        </p:nvPicPr>
        <p:blipFill>
          <a:blip r:embed="rId1"/>
          <a:stretch/>
        </p:blipFill>
        <p:spPr>
          <a:xfrm>
            <a:off x="1332000" y="1500120"/>
            <a:ext cx="6419880" cy="19861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C2_3"/>
          <p:cNvPicPr/>
          <p:nvPr/>
        </p:nvPicPr>
        <p:blipFill>
          <a:blip r:embed="rId2"/>
          <a:stretch/>
        </p:blipFill>
        <p:spPr>
          <a:xfrm>
            <a:off x="2340000" y="3573360"/>
            <a:ext cx="4762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个电导并联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3" name="Picture 4" descr="C2_4"/>
          <p:cNvPicPr/>
          <p:nvPr/>
        </p:nvPicPr>
        <p:blipFill>
          <a:blip r:embed="rId1"/>
          <a:stretch/>
        </p:blipFill>
        <p:spPr>
          <a:xfrm>
            <a:off x="1042920" y="1363680"/>
            <a:ext cx="7416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57456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两个电阻的并联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5" name="Picture 4" descr="C2_5"/>
          <p:cNvPicPr/>
          <p:nvPr/>
        </p:nvPicPr>
        <p:blipFill>
          <a:blip r:embed="rId1"/>
          <a:stretch/>
        </p:blipFill>
        <p:spPr>
          <a:xfrm>
            <a:off x="1619280" y="1900080"/>
            <a:ext cx="60976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9168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并联电路的应用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在汽车照明电路中，采用了并联电路控制方式（如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所示），其优点是各个支路控制独立，不会产生相互影响。当刹车灯亮时，不会影响照明灯；当关闭远光灯时，不会影响近光灯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8" name="Picture 4" descr="图2_5"/>
          <p:cNvPicPr/>
          <p:nvPr/>
        </p:nvPicPr>
        <p:blipFill>
          <a:blip r:embed="rId2"/>
          <a:stretch/>
        </p:blipFill>
        <p:spPr>
          <a:xfrm>
            <a:off x="826920" y="2781360"/>
            <a:ext cx="7560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2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现有一个满刻度偏转电流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 μ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内阻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kΩ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表头，需制成量程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m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直流电流表，请问应如何连接电路并正确及参数？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1" name="Picture 4" descr="图2_6"/>
          <p:cNvPicPr/>
          <p:nvPr/>
        </p:nvPicPr>
        <p:blipFill>
          <a:blip r:embed="rId2"/>
          <a:stretch/>
        </p:blipFill>
        <p:spPr>
          <a:xfrm>
            <a:off x="468360" y="3284640"/>
            <a:ext cx="83883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9168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2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63" name="Picture 4" descr="C2_6"/>
          <p:cNvPicPr/>
          <p:nvPr/>
        </p:nvPicPr>
        <p:blipFill>
          <a:blip r:embed="rId1"/>
          <a:stretch/>
        </p:blipFill>
        <p:spPr>
          <a:xfrm>
            <a:off x="539640" y="1268280"/>
            <a:ext cx="8172720" cy="47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单元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测量分析等效变换电阻电路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4000" y="1612800"/>
            <a:ext cx="7786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基本要求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建立电路等效变换的概念，掌握多种等效变换方法和电路模型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阻的串联和并联电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形电路与△形电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源模型的等效变换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受控源模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熟练掌握实验电路连接的方法，实现电路图与实物连接的相互转换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熟练掌握使用电源和数字万用表测量电路各种状态参数的技能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1.3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电阻的混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如果电阻电路中，既有电阻串联又有电阻并联，称此为电阻混联电路。对于电阻混联电路在实际工作中应用很广、形式多样，在分析简化时可应用等效的概念，逐次求出各串、并联部分的等效电路，最终将其简化成一个无分支的等效电阻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在电阻串并混联电路中，对于给定的端口，如果已知端口电流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（或电压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，需要分析计算各个支路电流和电压，通常求解步骤是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求出串并联混联电路对于给定端口的等效电阻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（或等效电导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应用欧姆定律求端口的电压（或电流）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应用电流和电压分配公式分别求出各电阻的电流和电压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如图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7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所示电路中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已知：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1=10Ω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2= R4=20Ω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3= R5=40Ω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=12V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求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端口的等效电阻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端口电流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支路电流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电压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ac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8" name="Picture 4" descr="图2_7"/>
          <p:cNvPicPr/>
          <p:nvPr/>
        </p:nvPicPr>
        <p:blipFill>
          <a:blip r:embed="rId1"/>
          <a:stretch/>
        </p:blipFill>
        <p:spPr>
          <a:xfrm>
            <a:off x="4067280" y="1916280"/>
            <a:ext cx="47527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67932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3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70" name="Picture 5" descr="C2_7"/>
          <p:cNvPicPr/>
          <p:nvPr/>
        </p:nvPicPr>
        <p:blipFill>
          <a:blip r:embed="rId1"/>
          <a:stretch/>
        </p:blipFill>
        <p:spPr>
          <a:xfrm>
            <a:off x="1255680" y="1428840"/>
            <a:ext cx="68166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408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4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39704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在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1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路中，要求负载电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0.015A≤IL≤0.020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，试求滑线变阻器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P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调节范围？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3" name="Picture 4" descr="图2_1"/>
          <p:cNvPicPr/>
          <p:nvPr/>
        </p:nvPicPr>
        <p:blipFill>
          <a:blip r:embed="rId1"/>
          <a:stretch/>
        </p:blipFill>
        <p:spPr>
          <a:xfrm>
            <a:off x="4932360" y="1628640"/>
            <a:ext cx="361944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60768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2.4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75" name="Picture 4" descr="C2_8"/>
          <p:cNvPicPr/>
          <p:nvPr/>
        </p:nvPicPr>
        <p:blipFill>
          <a:blip r:embed="rId1"/>
          <a:stretch/>
        </p:blipFill>
        <p:spPr>
          <a:xfrm>
            <a:off x="1547640" y="1193760"/>
            <a:ext cx="54864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8125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实训题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1 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现有一磁电式微安表表头，内阻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.5 kΩ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量程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00μ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现欲改装成量程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0V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00V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的电压表，请完成相关电路设计和元器件的选择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引   言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路的等效变换方法在电子产品设计、调试优化和分析计算过程中具有重要作用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运用电路等效方法，可以把多个元件组成的电路简化成一个或几个元件组成的电路，从而降低产品成本，提高可靠性，简化电路分析和故障检测维修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运用等效变换分析电路，是电路分析中经常使用的方法，在电路理论中有着重要的地位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主要方法有：电阻电路的等效变换、有源电路的等效变换、受控源的等效变换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任务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2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测量分析电阻的串、并、混联电路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82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任务目标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掌握电阻串、并、混联电路连接的方法，熟练使用数字万用表测量分析相关参数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掌握应用欧姆定律和基尔霍夫定律分析电阻的串、并、混联电路参数的方法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建立等效电路的概念，掌握简化、优化电阻电路的等效变换方法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在满足功能要求的条件下，能选择标称电阻代替串、并、混联电路中的等效电阻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509400"/>
            <a:ext cx="8229600" cy="7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任务安排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52560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任务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1-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现有某电子产品的局部电路如图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所示，要求负载电流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0.015A≤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≤0.020A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请选择元器件连接电路，测量分析电位器应调节的阻值范围，并测量分析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L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分别为表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中的工作电流时的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P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调节阻值，画出测量电路图，提出实验步骤。如果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L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正常工作电流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0.018A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请问能否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P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合并用一个电阻代替，并为合并电阻选择合适的标称电阻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Picture 4" descr="图2_1"/>
          <p:cNvPicPr/>
          <p:nvPr/>
        </p:nvPicPr>
        <p:blipFill>
          <a:blip r:embed="rId2"/>
          <a:stretch/>
        </p:blipFill>
        <p:spPr>
          <a:xfrm>
            <a:off x="5651640" y="1341360"/>
            <a:ext cx="3138480" cy="3311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表2_1"/>
          <p:cNvPicPr/>
          <p:nvPr/>
        </p:nvPicPr>
        <p:blipFill>
          <a:blip r:embed="rId3"/>
          <a:stretch/>
        </p:blipFill>
        <p:spPr>
          <a:xfrm>
            <a:off x="755640" y="4941720"/>
            <a:ext cx="79930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6314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等效电路应用与等效条件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在实际应用中，经常使用限流电阻、可调电阻对输出的电流、电压进行调节，以满足负载的要求；在不同工作状态的测量分析、优化定型时，通常会对多个电阻进行合并，用一个等效电阻来替换，以减少电路元件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路等效的条件是相互等效的两个电路具有相同的电压、电流关系，是用简单电路替换复杂电路后外电路中的电压、电流及功率完全相同，其目的是简化电路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阻电路有两种基本形式：串联电路和并联电路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1.1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电阻的串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在现代数字集成电路电子产品中，大量采用串联电阻来得到不同的分压电压；在测量仪器仪表中，大量采用串联不同阻值的电阻来得到不同的测量量程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若电路中有两个或两个以上的电阻首尾相接、中间没有分支，在电源的作用下，通过各电阻的电流都相同，则称这种连接方式为电阻的串联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6314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三个电阻串联的电路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设电流、电压参考方向如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所示，根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V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欧姆定律，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4"/>
              <p:cNvSpPr txBox="1"/>
              <p:nvPr/>
            </p:nvSpPr>
            <p:spPr>
              <a:xfrm>
                <a:off x="1547640" y="2349360"/>
                <a:ext cx="60487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Rectangle 6"/>
          <p:cNvSpPr/>
          <p:nvPr/>
        </p:nvSpPr>
        <p:spPr>
          <a:xfrm>
            <a:off x="684360" y="3068640"/>
            <a:ext cx="80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即：串联电阻电路中总电压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等于每个电阻上的电压之和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1" name="Picture 8" descr="图2_2a"/>
          <p:cNvPicPr/>
          <p:nvPr/>
        </p:nvPicPr>
        <p:blipFill>
          <a:blip r:embed="rId2"/>
          <a:stretch/>
        </p:blipFill>
        <p:spPr>
          <a:xfrm>
            <a:off x="3132000" y="3645000"/>
            <a:ext cx="3019680" cy="214128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2"/>
          <p:cNvSpPr/>
          <p:nvPr/>
        </p:nvSpPr>
        <p:spPr>
          <a:xfrm>
            <a:off x="485640" y="591984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电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压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与电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关系为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4"/>
              <p:cNvSpPr txBox="1"/>
              <p:nvPr/>
            </p:nvSpPr>
            <p:spPr>
              <a:xfrm>
                <a:off x="3059280" y="2060640"/>
                <a:ext cx="2124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6" name="Picture 6" descr="图2_2b"/>
          <p:cNvPicPr/>
          <p:nvPr/>
        </p:nvPicPr>
        <p:blipFill>
          <a:blip r:embed="rId2"/>
          <a:stretch/>
        </p:blipFill>
        <p:spPr>
          <a:xfrm>
            <a:off x="2340000" y="3068640"/>
            <a:ext cx="37447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1:56:50Z</dcterms:created>
  <dc:creator>chenchen</dc:creator>
  <dc:description/>
  <dc:language>en-US</dc:language>
  <cp:lastModifiedBy>GP</cp:lastModifiedBy>
  <dcterms:modified xsi:type="dcterms:W3CDTF">2010-08-22T01:45:09Z</dcterms:modified>
  <cp:revision>11</cp:revision>
  <dc:subject/>
  <dc:title>单元1  测量分析电阻电路</dc:title>
</cp:coreProperties>
</file>