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510-128C-4CD4-85B5-B94C0B6F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DA2-1C8E-410C-B75C-45F72DD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BF5-DA68-4049-9085-39F3DB83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695-5DD5-4CAD-AD57-06C9D79D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AF6D-3609-404C-B37F-A64B31A7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D1E5-7070-48B9-B302-D905072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8B32-9F28-476E-BD3F-89EB2F25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D5AC-FD99-46EE-AB40-22B51C9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26A-AD37-4EAC-BDF2-79DD7BDC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E01D-7297-466D-9917-6206FF1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3843-1FE4-4D33-B79F-3CE8E20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CF5-7332-4A67-99AD-58B1C3A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FC4-893C-48D3-92E9-6156430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82E-3930-4D39-833B-D3B9A93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30F6-AE98-4EA8-8E60-A9B1CE4A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05D4-B8B6-4101-BBCE-53B1B4D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1EA8-E171-44AB-8102-FCBD29CF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3AA-5679-4F68-A2A7-A287B690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2FC-C850-4CE4-9CA6-53A7EDB8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990-0BDD-4624-8C50-8406C4AE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265-9EA0-411B-B6E5-E7CF5AB8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6D8-48FE-4267-BB62-DC7D0EC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074-7821-41EC-818B-2B19387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348-93D6-48F3-9F32-2146BB5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F512-B254-45B9-817D-EFA89C0ED4E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F6B-AF6E-4FF6-9F6E-EB892F63884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状态转移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绘制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状态继电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其步进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运用状态编程法编制简单顺序控制应用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状态编程法中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9800" y="1699200"/>
            <a:ext cx="26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中的流程不能交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17800" y="2055960"/>
            <a:ext cx="5905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8459640" cy="3152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520" y="19206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要对某个区间状态进行复位，可用区间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a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理；若要使某个状态中的输出禁止，可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听示方法处理；若要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可用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c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进行程序运算，但所有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断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646020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区域复位和输出禁止的处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6895" t="0" r="5172" b="0"/>
          <a:stretch/>
        </p:blipFill>
        <p:spPr>
          <a:xfrm>
            <a:off x="4908600" y="0"/>
            <a:ext cx="42908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53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性分支与汇合及其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3800" y="835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24360" y="25992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827440"/>
            <a:ext cx="4896000" cy="403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35520" y="1943640"/>
            <a:ext cx="25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、汇合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对应的步进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559520"/>
            <a:ext cx="35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行分支与汇合的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66240" y="757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2920" y="98280"/>
            <a:ext cx="5605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1989720"/>
            <a:ext cx="31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及其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对应的状态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3040200"/>
            <a:ext cx="4321080" cy="3817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87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1695600"/>
            <a:ext cx="4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理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28335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17564" b="0"/>
          <a:stretch/>
        </p:blipFill>
        <p:spPr>
          <a:xfrm>
            <a:off x="5541840" y="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688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0" y="-374400"/>
            <a:ext cx="667800" cy="76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Arial"/>
              </a:rPr>
              <a:t>模块五   步进指令及状态编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911960"/>
            <a:ext cx="43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梯形图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63378" t="45631" r="8455" b="0"/>
          <a:stretch/>
        </p:blipFill>
        <p:spPr>
          <a:xfrm>
            <a:off x="5940360" y="404640"/>
            <a:ext cx="2851200" cy="645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78" t="0" r="0" b="53739"/>
          <a:stretch/>
        </p:blipFill>
        <p:spPr>
          <a:xfrm>
            <a:off x="2479680" y="1700280"/>
            <a:ext cx="3483000" cy="5157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605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</a:t>
            </a:r>
            <a:br>
              <a:rPr sz="3200"/>
            </a:b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924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0600" y="61992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利用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软件编制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皮带运输机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顺控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50694" b="8643"/>
          <a:stretch/>
        </p:blipFill>
        <p:spPr>
          <a:xfrm>
            <a:off x="0" y="1025640"/>
            <a:ext cx="183528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49604" r="0" b="0"/>
          <a:stretch/>
        </p:blipFill>
        <p:spPr>
          <a:xfrm>
            <a:off x="5526000" y="1303200"/>
            <a:ext cx="3618000" cy="555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0" t="0" r="0" b="49434"/>
          <a:stretch/>
        </p:blipFill>
        <p:spPr>
          <a:xfrm>
            <a:off x="1914480" y="1341360"/>
            <a:ext cx="3583080" cy="551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41600" y="1557000"/>
            <a:ext cx="3838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台电机三种运行模式的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632720" cy="4749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44908" b="82144"/>
          <a:stretch/>
        </p:blipFill>
        <p:spPr>
          <a:xfrm>
            <a:off x="900000" y="0"/>
            <a:ext cx="4032360" cy="1860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17860" r="44908" b="34471"/>
          <a:stretch/>
        </p:blipFill>
        <p:spPr>
          <a:xfrm>
            <a:off x="900000" y="1844640"/>
            <a:ext cx="4071960" cy="501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0" t="65508" r="59552" b="0"/>
          <a:stretch/>
        </p:blipFill>
        <p:spPr>
          <a:xfrm>
            <a:off x="5435640" y="1700280"/>
            <a:ext cx="3122640" cy="3789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0800000">
            <a:off x="5724360" y="5731920"/>
            <a:ext cx="40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64001" t="0" r="0" b="43861"/>
          <a:stretch/>
        </p:blipFill>
        <p:spPr>
          <a:xfrm>
            <a:off x="1979640" y="0"/>
            <a:ext cx="309096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64001" t="55966" r="0" b="0"/>
          <a:stretch/>
        </p:blipFill>
        <p:spPr>
          <a:xfrm>
            <a:off x="5435640" y="1557360"/>
            <a:ext cx="3044880" cy="5300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26920" y="2500560"/>
            <a:ext cx="11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5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步进梯形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9480" y="205956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步进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8388360" cy="136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6264360" cy="25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77840" y="4867920"/>
            <a:ext cx="9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7040" y="17002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专用钻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3541680"/>
            <a:ext cx="67089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多流程步进顺序控制状态转移图的编制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运用专用软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状态法编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02560" y="1556280"/>
            <a:ext cx="44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输入输出继电器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632720" cy="4156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1840" y="764280"/>
            <a:ext cx="29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参考状态转移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900000" y="1608120"/>
            <a:ext cx="5400720" cy="5249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0" t="0" r="74209" b="63047"/>
          <a:stretch/>
        </p:blipFill>
        <p:spPr>
          <a:xfrm>
            <a:off x="7020000" y="1413000"/>
            <a:ext cx="1701720" cy="5445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27640" y="1773360"/>
            <a:ext cx="1439640" cy="934920"/>
          </a:xfrm>
          <a:prstGeom prst="wedgeRoundRectCallout">
            <a:avLst>
              <a:gd name="adj1" fmla="val 4023"/>
              <a:gd name="adj2" fmla="val 7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考编程手册绘制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4653000"/>
            <a:ext cx="1368360" cy="1224000"/>
          </a:xfrm>
          <a:prstGeom prst="wedgeRoundRectCallout">
            <a:avLst>
              <a:gd name="adj1" fmla="val 87240"/>
              <a:gd name="adj2" fmla="val 408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8280" y="7642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参考编程手册绘制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0" t="0" r="0" b="48112"/>
          <a:stretch/>
        </p:blipFill>
        <p:spPr>
          <a:xfrm>
            <a:off x="1332000" y="1413000"/>
            <a:ext cx="2984400" cy="5445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4284720" y="1484280"/>
            <a:ext cx="3176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7200" y="76428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编辑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47637" r="27073" b="649"/>
          <a:stretch/>
        </p:blipFill>
        <p:spPr>
          <a:xfrm>
            <a:off x="5219640" y="1409760"/>
            <a:ext cx="3414600" cy="5448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0" t="0" r="27073" b="52261"/>
          <a:stretch/>
        </p:blipFill>
        <p:spPr>
          <a:xfrm>
            <a:off x="1042920" y="1628640"/>
            <a:ext cx="3549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1627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3456000" cy="206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024360" cy="2046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48440" y="2186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波形对应的顺序功能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2817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车在初始状态时停在中间，限位开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按下起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车按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顺序运动，最后返回并停在初始位置。画出控制系统的顺序功能图，并编写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48920" y="6020640"/>
            <a:ext cx="25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03880" y="6021360"/>
            <a:ext cx="19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135640" cy="3197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87880" y="213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47080" y="1556280"/>
            <a:ext cx="31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编写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状态转移图的梯形图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2995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                                       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155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2284920"/>
            <a:ext cx="82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两条书室运输带顺序相连，按下起动按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开始运行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自动起动。停机的顺序与起动的顺序刚好相反，间隔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画出状态转移图，编写出梯形图程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复件 复件 1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4392720" cy="1906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708360" y="515700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5920" y="20595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步进指令的使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3240000" cy="164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419720"/>
            <a:ext cx="8604360" cy="209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376720" cy="182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34680" y="4220280"/>
            <a:ext cx="28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栈操作指令在状态内的正确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8760" y="421416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线圈的互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6490440"/>
            <a:ext cx="25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内没有触点线圈的编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05956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8780" t="0" r="5841" b="0"/>
          <a:stretch/>
        </p:blipFill>
        <p:spPr>
          <a:xfrm>
            <a:off x="5732640" y="1989000"/>
            <a:ext cx="341136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4032360"/>
            <a:ext cx="3456000" cy="24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90720" y="385524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0000" y="64904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顺序控制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90276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，台车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，台车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车后退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台车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转，台车停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次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次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后退再次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台车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800" y="27802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控制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90760" y="155628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2800"/>
            </a:b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5920"/>
            <a:ext cx="51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8800" y="314064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SFC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及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40440"/>
            <a:ext cx="49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复杂的任务或过程分解成了若干个工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某一个具体的工序来说，控制任务实现了简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要弄清各工序成立的条件、工序转移的条件和转移的方向．就可以进行这类图形的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易理解，可读性强，能清晰地反映全部控制工艺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1208160"/>
            <a:ext cx="6300720" cy="564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819520" cy="5178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24160" y="763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台车自动往返控制状态转移图、步进梯形图、指令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37360"/>
            <a:ext cx="395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编程时必须使用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的软元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顺序为先驱动，再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使用多重（双线圈）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的驱动、状态转移条件可能为多个元件的逻辑组合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" y="935280"/>
            <a:ext cx="5461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300720" cy="247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77080" y="400536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状态转移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之间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156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可由其他状态驱动，但运行开始必须用其他方法预先做好驱动，否则状态流程不可能向下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9960" y="19324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向上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重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向非相连的下面转移或向其他流程状态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跳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称为顺序不连续转移，顺序不连续转移的状态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状态转移，并要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用“”符号表示转移目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8243640" cy="344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01600" y="6091920"/>
            <a:ext cx="34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连续转移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6264360" cy="301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02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流程中要表示状态的自复位处理时，要用“”符号表示，自复位状态在程序中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527280" cy="217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84720" y="414972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转移条件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应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3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确定转移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7T15:01:34Z</dcterms:modified>
  <cp:revision>114</cp:revision>
  <dc:subject/>
  <dc:title>模块二  S7-200系列PLC的基本结构 </dc:title>
</cp:coreProperties>
</file>