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EAD-4CF1-4D06-817B-41B272A8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ACF-4949-404B-B4D1-B993E88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AD8-BDED-4412-A9E3-6A9D0527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D30-FAC6-4FBE-B0EB-2683F900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089-F5A2-43C6-AEA9-6BF28597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74D-97F6-4A2C-BAF4-9BE0256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ACEF-9E25-4BB7-A58A-29099D7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639B-0E6C-4665-8F08-5AD2C7D8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AD0A-7110-4783-BDA5-94552088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F49C-4B13-4452-A1F1-A381728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5D48-7262-4539-B041-89FF911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98F-0E79-4C87-BDAC-3185FA6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71E-CDC7-43EB-8024-26448FD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CE85-C9F6-4380-A578-44756C2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4B29-E401-429F-BE33-51182ABD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2EED-67B6-481B-9D1D-C656159C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066-810D-42B1-8D06-8F35C86A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DCA-CD18-487B-AD5C-053B24A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229-723F-4740-A342-A815ED7C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DAE-2BC6-42AB-BAF5-99B51CF9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071-C5C0-44B6-9079-4FCF541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4B3-3E5C-4B09-8E06-2D4EAB3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DD2-E745-4222-9188-0C8EB08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361-FA56-403A-A704-5DB9E21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FA65-391A-4C2D-B7EC-7926BEC25CF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22C8-3F09-4E5F-901C-2C0F1BC1BAF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可编程控制器在三相异步电动机控制电路中的运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系统的开发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610920"/>
            <a:ext cx="60696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的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667640" cy="476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927160" y="6377760"/>
            <a:ext cx="35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8880" y="1557360"/>
            <a:ext cx="51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-15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参考梯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4107"/>
          <a:stretch/>
        </p:blipFill>
        <p:spPr>
          <a:xfrm>
            <a:off x="1042920" y="2133720"/>
            <a:ext cx="3673440" cy="364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6159" r="0" b="0"/>
          <a:stretch/>
        </p:blipFill>
        <p:spPr>
          <a:xfrm>
            <a:off x="4932360" y="2276640"/>
            <a:ext cx="369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2600" y="236700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，要求起动时，每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0mi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依次起动一台，每台运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后自动停机。在运行中可用停止按钮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同时停机。试设计控制程序梯形图、写出语句表，并加注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自动交替闪亮控制。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交替闪亮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，时序波形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所示。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画出电路接线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l=t2=2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计控制程序梯形图、写出语句表，并加注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tl=t2=0.5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能否简化梯形图程序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51120" y="4548240"/>
          <a:ext cx="360036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1120" y="4548240"/>
                    <a:ext cx="3600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719440" y="6399720"/>
            <a:ext cx="35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示灯交替闪亮控制时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403920"/>
            <a:ext cx="245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点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长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1763" t="0" r="0" b="0"/>
          <a:stretch/>
        </p:blipFill>
        <p:spPr>
          <a:xfrm>
            <a:off x="709560" y="1628640"/>
            <a:ext cx="319716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661000"/>
            <a:ext cx="1728720" cy="720720"/>
          </a:xfrm>
          <a:prstGeom prst="wedgeRoundRectCallout">
            <a:avLst>
              <a:gd name="adj1" fmla="val 2249"/>
              <a:gd name="adj2" fmla="val -12599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7360"/>
            <a:ext cx="1058760" cy="1700280"/>
          </a:xfrm>
          <a:prstGeom prst="wedgeRoundRectCallout">
            <a:avLst>
              <a:gd name="adj1" fmla="val 89879"/>
              <a:gd name="adj2" fmla="val -2357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916280"/>
            <a:ext cx="1419120" cy="969840"/>
          </a:xfrm>
          <a:prstGeom prst="wedgeRoundRectCallout">
            <a:avLst>
              <a:gd name="adj1" fmla="val 82884"/>
              <a:gd name="adj2" fmla="val 1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7241" b="0"/>
          <a:stretch/>
        </p:blipFill>
        <p:spPr>
          <a:xfrm>
            <a:off x="5003640" y="0"/>
            <a:ext cx="4140360" cy="34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44865" b="15267"/>
          <a:stretch/>
        </p:blipFill>
        <p:spPr>
          <a:xfrm>
            <a:off x="521964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9440" y="403920"/>
            <a:ext cx="33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转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反转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805360"/>
            <a:ext cx="1728720" cy="720720"/>
          </a:xfrm>
          <a:prstGeom prst="wedgeRoundRectCallout">
            <a:avLst>
              <a:gd name="adj1" fmla="val 8953"/>
              <a:gd name="adj2" fmla="val -12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4797360"/>
            <a:ext cx="914400" cy="1700280"/>
          </a:xfrm>
          <a:prstGeom prst="wedgeRoundRectCallout">
            <a:avLst>
              <a:gd name="adj1" fmla="val 84027"/>
              <a:gd name="adj2" fmla="val -3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349360"/>
            <a:ext cx="842760" cy="1511280"/>
          </a:xfrm>
          <a:prstGeom prst="wedgeRoundRectCallout">
            <a:avLst>
              <a:gd name="adj1" fmla="val 73541"/>
              <a:gd name="adj2" fmla="val -2069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" y="1557360"/>
            <a:ext cx="280044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162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4322880"/>
            <a:ext cx="3095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27640" y="3103560"/>
            <a:ext cx="4103640" cy="375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1104" r="24037" b="4956"/>
          <a:stretch/>
        </p:blipFill>
        <p:spPr>
          <a:xfrm>
            <a:off x="755640" y="1557360"/>
            <a:ext cx="3533760" cy="468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2160" y="403920"/>
            <a:ext cx="304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顺序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052640"/>
            <a:ext cx="1368360" cy="1055520"/>
          </a:xfrm>
          <a:prstGeom prst="wedgeRoundRectCallout">
            <a:avLst>
              <a:gd name="adj1" fmla="val 69259"/>
              <a:gd name="adj2" fmla="val 262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35560"/>
            <a:ext cx="3024000" cy="503280"/>
          </a:xfrm>
          <a:prstGeom prst="wedgeRoundRectCallout">
            <a:avLst>
              <a:gd name="adj1" fmla="val -16037"/>
              <a:gd name="adj2" fmla="val -8059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2205000"/>
            <a:ext cx="1800360" cy="719280"/>
          </a:xfrm>
          <a:prstGeom prst="wedgeRoundRectCallout">
            <a:avLst>
              <a:gd name="adj1" fmla="val -8643"/>
              <a:gd name="adj2" fmla="val 9635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59085" t="0" r="0" b="0"/>
          <a:stretch/>
        </p:blipFill>
        <p:spPr>
          <a:xfrm>
            <a:off x="5821200" y="0"/>
            <a:ext cx="3322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62120" cy="39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959280" cy="356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900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240" y="403920"/>
            <a:ext cx="34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△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936720" cy="1728720"/>
          </a:xfrm>
          <a:prstGeom prst="wedgeRoundRectCallout">
            <a:avLst>
              <a:gd name="adj1" fmla="val 77120"/>
              <a:gd name="adj2" fmla="val -1896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950080"/>
            <a:ext cx="3024360" cy="503280"/>
          </a:xfrm>
          <a:prstGeom prst="wedgeRoundRectCallout">
            <a:avLst>
              <a:gd name="adj1" fmla="val -8898"/>
              <a:gd name="adj2" fmla="val -12413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573360"/>
            <a:ext cx="1152360" cy="1008000"/>
          </a:xfrm>
          <a:prstGeom prst="wedgeRoundRectCallout">
            <a:avLst>
              <a:gd name="adj1" fmla="val 69148"/>
              <a:gd name="adj2" fmla="val -5440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57605" t="0" r="0" b="0"/>
          <a:stretch/>
        </p:blipFill>
        <p:spPr>
          <a:xfrm>
            <a:off x="5435640" y="3246480"/>
            <a:ext cx="3708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897440" cy="48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0" y="2059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5661000"/>
            <a:ext cx="1943280" cy="863640"/>
          </a:xfrm>
          <a:prstGeom prst="wedgeRoundRectCallout">
            <a:avLst>
              <a:gd name="adj1" fmla="val -82189"/>
              <a:gd name="adj2" fmla="val -3547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1727280" cy="792000"/>
          </a:xfrm>
          <a:prstGeom prst="wedgeRoundRectCallout">
            <a:avLst>
              <a:gd name="adj1" fmla="val 12592"/>
              <a:gd name="adj2" fmla="val -9629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波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43280" y="1660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波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5320" y="2927520"/>
            <a:ext cx="5256360" cy="357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91120" y="162864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87120" y="177336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皮带输送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495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各种基本逻辑指令的实际应用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编程元件定时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辅助继电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线，理解多个输出公共端子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162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皮带运输机工作原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70280"/>
          <a:ext cx="40338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70280"/>
                    <a:ext cx="40338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530000" y="5228280"/>
            <a:ext cx="26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工作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69000" y="2292480"/>
          <a:ext cx="4140000" cy="26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2292480"/>
                    <a:ext cx="4140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581080" y="521388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时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6:09:15Z</dcterms:modified>
  <cp:revision>49</cp:revision>
  <dc:subject/>
  <dc:title>模块二  S7-200系列PLC的基本结构 </dc:title>
</cp:coreProperties>
</file>