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AE4-F509-4330-ACA8-C1C8C339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AB0-404C-4DD7-94D5-68DCCB66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940-FDE9-48FB-AC7E-B0818F13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256-CBC2-4E05-A3B3-2E3A55E8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0C6A-9292-450F-A0A9-51A8B81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7EB-72F4-4AD9-B092-1D8C417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170-06F7-4C17-984D-CAA414D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A67-6F6B-4B6B-ABDF-E338881D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E311-26B2-4EA2-9032-D5F1093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A2F-626A-420B-93EB-ED37DC9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B4B6-0BE9-49F0-89A0-D28A5CB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1A9-68D7-4457-89DF-9CFEF6E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8E6C-8371-404F-AEF7-1E706D9B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5F4-6726-48E7-8124-BB53C6B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EBAF-3567-4A48-BAF2-7AC4A04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C2C-9494-433B-8BDD-C67CFC59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0C93-9449-4C0D-B943-226F8177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0656-4E1E-498D-A66D-0D9F36A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4F68-FA36-4CD9-91C3-D35068A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2351-FEF2-4CD7-9781-2B4649F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DD2A-059C-4304-8F48-DD95FA11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1512-D0B3-4F3A-912D-70BA000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E3F-32ED-41C6-97FB-3BE7DFE1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95EA-96E9-46EC-9508-D1F0B334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93D9-24E0-4554-A08D-41FDC9D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BB79-76E6-4440-9F2F-845A099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DEE3-69CA-436F-8CD3-872E26F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17EF-F697-45E7-B534-D5E4402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A79C-B7B6-4105-A08B-B996400A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888D-9446-4C7E-8EE1-FFC4F5B1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4606-8EEB-4ECE-BE9A-FBF1078C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F56C-A279-4AD0-A7AA-68387D6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1C29-C13A-4CD9-81B5-6AE76B5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88C-F355-464A-B18B-2D00576C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F217-A859-4618-80C9-E64420E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7806-CF08-475F-AE7E-A06885CE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0588-731A-4FD1-BEDE-B5AFF0A9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0AB0-B77E-46B7-AD10-F073E94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ECF0-D28B-40BA-967E-E3882EA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B647-A9D1-4D3F-929F-53C58C7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B876-7210-4F80-84B8-F501EB6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2C32-3AE9-46AA-B90C-45B13F4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6167-8DC8-4633-BEFF-756AC083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647-DA97-49D6-AC45-30A013D0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862-E8DF-4240-87BD-810A6FF2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6F0-5401-4C17-8C64-E6A27B9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D46-B1A5-4405-BA9F-0264C64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5FE-7F7B-4EDA-8247-4D9C507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9C8-5651-4C85-96D1-D44023986C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D5D8-995A-4643-85AD-69F0FE7DC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CA6-F71B-4F2A-A40E-8EDAE83C62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B65-945A-458F-8624-967937F40D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编程控制器应用基础</a:t>
            </a:r>
            <a:br>
              <a:rPr sz="54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模块式技能实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中职系列教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08800" y="4076640"/>
            <a:ext cx="18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四六  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纪文超  副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58280" y="62056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民邮电出版社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10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8261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扫描工作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采用循环扫描方式工作。从第一条程序开始，按顺序逐条执行程序，直到程序结束。然后再从头开始扫描，并周而复始地重复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工作时的扫描过程包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阶段：内部处理、通信处理、输入扫描、程序执行、输出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32720" y="1413000"/>
          <a:ext cx="18921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413000"/>
                    <a:ext cx="18921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81360"/>
            <a:ext cx="35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 X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逻辑操作开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开接点并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1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2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输出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程序结束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349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梯形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使用得最多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形编程语言。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所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控制程序，就是用梯形图语言编制的一段程序。实际编程时，总是先写出梯形图程序，如果需要，再根据梯形图写出指令表程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581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指令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亦称语句表）类似于计算机汇编语言的形式，它是采用指令的助记符来编程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950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顺序功能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详见本书模块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24000" y="170028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三种编程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63066" t="25759" r="-2452" b="28003"/>
          <a:stretch/>
        </p:blipFill>
        <p:spPr>
          <a:xfrm>
            <a:off x="4859280" y="2276640"/>
            <a:ext cx="324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148360" y="3884760"/>
          <a:ext cx="399564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884760"/>
                    <a:ext cx="399564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55200" y="2421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4365720"/>
            <a:ext cx="1081080" cy="1728720"/>
          </a:xfrm>
          <a:prstGeom prst="wedgeRoundRectCallout">
            <a:avLst>
              <a:gd name="adj1" fmla="val 17106"/>
              <a:gd name="adj2" fmla="val -9031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三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2N -32MR-001 P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14840" y="3206880"/>
            <a:ext cx="615960" cy="106020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200"/>
              <a:gd name="textAreaBottom" fmla="*/ 79524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4880" y="39085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C09_HPP" descr=""/>
          <p:cNvPicPr/>
          <p:nvPr/>
        </p:nvPicPr>
        <p:blipFill>
          <a:blip r:embed="rId3"/>
          <a:srcRect l="5102" t="14179" r="14891" b="0"/>
          <a:stretch/>
        </p:blipFill>
        <p:spPr>
          <a:xfrm>
            <a:off x="1042920" y="1628640"/>
            <a:ext cx="1467000" cy="2086200"/>
          </a:xfrm>
          <a:prstGeom prst="rect">
            <a:avLst/>
          </a:prstGeom>
          <a:ln w="0">
            <a:noFill/>
          </a:ln>
        </p:spPr>
      </p:pic>
      <p:pic>
        <p:nvPicPr>
          <p:cNvPr id="382" name="SC09_PLC" descr=""/>
          <p:cNvPicPr/>
          <p:nvPr/>
        </p:nvPicPr>
        <p:blipFill>
          <a:blip r:embed="rId4"/>
          <a:srcRect l="3140" t="0" r="0" b="0"/>
          <a:stretch/>
        </p:blipFill>
        <p:spPr>
          <a:xfrm>
            <a:off x="2556000" y="1628640"/>
            <a:ext cx="1533240" cy="2086200"/>
          </a:xfrm>
          <a:prstGeom prst="rect">
            <a:avLst/>
          </a:prstGeom>
          <a:ln w="0">
            <a:noFill/>
          </a:ln>
        </p:spPr>
      </p:pic>
      <p:pic>
        <p:nvPicPr>
          <p:cNvPr id="383" name="FX-20P-CAB" descr=""/>
          <p:cNvPicPr/>
          <p:nvPr/>
        </p:nvPicPr>
        <p:blipFill>
          <a:blip r:embed="rId5"/>
          <a:srcRect l="42092" t="0" r="3368" b="0"/>
          <a:stretch/>
        </p:blipFill>
        <p:spPr>
          <a:xfrm>
            <a:off x="4140360" y="1628640"/>
            <a:ext cx="1514160" cy="2095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640" y="1700280"/>
            <a:ext cx="21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2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4365720"/>
            <a:ext cx="1081080" cy="1728720"/>
          </a:xfrm>
          <a:prstGeom prst="wedgeRoundRectCallout">
            <a:avLst>
              <a:gd name="adj1" fmla="val -4476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持式编程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4365720"/>
            <a:ext cx="1081080" cy="1728720"/>
          </a:xfrm>
          <a:prstGeom prst="wedgeRoundRectCallout">
            <a:avLst>
              <a:gd name="adj1" fmla="val 23421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CA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适配电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79320" y="628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三菱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47880" y="3797280"/>
            <a:ext cx="3779640" cy="2870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265800" cy="2687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6156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5148000" y="4724280"/>
            <a:ext cx="615960" cy="106056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560"/>
              <a:gd name="textAreaBottom" fmla="*/ 79560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4880" y="73512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3032280" cy="157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71640" y="2060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姆龙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6640" y="15811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彩灯亮灭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开关控制电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16360" y="2204280"/>
            <a:ext cx="280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4840" y="407556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5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彩灯开关控制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2400" y="595008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14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彩灯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开关控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76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237492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619240" y="5050440"/>
            <a:ext cx="189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64800" y="19162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训内容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输入输出继电器的接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58560" y="3213000"/>
            <a:ext cx="362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部接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输入继电器与输入端子之间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负载、负载供电电源之间的联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理解程序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控制系统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了解手持式编程工具的一般应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6020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6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实训电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8440" y="5733000"/>
            <a:ext cx="62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a)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b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7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及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90800" cy="38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0" b="8326"/>
          <a:stretch/>
        </p:blipFill>
        <p:spPr>
          <a:xfrm>
            <a:off x="4414680" y="2421000"/>
            <a:ext cx="47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691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思考下列问题，将正确的答案填入空白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可编程控制器的内部有很多等效继电器，但只有输入继电器和输出继电器是可以与外围设备进行连接的，其中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驱动线圈有外部接线端子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动合触头有外部接线端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主要编程设备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输出接口电路一般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全书共分八个模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二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F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三  基本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四  三相异步电动机的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五  步进指令及状态编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六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程序流程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七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比较、逻辑运算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八  其他功能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常见应用系统的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特点及应用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硬件结构和软件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3456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种“启－保－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电路的比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71640" y="2708280"/>
          <a:ext cx="32274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32274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788000" y="6021360"/>
            <a:ext cx="3382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电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继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触器控制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24360" cy="29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63066" t="25759" r="-2452" b="28003"/>
          <a:stretch/>
        </p:blipFill>
        <p:spPr>
          <a:xfrm>
            <a:off x="5508720" y="4437000"/>
            <a:ext cx="2725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编程控制器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编程方法简单易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功能强，性能价格比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硬件配套齐全，用户使用方便，适应性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靠性高，抗干扰能力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系统的设计、安装、调试工作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维修工作量小，维修方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积小，能耗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4652640"/>
            <a:ext cx="367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-4  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逻辑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453" r="0" b="1026"/>
          <a:stretch/>
        </p:blipFill>
        <p:spPr>
          <a:xfrm>
            <a:off x="4859280" y="3645000"/>
            <a:ext cx="4284720" cy="30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1484280"/>
          <a:ext cx="496872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968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19640" y="2133720"/>
            <a:ext cx="360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-3  FX2N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系列可编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器的外形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种输入接口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465800" cy="240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276640"/>
            <a:ext cx="30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直流输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电路外接电源的极性可任意，单元中含有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构成的滤波电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6760" y="4653000"/>
            <a:ext cx="41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交流输入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元中含有隔直流电容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直流及交流输入电路中均采用光耦实现输入信号与机内电路的耦合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种输出接口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体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输出电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76720" cy="2117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7883" t="12699" r="10536" b="6779"/>
          <a:stretch/>
        </p:blipFill>
        <p:spPr>
          <a:xfrm>
            <a:off x="611280" y="3357720"/>
            <a:ext cx="3816360" cy="208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13832" t="7795" r="16649" b="8642"/>
          <a:stretch/>
        </p:blipFill>
        <p:spPr>
          <a:xfrm>
            <a:off x="4427640" y="4665600"/>
            <a:ext cx="4446360" cy="2192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24360" y="400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闸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2349360"/>
            <a:ext cx="976320" cy="412920"/>
          </a:xfrm>
          <a:prstGeom prst="rightArrow">
            <a:avLst>
              <a:gd name="adj1" fmla="val 50000"/>
              <a:gd name="adj2" fmla="val 5911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933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28920" y="5013360"/>
            <a:ext cx="135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内置输入控制回路直流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工作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程序“工作电源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1280" y="5013360"/>
            <a:ext cx="70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辅助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主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负载工作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-341280"/>
            <a:ext cx="54612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697440" cy="505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7240" y="1267200"/>
            <a:ext cx="6069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等效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7:52Z</dcterms:created>
  <dc:creator>雨林木风</dc:creator>
  <dc:description/>
  <dc:language>en-US</dc:language>
  <cp:lastModifiedBy>雨林木风</cp:lastModifiedBy>
  <dcterms:modified xsi:type="dcterms:W3CDTF">2010-10-05T07:26:08Z</dcterms:modified>
  <cp:revision>47</cp:revision>
  <dc:subject/>
  <dc:title> S7-200系列可编程控制器 应 用 基 础</dc:title>
</cp:coreProperties>
</file>