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CE7F-4B04-4E16-B6DD-ABE3C1C7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24C7-7A05-4E98-8EDC-6664E3D8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3740-FCEE-49DE-85FA-2E8B13B0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75DA-BCD9-4703-93A8-A8B9DA18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0D72-540E-4CEC-B2E0-7F715980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3DB9-E2E6-44A9-AF9D-76B45B1D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0022-19FF-4E07-AAF3-EBC86734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C638-92A9-498E-A439-E401BA7C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C950-6A0F-4A61-8C08-B48AF26B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8744-9D56-4B43-B72C-17D0BE69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E8EA-2C12-4257-B9FD-FC70A43D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CEBD-A649-4D12-BD9B-B7F7B0F2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00B3-71BE-4FB1-B1CA-8AB94CA4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9674-6AA4-44C7-BEA6-5AF07B3D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4A60-182D-4D64-A3A4-58D6E907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0F36-CA02-4B02-827C-602A8B22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571D-7B7B-4AC5-8077-81DDD3A3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C422-2888-4CC6-9A9B-A0A0D6E0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C2DF-42F1-4124-8C13-88AB758A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F1BF-79D8-4AAB-8768-94047344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7B38-3B5E-42E0-B654-1A83A068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67B7-9F94-49E4-BB15-D942AFC9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8D9C-8D52-4E97-83FF-4B1DE3AD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191E-07AE-4515-A250-A77D5FAD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2996-2987-4992-AF8D-BD12D8FF153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B13F-4BCF-47E7-96F2-6E3B1FCE7E7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了解三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功能指令及其通用规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程序流程类指令的基本编程方法及一般应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习功能指令在编程软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的编程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09600" y="2133000"/>
            <a:ext cx="1703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警戒时钟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60840" y="1557000"/>
            <a:ext cx="37332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程序流向控制类指令（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0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9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71640" y="2708280"/>
          <a:ext cx="590544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708280"/>
                    <a:ext cx="5905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1556280"/>
            <a:ext cx="34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彩灯的两种闪烁模式控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4211640" cy="4025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30080" y="2276640"/>
            <a:ext cx="14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rcRect l="78626" t="0" r="0" b="0"/>
          <a:stretch/>
        </p:blipFill>
        <p:spPr>
          <a:xfrm>
            <a:off x="7926480" y="2276640"/>
            <a:ext cx="1217520" cy="4176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rcRect l="0" t="0" r="29658" b="0"/>
          <a:stretch/>
        </p:blipFill>
        <p:spPr>
          <a:xfrm>
            <a:off x="3892680" y="2349360"/>
            <a:ext cx="39020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87200" y="1700280"/>
            <a:ext cx="34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训内容—多工作方式的小车行程控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59920" y="242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42920" y="3359160"/>
            <a:ext cx="7632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子程序调用指令的一般使用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各种用途开关类电器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输入控制中的使用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3313440" cy="1698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3456000" cy="21034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259160" y="1557360"/>
            <a:ext cx="4884840" cy="5300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083960" y="3788640"/>
            <a:ext cx="26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-1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车行程控制系统示意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16600" y="63586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-1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面板示意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16279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多工作方式的小车行程控制原理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rcRect l="0" t="42467" r="0" b="2745"/>
          <a:stretch/>
        </p:blipFill>
        <p:spPr>
          <a:xfrm>
            <a:off x="4656240" y="2205000"/>
            <a:ext cx="4487760" cy="4653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19280" y="16279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多工作方式的小车行程控制程序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rcRect l="0" t="0" r="0" b="57677"/>
          <a:stretch/>
        </p:blipFill>
        <p:spPr>
          <a:xfrm>
            <a:off x="0" y="2965320"/>
            <a:ext cx="4861080" cy="38926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57360" y="2276640"/>
            <a:ext cx="177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43280" y="1556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4360" y="2860560"/>
            <a:ext cx="813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思考下列问题，将正确的答案填入空白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执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J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的条件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将不执行该指令和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间的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操作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X0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位元件，即由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成的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设计一个报警电路。输入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报警输入，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报警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闪亮，闪烁频率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”0.5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FF”0.5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报警蜂鸣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有音响输出，报警响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报警灯由闪烁变为常亮且停止音响；按下报警解除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报警灯熄灭。为测试报警灯和报警蜂鸣器的好坏，可用测试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随时测试。试画出控制程序梯形图、写出语句表，并加注释。（提示：可分别将报警和报警响应两种状态用两段子程序编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64160" y="162864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功能指令的通用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92480" y="2275920"/>
            <a:ext cx="22518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功能指令的表达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6553080" cy="1298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87040" y="3067920"/>
            <a:ext cx="10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格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63280" y="4922280"/>
            <a:ext cx="10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达形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117880" y="4941720"/>
            <a:ext cx="694836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7920" y="1988640"/>
            <a:ext cx="13374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数据长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64160" y="148392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功能指令的通用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987640" y="2205000"/>
            <a:ext cx="3711600" cy="762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619280" y="3213000"/>
            <a:ext cx="3755880" cy="716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900000" y="4149720"/>
            <a:ext cx="3759480" cy="716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101720" y="242100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传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33360" y="335772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传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6040" y="4292640"/>
            <a:ext cx="189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传送（慎用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059280" y="5589720"/>
            <a:ext cx="4176720" cy="761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84360" y="4941000"/>
            <a:ext cx="2754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脉冲执行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37240" y="83628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功能指令的通用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970920" y="1912320"/>
            <a:ext cx="36036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元件及字元件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24000" y="1549800"/>
            <a:ext cx="7920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的字：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X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X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X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X2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2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l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M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lM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Ml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Ml6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S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S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S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S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S16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的字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X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X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X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X4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Y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Y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Y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Y4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M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M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M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M32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S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S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S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S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S32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的字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X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X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X44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Y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Y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Y44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M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M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M3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M48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S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S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S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S3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S48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的字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X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X4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Y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Y4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M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M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M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M48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S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S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S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S48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的字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8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8X4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S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SY4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8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8M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8M64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89960" y="1988280"/>
            <a:ext cx="3255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变址寄存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使用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64160" y="148392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功能指令的通用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48160" y="2452680"/>
            <a:ext cx="4356000" cy="4162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19440" y="3714480"/>
            <a:ext cx="32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50V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0+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60Z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0+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80Z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0+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80160" y="31978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第三行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60840" y="1557000"/>
            <a:ext cx="37332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程序流向控制类指令（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0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9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36880" y="2204280"/>
            <a:ext cx="1703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条件跳转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516480" y="2232000"/>
          <a:ext cx="547200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6480" y="2232000"/>
                    <a:ext cx="547200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-136440" y="31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24000" y="3328920"/>
            <a:ext cx="3127320" cy="3529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643280" y="4149720"/>
            <a:ext cx="4176720" cy="2301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258920" y="2781360"/>
            <a:ext cx="2089080" cy="360360"/>
          </a:xfrm>
          <a:prstGeom prst="wedgeRoundRectCallout">
            <a:avLst>
              <a:gd name="adj1" fmla="val -23935"/>
              <a:gd name="adj2" fmla="val 109912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J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的使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35280" y="4149720"/>
            <a:ext cx="576360" cy="1943280"/>
          </a:xfrm>
          <a:prstGeom prst="wedgeRoundRectCallout">
            <a:avLst>
              <a:gd name="adj1" fmla="val 103166"/>
              <a:gd name="adj2" fmla="val 6782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双重跳转指令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27640" y="691920"/>
            <a:ext cx="37332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程序流向控制类指令（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0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9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4762800"/>
            <a:ext cx="1873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子程序调用及返回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8360" y="1628640"/>
          <a:ext cx="5580000" cy="27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558000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771640" y="3213000"/>
            <a:ext cx="3017880" cy="3357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940360" y="2349360"/>
            <a:ext cx="3102120" cy="4104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00000" y="5877000"/>
            <a:ext cx="1800360" cy="753840"/>
          </a:xfrm>
          <a:prstGeom prst="wedgeRoundRectCallout">
            <a:avLst>
              <a:gd name="adj1" fmla="val 53615"/>
              <a:gd name="adj2" fmla="val -168527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程序调用指令的应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00720" y="1700280"/>
            <a:ext cx="2448000" cy="433440"/>
          </a:xfrm>
          <a:prstGeom prst="wedgeRoundRectCallout">
            <a:avLst>
              <a:gd name="adj1" fmla="val -15888"/>
              <a:gd name="adj2" fmla="val 129851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程序的嵌套使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948200" y="1889280"/>
            <a:ext cx="4195800" cy="4968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1628280"/>
            <a:ext cx="379116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程序流向控制类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0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9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03560" y="2780640"/>
            <a:ext cx="13374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中断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3789360"/>
          <a:ext cx="4751280" cy="84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789360"/>
                    <a:ext cx="475128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60840" y="1557000"/>
            <a:ext cx="37332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程序流向控制类指令（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0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9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2204280"/>
            <a:ext cx="30589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主程序结束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50920" y="2781360"/>
          <a:ext cx="5256000" cy="9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81360"/>
                    <a:ext cx="525600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014840" y="3933000"/>
            <a:ext cx="13374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循环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36440" y="4581360"/>
            <a:ext cx="5400720" cy="1614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5651640" y="2708280"/>
            <a:ext cx="3492360" cy="2778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V="1" rot="10800000">
            <a:off x="5651280" y="587592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-8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循环程序的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08T05:52:25Z</dcterms:modified>
  <cp:revision>113</cp:revision>
  <dc:subject/>
  <dc:title>模块二  S7-200系列PLC的基本结构 </dc:title>
</cp:coreProperties>
</file>