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8D2AF-5C73-42B6-9A2F-202DCB810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BEEC7-F0A4-46E1-B652-03A2DD1D8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2E988-C98D-4992-AC97-C8D614BE5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3E699-966B-40CB-A12A-46A1A6F07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D7D57-445D-403B-9771-1B41A99FB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C34EF-888F-491C-B3B9-18851BDAC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9F9B0-E57F-4DD5-9624-5BE8DFC27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4C879-D37C-4FB9-918C-1BA41FBA3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2DBD4-7467-45A3-9F08-6DF748FD2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B909E-E560-48E4-B39A-BA5A7F958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2BAAE-71D9-452D-96F1-38EDE9CC3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17864-AA21-4C01-939F-C2373B772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2F483-D400-46F9-A831-AFF541FC6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CA64F-5117-4F39-B994-96F587A02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70777-F9AF-4FBB-BD72-9C36949D7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815F8-17F8-4461-B879-C7487E04D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75B25-F7D4-4D75-A2E7-6F8071CA6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2B5F5-ACA3-4D33-923B-B5621F0C6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D002F-C305-4FA2-B5C9-15035BDA7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545EC-54BF-4106-B5BF-333A388FE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1EF51-10FF-4B83-A799-338555318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10178-9518-4701-9372-6B4338269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88FCD-B099-4A16-A9F8-66C4786CF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C19DC-096E-4D13-974E-763871B7D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36A9C-7472-404D-A4CA-95FADCDDA243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89B9F-9A46-45A4-B661-A4F7563F4DA4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330033"/>
                </a:solidFill>
                <a:latin typeface="Times New Roman"/>
              </a:rPr>
              <a:t>模块二  </a:t>
            </a:r>
            <a:r>
              <a:rPr b="1" lang="zh-CN" sz="4200" spc="-1" strike="noStrike">
                <a:solidFill>
                  <a:srgbClr val="330033"/>
                </a:solidFill>
                <a:latin typeface="Times New Roman"/>
              </a:rPr>
              <a:t>FX</a:t>
            </a:r>
            <a:r>
              <a:rPr b="1" lang="zh-CN" sz="4200" spc="-1" strike="noStrike">
                <a:solidFill>
                  <a:srgbClr val="330033"/>
                </a:solidFill>
                <a:latin typeface="Times New Roman"/>
              </a:rPr>
              <a:t>系列</a:t>
            </a:r>
            <a:r>
              <a:rPr b="1" lang="zh-CN" sz="4200" spc="-1" strike="noStrike">
                <a:solidFill>
                  <a:srgbClr val="330033"/>
                </a:solidFill>
                <a:latin typeface="Times New Roman"/>
              </a:rPr>
              <a:t>PLC</a:t>
            </a:r>
            <a:r>
              <a:rPr b="1" lang="zh-CN" sz="4200" spc="-1" strike="noStrike">
                <a:solidFill>
                  <a:srgbClr val="330033"/>
                </a:solidFill>
                <a:latin typeface="Times New Roman"/>
              </a:rPr>
              <a:t>的基本结构</a:t>
            </a:r>
            <a:r>
              <a:rPr b="0" lang="zh-CN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55640" y="1628280"/>
            <a:ext cx="792000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目的要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了解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FX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系列可编程控制器的硬件结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了解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FX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系列可编程控制器常见应用系统的组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掌握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FX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系列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常用编程元件的使用方法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了解编程软件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GX Developer V8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的一般应用情况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330033"/>
                </a:solidFill>
                <a:latin typeface="Times New Roman"/>
              </a:rPr>
              <a:t>模块二  </a:t>
            </a:r>
            <a:r>
              <a:rPr b="1" lang="zh-CN" sz="4200" spc="-1" strike="noStrike">
                <a:solidFill>
                  <a:srgbClr val="330033"/>
                </a:solidFill>
                <a:latin typeface="Times New Roman"/>
              </a:rPr>
              <a:t>FX</a:t>
            </a:r>
            <a:r>
              <a:rPr b="1" lang="zh-CN" sz="4200" spc="-1" strike="noStrike">
                <a:solidFill>
                  <a:srgbClr val="330033"/>
                </a:solidFill>
                <a:latin typeface="Times New Roman"/>
              </a:rPr>
              <a:t>系列</a:t>
            </a:r>
            <a:r>
              <a:rPr b="1" lang="zh-CN" sz="4200" spc="-1" strike="noStrike">
                <a:solidFill>
                  <a:srgbClr val="330033"/>
                </a:solidFill>
                <a:latin typeface="Times New Roman"/>
              </a:rPr>
              <a:t>PLC</a:t>
            </a:r>
            <a:r>
              <a:rPr b="1" lang="zh-CN" sz="4200" spc="-1" strike="noStrike">
                <a:solidFill>
                  <a:srgbClr val="330033"/>
                </a:solidFill>
                <a:latin typeface="Times New Roman"/>
              </a:rPr>
              <a:t>的基本结构</a:t>
            </a:r>
            <a:r>
              <a:rPr b="0" lang="zh-CN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92440" y="473688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7360" y="1614600"/>
            <a:ext cx="667800" cy="269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技 能 训 练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16000" y="1916280"/>
            <a:ext cx="751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实训内容—计数器、特殊功能辅助继电器（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的应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075920" y="24480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Arial"/>
                <a:ea typeface="华文隶书"/>
              </a:rPr>
              <a:t>实训目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55640" y="3340080"/>
            <a:ext cx="7848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掌握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中计数器的一般使用方法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掌握典型用途特殊功能辅助继电器的使用方法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学会使用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GX Developer V8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编程软件在电脑上编辑梯形图程序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330033"/>
                </a:solidFill>
                <a:latin typeface="Times New Roman"/>
              </a:rPr>
              <a:t>模块二  </a:t>
            </a:r>
            <a:r>
              <a:rPr b="1" lang="zh-CN" sz="4200" spc="-1" strike="noStrike">
                <a:solidFill>
                  <a:srgbClr val="330033"/>
                </a:solidFill>
                <a:latin typeface="Times New Roman"/>
              </a:rPr>
              <a:t>FX</a:t>
            </a:r>
            <a:r>
              <a:rPr b="1" lang="zh-CN" sz="4200" spc="-1" strike="noStrike">
                <a:solidFill>
                  <a:srgbClr val="330033"/>
                </a:solidFill>
                <a:latin typeface="Times New Roman"/>
              </a:rPr>
              <a:t>系列</a:t>
            </a:r>
            <a:r>
              <a:rPr b="1" lang="zh-CN" sz="4200" spc="-1" strike="noStrike">
                <a:solidFill>
                  <a:srgbClr val="330033"/>
                </a:solidFill>
                <a:latin typeface="Times New Roman"/>
              </a:rPr>
              <a:t>PLC</a:t>
            </a:r>
            <a:r>
              <a:rPr b="1" lang="zh-CN" sz="4200" spc="-1" strike="noStrike">
                <a:solidFill>
                  <a:srgbClr val="330033"/>
                </a:solidFill>
                <a:latin typeface="Times New Roman"/>
              </a:rPr>
              <a:t>的基本结构</a:t>
            </a:r>
            <a:r>
              <a:rPr b="0" lang="zh-CN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792440" y="473688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360" y="1614600"/>
            <a:ext cx="667800" cy="269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技 能 训 练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204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867960" y="5723640"/>
            <a:ext cx="2591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Times New Roman"/>
              </a:rPr>
              <a:t>图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Times New Roman"/>
              </a:rPr>
              <a:t>2-9 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Times New Roman"/>
              </a:rPr>
              <a:t>输入输出继电器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Times New Roman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Times New Roman"/>
              </a:rPr>
              <a:t>I/O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Times New Roman"/>
              </a:rPr>
              <a:t>接线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14720" y="5771160"/>
            <a:ext cx="271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2-10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参考梯形图及指令表程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611280" y="1557360"/>
            <a:ext cx="3744720" cy="372096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4500720" y="2205000"/>
            <a:ext cx="4643280" cy="35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330033"/>
                </a:solidFill>
                <a:latin typeface="Times New Roman"/>
              </a:rPr>
              <a:t>模块二  </a:t>
            </a:r>
            <a:r>
              <a:rPr b="1" lang="zh-CN" sz="4200" spc="-1" strike="noStrike">
                <a:solidFill>
                  <a:srgbClr val="330033"/>
                </a:solidFill>
                <a:latin typeface="Times New Roman"/>
              </a:rPr>
              <a:t>FX</a:t>
            </a:r>
            <a:r>
              <a:rPr b="1" lang="zh-CN" sz="4200" spc="-1" strike="noStrike">
                <a:solidFill>
                  <a:srgbClr val="330033"/>
                </a:solidFill>
                <a:latin typeface="Times New Roman"/>
              </a:rPr>
              <a:t>系列</a:t>
            </a:r>
            <a:r>
              <a:rPr b="1" lang="zh-CN" sz="4200" spc="-1" strike="noStrike">
                <a:solidFill>
                  <a:srgbClr val="330033"/>
                </a:solidFill>
                <a:latin typeface="Times New Roman"/>
              </a:rPr>
              <a:t>PLC</a:t>
            </a:r>
            <a:r>
              <a:rPr b="1" lang="zh-CN" sz="4200" spc="-1" strike="noStrike">
                <a:solidFill>
                  <a:srgbClr val="330033"/>
                </a:solidFill>
                <a:latin typeface="Times New Roman"/>
              </a:rPr>
              <a:t>的基本结构</a:t>
            </a:r>
            <a:r>
              <a:rPr b="0" lang="zh-CN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792440" y="473688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92000" y="2509920"/>
            <a:ext cx="8352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三菱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FX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系列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应用比较广泛的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之一，它由基本单元、扩展单元、扩展模块及特殊功能单元构成。其中基本单元内含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CPU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是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主机，扩展单元用于增加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I/O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点数，扩展模块用于改变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I/O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点的比例，特殊功能模块用于模拟量输入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输出、网络通信等。三菱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FX2N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系列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编程元件有输入触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输出继电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辅助继电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定时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计数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状态寄存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数据寄存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变址寄存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指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常数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K/H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思考并将合适的答案填于空白处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①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定时器的线圈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时开始定时，定时时间到时其常开触点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常闭触点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②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通用定时器的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时被复位，复位后其常开触点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常闭触点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当前值变为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③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部计数器的复位输入电路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计数输入电路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当前值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设定值时，计数器的当前值加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；计数当前值等于设定值时，其常开触点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常闭触点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；再来计数脉冲时当前值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；复位输入电路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时，计数器被复位，复位后其常开触点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常闭触点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当前值为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④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OU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指令不能用于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继电器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⑤ 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初始化脉冲，在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时，它“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ON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一个扫描周期。当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处于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状态时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M800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一直为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⑥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编程元件中只有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元件号采用八进制数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-91440" y="1459800"/>
            <a:ext cx="667800" cy="23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行楷"/>
              </a:rPr>
              <a:t>边学边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330033"/>
                </a:solidFill>
                <a:latin typeface="Times New Roman"/>
              </a:rPr>
              <a:t>模块二  </a:t>
            </a:r>
            <a:r>
              <a:rPr b="1" lang="zh-CN" sz="4200" spc="-1" strike="noStrike">
                <a:solidFill>
                  <a:srgbClr val="330033"/>
                </a:solidFill>
                <a:latin typeface="Times New Roman"/>
              </a:rPr>
              <a:t>FX</a:t>
            </a:r>
            <a:r>
              <a:rPr b="1" lang="zh-CN" sz="4200" spc="-1" strike="noStrike">
                <a:solidFill>
                  <a:srgbClr val="330033"/>
                </a:solidFill>
                <a:latin typeface="Times New Roman"/>
              </a:rPr>
              <a:t>系列</a:t>
            </a:r>
            <a:r>
              <a:rPr b="1" lang="zh-CN" sz="4200" spc="-1" strike="noStrike">
                <a:solidFill>
                  <a:srgbClr val="330033"/>
                </a:solidFill>
                <a:latin typeface="Times New Roman"/>
              </a:rPr>
              <a:t>PLC</a:t>
            </a:r>
            <a:r>
              <a:rPr b="1" lang="zh-CN" sz="4200" spc="-1" strike="noStrike">
                <a:solidFill>
                  <a:srgbClr val="330033"/>
                </a:solidFill>
                <a:latin typeface="Times New Roman"/>
              </a:rPr>
              <a:t>的基本结构</a:t>
            </a:r>
            <a:r>
              <a:rPr b="0" lang="zh-CN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792440" y="473688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-91440" y="1459800"/>
            <a:ext cx="667800" cy="23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行楷"/>
              </a:rPr>
              <a:t>边学边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31800" y="1903320"/>
            <a:ext cx="8226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八进制数和十六进制数只是二进制数的一种较为方便的写法，但二进制数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BC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数是两个不同的概念，一个多位十进制数的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BC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数和二进制数是不一样的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例：十进制数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96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BC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数和二进制数分别写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十进制数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9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BC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数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00101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二进制数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01100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很多指令中，既有对二进制数的运算处理，也有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BC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数的运算处理，并且有二进制数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BC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数的相互转换指令，使用时应予以区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思考和计算，并把结果填入空格内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①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十进制数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7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在不同数制中应分别写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二进制数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________________________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八进制数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________________________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十六进制数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______________________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BC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数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_________________________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②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二进制数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0110110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在不同数制中应分别写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十进制数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________________________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八进制数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________________________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330033"/>
                </a:solidFill>
                <a:latin typeface="Times New Roman"/>
              </a:rPr>
              <a:t>模块二  </a:t>
            </a:r>
            <a:r>
              <a:rPr b="1" lang="zh-CN" sz="4200" spc="-1" strike="noStrike">
                <a:solidFill>
                  <a:srgbClr val="330033"/>
                </a:solidFill>
                <a:latin typeface="Times New Roman"/>
              </a:rPr>
              <a:t>FX</a:t>
            </a:r>
            <a:r>
              <a:rPr b="1" lang="zh-CN" sz="4200" spc="-1" strike="noStrike">
                <a:solidFill>
                  <a:srgbClr val="330033"/>
                </a:solidFill>
                <a:latin typeface="Times New Roman"/>
              </a:rPr>
              <a:t>系列</a:t>
            </a:r>
            <a:r>
              <a:rPr b="1" lang="zh-CN" sz="4200" spc="-1" strike="noStrike">
                <a:solidFill>
                  <a:srgbClr val="330033"/>
                </a:solidFill>
                <a:latin typeface="Times New Roman"/>
              </a:rPr>
              <a:t>PLC</a:t>
            </a:r>
            <a:r>
              <a:rPr b="1" lang="zh-CN" sz="4200" spc="-1" strike="noStrike">
                <a:solidFill>
                  <a:srgbClr val="330033"/>
                </a:solidFill>
                <a:latin typeface="Times New Roman"/>
              </a:rPr>
              <a:t>的基本结构</a:t>
            </a:r>
            <a:r>
              <a:rPr b="0" lang="zh-CN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792440" y="473688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411280" y="1483920"/>
            <a:ext cx="4229280" cy="6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1320" rIns="90000" tIns="84240" bIns="8424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华文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、</a:t>
            </a: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FX</a:t>
            </a: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系列</a:t>
            </a: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PLC</a:t>
            </a: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概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611280" y="2060640"/>
            <a:ext cx="8532720" cy="21686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539640" y="4292640"/>
            <a:ext cx="8604360" cy="235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36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330033"/>
                </a:solidFill>
                <a:latin typeface="Times New Roman"/>
              </a:rPr>
              <a:t>模块二  </a:t>
            </a:r>
            <a:r>
              <a:rPr b="1" lang="zh-CN" sz="3800" spc="-1" strike="noStrike">
                <a:solidFill>
                  <a:srgbClr val="330033"/>
                </a:solidFill>
                <a:latin typeface="Times New Roman"/>
              </a:rPr>
              <a:t>FX</a:t>
            </a:r>
            <a:r>
              <a:rPr b="1" lang="zh-CN" sz="3800" spc="-1" strike="noStrike">
                <a:solidFill>
                  <a:srgbClr val="330033"/>
                </a:solidFill>
                <a:latin typeface="Times New Roman"/>
              </a:rPr>
              <a:t>系列</a:t>
            </a:r>
            <a:br>
              <a:rPr sz="3800"/>
            </a:br>
            <a:r>
              <a:rPr b="1" lang="zh-CN" sz="3800" spc="-1" strike="noStrike">
                <a:solidFill>
                  <a:srgbClr val="330033"/>
                </a:solidFill>
                <a:latin typeface="Times New Roman"/>
              </a:rPr>
              <a:t>PLC</a:t>
            </a:r>
            <a:r>
              <a:rPr b="1" lang="zh-CN" sz="3800" spc="-1" strike="noStrike">
                <a:solidFill>
                  <a:srgbClr val="330033"/>
                </a:solidFill>
                <a:latin typeface="Times New Roman"/>
              </a:rPr>
              <a:t>的基本结构</a:t>
            </a:r>
            <a:r>
              <a:rPr b="0" lang="zh-CN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792440" y="473688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2133720"/>
            <a:ext cx="4344840" cy="472428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rcRect l="7728" t="13908" r="10029" b="9645"/>
          <a:stretch/>
        </p:blipFill>
        <p:spPr>
          <a:xfrm>
            <a:off x="4290840" y="260280"/>
            <a:ext cx="485316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330033"/>
                </a:solidFill>
                <a:latin typeface="Times New Roman"/>
              </a:rPr>
              <a:t>模块二  </a:t>
            </a:r>
            <a:r>
              <a:rPr b="1" lang="zh-CN" sz="4200" spc="-1" strike="noStrike">
                <a:solidFill>
                  <a:srgbClr val="330033"/>
                </a:solidFill>
                <a:latin typeface="Times New Roman"/>
              </a:rPr>
              <a:t>FX</a:t>
            </a:r>
            <a:r>
              <a:rPr b="1" lang="zh-CN" sz="4200" spc="-1" strike="noStrike">
                <a:solidFill>
                  <a:srgbClr val="330033"/>
                </a:solidFill>
                <a:latin typeface="Times New Roman"/>
              </a:rPr>
              <a:t>系列</a:t>
            </a:r>
            <a:r>
              <a:rPr b="1" lang="zh-CN" sz="4200" spc="-1" strike="noStrike">
                <a:solidFill>
                  <a:srgbClr val="330033"/>
                </a:solidFill>
                <a:latin typeface="Times New Roman"/>
              </a:rPr>
              <a:t>PLC</a:t>
            </a:r>
            <a:r>
              <a:rPr b="1" lang="zh-CN" sz="4200" spc="-1" strike="noStrike">
                <a:solidFill>
                  <a:srgbClr val="330033"/>
                </a:solidFill>
                <a:latin typeface="Times New Roman"/>
              </a:rPr>
              <a:t>的基本结构</a:t>
            </a:r>
            <a:r>
              <a:rPr b="0" lang="zh-CN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792440" y="473688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4360" y="3049560"/>
            <a:ext cx="2842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FX2N-□□M□-00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型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典型输入外部配线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rcRect l="0" t="538" r="0" b="1109"/>
          <a:stretch/>
        </p:blipFill>
        <p:spPr>
          <a:xfrm>
            <a:off x="3276720" y="1292400"/>
            <a:ext cx="5867280" cy="556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330033"/>
                </a:solidFill>
                <a:latin typeface="Times New Roman"/>
              </a:rPr>
              <a:t>模块二  </a:t>
            </a:r>
            <a:r>
              <a:rPr b="1" lang="zh-CN" sz="4200" spc="-1" strike="noStrike">
                <a:solidFill>
                  <a:srgbClr val="330033"/>
                </a:solidFill>
                <a:latin typeface="Times New Roman"/>
              </a:rPr>
              <a:t>FX</a:t>
            </a:r>
            <a:r>
              <a:rPr b="1" lang="zh-CN" sz="4200" spc="-1" strike="noStrike">
                <a:solidFill>
                  <a:srgbClr val="330033"/>
                </a:solidFill>
                <a:latin typeface="Times New Roman"/>
              </a:rPr>
              <a:t>系列</a:t>
            </a:r>
            <a:r>
              <a:rPr b="1" lang="zh-CN" sz="4200" spc="-1" strike="noStrike">
                <a:solidFill>
                  <a:srgbClr val="330033"/>
                </a:solidFill>
                <a:latin typeface="Times New Roman"/>
              </a:rPr>
              <a:t>PLC</a:t>
            </a:r>
            <a:r>
              <a:rPr b="1" lang="zh-CN" sz="4200" spc="-1" strike="noStrike">
                <a:solidFill>
                  <a:srgbClr val="330033"/>
                </a:solidFill>
                <a:latin typeface="Times New Roman"/>
              </a:rPr>
              <a:t>的基本结构</a:t>
            </a:r>
            <a:r>
              <a:rPr b="0" lang="zh-CN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792440" y="473688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2873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2301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212760" y="2212920"/>
          <a:ext cx="8642160" cy="4548240"/>
        </p:xfrm>
        <a:graphic>
          <a:graphicData uri="http://schemas.openxmlformats.org/drawingml/2006/table">
            <a:tbl>
              <a:tblPr/>
              <a:tblGrid>
                <a:gridCol w="1220760"/>
                <a:gridCol w="1227240"/>
                <a:gridCol w="1290600"/>
                <a:gridCol w="1226880"/>
                <a:gridCol w="1108080"/>
                <a:gridCol w="1127160"/>
                <a:gridCol w="1441440"/>
              </a:tblGrid>
              <a:tr h="7588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C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电源，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C 24V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输入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C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电源，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C 24V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输入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输入点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输出点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可连接的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L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7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继电器输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晶体管输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继电器输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晶体管输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58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X</a:t>
                      </a:r>
                      <a:r>
                        <a:rPr b="0" lang="en-US" sz="1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N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32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X</a:t>
                      </a:r>
                      <a:r>
                        <a:rPr b="0" lang="en-US" sz="1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N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32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－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－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X</a:t>
                      </a:r>
                      <a:r>
                        <a:rPr b="0" lang="zh-CN" sz="1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N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和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X</a:t>
                      </a:r>
                      <a:r>
                        <a:rPr b="0" lang="zh-CN" sz="1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7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X</a:t>
                      </a:r>
                      <a:r>
                        <a:rPr b="0" lang="en-US" sz="1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N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40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X</a:t>
                      </a:r>
                      <a:r>
                        <a:rPr b="0" lang="en-US" sz="1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N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40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X</a:t>
                      </a:r>
                      <a:r>
                        <a:rPr b="0" lang="en-US" sz="1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N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40ER-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－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X</a:t>
                      </a:r>
                      <a:r>
                        <a:rPr b="0" lang="en-US" sz="1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7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X</a:t>
                      </a:r>
                      <a:r>
                        <a:rPr b="0" lang="en-US" sz="1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N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48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X</a:t>
                      </a:r>
                      <a:r>
                        <a:rPr b="0" lang="en-US" sz="1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N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48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－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－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X</a:t>
                      </a:r>
                      <a:r>
                        <a:rPr b="0" lang="zh-CN" sz="1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N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和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X</a:t>
                      </a:r>
                      <a:r>
                        <a:rPr b="0" lang="zh-CN" sz="1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8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－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－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X</a:t>
                      </a:r>
                      <a:r>
                        <a:rPr b="0" lang="en-US" sz="1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N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48ER-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X</a:t>
                      </a:r>
                      <a:r>
                        <a:rPr b="0" lang="en-US" sz="1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N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48ET-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X</a:t>
                      </a:r>
                      <a:r>
                        <a:rPr b="0" lang="en-US" sz="1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1" name=""/>
          <p:cNvSpPr/>
          <p:nvPr/>
        </p:nvSpPr>
        <p:spPr>
          <a:xfrm>
            <a:off x="2440440" y="1669320"/>
            <a:ext cx="470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FX1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FX2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系列带电源的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I/O</a:t>
            </a:r>
            <a:r>
              <a:rPr b="0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扩展单元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330033"/>
                </a:solidFill>
                <a:latin typeface="Times New Roman"/>
              </a:rPr>
              <a:t>模块二  </a:t>
            </a:r>
            <a:r>
              <a:rPr b="1" lang="zh-CN" sz="4200" spc="-1" strike="noStrike">
                <a:solidFill>
                  <a:srgbClr val="330033"/>
                </a:solidFill>
                <a:latin typeface="Times New Roman"/>
              </a:rPr>
              <a:t>FX</a:t>
            </a:r>
            <a:r>
              <a:rPr b="1" lang="zh-CN" sz="4200" spc="-1" strike="noStrike">
                <a:solidFill>
                  <a:srgbClr val="330033"/>
                </a:solidFill>
                <a:latin typeface="Times New Roman"/>
              </a:rPr>
              <a:t>系列</a:t>
            </a:r>
            <a:r>
              <a:rPr b="1" lang="zh-CN" sz="4200" spc="-1" strike="noStrike">
                <a:solidFill>
                  <a:srgbClr val="330033"/>
                </a:solidFill>
                <a:latin typeface="Times New Roman"/>
              </a:rPr>
              <a:t>PLC</a:t>
            </a:r>
            <a:r>
              <a:rPr b="1" lang="zh-CN" sz="4200" spc="-1" strike="noStrike">
                <a:solidFill>
                  <a:srgbClr val="330033"/>
                </a:solidFill>
                <a:latin typeface="Times New Roman"/>
              </a:rPr>
              <a:t>的基本结构</a:t>
            </a:r>
            <a:r>
              <a:rPr b="0" lang="zh-CN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92440" y="473688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193480" y="1551960"/>
            <a:ext cx="488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FX1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FX2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系列不带电源的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I/O</a:t>
            </a:r>
            <a:r>
              <a:rPr b="0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扩展模块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01640" y="2117880"/>
          <a:ext cx="7772400" cy="4632120"/>
        </p:xfrm>
        <a:graphic>
          <a:graphicData uri="http://schemas.openxmlformats.org/drawingml/2006/table">
            <a:tbl>
              <a:tblPr/>
              <a:tblGrid>
                <a:gridCol w="1554120"/>
                <a:gridCol w="1554120"/>
                <a:gridCol w="1555920"/>
                <a:gridCol w="1554120"/>
                <a:gridCol w="1554120"/>
              </a:tblGrid>
              <a:tr h="639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输 入 模 块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继电器输出模块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晶体管输出模块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输 入 点 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输 出 点 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X</a:t>
                      </a:r>
                      <a:r>
                        <a:rPr b="0" lang="en-US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N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8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36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X</a:t>
                      </a:r>
                      <a:r>
                        <a:rPr b="0" lang="en-US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N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8E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7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X</a:t>
                      </a:r>
                      <a:r>
                        <a:rPr b="0" lang="en-US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N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6E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X</a:t>
                      </a:r>
                      <a:r>
                        <a:rPr b="0" lang="en-US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N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6E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X</a:t>
                      </a:r>
                      <a:r>
                        <a:rPr b="0" lang="en-US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N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8EY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X</a:t>
                      </a:r>
                      <a:r>
                        <a:rPr b="0" lang="en-US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N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8EY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X</a:t>
                      </a:r>
                      <a:r>
                        <a:rPr b="0" lang="en-US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N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6EY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X</a:t>
                      </a:r>
                      <a:r>
                        <a:rPr b="0" lang="en-US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N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6EY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X</a:t>
                      </a:r>
                      <a:r>
                        <a:rPr b="0" lang="en-US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N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6EY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X</a:t>
                      </a:r>
                      <a:r>
                        <a:rPr b="0" lang="en-US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N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6EY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330033"/>
                </a:solidFill>
                <a:latin typeface="Times New Roman"/>
              </a:rPr>
              <a:t>模块二  </a:t>
            </a:r>
            <a:r>
              <a:rPr b="1" lang="zh-CN" sz="4200" spc="-1" strike="noStrike">
                <a:solidFill>
                  <a:srgbClr val="330033"/>
                </a:solidFill>
                <a:latin typeface="Times New Roman"/>
              </a:rPr>
              <a:t>FX</a:t>
            </a:r>
            <a:r>
              <a:rPr b="1" lang="zh-CN" sz="4200" spc="-1" strike="noStrike">
                <a:solidFill>
                  <a:srgbClr val="330033"/>
                </a:solidFill>
                <a:latin typeface="Times New Roman"/>
              </a:rPr>
              <a:t>系列</a:t>
            </a:r>
            <a:r>
              <a:rPr b="1" lang="zh-CN" sz="4200" spc="-1" strike="noStrike">
                <a:solidFill>
                  <a:srgbClr val="330033"/>
                </a:solidFill>
                <a:latin typeface="Times New Roman"/>
              </a:rPr>
              <a:t>PLC</a:t>
            </a:r>
            <a:r>
              <a:rPr b="1" lang="zh-CN" sz="4200" spc="-1" strike="noStrike">
                <a:solidFill>
                  <a:srgbClr val="330033"/>
                </a:solidFill>
                <a:latin typeface="Times New Roman"/>
              </a:rPr>
              <a:t>的基本结构</a:t>
            </a:r>
            <a:r>
              <a:rPr b="0" lang="zh-CN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792440" y="473688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619280" y="1557000"/>
            <a:ext cx="5699160" cy="6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4240" bIns="842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二、</a:t>
            </a: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FX2N</a:t>
            </a: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系列</a:t>
            </a: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PLC</a:t>
            </a: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的编程元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640160" y="2203560"/>
            <a:ext cx="1893240" cy="43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．输入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继电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输出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继电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．辅助继电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通用辅助继电器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掉电保持辅助继电器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特殊功能辅助继电器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．定时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通用定时器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累积定时器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．计数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位加计数器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位双向计数器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高速计数器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572000" y="2205000"/>
            <a:ext cx="4572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．状态寄存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初始状态用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回归原点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一般通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保持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．数据寄存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通用型数据寄存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保持型数据寄存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特殊功能寄存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．变址寄存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．指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用于子程序调用的“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标号的指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用于中断服务程序入口的“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I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标号指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．常数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K/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00000" y="836280"/>
            <a:ext cx="1857600" cy="55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330033"/>
                </a:solidFill>
                <a:latin typeface="Times New Roman"/>
              </a:rPr>
              <a:t>模块二  </a:t>
            </a:r>
            <a:r>
              <a:rPr b="1" lang="zh-CN" sz="4200" spc="-1" strike="noStrike">
                <a:solidFill>
                  <a:srgbClr val="330033"/>
                </a:solidFill>
                <a:latin typeface="Times New Roman"/>
              </a:rPr>
              <a:t>FX</a:t>
            </a:r>
            <a:br>
              <a:rPr sz="4200"/>
            </a:br>
            <a:r>
              <a:rPr b="1" lang="zh-CN" sz="4200" spc="-1" strike="noStrike">
                <a:solidFill>
                  <a:srgbClr val="330033"/>
                </a:solidFill>
                <a:latin typeface="Times New Roman"/>
              </a:rPr>
              <a:t>系列</a:t>
            </a:r>
            <a:r>
              <a:rPr b="1" lang="zh-CN" sz="4200" spc="-1" strike="noStrike">
                <a:solidFill>
                  <a:srgbClr val="330033"/>
                </a:solidFill>
                <a:latin typeface="Times New Roman"/>
              </a:rPr>
              <a:t>PLC</a:t>
            </a:r>
            <a:br>
              <a:rPr sz="4200"/>
            </a:br>
            <a:r>
              <a:rPr b="1" lang="zh-CN" sz="4200" spc="-1" strike="noStrike">
                <a:solidFill>
                  <a:srgbClr val="330033"/>
                </a:solidFill>
                <a:latin typeface="Times New Roman"/>
              </a:rPr>
              <a:t>的基本结构</a:t>
            </a:r>
            <a:r>
              <a:rPr b="0" lang="zh-CN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792440" y="473688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3348000" y="0"/>
            <a:ext cx="5241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330033"/>
                </a:solidFill>
                <a:latin typeface="Times New Roman"/>
              </a:rPr>
              <a:t>模块二  </a:t>
            </a:r>
            <a:r>
              <a:rPr b="1" lang="zh-CN" sz="4200" spc="-1" strike="noStrike">
                <a:solidFill>
                  <a:srgbClr val="330033"/>
                </a:solidFill>
                <a:latin typeface="Times New Roman"/>
              </a:rPr>
              <a:t>FX</a:t>
            </a:r>
            <a:r>
              <a:rPr b="1" lang="zh-CN" sz="4200" spc="-1" strike="noStrike">
                <a:solidFill>
                  <a:srgbClr val="330033"/>
                </a:solidFill>
                <a:latin typeface="Times New Roman"/>
              </a:rPr>
              <a:t>系列</a:t>
            </a:r>
            <a:r>
              <a:rPr b="1" lang="zh-CN" sz="4200" spc="-1" strike="noStrike">
                <a:solidFill>
                  <a:srgbClr val="330033"/>
                </a:solidFill>
                <a:latin typeface="Times New Roman"/>
              </a:rPr>
              <a:t>PLC</a:t>
            </a:r>
            <a:r>
              <a:rPr b="1" lang="zh-CN" sz="4200" spc="-1" strike="noStrike">
                <a:solidFill>
                  <a:srgbClr val="330033"/>
                </a:solidFill>
                <a:latin typeface="Times New Roman"/>
              </a:rPr>
              <a:t>的基本结构</a:t>
            </a:r>
            <a:r>
              <a:rPr b="0" lang="zh-CN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92440" y="473688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-4320" y="1694160"/>
            <a:ext cx="667800" cy="26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课 堂 演 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274560" y="1557360"/>
            <a:ext cx="281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双定时器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PLC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闪光控制电路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269000" y="6222240"/>
            <a:ext cx="236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2-6 PLC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闪光控制电路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238720" y="6236280"/>
            <a:ext cx="187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2-8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演示电路程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755640" y="2060640"/>
            <a:ext cx="3303720" cy="410508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4284720" y="2637000"/>
            <a:ext cx="4621320" cy="339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2T07:07:48Z</dcterms:created>
  <dc:creator>雨林木风</dc:creator>
  <dc:description/>
  <dc:language>en-US</dc:language>
  <cp:lastModifiedBy>雨林木风</cp:lastModifiedBy>
  <dcterms:modified xsi:type="dcterms:W3CDTF">2010-10-06T01:26:56Z</dcterms:modified>
  <cp:revision>34</cp:revision>
  <dc:subject/>
  <dc:title>模块二  S7-200系列PLC的基本结构 </dc:title>
</cp:coreProperties>
</file>