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4EC-4C30-45BD-828A-51CA7A9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79E-65FF-4D6A-B9E0-A3D2F98D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39E-C2A0-4E73-9FA1-BDBE48BC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2C5-920B-46A6-A8FA-828F45F9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FA04-2D74-4D5C-9710-7FE297B8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37B0-DEFA-4F38-8F0B-3EAD5AD9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D47B-C24D-400D-BB4B-3ED3F48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A84-2482-403A-803A-1E6C8C9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F884-C435-4F1F-80A5-8091857E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67F-B172-40C4-A7FE-A1C9D9DA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F67D-C825-4E97-8681-8170718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55C-F78E-491A-BB15-6FA0DFE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59E3-40AC-4039-B110-258E830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C88-9373-4938-8C1B-D3F8860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D234-7EF4-42C7-A265-629AE7D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C66-01DA-454F-B549-D06331B8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0E4-D380-4D82-86BD-47EF27D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541-353E-43B2-8C1F-58A50D6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94E-D7BF-4977-8A62-AF96E239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C9F-D144-4DC8-B9BA-36836063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0E3-4D56-418C-832C-2000337E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BD3-1941-4E05-BF76-7908393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A8E-2CDD-454A-BF94-2D44DC4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E7F-63E2-4E25-B28C-B76B463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0B4-C7A5-4E40-8E49-8EAC08B2D83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954-F791-4C3E-83AE-1A49D51E686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指令的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000" y="0"/>
            <a:ext cx="4852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1560" y="1556280"/>
            <a:ext cx="37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532720" cy="2157480"/>
          </a:xfrm>
          <a:prstGeom prst="rect">
            <a:avLst/>
          </a:prstGeom>
          <a:ln w="0">
            <a:noFill/>
          </a:ln>
        </p:spPr>
      </p:pic>
      <p:pic>
        <p:nvPicPr>
          <p:cNvPr id="209" name="03d08" descr=""/>
          <p:cNvPicPr/>
          <p:nvPr/>
        </p:nvPicPr>
        <p:blipFill>
          <a:blip r:embed="rId2"/>
          <a:stretch/>
        </p:blipFill>
        <p:spPr>
          <a:xfrm>
            <a:off x="1924200" y="2376360"/>
            <a:ext cx="234288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64240" y="2405160"/>
            <a:ext cx="2457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8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两层栈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2320" y="4138920"/>
            <a:ext cx="264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二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第二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Y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24200" y="23763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6800" y="4221360"/>
            <a:ext cx="16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3419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20" y="1483560"/>
            <a:ext cx="257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459640" cy="1733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8040" y="3787920"/>
            <a:ext cx="370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N0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主控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线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     N0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29280" y="3724200"/>
            <a:ext cx="3240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6545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05120" y="3943800"/>
            <a:ext cx="377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程序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452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120" y="15562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17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9440" y="4007160"/>
            <a:ext cx="361872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3274"/>
          <a:stretch/>
        </p:blipFill>
        <p:spPr>
          <a:xfrm>
            <a:off x="4788000" y="4149720"/>
            <a:ext cx="388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44240" y="4507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编程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2133720"/>
            <a:ext cx="22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0" y="2563200"/>
            <a:ext cx="103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留出一定的空间，待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某些接点或电路短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切断某些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换部分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" y="4075920"/>
            <a:ext cx="209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557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6160" y="5057640"/>
            <a:ext cx="1886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双线圈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程序的优化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程元件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0" y="90180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5003640" cy="29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41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81680" y="5024520"/>
            <a:ext cx="3924360" cy="136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205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键离合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柄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6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滑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7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8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9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0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位弹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衔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程开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凸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480" y="155628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曲柄压力机及常规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4292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拟曲柄压力机硬件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及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5182920" cy="412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0" t="3377" r="31144" b="16179"/>
          <a:stretch/>
        </p:blipFill>
        <p:spPr>
          <a:xfrm>
            <a:off x="5076720" y="1628640"/>
            <a:ext cx="4067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合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4360" y="2870280"/>
            <a:ext cx="4824360" cy="398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57890" t="49861" r="-2829" b="7991"/>
          <a:stretch/>
        </p:blipFill>
        <p:spPr>
          <a:xfrm>
            <a:off x="4427640" y="1484280"/>
            <a:ext cx="42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断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2851200"/>
            <a:ext cx="4824360" cy="4006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59141" t="45332" r="-1000" b="11161"/>
          <a:stretch/>
        </p:blipFill>
        <p:spPr>
          <a:xfrm>
            <a:off x="4500720" y="1347840"/>
            <a:ext cx="4032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63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模块三</a:t>
            </a:r>
            <a:br>
              <a:rPr sz="3200"/>
            </a:b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  基本逻辑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4880" y="69228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052880" y="0"/>
            <a:ext cx="3090960" cy="664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6880" y="305640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-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，写出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5205240" cy="68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3320" y="-47340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0033"/>
                </a:solidFill>
                <a:latin typeface="Arial"/>
              </a:rPr>
              <a:t>模块三  基本逻辑指令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1960" y="1558800"/>
            <a:ext cx="326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0640" y="378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指令一览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95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指令表绘出下列程序的梯形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520" y="1549800"/>
            <a:ext cx="254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0880" y="1559160"/>
            <a:ext cx="162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6880" y="1629720"/>
            <a:ext cx="162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960" y="227664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56640"/>
            <a:ext cx="430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19880" cy="216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4376880"/>
            <a:ext cx="3095640" cy="248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4394160"/>
            <a:ext cx="332424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54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463920" cy="19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24600" y="2928960"/>
            <a:ext cx="2093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  AND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4075200"/>
            <a:ext cx="540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3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4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7080" y="2928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480" y="155628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846000" y="1560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9280" y="1989000"/>
            <a:ext cx="8424720" cy="15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4760" y="3645360"/>
            <a:ext cx="36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      X007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M10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622680"/>
            <a:ext cx="33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9880" y="2133720"/>
            <a:ext cx="8437680" cy="35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9920" y="1627920"/>
            <a:ext cx="668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1960" y="1627920"/>
            <a:ext cx="705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例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9160" y="2158920"/>
            <a:ext cx="361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X00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Y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   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    X01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     Y00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1020"/>
          <a:stretch/>
        </p:blipFill>
        <p:spPr>
          <a:xfrm>
            <a:off x="5292720" y="2205000"/>
            <a:ext cx="3065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4240" y="57960"/>
            <a:ext cx="365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8317080" cy="114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8317080" cy="1168200"/>
          </a:xfrm>
          <a:prstGeom prst="rect">
            <a:avLst/>
          </a:prstGeom>
          <a:ln w="0">
            <a:noFill/>
          </a:ln>
        </p:spPr>
      </p:pic>
      <p:pic>
        <p:nvPicPr>
          <p:cNvPr id="188" name="03d05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780000" cy="348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2133720"/>
            <a:ext cx="2235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 AN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43028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4280" y="280188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7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200" y="16275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45964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38600" y="3859560"/>
            <a:ext cx="416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下降沿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7920" y="3774960"/>
            <a:ext cx="3419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5:30:42Z</dcterms:modified>
  <cp:revision>71</cp:revision>
  <dc:subject/>
  <dc:title>模块二  S7-200系列PLC的基本结构 </dc:title>
</cp:coreProperties>
</file>