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5451-B0E0-4ED9-8B81-4F4CDF61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B25D-8A89-421D-B688-C482AC45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D928-3A6A-48BD-8BD3-0E1D9B0E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B27-3673-4D89-8FC7-80EC138E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2B3E-8C9D-4D76-93D1-89A404C1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781B-5433-4A39-BE90-5661EC37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3844-5DD3-42F0-BFC4-6D8FE7EF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C06E-BA88-4B82-858A-1C93DEB0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96DE-E262-4F88-9388-CB02117B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EE43-37CD-4B55-8DA0-BDEE9745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05BA-AB8A-4B1E-B824-17A7B103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3E93-2801-4E52-8469-8D135865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4A39-82E9-458E-AE3E-20BF5779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8608-AA48-4CED-8074-1E19EEA2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60DC-B6AF-47D5-A201-D13A846E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A9AA-1394-427B-97B3-E449939A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9159-8499-4A55-8351-60877311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0862-84C6-4B21-8EAE-5381D63E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7E9D-5C3E-4B18-8EDF-C4EBA490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B8B-8882-423C-B472-2E2FEE15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2E7-6289-4996-B418-432DFAD9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5F63-F377-469A-BC9B-75CB1355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D8CA-0683-4516-9BE2-4110EFF6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6E86-3594-4918-9FB7-C0451A5B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0D67-B453-401F-8269-A0C044DA931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E73D-564D-4CF9-B336-7DDFF3C799E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循环移位与移位指令、编解码指令等常用功能指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使用常用功能指令进行彩灯循环控制的基本编程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会开发简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彩灯循环控制应用系统的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81840" y="1483560"/>
            <a:ext cx="38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四只彩灯循环闪亮的硬件控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3591" r="0" b="1437"/>
          <a:stretch/>
        </p:blipFill>
        <p:spPr>
          <a:xfrm>
            <a:off x="5394240" y="3068640"/>
            <a:ext cx="3749760" cy="3789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6408720" cy="2627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116000" y="5013360"/>
            <a:ext cx="1943280" cy="1413000"/>
          </a:xfrm>
          <a:prstGeom prst="wedgeRoundRectCallout">
            <a:avLst>
              <a:gd name="adj1" fmla="val 6537"/>
              <a:gd name="adj2" fmla="val -80449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四只彩灯循环的继电器接触器控制系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35280" y="5084640"/>
            <a:ext cx="1656000" cy="1440000"/>
          </a:xfrm>
          <a:prstGeom prst="wedgeRoundRectCallout">
            <a:avLst>
              <a:gd name="adj1" fmla="val 99666"/>
              <a:gd name="adj2" fmla="val 28833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四只彩灯循环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系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简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88000" y="2276640"/>
            <a:ext cx="3105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示演 堂 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3024000"/>
            <a:ext cx="20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四只彩灯循环闪亮的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控制程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6804000" cy="5073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9920" y="220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58920" y="3447720"/>
            <a:ext cx="72007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循环移位指令的综合编程方法和应用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进一步熟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程软件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控制系统开发过程中的使用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0" t="0" r="0" b="-169"/>
          <a:stretch/>
        </p:blipFill>
        <p:spPr>
          <a:xfrm>
            <a:off x="5386320" y="765000"/>
            <a:ext cx="3757680" cy="6093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7040" y="907200"/>
            <a:ext cx="44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只彩灯循环闪亮的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3960720" cy="2865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rcRect l="0" t="0" r="49991" b="56571"/>
          <a:stretch/>
        </p:blipFill>
        <p:spPr>
          <a:xfrm>
            <a:off x="1116000" y="4770360"/>
            <a:ext cx="4032360" cy="2087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403280" y="189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Arial"/>
              </a:rPr>
              <a:t>模块八  其他功能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12960" y="168300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边学边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858960" y="333360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6465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0" name="07d15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887640" cy="1463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419640" y="3645000"/>
            <a:ext cx="22460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15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18360" y="1627560"/>
            <a:ext cx="233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试分析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梯形图的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2473200" y="309096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360" y="4316760"/>
            <a:ext cx="828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设计用按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电路，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输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脉冲，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输出一个脉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控制接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彩灯移位是否移位，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移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；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控制左移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或右移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；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将彩灯的初值设定为十六进制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F0F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，设计出梯形图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80160" y="155700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、循环移位与移位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78560" y="205956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循环右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2228"/>
          <a:stretch/>
        </p:blipFill>
        <p:spPr>
          <a:xfrm>
            <a:off x="1258920" y="2565360"/>
            <a:ext cx="7129440" cy="1525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4360" y="4508640"/>
            <a:ext cx="8243640" cy="1590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03480" y="6165000"/>
            <a:ext cx="233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1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循环右移指令的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80160" y="155700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、循环移位与移位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5240" y="2059920"/>
            <a:ext cx="170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循环左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6985080" cy="1542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87320" y="4508640"/>
            <a:ext cx="8356680" cy="1596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437280" y="6222240"/>
            <a:ext cx="23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2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循环左移指令的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80160" y="155700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、循环移位与移位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52600" y="2132640"/>
            <a:ext cx="19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带进位循环右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913800" cy="1538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0" t="14598" r="0" b="7462"/>
          <a:stretch/>
        </p:blipFill>
        <p:spPr>
          <a:xfrm>
            <a:off x="611280" y="4292640"/>
            <a:ext cx="8532720" cy="1528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797560" y="6091920"/>
            <a:ext cx="28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3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带进位循环右移指令的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80160" y="155700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、循环移位与移位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2720" y="213264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带进位循环左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7345440" cy="1592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1280" y="4437000"/>
            <a:ext cx="8337600" cy="1495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25920" y="6165000"/>
            <a:ext cx="28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4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带进位循环左移指令的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80160" y="155700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、循环移位与移位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48720" y="213264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位右移和位左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7488360" cy="1657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4143240" cy="1787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822920" y="4344840"/>
            <a:ext cx="4224240" cy="1812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021040" y="6285600"/>
            <a:ext cx="148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5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右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53240" y="6285600"/>
            <a:ext cx="148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6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左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11280" y="691920"/>
            <a:ext cx="37022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二、其他功能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3440" y="177228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解码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35400" y="1322280"/>
            <a:ext cx="6551280" cy="1443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195640" y="2924280"/>
            <a:ext cx="5184720" cy="56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730080" y="3689280"/>
          <a:ext cx="8317080" cy="3057480"/>
        </p:xfrm>
        <a:graphic>
          <a:graphicData uri="http://schemas.openxmlformats.org/drawingml/2006/table">
            <a:tbl>
              <a:tblPr/>
              <a:tblGrid>
                <a:gridCol w="1513080"/>
                <a:gridCol w="2092320"/>
                <a:gridCol w="47116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置位的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位的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1341720" y="29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691920"/>
            <a:ext cx="37022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二、其他功能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41720" y="29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43200" y="1798200"/>
            <a:ext cx="1337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编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27280" y="1341360"/>
            <a:ext cx="6516720" cy="1467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050920" y="2924280"/>
            <a:ext cx="4608720" cy="56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817560" y="3645000"/>
          <a:ext cx="7772040" cy="3107880"/>
        </p:xfrm>
        <a:graphic>
          <a:graphicData uri="http://schemas.openxmlformats.org/drawingml/2006/table">
            <a:tbl>
              <a:tblPr/>
              <a:tblGrid>
                <a:gridCol w="3894840"/>
                <a:gridCol w="3877200"/>
              </a:tblGrid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0   0   0   0   0  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0   0   0   0   1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0   0   0   1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0   0   1   0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0   1   0   0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1   0   0   0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1   0   0   0   0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0   0   0   0   0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541800" y="-36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78560" y="162756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交替输出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836280"/>
            <a:ext cx="37022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二、其他功能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7360" y="2205000"/>
            <a:ext cx="5292720" cy="1171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rcRect l="0" t="2263" r="56064" b="0"/>
          <a:stretch/>
        </p:blipFill>
        <p:spPr>
          <a:xfrm>
            <a:off x="900000" y="3500280"/>
            <a:ext cx="4095720" cy="1047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499000" y="0"/>
            <a:ext cx="357192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rcRect l="44340" t="-16513" r="0" b="0"/>
          <a:stretch/>
        </p:blipFill>
        <p:spPr>
          <a:xfrm>
            <a:off x="684360" y="4581360"/>
            <a:ext cx="4390920" cy="1059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11280" y="5950080"/>
            <a:ext cx="4645080" cy="761760"/>
          </a:xfrm>
          <a:prstGeom prst="wedgeRoundRectCallout">
            <a:avLst>
              <a:gd name="adj1" fmla="val 54680"/>
              <a:gd name="adj2" fmla="val -23958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采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按钮启停控制梯形图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800" y="400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10T02:05:17Z</dcterms:modified>
  <cp:revision>132</cp:revision>
  <dc:subject/>
  <dc:title>模块二  S7-200系列PLC的基本结构 </dc:title>
</cp:coreProperties>
</file>