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C6DA-0167-4345-8D2D-32C874F56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69C4-FDD6-4059-8ED8-BB0082BD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34A2-C93C-4828-BB78-E861EED2D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42BA-EBF6-497B-A5DC-CD4153334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9CCA-FDBD-4D0D-AB0F-DCED8CE29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E6C1-D516-408C-BFC4-A95ABDE2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555C-7CBA-47E3-9965-CE3F833A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F8E5B-7611-4EF0-AC0B-9D924D14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4A13-D5E7-49BB-BAD6-66D24C79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D2B6-9258-4A6E-B237-E71B0F7B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4923-DC2D-4F1C-9A3C-1D2F7A4E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6863-D4E1-47D5-8A0C-F0161D05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C1AD-1EBC-4CDD-9251-B12CF7A2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5746B-C804-41E9-9443-4D1D31F9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2C915-DA6B-432A-88D0-B5F8D7E2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E734-3150-464A-9A41-3EAB50261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1D5F-C620-427A-B14C-AAE2D6330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A4EF-1D95-4B1D-851D-12DBA731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5E23-20C5-4FCD-A283-4BD454A4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39D4-9209-4D0A-82D4-6951E5AB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37BD-D266-4DE2-85F9-32236311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F96C-7391-4F7A-90B1-D50AD728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7EEB-8563-420B-9E3D-57529DAA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0685-4BFD-47EE-9ECE-8D3FDD60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1657-EFE7-45BF-BD55-EE9814E25064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9288-4EDF-445D-BCFC-CAB721B902A0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9200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目的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学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传送比较、逻辑运算类指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掌握传送比较、逻辑运算类指令的编程方法和应用技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16400" y="1627920"/>
            <a:ext cx="121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三、字逻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运算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140360" y="1197000"/>
            <a:ext cx="4716360" cy="33940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71360" y="4657680"/>
            <a:ext cx="8972640" cy="22003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473840" y="3067200"/>
            <a:ext cx="154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各种字逻辑运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的运用情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课 堂 演 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346400" y="1340640"/>
            <a:ext cx="243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使用功能指令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启－保－停控制电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0" t="3560" r="0" b="1771"/>
          <a:stretch/>
        </p:blipFill>
        <p:spPr>
          <a:xfrm>
            <a:off x="4486320" y="836640"/>
            <a:ext cx="4657680" cy="6021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rcRect l="0" t="0" r="53173" b="15238"/>
          <a:stretch/>
        </p:blipFill>
        <p:spPr>
          <a:xfrm>
            <a:off x="755640" y="3068640"/>
            <a:ext cx="3672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59920" y="2205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隶书"/>
              </a:rPr>
              <a:t>实训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58920" y="3228480"/>
            <a:ext cx="72007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掌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传送比较、逻辑运算等指令的综合编程方法和应用技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进一步掌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GX Developer V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程软件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控制系统开发过程中的使用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91400" y="3283560"/>
            <a:ext cx="170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单按钮启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控制硬件电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870360" y="123840"/>
            <a:ext cx="5273640" cy="673416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r>
              <a:rPr b="0" lang="zh-CN" sz="4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600" y="390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rcRect l="0" t="0" r="0" b="52328"/>
          <a:stretch/>
        </p:blipFill>
        <p:spPr>
          <a:xfrm>
            <a:off x="0" y="77760"/>
            <a:ext cx="6516720" cy="48038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rcRect l="0" t="47678" r="0" b="0"/>
          <a:stretch/>
        </p:blipFill>
        <p:spPr>
          <a:xfrm>
            <a:off x="3059280" y="1935000"/>
            <a:ext cx="6084720" cy="4923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796000" y="404640"/>
            <a:ext cx="33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0033"/>
                </a:solidFill>
                <a:latin typeface="Arial"/>
              </a:rPr>
              <a:t>模块七  传送比较、逻辑运算类指令及应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5229360"/>
            <a:ext cx="30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单按钮启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控制硬件电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959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-12960" y="168300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行楷"/>
              </a:rPr>
              <a:t>边学边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06d10a" descr=""/>
          <p:cNvPicPr/>
          <p:nvPr/>
        </p:nvPicPr>
        <p:blipFill>
          <a:blip r:embed="rId1"/>
          <a:stretch/>
        </p:blipFill>
        <p:spPr>
          <a:xfrm>
            <a:off x="2700360" y="2708280"/>
            <a:ext cx="3384360" cy="981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203640" y="3716280"/>
            <a:ext cx="2184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10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题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1280" y="1916640"/>
            <a:ext cx="820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填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指令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5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，将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的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位数据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-858960" y="3333600"/>
            <a:ext cx="360" cy="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7640" y="4193280"/>
            <a:ext cx="82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计数脉冲和复位信号分别由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提供，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，将计数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当前值转换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码后送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1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请设计出梯形图程序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计数值应限制在什么范围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，用定时器中断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1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组成的位元件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4Y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请设计主程序和中断子程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46760" y="1556280"/>
            <a:ext cx="243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传送与比较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56520" y="2132640"/>
            <a:ext cx="13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比较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56000" y="2205000"/>
            <a:ext cx="6432480" cy="1936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16000" y="4221000"/>
            <a:ext cx="4059360" cy="26132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072480" y="5358600"/>
            <a:ext cx="20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7-1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比较指令的应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46400" y="1556280"/>
            <a:ext cx="243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传送与比较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05480" y="213264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区间比较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094200" y="2276640"/>
            <a:ext cx="6049800" cy="1777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100160" y="4064040"/>
            <a:ext cx="4032360" cy="2759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813640" y="5157000"/>
            <a:ext cx="239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7-2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区间比较指令的应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49240" y="2014200"/>
            <a:ext cx="17031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数据传送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46400" y="1556280"/>
            <a:ext cx="243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传送与比较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T6" descr=""/>
          <p:cNvPicPr/>
          <p:nvPr/>
        </p:nvPicPr>
        <p:blipFill>
          <a:blip r:embed="rId1"/>
          <a:srcRect l="896" t="4481" r="1392" b="4822"/>
          <a:stretch/>
        </p:blipFill>
        <p:spPr>
          <a:xfrm>
            <a:off x="3132000" y="2133720"/>
            <a:ext cx="6012000" cy="1222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268360" y="3573360"/>
            <a:ext cx="3311640" cy="6145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41760" y="434556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移位传送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916360" y="4365720"/>
            <a:ext cx="6092640" cy="1346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2268360" y="5805360"/>
            <a:ext cx="4608720" cy="722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345680" y="357264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74040" y="587592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46400" y="1556280"/>
            <a:ext cx="243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传送与比较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76520" y="2059920"/>
            <a:ext cx="17031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取反传送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987640" y="2133720"/>
            <a:ext cx="6033960" cy="13255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345680" y="357264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45680" y="594900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124000" y="3645000"/>
            <a:ext cx="3527640" cy="674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944640" y="443592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块传送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2771640" y="4437000"/>
            <a:ext cx="6229440" cy="1368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2124000" y="5992920"/>
            <a:ext cx="416268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46400" y="1556280"/>
            <a:ext cx="243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传送与比较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20880" y="2059920"/>
            <a:ext cx="17031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多点传送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132000" y="2133720"/>
            <a:ext cx="5919840" cy="1314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411280" y="3573360"/>
            <a:ext cx="3529080" cy="628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005480" y="436464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数据交换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3132000" y="4365720"/>
            <a:ext cx="592164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340000" y="5805360"/>
            <a:ext cx="352728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345680" y="357264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45680" y="587592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46400" y="1556280"/>
            <a:ext cx="243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传送与比较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7400" y="2059560"/>
            <a:ext cx="15764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变换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771640" y="2133720"/>
            <a:ext cx="5977080" cy="1325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340000" y="3573360"/>
            <a:ext cx="3166920" cy="6732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30360" y="4219920"/>
            <a:ext cx="19044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二进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变换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rcRect l="0" t="0" r="0" b="4227"/>
          <a:stretch/>
        </p:blipFill>
        <p:spPr>
          <a:xfrm>
            <a:off x="2830680" y="4365720"/>
            <a:ext cx="5933880" cy="12747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2268360" y="5805360"/>
            <a:ext cx="3167280" cy="505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345680" y="357264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18760" y="580464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02280" y="1556280"/>
            <a:ext cx="268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、加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指令与减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9880" y="2203920"/>
            <a:ext cx="15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49880" y="3643920"/>
            <a:ext cx="15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4075" r="0" b="2564"/>
          <a:stretch/>
        </p:blipFill>
        <p:spPr>
          <a:xfrm>
            <a:off x="2340000" y="2276640"/>
            <a:ext cx="6048360" cy="1288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411280" y="3716280"/>
            <a:ext cx="5954760" cy="1314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3348000" y="5157720"/>
            <a:ext cx="3456000" cy="15638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922040" y="566028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39880" y="1556280"/>
            <a:ext cx="42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三、字逻辑运算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00000" y="222876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字逻辑运算指令包括字逻辑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WAN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NC 2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、字逻辑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WO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NC 2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、字逻辑异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WXO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NC 2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和求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E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NC 2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指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476360" y="3357720"/>
            <a:ext cx="6912000" cy="1511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rcRect l="0" t="2316" r="0" b="2779"/>
          <a:stretch/>
        </p:blipFill>
        <p:spPr>
          <a:xfrm>
            <a:off x="1476360" y="5013360"/>
            <a:ext cx="6889680" cy="14889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842400" y="378864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7:07:48Z</dcterms:created>
  <dc:creator>雨林木风</dc:creator>
  <dc:description/>
  <dc:language>en-US</dc:language>
  <cp:lastModifiedBy>雨林木风</cp:lastModifiedBy>
  <dcterms:modified xsi:type="dcterms:W3CDTF">2010-10-08T10:14:12Z</dcterms:modified>
  <cp:revision>114</cp:revision>
  <dc:subject/>
  <dc:title>模块二  S7-200系列PLC的基本结构 </dc:title>
</cp:coreProperties>
</file>