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BE7-ACF3-469F-8587-3EC1D168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31F-267D-4C55-A0D5-E4CD92B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534-105A-4625-B8B9-3E7363A0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3AD-687D-407E-8341-A857B736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14F-9427-400A-9D88-04F99FAB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6CB-6BF2-4A35-9E53-411245FA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98D-6234-48C0-8F8C-9EC94C0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DCB-A716-449F-B78F-D3D1036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C89-C6C4-47A6-B681-FCA9CC13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A4B-215F-49CF-9F3E-9EDAA45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038-2D94-4E1B-B524-24A5C6F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4D4-14E8-4A36-AF31-623A9C4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149F-DD24-4DF9-8E37-69FD7D33C5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五 手机音频故障的检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起手机听筒无声、音轻、杂音，话筒不送话、声音弱、有回音，振铃异常，振子不振动等故障与手机的听筒、话筒、振铃、振子本身的损坏有密切关系，与音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更是密不可分的；特别是折叠式手机（如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），其听筒、话筒、振铃都是通过排线安装在上翻盖内，如果出现音频故障，与主板上的排线插口以及软连接排线还有直接关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音频电路故障分析与检修如下：受话电路、送话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振铃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振动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摩托罗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DMA V68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手机无振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6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手机，其听筒、振铃、振子实物如图所示。首先取下振铃，用万用表检测其好坏，经检查，振铃正常，再仔细观察排线，发现排线上有个小裂口，如果排线上的裂口增大，显示电路以及听筒也会出问题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手机中，排线是一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合成材料，而且还是一种软连线，是连接主板和上翻盖的关键，排线长时间褶皱，就容易出现裂口，也容易产生听筒无声、无振铃的故障，这是折叠机的常见故障。更换排线，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5120" y="4343400"/>
            <a:ext cx="4419000" cy="2208960"/>
            <a:chOff x="1905120" y="4343400"/>
            <a:chExt cx="4419000" cy="22089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253600" y="4343400"/>
              <a:ext cx="4070520" cy="19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V="1">
              <a:off x="2079360" y="6162840"/>
              <a:ext cx="34848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79360" y="4603320"/>
              <a:ext cx="697680" cy="1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5120" y="5383080"/>
              <a:ext cx="52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394240" y="5902560"/>
              <a:ext cx="348480" cy="6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摩托罗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DMA V68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手机送话声音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首先取下送话器，用万用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×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欧姆挡检测，有灵敏度指示，然后仔细检查送话器周围的电阻和电容元件，此电阻和电容元件起着低通滤波的作用，如果有丢失的元件，或有虚焊的元件，或者有腐蚀变性的元件，都将改变滤波器的参数，从而影响滤波效果。如图所示，经检查后，发现有腐蚀变性的电阻，更换后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53337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43:04Z</dcterms:modified>
  <cp:revision>6</cp:revision>
  <dc:subject/>
  <dc:title>PowerPoint Presentation</dc:title>
</cp:coreProperties>
</file>