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8C3-0236-4D83-A312-EB34AEF2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0AE-4E0A-4251-B9E5-54DFFBBF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424-EB56-4095-934B-6B07F9B8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E58-8BB1-418C-B7AA-55E9DF15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2E5-DEAF-4756-8F1B-BC812F33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676-7147-43FC-BFAB-4B00C056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2D2-B94C-4419-BC3F-E233E27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F5E-3228-477A-862B-01478A57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C32-7992-4AD1-AD87-F30B975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C7B-88F5-411C-8E48-A07C1C1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A10-618E-4C02-A4E4-3CED74A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77F-F40D-410E-B6F8-BE2834F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37AD-6CFC-4309-B3DE-D6AE274911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81080" y="404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项目六  手机电路关键点信号测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268280"/>
            <a:ext cx="35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测试工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一、数字频率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7772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6.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SIM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卡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2590920"/>
            <a:ext cx="7467120" cy="2974320"/>
            <a:chOff x="838080" y="2590920"/>
            <a:chExt cx="7467120" cy="2974320"/>
          </a:xfrm>
        </p:grpSpPr>
        <p:grpSp>
          <p:nvGrpSpPr>
            <p:cNvPr id="72" name=""/>
            <p:cNvGrpSpPr/>
            <p:nvPr/>
          </p:nvGrpSpPr>
          <p:grpSpPr>
            <a:xfrm>
              <a:off x="838080" y="2590920"/>
              <a:ext cx="7467120" cy="2208240"/>
              <a:chOff x="838080" y="2590920"/>
              <a:chExt cx="7467120" cy="2208240"/>
            </a:xfrm>
          </p:grpSpPr>
          <p:pic>
            <p:nvPicPr>
              <p:cNvPr id="73" name="SIMDA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590920"/>
                <a:ext cx="3428640" cy="220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SIMCLK" descr=""/>
              <p:cNvPicPr/>
              <p:nvPr/>
            </p:nvPicPr>
            <p:blipFill>
              <a:blip r:embed="rId2"/>
              <a:srcRect l="0" t="0" r="14943" b="0"/>
              <a:stretch/>
            </p:blipFill>
            <p:spPr>
              <a:xfrm>
                <a:off x="4266720" y="2590920"/>
                <a:ext cx="4038480" cy="2100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371600" y="51055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卡数据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SIMDAT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波形       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卡时钟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SIMCLK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波形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00400" y="44956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SIMVCC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波形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8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5.3  SIMVCC" descr=""/>
          <p:cNvPicPr/>
          <p:nvPr/>
        </p:nvPicPr>
        <p:blipFill>
          <a:blip r:embed="rId1">
            <a:lum contrast="44000"/>
          </a:blip>
          <a:srcRect l="12386" t="0" r="0" b="0"/>
          <a:stretch/>
        </p:blipFill>
        <p:spPr>
          <a:xfrm>
            <a:off x="838080" y="1905120"/>
            <a:ext cx="7723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1905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7.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显示数据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SDATA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波形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DATA" descr="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152280" y="2895480"/>
            <a:ext cx="8686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2193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8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受话器两端测得音频信号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57200" y="2209680"/>
            <a:ext cx="81439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52480" y="12193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照明灯电路驱动信号波形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脉冲波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23880" y="2362320"/>
            <a:ext cx="6438960" cy="1438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0200" y="4343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发光二极管组成的键盘灯电路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驱动信号波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0" y="914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背景灯点亮控制信号波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背景灯控制信号" descr=""/>
          <p:cNvPicPr/>
          <p:nvPr/>
        </p:nvPicPr>
        <p:blipFill>
          <a:blip r:embed="rId1">
            <a:lum contrast="46000"/>
          </a:blip>
          <a:srcRect l="0" t="0" r="0" b="7358"/>
          <a:stretch/>
        </p:blipFill>
        <p:spPr>
          <a:xfrm>
            <a:off x="2057400" y="1447920"/>
            <a:ext cx="4305240" cy="162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由“电致发光板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构成的照明灯电路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驱动电压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双向三角波" descr=""/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1523880" y="3962520"/>
            <a:ext cx="57913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371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脉宽调制信号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WM)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波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WM波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990720" y="2438280"/>
            <a:ext cx="7162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685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二、示 波 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7.69%20示波器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295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7636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未标题-2" descr=""/>
          <p:cNvPicPr/>
          <p:nvPr/>
        </p:nvPicPr>
        <p:blipFill>
          <a:blip r:embed="rId1"/>
          <a:srcRect l="13110" t="18897" r="8504" b="12283"/>
          <a:stretch/>
        </p:blipFill>
        <p:spPr>
          <a:xfrm>
            <a:off x="533520" y="1143000"/>
            <a:ext cx="8153280" cy="504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838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三、频谱分析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关键点的波形测试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981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. 13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时钟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2.768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k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时钟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正玄波" descr=""/>
          <p:cNvPicPr/>
          <p:nvPr/>
        </p:nvPicPr>
        <p:blipFill>
          <a:blip r:embed="rId1">
            <a:lum contrast="30000"/>
          </a:blip>
          <a:srcRect l="4013" t="0" r="20066" b="2469"/>
          <a:stretch/>
        </p:blipFill>
        <p:spPr>
          <a:xfrm>
            <a:off x="609480" y="2514600"/>
            <a:ext cx="75438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1295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XVCO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控制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276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5.4   TXVCO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57200" y="2133720"/>
            <a:ext cx="8115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990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XI/Q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XI/Q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480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1600200"/>
            <a:ext cx="8915400" cy="4017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288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示波器测得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XI/Q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004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3" descr=""/>
          <p:cNvPicPr/>
          <p:nvPr/>
        </p:nvPicPr>
        <p:blipFill>
          <a:blip r:embed="rId1">
            <a:lum contrast="48000"/>
          </a:blip>
          <a:srcRect l="11356" t="0" r="885" b="0"/>
          <a:stretch/>
        </p:blipFill>
        <p:spPr>
          <a:xfrm>
            <a:off x="990720" y="1066680"/>
            <a:ext cx="7238880" cy="4322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5562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Hz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示波器测得的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XI/Q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1371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发射使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XON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596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简明教程86 TxON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80880" y="2438280"/>
            <a:ext cx="83631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1430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出的频率合成器数据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NDAT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时钟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NCL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和使能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NEN(SYNON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信号波形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YNDAT、SYNCLK、SYNEN" descr=""/>
          <p:cNvPicPr/>
          <p:nvPr/>
        </p:nvPicPr>
        <p:blipFill>
          <a:blip r:embed="rId1">
            <a:lum contrast="44000"/>
          </a:blip>
          <a:srcRect l="0" t="3028" r="11619" b="8076"/>
          <a:stretch/>
        </p:blipFill>
        <p:spPr>
          <a:xfrm>
            <a:off x="1905120" y="2133720"/>
            <a:ext cx="5181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7:03:20Z</dcterms:modified>
  <cp:revision>11</cp:revision>
  <dc:subject/>
  <dc:title>PowerPoint Presentation</dc:title>
</cp:coreProperties>
</file>