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68DC-AF66-4184-A5A5-6D2BE5C37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BE85-BFE8-43B1-BAFB-2D537C4F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1BAD-48F7-4FC0-B00F-C8BBC149A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E48D-7A8A-4555-869F-B5CE89795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FC76B-03CD-48C3-BF01-3C05FCB23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429FD-D2FD-4527-923C-FCC9C9AD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C80ED-7CBA-47AD-8BBE-84596143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33021-AC44-48A9-A527-D2F9C341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B85B7-4C48-4D91-BF55-0E6405BA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6C704-1DC2-4206-B087-65DC0CD6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693D3-B882-4A6D-BEC4-F17EB256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A589-2CE3-4F94-96CF-643D6EB8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908F4-107D-4A95-A4A0-3912F775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6F4FF-6724-458F-A410-B4D26367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BF116-35CF-484D-B3BE-39E9059D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6E343-95D7-433E-80C5-D305F08D9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4573E-A55B-4B7B-9DDD-6E3BC3D7A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DDDC-6EAA-43E1-9468-0AD36AF1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3C39-35C0-433E-8B99-46C78B05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1B55-B30D-4077-A77D-A30F172D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1DCD-B610-4DF9-B4FD-E7980D75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2EFF-8D07-4D36-B94C-0A052FBF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AE75-84F6-49E6-AD3A-C36FAFFE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B693-E6DC-4C95-BAB9-F90EA69A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F053-A427-4593-BFC3-2956360AC4A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A667-BCA0-480C-B2FC-176CEB69101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592200"/>
            <a:ext cx="79200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项目四  初步认识手机电路结构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47560" y="2787480"/>
            <a:ext cx="7986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仿宋_GB2312"/>
                <a:ea typeface="仿宋_GB2312"/>
                <a:hlinkClick r:id="rId2" action="ppaction://hlinksldjump"/>
              </a:rPr>
              <a:t>1   </a:t>
            </a:r>
            <a:r>
              <a:rPr b="0" lang="zh-CN" sz="2400" spc="-1" strike="noStrike" u="sng">
                <a:solidFill>
                  <a:srgbClr val="ffcc00"/>
                </a:solidFill>
                <a:uFillTx/>
                <a:latin typeface="仿宋_GB2312"/>
                <a:ea typeface="仿宋_GB2312"/>
                <a:hlinkClick r:id="rId3" action="ppaction://hlinksldjump"/>
              </a:rPr>
              <a:t>手机电路结构分析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仿宋_GB2312"/>
                <a:ea typeface="仿宋_GB2312"/>
                <a:hlinkClick r:id="rId4" action="ppaction://hlinksldjump"/>
              </a:rPr>
              <a:t>2   </a:t>
            </a:r>
            <a:r>
              <a:rPr b="0" lang="zh-CN" sz="2400" spc="-1" strike="noStrike" u="sng">
                <a:solidFill>
                  <a:srgbClr val="ffcc00"/>
                </a:solidFill>
                <a:uFillTx/>
                <a:latin typeface="仿宋_GB2312"/>
                <a:ea typeface="仿宋_GB2312"/>
                <a:hlinkClick r:id="rId5" action="ppaction://hlinksldjump"/>
              </a:rPr>
              <a:t>手机射频电路分析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仿宋_GB2312"/>
                <a:ea typeface="仿宋_GB2312"/>
                <a:hlinkClick r:id="rId6" action="ppaction://hlinksldjump"/>
              </a:rPr>
              <a:t>3   </a:t>
            </a:r>
            <a:r>
              <a:rPr b="0" lang="zh-CN" sz="2400" spc="-1" strike="noStrike" u="sng">
                <a:solidFill>
                  <a:srgbClr val="ffcc00"/>
                </a:solidFill>
                <a:uFillTx/>
                <a:latin typeface="仿宋_GB2312"/>
                <a:ea typeface="仿宋_GB2312"/>
                <a:hlinkClick r:id="rId7" action="ppaction://hlinksldjump"/>
              </a:rPr>
              <a:t>手机逻辑/音频电路及输入/输出（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仿宋_GB2312"/>
                <a:ea typeface="仿宋_GB2312"/>
                <a:hlinkClick r:id="rId8" action="ppaction://hlinksldjump"/>
              </a:rPr>
              <a:t>I/O）</a:t>
            </a:r>
            <a:r>
              <a:rPr b="0" lang="zh-CN" sz="2400" spc="-1" strike="noStrike" u="sng">
                <a:solidFill>
                  <a:srgbClr val="ffcc00"/>
                </a:solidFill>
                <a:uFillTx/>
                <a:latin typeface="仿宋_GB2312"/>
                <a:ea typeface="仿宋_GB2312"/>
                <a:hlinkClick r:id="rId9" action="ppaction://hlinksldjump"/>
              </a:rPr>
              <a:t>接口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4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手机电源电路分析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5  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手机电路结构综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447840"/>
            <a:ext cx="7620120" cy="11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5   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手机电路结构描述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5280" y="1752480"/>
            <a:ext cx="6934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射频电路部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）接收电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）发射电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）频率合成器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）间隔工作的收发部分受控电源电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逻辑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音频电路部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）逻辑控制电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）音频处理电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）接口电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）电源电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8077320" y="6019920"/>
            <a:ext cx="533160" cy="457200"/>
          </a:xfrm>
          <a:custGeom>
            <a:avLst/>
            <a:gdLst>
              <a:gd name="textAreaLeft" fmla="*/ 177840 w 533160"/>
              <a:gd name="textAreaRight" fmla="*/ 456840 w 533160"/>
              <a:gd name="textAreaTop" fmla="*/ 218160 h 457200"/>
              <a:gd name="textAreaBottom" fmla="*/ 391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3400"/>
                </a:moveTo>
                <a:lnTo>
                  <a:pt x="10300" y="13400"/>
                </a:lnTo>
                <a:lnTo>
                  <a:pt x="10300" y="7200"/>
                </a:lnTo>
                <a:lnTo>
                  <a:pt x="7200" y="7200"/>
                </a:lnTo>
                <a:lnTo>
                  <a:pt x="1440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371160"/>
            <a:ext cx="762012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   </a:t>
            </a:r>
            <a:r>
              <a:rPr b="0" lang="zh-CN" sz="4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手机电路结构分析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189072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图2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136000" cy="4608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90920" y="60958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GSM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手机电路原理基本组成框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244000" y="6165720"/>
            <a:ext cx="533160" cy="457200"/>
          </a:xfrm>
          <a:custGeom>
            <a:avLst/>
            <a:gdLst>
              <a:gd name="textAreaLeft" fmla="*/ 177840 w 533160"/>
              <a:gd name="textAreaRight" fmla="*/ 456840 w 533160"/>
              <a:gd name="textAreaTop" fmla="*/ 218160 h 457200"/>
              <a:gd name="textAreaBottom" fmla="*/ 391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3400"/>
                </a:moveTo>
                <a:lnTo>
                  <a:pt x="10300" y="13400"/>
                </a:lnTo>
                <a:lnTo>
                  <a:pt x="10300" y="7200"/>
                </a:lnTo>
                <a:lnTo>
                  <a:pt x="7200" y="7200"/>
                </a:lnTo>
                <a:lnTo>
                  <a:pt x="1440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37880" y="312840"/>
            <a:ext cx="762948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  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手机射频电路分析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42560" y="1268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1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接收电路部分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18954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接收" descr=""/>
          <p:cNvPicPr/>
          <p:nvPr/>
        </p:nvPicPr>
        <p:blipFill>
          <a:blip r:embed="rId2"/>
          <a:srcRect l="0" t="0" r="9745" b="82866"/>
          <a:stretch/>
        </p:blipFill>
        <p:spPr>
          <a:xfrm>
            <a:off x="611280" y="1989000"/>
            <a:ext cx="8208720" cy="1497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547640" y="3573360"/>
            <a:ext cx="5486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一般有四种基本的电路结构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超外差一次变频接收电路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超外差二次变频接收电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低中频接收电路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直接变频线性接收电路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01000" y="5867280"/>
            <a:ext cx="533520" cy="457200"/>
          </a:xfrm>
          <a:custGeom>
            <a:avLst/>
            <a:gdLst>
              <a:gd name="textAreaLeft" fmla="*/ 177840 w 533520"/>
              <a:gd name="textAreaRight" fmla="*/ 457200 w 533520"/>
              <a:gd name="textAreaTop" fmla="*/ 218160 h 457200"/>
              <a:gd name="textAreaBottom" fmla="*/ 391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3400"/>
                </a:moveTo>
                <a:lnTo>
                  <a:pt x="10300" y="13400"/>
                </a:lnTo>
                <a:lnTo>
                  <a:pt x="10300" y="7200"/>
                </a:lnTo>
                <a:lnTo>
                  <a:pt x="7200" y="7200"/>
                </a:lnTo>
                <a:lnTo>
                  <a:pt x="1440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.2 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发射电路部分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189540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3" descr=""/>
          <p:cNvPicPr/>
          <p:nvPr/>
        </p:nvPicPr>
        <p:blipFill>
          <a:blip r:embed="rId2"/>
          <a:srcRect l="32714" t="0" r="0" b="68504"/>
          <a:stretch/>
        </p:blipFill>
        <p:spPr>
          <a:xfrm>
            <a:off x="179280" y="1413000"/>
            <a:ext cx="8748720" cy="2520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5280" y="4114800"/>
            <a:ext cx="7162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一般有三种电路结构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带偏移锁相环的发射电路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带发射上变频器的发射电路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直接变频的发射电路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>
            <a:hlinkClick r:id="rId3" action="ppaction://hlinksldjump"/>
          </p:cNvPr>
          <p:cNvSpPr/>
          <p:nvPr/>
        </p:nvSpPr>
        <p:spPr>
          <a:xfrm>
            <a:off x="8001000" y="5867280"/>
            <a:ext cx="533520" cy="457200"/>
          </a:xfrm>
          <a:custGeom>
            <a:avLst/>
            <a:gdLst>
              <a:gd name="textAreaLeft" fmla="*/ 177840 w 533520"/>
              <a:gd name="textAreaRight" fmla="*/ 457200 w 533520"/>
              <a:gd name="textAreaTop" fmla="*/ 218160 h 457200"/>
              <a:gd name="textAreaBottom" fmla="*/ 391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3400"/>
                </a:moveTo>
                <a:lnTo>
                  <a:pt x="10300" y="13400"/>
                </a:lnTo>
                <a:lnTo>
                  <a:pt x="10300" y="7200"/>
                </a:lnTo>
                <a:lnTo>
                  <a:pt x="7200" y="7200"/>
                </a:lnTo>
                <a:lnTo>
                  <a:pt x="1440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.3  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频率合成器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9640" y="1438200"/>
            <a:ext cx="8026560" cy="4870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177840 w 533520"/>
              <a:gd name="textAreaRight" fmla="*/ 457200 w 533520"/>
              <a:gd name="textAreaTop" fmla="*/ 218160 h 457200"/>
              <a:gd name="textAreaBottom" fmla="*/ 391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3400"/>
                </a:moveTo>
                <a:lnTo>
                  <a:pt x="10300" y="13400"/>
                </a:lnTo>
                <a:lnTo>
                  <a:pt x="10300" y="7200"/>
                </a:lnTo>
                <a:lnTo>
                  <a:pt x="7200" y="7200"/>
                </a:lnTo>
                <a:lnTo>
                  <a:pt x="1440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手机逻辑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音频电路及输入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输出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/O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接口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54064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1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音频信号处理部分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186696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13" descr=""/>
          <p:cNvPicPr/>
          <p:nvPr/>
        </p:nvPicPr>
        <p:blipFill>
          <a:blip r:embed="rId2"/>
          <a:stretch/>
        </p:blipFill>
        <p:spPr>
          <a:xfrm>
            <a:off x="468360" y="2205000"/>
            <a:ext cx="8218440" cy="4319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172360" y="6021360"/>
            <a:ext cx="533520" cy="457200"/>
          </a:xfrm>
          <a:custGeom>
            <a:avLst/>
            <a:gdLst>
              <a:gd name="textAreaLeft" fmla="*/ 177840 w 533520"/>
              <a:gd name="textAreaRight" fmla="*/ 457200 w 533520"/>
              <a:gd name="textAreaTop" fmla="*/ 218160 h 457200"/>
              <a:gd name="textAreaBottom" fmla="*/ 391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3400"/>
                </a:moveTo>
                <a:lnTo>
                  <a:pt x="10300" y="13400"/>
                </a:lnTo>
                <a:lnTo>
                  <a:pt x="10300" y="7200"/>
                </a:lnTo>
                <a:lnTo>
                  <a:pt x="7200" y="7200"/>
                </a:lnTo>
                <a:lnTo>
                  <a:pt x="1440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2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系统逻辑控制部分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11811" t="41575" r="19370" b="22677"/>
          <a:stretch/>
        </p:blipFill>
        <p:spPr>
          <a:xfrm>
            <a:off x="250920" y="1268280"/>
            <a:ext cx="8601120" cy="4897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8317080" y="6165720"/>
            <a:ext cx="533160" cy="457200"/>
          </a:xfrm>
          <a:custGeom>
            <a:avLst/>
            <a:gdLst>
              <a:gd name="textAreaLeft" fmla="*/ 177840 w 533160"/>
              <a:gd name="textAreaRight" fmla="*/ 456840 w 533160"/>
              <a:gd name="textAreaTop" fmla="*/ 218160 h 457200"/>
              <a:gd name="textAreaBottom" fmla="*/ 391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3400"/>
                </a:moveTo>
                <a:lnTo>
                  <a:pt x="10300" y="13400"/>
                </a:lnTo>
                <a:lnTo>
                  <a:pt x="10300" y="7200"/>
                </a:lnTo>
                <a:lnTo>
                  <a:pt x="7200" y="7200"/>
                </a:lnTo>
                <a:lnTo>
                  <a:pt x="1440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71160"/>
            <a:ext cx="762012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3.3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输入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输出（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I/O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接口部分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89540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18" descr=""/>
          <p:cNvPicPr/>
          <p:nvPr/>
        </p:nvPicPr>
        <p:blipFill>
          <a:blip r:embed="rId2"/>
          <a:stretch/>
        </p:blipFill>
        <p:spPr>
          <a:xfrm>
            <a:off x="468360" y="1752480"/>
            <a:ext cx="8142120" cy="4343400"/>
          </a:xfrm>
          <a:prstGeom prst="rect">
            <a:avLst/>
          </a:prstGeom>
          <a:ln w="0">
            <a:noFill/>
          </a:ln>
        </p:spPr>
      </p:pic>
      <p:sp>
        <p:nvSpPr>
          <p:cNvPr id="114" name="">
            <a:hlinkClick r:id="rId3" action="ppaction://hlinksldjump"/>
          </p:cNvPr>
          <p:cNvSpPr/>
          <p:nvPr/>
        </p:nvSpPr>
        <p:spPr>
          <a:xfrm>
            <a:off x="8101080" y="6165720"/>
            <a:ext cx="533160" cy="457200"/>
          </a:xfrm>
          <a:custGeom>
            <a:avLst/>
            <a:gdLst>
              <a:gd name="textAreaLeft" fmla="*/ 177840 w 533160"/>
              <a:gd name="textAreaRight" fmla="*/ 456840 w 533160"/>
              <a:gd name="textAreaTop" fmla="*/ 218160 h 457200"/>
              <a:gd name="textAreaBottom" fmla="*/ 391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3400"/>
                </a:moveTo>
                <a:lnTo>
                  <a:pt x="10300" y="13400"/>
                </a:lnTo>
                <a:lnTo>
                  <a:pt x="10300" y="7200"/>
                </a:lnTo>
                <a:lnTo>
                  <a:pt x="7200" y="7200"/>
                </a:lnTo>
                <a:lnTo>
                  <a:pt x="1440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447840"/>
            <a:ext cx="7620120" cy="11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4  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手机电源电路分析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4920" y="2108160"/>
            <a:ext cx="62499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手机电源的基本电路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电池识别电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开机信号电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直流稳压电源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升压电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机内充电电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6.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非受控电源输出电路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7.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受控电源输出电路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8001000" y="5867280"/>
            <a:ext cx="533520" cy="457200"/>
          </a:xfrm>
          <a:custGeom>
            <a:avLst/>
            <a:gdLst>
              <a:gd name="textAreaLeft" fmla="*/ 177840 w 533520"/>
              <a:gd name="textAreaRight" fmla="*/ 457200 w 533520"/>
              <a:gd name="textAreaTop" fmla="*/ 218160 h 457200"/>
              <a:gd name="textAreaBottom" fmla="*/ 391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3400"/>
                </a:moveTo>
                <a:lnTo>
                  <a:pt x="10300" y="13400"/>
                </a:lnTo>
                <a:lnTo>
                  <a:pt x="10300" y="7200"/>
                </a:lnTo>
                <a:lnTo>
                  <a:pt x="7200" y="7200"/>
                </a:lnTo>
                <a:lnTo>
                  <a:pt x="1440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9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4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3-05T06:11:16Z</dcterms:modified>
  <cp:revision>48</cp:revision>
  <dc:subject/>
  <dc:title>PowerPoint Presentation</dc:title>
</cp:coreProperties>
</file>