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908-A0A6-40ED-9F94-CD500F59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B5C-AB75-4AAA-97C9-BCD0C28F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07F-F018-4372-8447-A4F4DD5D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968-1A73-49F0-B439-61FB78C2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9DE-A98B-4A2E-816C-D97AB1FB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70C-CA91-4ADB-8510-FDCE84E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3E3-9B6D-4FE3-B498-50D8D498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DF5-6503-4554-9B89-4300479C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A5A-D47B-4211-8281-0D36ACA4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638-C15B-4B32-A275-98232EDB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7A5-7CD2-4F29-AEF6-42CDC5F4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164-1F21-434A-B0D8-F49A5A17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D664-DBC6-4283-BB66-05E2C4C288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项目十  手机不开机故障的检修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引起手机不开机的故障与下列电路有关：①手机的电源电路。②逻辑电路，包括微处理器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CPU)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字库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FLASH)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码片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EEPROM)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。③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晶体振荡电路。这三种电路称为手机的准开机条件，也称开机三要素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666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将手机不开机故障用外加直流稳压电源的整机工作电流来分类，可分为四种：①无任何偏转电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均指加直流稳压电源表头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以下均同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；②有（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30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）毫安的电流；③有大电流但不开机；④开机电流正常，但不定时地关机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38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稳压电源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4305600" cy="228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直流稳压电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：三星 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T10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手机不开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241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1981080"/>
            <a:ext cx="5105160" cy="4010040"/>
            <a:chOff x="1600200" y="1981080"/>
            <a:chExt cx="5105160" cy="4010040"/>
          </a:xfrm>
        </p:grpSpPr>
        <p:grpSp>
          <p:nvGrpSpPr>
            <p:cNvPr id="51" name=""/>
            <p:cNvGrpSpPr/>
            <p:nvPr/>
          </p:nvGrpSpPr>
          <p:grpSpPr>
            <a:xfrm>
              <a:off x="2286000" y="1981080"/>
              <a:ext cx="3695760" cy="4010040"/>
              <a:chOff x="2286000" y="1981080"/>
              <a:chExt cx="3695760" cy="4010040"/>
            </a:xfrm>
          </p:grpSpPr>
          <p:pic>
            <p:nvPicPr>
              <p:cNvPr id="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0" y="1981080"/>
                <a:ext cx="3695760" cy="18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4038480"/>
                <a:ext cx="3695760" cy="19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" name=""/>
            <p:cNvGrpSpPr/>
            <p:nvPr/>
          </p:nvGrpSpPr>
          <p:grpSpPr>
            <a:xfrm>
              <a:off x="1600200" y="2666520"/>
              <a:ext cx="5105160" cy="2286360"/>
              <a:chOff x="1600200" y="2666520"/>
              <a:chExt cx="5105160" cy="2286360"/>
            </a:xfrm>
          </p:grpSpPr>
          <p:sp>
            <p:nvSpPr>
              <p:cNvPr id="55" name=""/>
              <p:cNvSpPr/>
              <p:nvPr/>
            </p:nvSpPr>
            <p:spPr>
              <a:xfrm flipV="1">
                <a:off x="1600200" y="2666520"/>
                <a:ext cx="17524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600200" y="3733920"/>
                <a:ext cx="16002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4038120" y="2666520"/>
                <a:ext cx="266724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114440" y="3962520"/>
                <a:ext cx="259092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"/>
          <p:cNvSpPr/>
          <p:nvPr/>
        </p:nvSpPr>
        <p:spPr>
          <a:xfrm>
            <a:off x="914400" y="23623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逻辑供电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模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2514600"/>
            <a:ext cx="38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整机供电模块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： 厦新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A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手机不开机或开机困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9084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图12－4  厦新A8电源模块复位电压测试点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191120" cy="3127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1219320"/>
            <a:ext cx="3124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给手机加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3.6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直流稳压电源电压，按开机键，观察手机的开机电流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若无整机工作电流，可用万用表测试电源模块复位电压测试点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TP512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是否为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2.8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若无，补焊或更换电源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IC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如图所示为厦新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A8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电源模块复位电压测试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：朗讯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PS61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手机不能开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362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该机是正常使用过程中突然不能开机。加外电源电压，按开机键无任何开机电流，检测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32.768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KHz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的晶体和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19.2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MHz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的晶体波形正常，怀疑是由软件故障引起的，用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LT-48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重写码片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发现写不进去，说明码片已经损坏，更换码片。重新调出</a:t>
            </a: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PS618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手机的码片数据，写入码片，重新焊上，故障消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： </a:t>
            </a:r>
            <a:r>
              <a:rPr b="0" lang="en-US" sz="3200" spc="-1" strike="noStrike">
                <a:solidFill>
                  <a:srgbClr val="3333cc"/>
                </a:solidFill>
                <a:latin typeface="宋体"/>
              </a:rPr>
              <a:t>TCL689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型手机不开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7656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66680" y="1752480"/>
            <a:ext cx="6248520" cy="4351320"/>
            <a:chOff x="1066680" y="1752480"/>
            <a:chExt cx="6248520" cy="43513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371600" y="2057400"/>
              <a:ext cx="2592360" cy="40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267080" y="2057400"/>
              <a:ext cx="21765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4572000" y="4114800"/>
              <a:ext cx="1905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98108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5409720" y="2819160"/>
              <a:ext cx="1752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562720" y="4724280"/>
              <a:ext cx="17524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5410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70640" y="1371600"/>
            <a:ext cx="8744760" cy="4572000"/>
            <a:chOff x="170640" y="1371600"/>
            <a:chExt cx="8744760" cy="4572000"/>
          </a:xfrm>
        </p:grpSpPr>
        <p:sp>
          <p:nvSpPr>
            <p:cNvPr id="79" name=""/>
            <p:cNvSpPr/>
            <p:nvPr/>
          </p:nvSpPr>
          <p:spPr>
            <a:xfrm>
              <a:off x="990720" y="13716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32.768</a:t>
              </a:r>
              <a:r>
                <a:rPr b="0" lang="en-US" sz="2400" spc="-1" strike="noStrike">
                  <a:solidFill>
                    <a:srgbClr val="3333cc"/>
                  </a:solidFill>
                  <a:latin typeface="宋体"/>
                </a:rPr>
                <a:t>KHz</a:t>
              </a: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的晶体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86600" y="26668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13</a:t>
              </a:r>
              <a:r>
                <a:rPr b="0" lang="en-US" sz="2400" spc="-1" strike="noStrike">
                  <a:solidFill>
                    <a:srgbClr val="3333cc"/>
                  </a:solidFill>
                  <a:latin typeface="宋体"/>
                </a:rPr>
                <a:t>MHz</a:t>
              </a: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晶体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4419720"/>
              <a:ext cx="152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 </a:t>
              </a: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码片（</a:t>
              </a:r>
              <a:r>
                <a:rPr b="0" lang="en-US" sz="2400" spc="-1" strike="noStrike">
                  <a:solidFill>
                    <a:srgbClr val="3333cc"/>
                  </a:solidFill>
                  <a:latin typeface="宋体"/>
                </a:rPr>
                <a:t>EEPROM</a:t>
              </a:r>
              <a:r>
                <a:rPr b="0" lang="en-US" sz="2400" spc="-1" strike="noStrike">
                  <a:solidFill>
                    <a:srgbClr val="3333cc"/>
                  </a:solidFill>
                  <a:latin typeface="宋体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0640" y="5105520"/>
              <a:ext cx="911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宋体"/>
                </a:rPr>
                <a:t>字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31:16Z</dcterms:modified>
  <cp:revision>27</cp:revision>
  <dc:subject/>
  <dc:title>PowerPoint Presentation</dc:title>
</cp:coreProperties>
</file>