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6B69-CCB6-44BD-A132-FBFBB56D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4ACD-EC91-488D-BC44-71C71EE7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CA20-AEB6-4D27-A3C3-B7AE4484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3BC0-9304-4234-9448-DB232822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F0358-A1D3-4B14-9E3F-A3C3CD6B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68E81-F70D-455F-B1D9-582CB847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0AF67-6FCE-4BAA-AC2F-E95937B3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2C393-E12D-44BB-8937-250CAE6E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9BA1D-1A4C-4B57-AE5C-2326624F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0C87E-2FB5-403F-929F-EAC36AC4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14601-32E3-4433-A3B4-75696AE7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5DC0-6E01-4C4D-92AA-85CD685B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CB1D3-C800-43F8-9EA4-25549E37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82E86-6229-4345-83C1-F976A4D1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0854F-3CDA-4D29-A66B-3E09ED7D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677DA-6290-4B7E-9D7C-F7306208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E2C2A-EB68-41F3-8FAF-2B9A04E8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7CF8-AD3A-4DCD-8970-684A442B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A669-4ED7-4FD8-83E4-860D10CC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B751-1A7B-4C58-9553-669963C1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86E2-AD9F-414D-81B7-F8776EBE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5BA8-CE7C-4EC4-8CCF-19088397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D0B0-AA6E-4585-A275-D9506E22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7DA4-5453-44DA-95B1-BA79D627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E9E4-805B-459E-8557-C5735D24D8B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DCD4-AC70-4AF0-BB5E-1127ADE593E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项目五  手机电路分析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SM (GPRS)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手机电路的主要技术指标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676520" y="1676520"/>
            <a:ext cx="6095160" cy="4800240"/>
            <a:chOff x="1676520" y="1676520"/>
            <a:chExt cx="6095160" cy="4800240"/>
          </a:xfrm>
        </p:grpSpPr>
        <p:grpSp>
          <p:nvGrpSpPr>
            <p:cNvPr id="85" name=""/>
            <p:cNvGrpSpPr/>
            <p:nvPr/>
          </p:nvGrpSpPr>
          <p:grpSpPr>
            <a:xfrm>
              <a:off x="1676520" y="1676520"/>
              <a:ext cx="2800800" cy="426600"/>
              <a:chOff x="1676520" y="1676520"/>
              <a:chExt cx="2800800" cy="426600"/>
            </a:xfrm>
          </p:grpSpPr>
          <p:sp>
            <p:nvSpPr>
              <p:cNvPr id="86" name=""/>
              <p:cNvSpPr/>
              <p:nvPr/>
            </p:nvSpPr>
            <p:spPr>
              <a:xfrm>
                <a:off x="1762200" y="1676520"/>
                <a:ext cx="262872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               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参    数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676520" y="1676520"/>
                <a:ext cx="2800800" cy="426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4477680" y="1676520"/>
              <a:ext cx="3294000" cy="426600"/>
              <a:chOff x="4477680" y="1676520"/>
              <a:chExt cx="3294000" cy="426600"/>
            </a:xfrm>
          </p:grpSpPr>
          <p:sp>
            <p:nvSpPr>
              <p:cNvPr id="89" name=""/>
              <p:cNvSpPr/>
              <p:nvPr/>
            </p:nvSpPr>
            <p:spPr>
              <a:xfrm>
                <a:off x="4563000" y="1676520"/>
                <a:ext cx="312264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              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数      值  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477680" y="1676520"/>
                <a:ext cx="3294000" cy="426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1676520" y="2103120"/>
              <a:ext cx="2800800" cy="426600"/>
              <a:chOff x="1676520" y="2103120"/>
              <a:chExt cx="2800800" cy="426600"/>
            </a:xfrm>
          </p:grpSpPr>
          <p:sp>
            <p:nvSpPr>
              <p:cNvPr id="92" name=""/>
              <p:cNvSpPr/>
              <p:nvPr/>
            </p:nvSpPr>
            <p:spPr>
              <a:xfrm>
                <a:off x="1762200" y="2103120"/>
                <a:ext cx="262872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              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系    统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676520" y="2103120"/>
                <a:ext cx="2800800" cy="426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4477680" y="2103120"/>
              <a:ext cx="3294000" cy="426600"/>
              <a:chOff x="4477680" y="2103120"/>
              <a:chExt cx="3294000" cy="426600"/>
            </a:xfrm>
          </p:grpSpPr>
          <p:sp>
            <p:nvSpPr>
              <p:cNvPr id="95" name=""/>
              <p:cNvSpPr/>
              <p:nvPr/>
            </p:nvSpPr>
            <p:spPr>
              <a:xfrm>
                <a:off x="4563000" y="2103120"/>
                <a:ext cx="312264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 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GSM 9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，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GSM l800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477680" y="2103120"/>
                <a:ext cx="3294000" cy="426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676520" y="2529720"/>
              <a:ext cx="2800800" cy="640080"/>
              <a:chOff x="1676520" y="2529720"/>
              <a:chExt cx="2800800" cy="640080"/>
            </a:xfrm>
          </p:grpSpPr>
          <p:sp>
            <p:nvSpPr>
              <p:cNvPr id="98" name=""/>
              <p:cNvSpPr/>
              <p:nvPr/>
            </p:nvSpPr>
            <p:spPr>
              <a:xfrm>
                <a:off x="1762200" y="2529720"/>
                <a:ext cx="262872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接收频率范围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676520" y="2529720"/>
                <a:ext cx="2800800" cy="640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4477680" y="2529720"/>
              <a:ext cx="3294000" cy="640080"/>
              <a:chOff x="4477680" y="2529720"/>
              <a:chExt cx="3294000" cy="640080"/>
            </a:xfrm>
          </p:grpSpPr>
          <p:sp>
            <p:nvSpPr>
              <p:cNvPr id="101" name=""/>
              <p:cNvSpPr/>
              <p:nvPr/>
            </p:nvSpPr>
            <p:spPr>
              <a:xfrm>
                <a:off x="4563000" y="2529720"/>
                <a:ext cx="312264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GSM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：  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925-----935 MHz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GSM9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： 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935—---960MHz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GSMl8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：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1805----1880 MHz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477680" y="2529720"/>
                <a:ext cx="3294000" cy="640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1676520" y="3169800"/>
              <a:ext cx="2800800" cy="640080"/>
              <a:chOff x="1676520" y="3169800"/>
              <a:chExt cx="2800800" cy="640080"/>
            </a:xfrm>
          </p:grpSpPr>
          <p:sp>
            <p:nvSpPr>
              <p:cNvPr id="104" name=""/>
              <p:cNvSpPr/>
              <p:nvPr/>
            </p:nvSpPr>
            <p:spPr>
              <a:xfrm>
                <a:off x="1762200" y="3169800"/>
                <a:ext cx="262872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发射频率范围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676520" y="3169800"/>
                <a:ext cx="2800800" cy="640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4477680" y="3169800"/>
              <a:ext cx="3294000" cy="640080"/>
              <a:chOff x="4477680" y="3169800"/>
              <a:chExt cx="3294000" cy="640080"/>
            </a:xfrm>
          </p:grpSpPr>
          <p:sp>
            <p:nvSpPr>
              <p:cNvPr id="107" name=""/>
              <p:cNvSpPr/>
              <p:nvPr/>
            </p:nvSpPr>
            <p:spPr>
              <a:xfrm>
                <a:off x="4563000" y="3169800"/>
                <a:ext cx="312264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GSM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：  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880-----890 MHz   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GSM9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： 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890-----915 MHz   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GSMl8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：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1710----1785 MHz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477680" y="3169800"/>
                <a:ext cx="3294000" cy="640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676520" y="3810240"/>
              <a:ext cx="2800800" cy="533160"/>
              <a:chOff x="1676520" y="3810240"/>
              <a:chExt cx="2800800" cy="533160"/>
            </a:xfrm>
          </p:grpSpPr>
          <p:sp>
            <p:nvSpPr>
              <p:cNvPr id="110" name=""/>
              <p:cNvSpPr/>
              <p:nvPr/>
            </p:nvSpPr>
            <p:spPr>
              <a:xfrm>
                <a:off x="1762200" y="3810240"/>
                <a:ext cx="262872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输出功率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676520" y="3810240"/>
                <a:ext cx="2800800" cy="533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4477680" y="3810240"/>
              <a:ext cx="3294000" cy="533160"/>
              <a:chOff x="4477680" y="3810240"/>
              <a:chExt cx="3294000" cy="533160"/>
            </a:xfrm>
          </p:grpSpPr>
          <p:sp>
            <p:nvSpPr>
              <p:cNvPr id="113" name=""/>
              <p:cNvSpPr/>
              <p:nvPr/>
            </p:nvSpPr>
            <p:spPr>
              <a:xfrm>
                <a:off x="4563000" y="3810240"/>
                <a:ext cx="312264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                          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GSM9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：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(+5 —- +33dBm) 3.2mW---2W             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                         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GSMl8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：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(+0 --- +30dBm) 1.0mW---1W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77680" y="3810240"/>
                <a:ext cx="3294000" cy="533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76520" y="4343400"/>
              <a:ext cx="2800800" cy="533160"/>
              <a:chOff x="1676520" y="4343400"/>
              <a:chExt cx="2800800" cy="533160"/>
            </a:xfrm>
          </p:grpSpPr>
          <p:sp>
            <p:nvSpPr>
              <p:cNvPr id="116" name=""/>
              <p:cNvSpPr/>
              <p:nvPr/>
            </p:nvSpPr>
            <p:spPr>
              <a:xfrm>
                <a:off x="1762200" y="4343400"/>
                <a:ext cx="262872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          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双工间隔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6520" y="4343400"/>
                <a:ext cx="2800800" cy="533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4477680" y="4343400"/>
              <a:ext cx="3294000" cy="533160"/>
              <a:chOff x="4477680" y="4343400"/>
              <a:chExt cx="3294000" cy="533160"/>
            </a:xfrm>
          </p:grpSpPr>
          <p:sp>
            <p:nvSpPr>
              <p:cNvPr id="119" name=""/>
              <p:cNvSpPr/>
              <p:nvPr/>
            </p:nvSpPr>
            <p:spPr>
              <a:xfrm>
                <a:off x="4563000" y="4343400"/>
                <a:ext cx="312264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GSM9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： 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45 MHz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GSMl8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：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95 MHz  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477680" y="4343400"/>
                <a:ext cx="3294000" cy="533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676520" y="4876920"/>
              <a:ext cx="2800800" cy="640080"/>
              <a:chOff x="1676520" y="4876920"/>
              <a:chExt cx="2800800" cy="640080"/>
            </a:xfrm>
          </p:grpSpPr>
          <p:sp>
            <p:nvSpPr>
              <p:cNvPr id="122" name=""/>
              <p:cNvSpPr/>
              <p:nvPr/>
            </p:nvSpPr>
            <p:spPr>
              <a:xfrm>
                <a:off x="1762200" y="4876920"/>
                <a:ext cx="262872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信道数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676520" y="4876920"/>
                <a:ext cx="2800800" cy="640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77680" y="4876920"/>
              <a:ext cx="3294000" cy="640080"/>
              <a:chOff x="4477680" y="4876920"/>
              <a:chExt cx="3294000" cy="640080"/>
            </a:xfrm>
          </p:grpSpPr>
          <p:sp>
            <p:nvSpPr>
              <p:cNvPr id="125" name=""/>
              <p:cNvSpPr/>
              <p:nvPr/>
            </p:nvSpPr>
            <p:spPr>
              <a:xfrm>
                <a:off x="4563000" y="4876920"/>
                <a:ext cx="312264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GSM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：   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50    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GSM9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：  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124    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GSMl8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： 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374    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477680" y="4876920"/>
                <a:ext cx="3294000" cy="640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676520" y="5517000"/>
              <a:ext cx="2800800" cy="426600"/>
              <a:chOff x="1676520" y="5517000"/>
              <a:chExt cx="2800800" cy="426600"/>
            </a:xfrm>
          </p:grpSpPr>
          <p:sp>
            <p:nvSpPr>
              <p:cNvPr id="128" name=""/>
              <p:cNvSpPr/>
              <p:nvPr/>
            </p:nvSpPr>
            <p:spPr>
              <a:xfrm>
                <a:off x="1762200" y="5517000"/>
                <a:ext cx="262872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        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信道间隔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676520" y="5517000"/>
                <a:ext cx="2800800" cy="426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4477680" y="5517000"/>
              <a:ext cx="3294000" cy="426600"/>
              <a:chOff x="4477680" y="5517000"/>
              <a:chExt cx="3294000" cy="426600"/>
            </a:xfrm>
          </p:grpSpPr>
          <p:sp>
            <p:nvSpPr>
              <p:cNvPr id="131" name=""/>
              <p:cNvSpPr/>
              <p:nvPr/>
            </p:nvSpPr>
            <p:spPr>
              <a:xfrm>
                <a:off x="4563000" y="5517000"/>
                <a:ext cx="312264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     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2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kH</a:t>
                </a:r>
                <a:r>
                  <a:rPr b="0" lang="en-US" sz="1000" spc="-1" strike="noStrike" baseline="-30000">
                    <a:solidFill>
                      <a:srgbClr val="ffffff"/>
                    </a:solidFill>
                    <a:latin typeface="Times New Roman"/>
                  </a:rPr>
                  <a:t>Z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477680" y="5517000"/>
                <a:ext cx="3294000" cy="426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1676520" y="5943600"/>
              <a:ext cx="2800800" cy="533160"/>
              <a:chOff x="1676520" y="5943600"/>
              <a:chExt cx="2800800" cy="533160"/>
            </a:xfrm>
          </p:grpSpPr>
          <p:sp>
            <p:nvSpPr>
              <p:cNvPr id="134" name=""/>
              <p:cNvSpPr/>
              <p:nvPr/>
            </p:nvSpPr>
            <p:spPr>
              <a:xfrm>
                <a:off x="1762200" y="5943600"/>
                <a:ext cx="262872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      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功率级别数 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676520" y="5943600"/>
                <a:ext cx="2800800" cy="533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477680" y="5943600"/>
              <a:ext cx="3294000" cy="533160"/>
              <a:chOff x="4477680" y="5943600"/>
              <a:chExt cx="3294000" cy="533160"/>
            </a:xfrm>
          </p:grpSpPr>
          <p:sp>
            <p:nvSpPr>
              <p:cNvPr id="137" name=""/>
              <p:cNvSpPr/>
              <p:nvPr/>
            </p:nvSpPr>
            <p:spPr>
              <a:xfrm>
                <a:off x="4563000" y="5943600"/>
                <a:ext cx="312264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GSM900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Times New Roman"/>
                  </a:rPr>
                  <a:t>含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GSM :   15 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GSMl8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：        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16  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77680" y="5943600"/>
                <a:ext cx="3294000" cy="533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481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8360" y="533520"/>
            <a:ext cx="8294760" cy="5178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5638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摩托罗拉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V6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型手机射频接收部分电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2" descr=""/>
          <p:cNvPicPr/>
          <p:nvPr/>
        </p:nvPicPr>
        <p:blipFill>
          <a:blip r:embed="rId2"/>
          <a:stretch/>
        </p:blipFill>
        <p:spPr>
          <a:xfrm>
            <a:off x="468360" y="436680"/>
            <a:ext cx="8294760" cy="54306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4920" y="57146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摩托罗拉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V6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型手机射频发射部分电路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2" descr=""/>
          <p:cNvPicPr/>
          <p:nvPr/>
        </p:nvPicPr>
        <p:blipFill>
          <a:blip r:embed="rId2"/>
          <a:stretch/>
        </p:blipFill>
        <p:spPr>
          <a:xfrm>
            <a:off x="395280" y="609480"/>
            <a:ext cx="8367840" cy="51562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120" y="57146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摩托罗拉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V6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型手机音频电路原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9481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0516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54860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开机过程电路原理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193356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2" descr=""/>
          <p:cNvPicPr/>
          <p:nvPr/>
        </p:nvPicPr>
        <p:blipFill>
          <a:blip r:embed="rId2"/>
          <a:stretch/>
        </p:blipFill>
        <p:spPr>
          <a:xfrm>
            <a:off x="395280" y="525600"/>
            <a:ext cx="836784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3-05T06:18:45Z</dcterms:modified>
  <cp:revision>9</cp:revision>
  <dc:subject/>
  <dc:title>PowerPoint Presentation</dc:title>
</cp:coreProperties>
</file>