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179-3D83-4272-9D3D-1610C6F2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385-A4E5-4FF0-B034-3B12ADB5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5B2-3585-4270-BED1-B50347BF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92B-98A7-4D8D-B420-F1954801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A8B-701E-4846-A379-11877B49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3AC9-FFFA-4C80-8AC9-982BF11B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EFC-C3A9-446D-9936-9F35AA73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3FD-E9D7-4C56-993F-389BFAD3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E6E-B39A-43A7-AD08-EBE8A0E7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F52-8193-4ED6-94A0-59604829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FBA-6D8F-4B3E-8275-5ABB2BCA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0FF-383E-432C-8C88-E064194C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1490-D7AE-4815-8625-84001BF893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项目十二  手机发射故障的检修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676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手机开机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收到基站的载波信号后，然后向基站发射入网请求信号，建立手机与基站系统之间的信息交换。手机的发射电路一旦出现故障，就不能建立这种信息交换。手机显示“发射重拨”，长时间显示“拨号中……”等故障现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何判断手机是否有发射信号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只手拿起固定电话机的手柄，将其放在耳边，另一只手用手机拨打电话（如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2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号码），若在固定电话机的听筒里听不到干扰声，则说明手机无发射信号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5486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检测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发射电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逻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音频电路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软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 摩托罗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手机有信号，发射有大电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95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理方法：给手机加上直流稳压电源电压，拨打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2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发现整机发射电流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00—45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手触摸功放，温度异常，怀疑功放损坏，如图所示为该手机功放集成块。可以看出，型号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EV58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三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18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的功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15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P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很相似，易损坏，不耐高温，有些机型体现出的故障现象是发射关机。更换功放，故障即可消失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3852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14-1  摩托罗拉V70发射大电流故障检测点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48006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 摩托罗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V7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拨打电话时，显示“通话失败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6765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理方法：给手机加上直流稳压电源电压，拨打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2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发现整机发射电流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左右变化，此故障是明显的发射电路故障，如图所示为该手机故障检测点。在检测射频电路供电和功放供电正常的情况下，先用观察法检查，发现发射信号传输通路上的元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3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能虚焊，补焊后，故障排除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383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图14-2  摩托罗拉V70手机“通话失败”故障检测点" descr=""/>
          <p:cNvPicPr/>
          <p:nvPr/>
        </p:nvPicPr>
        <p:blipFill>
          <a:blip r:embed="rId1"/>
          <a:stretch/>
        </p:blipFill>
        <p:spPr>
          <a:xfrm>
            <a:off x="2295360" y="3809880"/>
            <a:ext cx="38005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6:36:51Z</dcterms:modified>
  <cp:revision>9</cp:revision>
  <dc:subject/>
  <dc:title>PowerPoint Presentation</dc:title>
</cp:coreProperties>
</file>