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8B3-8DD6-47FC-A49D-A54F74F3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3414-2884-49D3-8F5A-20DCDACF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F2D8-2DCD-49CA-AE11-A911B18E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BA6-31EB-42C4-8541-9B7F8F78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404-0F9F-4505-87DB-A7D08F30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B049-0AB4-4B25-AADA-18EE04AB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32C-AF43-4D1E-AE16-B34359BE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B2C-4412-47C4-992B-4AA43F8E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AA3C-AEEB-4FFA-9BDC-1E6B2E99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476-3AD0-41A5-8505-6AD659A3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F647-48A7-4F2E-9D23-DE413B56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3FC-8D28-4685-B852-95841ED9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6317-525A-4406-8596-0905841BD0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项目十三  手机显示故障的检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09680"/>
            <a:ext cx="83059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手机显示故障一般原因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显示屏损坏或显示排线断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显示排线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座接触不良或显示接口导电橡胶接触不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显示屏接口各脚电压不正常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屏显外围电路不正常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虚焊或损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软件故障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380880"/>
            <a:ext cx="7772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: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诺基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2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手机无显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理方法：诺基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2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手机接打电话正常而无显示，首先检测显示屏，把显示屏接在一个正常的诺基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2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手机主板上加电开机，显示屏显示正常，说明故障在主板上；然后检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屏显数据输出到屏显接口之间的元件，主要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30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309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30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30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端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屏显数据输出，另一端接显示屏内联接口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30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脚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脚。同时还要观察显示接口是否有变形、虚焊的地方，如图所示。检测发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30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断路，此类是故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30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30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虚焊或损坏的居多，加焊或更换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30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故障排除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371600" y="4398840"/>
            <a:ext cx="6171480" cy="2077920"/>
            <a:chOff x="1371600" y="4398840"/>
            <a:chExt cx="6171480" cy="207792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1371600" y="4398840"/>
              <a:ext cx="3085920" cy="20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4800240" y="5141520"/>
              <a:ext cx="2742840" cy="133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457200"/>
            <a:ext cx="6705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 三星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DMA A39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手机进水后屏不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理方法：此手机有明显进水痕迹，先用清洗液清洗，然后参考显示原理图，测试显示部分的供电，有正常的供电电压，用正常显示屏替代仍无显示，说明主板的显示部分电路有故障。检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PU MSM3100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U100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屏显数据输出到显示插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N255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之间的元件是否有损坏，仔细观察，发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N25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显示插口上方阻容元件有变色的，如图所示，用万用表测试电容，有漏电的现象，更换已损坏的阻容元件，故障消失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14600" y="4419720"/>
            <a:ext cx="358128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3-05T06:38:48Z</dcterms:modified>
  <cp:revision>11</cp:revision>
  <dc:subject/>
  <dc:title>PowerPoint Presentation</dc:title>
</cp:coreProperties>
</file>