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47A-7115-4F29-A694-67F680DE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F9A-9EE0-4195-B569-56CD05D0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B88-8BF9-460F-B641-A2C182D9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1CE-917E-4F13-8417-10BC3974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BD0-58B9-4D88-8E2A-8A01C4F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19C-0DB2-466A-AEF9-C9B34A1C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66C-9A55-4C1C-AE53-93E6380B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8ED-6619-41A6-93DC-53B9A5FB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993-34C1-495D-8D1A-CB52633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B2D-7C37-4A61-947D-5E5A474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6C4-07D9-41DF-9F47-1C4D5DC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BF8-279C-4F1E-9195-DDE6A07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675-3B8E-4C45-9BD8-C10FD941D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项目十一  手机不入网故障的检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入网”故障是指手机接收不到基站发射的信号时，显示屏显示“无网络”字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照手机系统理论，手机的接收超前于发射，是手机找系统而不是系统找手机，接收决定发射，也就是说手机是先接收后发射。这是手机的入网原理。如果手机接收部分有故障，没有收到基地站的信道分配信息，发送通路就不能进入准备状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手机常见不入网故障原因有：射频供电不正常，接收电路不正常，频率合成电路不正常，逻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音频电路不正常，发射电路不正常，软件不正常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摩托罗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手机无网络故障一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款手机无网络、无接收、无发射的故障率非常高，多数情况下，是由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射机频段切换使能控制管）损坏造成接收信号频段混乱而导致的故障，如图所示为该手机无网络故障检修点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损坏会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频段切换使能端失效，而接收一本振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发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在一个芯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会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VC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不正常而停止工作，因而导致无网络、无接收、无发射的故障，更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70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故障即可消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76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13-1  摩托罗拉T720i手机无网络检修点之一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539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29528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理方法：给手机加直流稳压电源电压，按开机键，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左右的整机工作电流，这个电流是不正常的。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中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音频模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3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压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5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压正常，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正常（供射频电压正常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判断为射频部分有短路的情况。射频供电管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出的供电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，因为手机开机正常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-V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短路的可能。先断电，用万用表电阻挡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射频供电管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，发现电阻为零，确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F-V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短路。断开负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40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前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C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仍为零，说明不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1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短路，再断开另一负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203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收二本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2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脚对地电阻不为零，说明二本振已经对地短路。更换二本振，故障即可消除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２ ：摩托罗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720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手机无网络故障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62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13-2  摩托罗拉T720手机无网络检修点之二" descr=""/>
          <p:cNvPicPr/>
          <p:nvPr/>
        </p:nvPicPr>
        <p:blipFill>
          <a:blip r:embed="rId1"/>
          <a:stretch/>
        </p:blipFill>
        <p:spPr>
          <a:xfrm>
            <a:off x="304920" y="1301760"/>
            <a:ext cx="86817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2:28Z</dcterms:modified>
  <cp:revision>11</cp:revision>
  <dc:subject/>
  <dc:title>PowerPoint Presentation</dc:title>
</cp:coreProperties>
</file>