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22F-DFDF-4878-B955-1F257732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134-B8F0-41BA-9BE2-54CC28D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1FA-21D3-484A-B626-A60B4F9D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892-CC20-4B14-A4BB-57ECE5DD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620-BE8B-4352-93DF-D7E96B35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630-23E3-440D-ABCD-EB84F62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931-7831-46AD-9D24-34F25298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4A7-DFDA-4801-B4F7-39CAFB02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4BA-3FC4-4A07-99EF-33C5A99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5D6-D812-4290-BA11-70D6791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2FB-CD68-448E-872A-4CA5634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2DF-7E94-4A93-89F3-4A56E70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DB23-28C6-4178-B0C6-06629AF7CB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404640"/>
            <a:ext cx="62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项目七  手机指令秘笈的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19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所谓手机指令密技是利用手机本身键盘，输入操作指令，不需任何检修仪对手机功能进行测试及程序设定。 通过手机指令密技操作，可以既简单又方便地解决软件故障及设置错误引起的故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74320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例如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诺基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使用密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6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，可显示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位数字的手机串号，它是手机的“机身号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即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IMEI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#0000#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会显示几行内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第一行——软件版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第二行——软件发布日期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第三行——手机型号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99072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92702689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，显示内容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SerialNO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序列号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即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IMEI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产地码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ade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制造日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Purchasingdate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购买日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可自行输入购买日期，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mmyy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前面是月份，后面是年份，此选项一旦输入，则无法再更改。因此，在购买几时，如果你通过此秘技发现此项有记录，那这机器—定是旧的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4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Repaired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修理日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5)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TransferUserdata?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更改使用者数据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7002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337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激活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EF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全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全速增强型编码模式，可改善话音质量但会耗电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#337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关闭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EF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全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472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激活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H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半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，话音质量变低，但是大大延长电池使用时间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大概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％左右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需要网支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输入＃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472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＃关闭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HR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半速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模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38088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摩托罗拉手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机使用密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按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*#06#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可显示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IMEI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号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不包括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62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75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8200)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对于摩托罗拉系列手机，如开机出现“输入开机密码”，当输入原设定密码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1234'’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不能解密时，可尝试以下办法：当屏幕出现“输入开机密码”时按菜单键，再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OK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键，输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00000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此时，开机密码就会直接显示在显示屏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V68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型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CDM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解锁指令：在键盘输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5*#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再按录音键两次键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71082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进入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Test mode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再进入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COMMON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向下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lnutialize carrier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找编辑提示，复位选“是”，重新开机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摩托罗拉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V73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型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CDMA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手机解锁指令：在键盘键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5*#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再按录音键三次，键入“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071082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，出现菜单选第三“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data port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进入子菜单，选第二项“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Vodiagusbds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后自动复位，密码变为原始密码，重新开机即可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981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以上仅例举部分手机的指令密技，希望能起到抛砖引玉之效，更多指令密技请见教材和有关资料。请学生们注意收集手机的指令密技，并恰当地使用它们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3-05T06:24:18Z</dcterms:modified>
  <cp:revision>15</cp:revision>
  <dc:subject/>
  <dc:title>PowerPoint Presentation</dc:title>
</cp:coreProperties>
</file>