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CA88-E171-441C-B470-4880245D9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B3F4-73F5-4F3F-BD72-F1924FCE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D735-4865-48C9-97EF-15AC4B3BD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9E98-9806-47F4-B83C-EA7BED84B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5A83-FB9F-4EBF-AB48-DB4C5E8CD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7A62-E174-4E6E-8912-80039ACF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9F1B-7A64-48A1-91CB-AF5B2FEA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63CC-209F-4F4A-991A-051AB196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B0AB-760F-49A2-A6AD-6CC0C29F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1414-4355-41E1-88CF-2744EF43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D3F8-6181-4E7C-8D6E-EF76A12F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2554-6757-4999-ABC0-A744A849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19F2-9F8D-496F-B632-53EC320B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647C-24C9-43A8-BD60-B2FD782D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EC87-874B-473F-A35F-27B282F4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6E1F-D3C4-4CD7-A62C-9093EF505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EBFE-9636-43AF-BFBD-B86746D2A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4829-21C3-4EAC-9F4A-CEE1A523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F254-BAE2-4D07-89A2-BA513907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490D-39B3-43D4-AA51-DA39E875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B7A1-697A-449B-91A0-448A2590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08BE-8F10-4245-B8C5-826032AE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E24C-45E5-429C-8B35-10902D8E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05F7-AE87-4B34-B4DE-180537E3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81360"/>
            <a:ext cx="23112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81360"/>
            <a:ext cx="31366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81360"/>
            <a:ext cx="23115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30D1-B4DA-43FD-B1D8-0AA6EF355D8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2880" y="980640"/>
            <a:ext cx="9288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466040" y="522900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7473960" y="6265440"/>
            <a:ext cx="230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451280" y="5740560"/>
            <a:ext cx="23115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4BDE-95B7-4C3B-9A3B-30098F113E7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11.xml"/><Relationship Id="rId10" Type="http://schemas.openxmlformats.org/officeDocument/2006/relationships/slide" Target="slide11.xml"/><Relationship Id="rId11" Type="http://schemas.openxmlformats.org/officeDocument/2006/relationships/slide" Target="slide11.xml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2880" y="980640"/>
            <a:ext cx="9288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章  指令系统与汇编语言程序设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2520" y="2060280"/>
            <a:ext cx="9217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2" action="ppaction://hlinksldjump"/>
              </a:rPr>
              <a:t>3.1 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3" action="ppaction://hlinksldjump"/>
              </a:rPr>
              <a:t>寻址方式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4" action="ppaction://hlinksldjump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3.2 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指令系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3.3 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汇编语言程序的汇编与调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3.4 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汇编语言程序设计举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3.5 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计算机中的数据编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49240" y="-196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31440" y="404280"/>
            <a:ext cx="878508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累加器有关的数据传送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←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R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←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←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i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rect)←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Ri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←(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@ R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i)←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析下列指令的寻址方式和执行结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两操作数均采用寄存器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T7F5F5B8tCID-WinCharSetFFFF-H"/>
              </a:rPr>
              <a:t>A=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F0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操作数为直接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F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@ R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源操作数为寄存器间接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48880" y="7848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7850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类指令的操作码助记符为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”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外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元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使用间接寻址方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即可以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作间址寄存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X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DPTR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←(DPT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X @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PTR)←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X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Ri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←(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X @ R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i)←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4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已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=2000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片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(2000H)=05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1=0F0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片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(0F0H)=0A0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 DPT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指令执行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05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@ 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指令执行后，片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(0F0H)=05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49240" y="1494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31440" y="620640"/>
            <a:ext cx="86425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类指令助记符为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”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共两条指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C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A+DPTR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←(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PT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C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A+PC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←(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把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的十六进制数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F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转换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A 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调整偏移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表的首地址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间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单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C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A + PC 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查表取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 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子程序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 30H,31H,32H,33H,34H 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程序存储器中顺序存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 35H,36H,37H,38H,39H ;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 41H,42H,43H,44H,45H,46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0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1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程序存储器取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 = 2001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+ PC=2011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于是执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C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(2011H)=46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即将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十六进制数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成相应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CII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字节交换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H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    ; A← →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H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 ; A← 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H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Ri   ; A← →(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字节交换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CHD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 Ri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(D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0)← →(Ri)(D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0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即累加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间址的内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元的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交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与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交换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 A    ; A(D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0)← →A(D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49240" y="784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31440" y="549000"/>
            <a:ext cx="878508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栈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 direct   ;SP←SP + 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)←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出栈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 direct   ; (direct)←(SP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←SP –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8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已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 = 3A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= 1234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USH DPL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←SP + 1=3B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BH)=34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P  DPH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←SP + 1=3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CH)=1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执行指令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=3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CH)=12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BH)=34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49240" y="1213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0160" y="620640"/>
            <a:ext cx="88563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减运算指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算术运算指令      乘除法指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十进制调整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20880" y="1989000"/>
            <a:ext cx="71640" cy="2087640"/>
          </a:xfrm>
          <a:custGeom>
            <a:avLst/>
            <a:gdLst>
              <a:gd name="textAreaLeft" fmla="*/ 45720 w 71640"/>
              <a:gd name="textAreaRight" fmla="*/ 72000 w 716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31440" y="475920"/>
            <a:ext cx="86425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法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(Add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31440" y="907920"/>
            <a:ext cx="8642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格式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 A,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功能：将累加器和源操作数相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果送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源操作数不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源操作数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种寻址方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所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种形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Rn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(direct)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Ri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(Ri)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data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data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C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1 = 0AF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+ 1010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影响程序状态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SW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带进位加法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C (Addition with Car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格式与加法指令相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功能是将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不同寻址方式的源操作数以及进位标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相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算结果送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带进位加法指令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Rn+CY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C  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(direct) +CY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C 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Ri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(Ri) +CY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C 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data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data+CY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对状态标志位的影响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带借位减法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B (Subtraction with Borrow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31800" y="1125000"/>
            <a:ext cx="8569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加法指令相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为累加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源操作数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种寻址方式。所以带借位减法指令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种形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B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n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-Rn-CY→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B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-(direct)-CY→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B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Ri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-(Ri)-CY→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B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data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-data-CY→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例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C0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0 = 7A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Y = 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执行指令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BB A,R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执行结果为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= 45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 = 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 = 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= 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进行不减借位的减法运算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只需将借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标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清零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带借位减法指令对状态标志位的影响与加法指令相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(INCrement destination by 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格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C d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执行操作是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s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内容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果送回原单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共有以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种形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A              ;A + 1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Rn             ;Rn + 1→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direct           ;(direct)+ 1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@ Ri            ;(Ri)+ 1→(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DPTR           ;DPTR + 1→DPT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主要用于修改地址指针和计数次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它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没有影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48880" y="563040"/>
            <a:ext cx="84250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1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寻址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31440" y="1600200"/>
            <a:ext cx="864252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寻址方式是指在指令执行过程中，如何找到操作数有效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址的方法。绝大多数指令执行时都需要使用操作数，而操作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指一个直接参与指令运行的数据，也可以指一个寄存器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还可以指一个存储器单元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指令系统提供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同的寻址方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(Decrement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与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格式相似，只有一个操作数，该指令共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种形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 A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-1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 Rn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1→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 direct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rect)-1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 @Ri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i)-1→(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类指令不影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乘法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1440" y="1125360"/>
            <a:ext cx="8642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格式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UL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功能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把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寄存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的无符号数相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所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乘积的低位字节存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高位字节存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1AH,B = 20H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执行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UL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执行结果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40H,B = 03H,OV = 1,CY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乘法运算影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SW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状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位标志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总是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除法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格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V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功能是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位无符号数除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位无符号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所得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存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余数存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并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只有当除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表示除法的结果无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F4H,B = 0A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执行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V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执行结果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18H,B = 04H,OV = 0,CY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十进制调整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31440" y="981000"/>
            <a:ext cx="8642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：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的数作为两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相加之和进行调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得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两位正确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形式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3-54=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先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AH-54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得到补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6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再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3H+46H=0B9H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执行调整指令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B9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加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得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9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即得到正确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49240" y="414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31440" y="549000"/>
            <a:ext cx="86425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逻辑与运算指令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逻辑或运算指令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逻辑运算指令         逻辑异或运算指令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累加器清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取反指令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循环移位指令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81240" y="1341360"/>
            <a:ext cx="503280" cy="2951280"/>
          </a:xfrm>
          <a:custGeom>
            <a:avLst/>
            <a:gdLst>
              <a:gd name="textAreaLeft" fmla="*/ 321480 w 503280"/>
              <a:gd name="textAreaRight" fmla="*/ 503640 w 503280"/>
              <a:gd name="textAreaTop" fmla="*/ 76680 h 2951280"/>
              <a:gd name="textAreaBottom" fmla="*/ 2874600 h 29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这类指令的助记符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N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       ;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A,direct       ;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rect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A,@Ri        ;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i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A, # data      ;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direct,A       ;(direct)∧A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direct, # data    ;(direct)∧data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：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0A6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1=0A4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NL A,R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A4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逻辑与运算常用作字节清零或位清零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类指令的助记符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0520" y="907920"/>
            <a:ext cx="86421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A, Rn        ;A∨Rn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A, direct      ;A∨(direct)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A, @Ri       ;A∨(Ri)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A,  # data      ;A∨data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direct, A       ;(direct)∨A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direct,  # data    ;(direct)∨data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如 把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传送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的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的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保持不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USH ACC 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累加器内容入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NL A, # 0FH 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屏蔽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NL P0, # 0F0H 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屏蔽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0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的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RL P0,A 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传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OP ACC 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恢复累加器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逻辑或运算可以实现对某个单元的某些位置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余位不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52520" y="78480"/>
            <a:ext cx="489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31440" y="620280"/>
            <a:ext cx="87138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RL A,Rn            ;ARn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RL A,direct          ;A(direct)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RL A,@Ri            ;A(Ri)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RL A, # data          ;Adata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RL direct,A           ;(direct)A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RL direct, # data       ;(direct)data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：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7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1=0A5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则执行指令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RL 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后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=0DA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逻辑异或运算可以用来比较两个数据是否相等。当两个数据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或结果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则表示相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否则表示不相等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49240" y="777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累加器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：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A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累加器按位取反指令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L A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：若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55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执行指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L A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执行结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0A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A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执行结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0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循环右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R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功能：将累加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内容逐位循环右移一位。如图所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，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6AH=01101010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R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35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循环左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L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功能：将累加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内容逐位左移一位，如图所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，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0A3H=10100011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执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L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47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360520" y="1484280"/>
            <a:ext cx="5184720" cy="1152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2432160" y="4076640"/>
            <a:ext cx="52560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带进位循环右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RC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功能：将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内容和进位位一起逐位循环右移一位，如图所示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如，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4BH=01001011B,CY=1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执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RL A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0A5H,CY=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带进位循环左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LC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功能：将累加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内容和进位位一起逐位循环左移一位，如图所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此两操作影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232160" y="1628640"/>
            <a:ext cx="4464000" cy="1295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089240" y="4365720"/>
            <a:ext cx="468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、寻址方式</a:t>
            </a:r>
            <a:br>
              <a:rPr sz="3200"/>
            </a:br>
            <a:r>
              <a:rPr b="0" lang="zh-CN" sz="2400" spc="-1" strike="noStrike">
                <a:solidFill>
                  <a:srgbClr val="cc6600"/>
                </a:solidFill>
                <a:latin typeface="Arial"/>
                <a:ea typeface="宋体"/>
              </a:rPr>
              <a:t>见动画五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宋体"/>
              </a:rPr>
              <a:t>—</a:t>
            </a:r>
            <a:r>
              <a:rPr b="0" lang="zh-CN" sz="2400" spc="-1" strike="noStrike">
                <a:solidFill>
                  <a:srgbClr val="cc6600"/>
                </a:solidFill>
                <a:latin typeface="Arial"/>
                <a:ea typeface="宋体"/>
              </a:rPr>
              <a:t>寻址方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31440" y="1628280"/>
            <a:ext cx="8642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立即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寄存器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寻址方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寄存器间接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相对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变址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位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76520" y="1844640"/>
            <a:ext cx="360360" cy="3311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6040 h 3311640"/>
              <a:gd name="textAreaBottom" fmla="*/ 3225600 h 331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49240" y="777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31800" y="549360"/>
            <a:ext cx="8424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无条件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件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程序控制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用和返回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空操作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16520" y="1628640"/>
            <a:ext cx="215640" cy="2232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32520" y="3933720"/>
            <a:ext cx="2592360" cy="1008000"/>
          </a:xfrm>
          <a:prstGeom prst="wedgeRectCallout">
            <a:avLst>
              <a:gd name="adj1" fmla="val -58694"/>
              <a:gd name="adj2" fmla="val -676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NOP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+1→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操作：该指令不执行任何操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程序的等待或时间的延迟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9240" y="2293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31440" y="620640"/>
            <a:ext cx="86425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相对转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r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绝对转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addr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无条件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转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JMP addr16 ;addr16→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间接转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MP @ A + DPTR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+ DPTR→PC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81240" y="1341360"/>
            <a:ext cx="142920" cy="2737080"/>
          </a:xfrm>
          <a:custGeom>
            <a:avLst/>
            <a:gdLst>
              <a:gd name="textAreaLeft" fmla="*/ 91440 w 142920"/>
              <a:gd name="textAreaRight" fmla="*/ 143280 w 14292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29600" y="260280"/>
            <a:ext cx="2376360" cy="2016360"/>
          </a:xfrm>
          <a:prstGeom prst="wedgeRectCallout">
            <a:avLst>
              <a:gd name="adj1" fmla="val -78722"/>
              <a:gd name="adj2" fmla="val 366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操作：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+2→PC,addr11→PC(D10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若转移指令首地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456H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即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 = 2456H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指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26AH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后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PC = 226AH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转向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26AH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单元执行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4880" y="692280"/>
            <a:ext cx="2232000" cy="1439640"/>
          </a:xfrm>
          <a:prstGeom prst="wedgeRectCallout">
            <a:avLst>
              <a:gd name="adj1" fmla="val 77523"/>
              <a:gd name="adj2" fmla="val 793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该指令把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位地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ddr16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装入程序计数器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转移范围可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64 KB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LJMP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JMP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都是直接寻址方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1800" y="3141720"/>
            <a:ext cx="1944720" cy="2519280"/>
          </a:xfrm>
          <a:prstGeom prst="wedgeRectCallout">
            <a:avLst>
              <a:gd name="adj1" fmla="val 103712"/>
              <a:gd name="adj2" fmla="val -176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该指令采用基址变址寻址方式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转移地址由数据指针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和累加器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内容相加形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 = A0H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PTR = 45A0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指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MP @ A+ DPTR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后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 =4640H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49240" y="784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该指令采用相对寻址方式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地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 PC + r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相对转移指令的操作数有两种形式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偏移量和目标地址。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果是目标地址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则在程序汇编时由汇编程序自动计算并填入偏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高地址方向转移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l=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标地址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首地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 =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地址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低地址方向转移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l=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标地址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首地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若转移指令的首地址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1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地址标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所指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元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120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则执行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LO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偏移量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 = 0120H - (0100H + 2)= 1E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机器码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1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49240" y="57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7138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累加器判零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件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不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位控制转移指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68520" y="1557360"/>
            <a:ext cx="360360" cy="302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78840 h 3024000"/>
              <a:gd name="textAreaBottom" fmla="*/ 2945160 h 30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40520" y="765000"/>
            <a:ext cx="2865600" cy="2951280"/>
          </a:xfrm>
          <a:prstGeom prst="wedgeRectCallout">
            <a:avLst>
              <a:gd name="adj1" fmla="val -66175"/>
              <a:gd name="adj2" fmla="val -165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Z rel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若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=0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+2+rel→P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否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+2→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NZ rel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若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≠0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+2+rel→P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否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+2→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1H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指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Z TABLE1 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转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BLE1,A≠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下一条指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C A        ;A - 1→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Z TABLE2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;A = 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转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BLE2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1800" y="333360"/>
            <a:ext cx="2233800" cy="2016000"/>
          </a:xfrm>
          <a:prstGeom prst="wedgeRectCallout">
            <a:avLst>
              <a:gd name="adj1" fmla="val 94277"/>
              <a:gd name="adj2" fmla="val 590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irect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l    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A≠(direct)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转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#dat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l    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A≠data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转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Rn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#dat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l    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Rn≠data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转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@Ri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#dat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l    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Ri)≠data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转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1800" y="3141720"/>
            <a:ext cx="2521080" cy="1800000"/>
          </a:xfrm>
          <a:prstGeom prst="wedgeRectCallout">
            <a:avLst>
              <a:gd name="adj1" fmla="val 79347"/>
              <a:gd name="adj2" fmla="val -332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JNZ Rn,rel    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Rn-1→Rn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Rn≠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+2+rel→PC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否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+2→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JNZ direct,rel  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direct)-1→(direct)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direct)≠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+3+rel→PC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否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+3→P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08880" y="3933720"/>
            <a:ext cx="3024000" cy="2303640"/>
          </a:xfrm>
          <a:prstGeom prst="wedgeRectCallout">
            <a:avLst>
              <a:gd name="adj1" fmla="val -70050"/>
              <a:gd name="adj2" fmla="val -318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C rel    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Y = 1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2 + rel→PC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2→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NC rel   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Y = 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2 + rel→PC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2→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B bit,rel  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bit)= 1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3 + rel→PC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3→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NB bit,rel 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bit)= 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3 + rel→PC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3→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BC bit,rel 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bit)= 1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3 + rel→PC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且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bit)= 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+ 3→P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49240" y="2293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31440" y="620640"/>
            <a:ext cx="86425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绝对调用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ACALL addr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用和返回指令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调用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LCALL addr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返回指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84520" y="2637000"/>
            <a:ext cx="289080" cy="1871640"/>
          </a:xfrm>
          <a:custGeom>
            <a:avLst/>
            <a:gdLst>
              <a:gd name="textAreaLeft" fmla="*/ 184680 w 289080"/>
              <a:gd name="textAreaRight" fmla="*/ 289080 w 28908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0160" y="0"/>
            <a:ext cx="2808000" cy="2060640"/>
          </a:xfrm>
          <a:prstGeom prst="wedgeRectCallout">
            <a:avLst>
              <a:gd name="adj1" fmla="val 84199"/>
              <a:gd name="adj2" fmla="val 726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操作过程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←PC + 2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取出指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P←SP + 1 ,  (SP)←PC (D7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P←SP + 1,  (SP)←PC (D15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8)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断点地址入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 (D10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0)←addr11,PC (D15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11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不变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子程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61240" y="0"/>
            <a:ext cx="3944880" cy="2421000"/>
          </a:xfrm>
          <a:prstGeom prst="wedgeRoundRectCallout">
            <a:avLst>
              <a:gd name="adj1" fmla="val -58773"/>
              <a:gd name="adj2" fmla="val 5373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，若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P = 60H,PC = 2100H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子程序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ub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首地址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3A0H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。执行下面指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100H:ACALL sub1 ;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代码是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71A0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过程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= PC + 2 = 2102H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将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压栈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即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61H)= 02H,(62H) = 21H,SP = 62H;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用指令提供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11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位地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01110100000B (3A0H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替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低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形成目的地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0010001110100000B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即进入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ub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子程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860640"/>
            <a:ext cx="2649600" cy="1729080"/>
          </a:xfrm>
          <a:prstGeom prst="wedgeRectCallout">
            <a:avLst>
              <a:gd name="adj1" fmla="val 97875"/>
              <a:gd name="adj2" fmla="val -693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操作过程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←PC + 3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取出指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P←SP + 1,(SP)←PC (D7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P←SP + 1,(SP)←PC (D15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8)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断点地址入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←addr16  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子程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61240" y="4221000"/>
            <a:ext cx="3384360" cy="1295640"/>
          </a:xfrm>
          <a:prstGeom prst="wedgeRectCallout">
            <a:avLst>
              <a:gd name="adj1" fmla="val -71625"/>
              <a:gd name="adj2" fmla="val -257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T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子程序返回指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TI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中断返回指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操作过程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SP)→PC (D15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8) , SP-1→SP , (SP)→PC (D7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0) , SP - 1→S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49240" y="856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31800" y="620640"/>
            <a:ext cx="88581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传送指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操作指令         置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复位指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逻辑运算指令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24160" y="1844640"/>
            <a:ext cx="432000" cy="1944720"/>
          </a:xfrm>
          <a:custGeom>
            <a:avLst/>
            <a:gdLst>
              <a:gd name="textAreaLeft" fmla="*/ 276120 w 432000"/>
              <a:gd name="textAreaRight" fmla="*/ 432360 w 432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65240" y="907920"/>
            <a:ext cx="2592360" cy="576360"/>
          </a:xfrm>
          <a:prstGeom prst="wedgeRectCallout">
            <a:avLst>
              <a:gd name="adj1" fmla="val 38486"/>
              <a:gd name="adj2" fmla="val 111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OV 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bit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bit) 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OV bit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Y→(b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73600" y="765000"/>
            <a:ext cx="3382920" cy="1584360"/>
          </a:xfrm>
          <a:prstGeom prst="wedgeRoundRectCallout">
            <a:avLst>
              <a:gd name="adj1" fmla="val -70365"/>
              <a:gd name="adj2" fmla="val 2725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把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传送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0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10H,C    ;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暂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C,20H    ;20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30H,C    ;CY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0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C,10H    ;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恢复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Y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32520" y="2421000"/>
            <a:ext cx="2016000" cy="1008000"/>
          </a:xfrm>
          <a:prstGeom prst="wedgeRectCallout">
            <a:avLst>
              <a:gd name="adj1" fmla="val -82046"/>
              <a:gd name="adj2" fmla="val 29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LR C        ;0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LR bit       ;0→(b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C       ;1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bit     ;1→(b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852640"/>
            <a:ext cx="3600360" cy="1656000"/>
          </a:xfrm>
          <a:prstGeom prst="wedgeRoundRectCallout">
            <a:avLst>
              <a:gd name="adj1" fmla="val 55643"/>
              <a:gd name="adj2" fmla="val -5421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 P0 = 01011010B,CY = 0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指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P0.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LR P0.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结果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:CY = 1,P0 =0101001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68520" y="4724280"/>
            <a:ext cx="3673440" cy="1513080"/>
          </a:xfrm>
          <a:prstGeom prst="wedgeRectCallout">
            <a:avLst>
              <a:gd name="adj1" fmla="val 22300"/>
              <a:gd name="adj2" fmla="val -110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NL C,bit       ;CY∧(bit)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NL C, / bit     ;CY ∧ (/bit) → 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RL C,bit       ;CY∨(bit)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RL C, / bit      ;CY ∨ (/bit) 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PL C          ; (/CY) 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PL bit         ; (/bit) →(bi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816520" y="3645000"/>
            <a:ext cx="3457800" cy="2448000"/>
          </a:xfrm>
          <a:prstGeom prst="wedgeRoundRectCallout">
            <a:avLst>
              <a:gd name="adj1" fmla="val -70157"/>
              <a:gd name="adj2" fmla="val -4961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：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代表位地址，计算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F = D  E =(/D)E+ D(/E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OV C,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NL C, / D      ; (/D)E 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OV F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OV C,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NL C, / E       ;D(/E) 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RL C,F         ;D(/E) + (/D)E 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OV F,C        ;D  E→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6392880" y="4076640"/>
          <a:ext cx="225360" cy="22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92880" y="407664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7400880" y="5734080"/>
          <a:ext cx="225360" cy="2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00880" y="573408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3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汇编语言程序的汇编与调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6425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、汇编语言程序的一般组成与设计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源程序、汇编程序和目标程序之间的关系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81240" y="3573360"/>
            <a:ext cx="1655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汇编语言源程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84520" y="3500280"/>
            <a:ext cx="1655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汇编程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89600" y="3500280"/>
            <a:ext cx="1655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目标程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36880" y="3716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0160" y="371628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汇编语言的语句种类和格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04520" y="-360"/>
            <a:ext cx="3589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208160" y="1600200"/>
          <a:ext cx="7273440" cy="4204080"/>
        </p:xfrm>
        <a:graphic>
          <a:graphicData uri="http://schemas.openxmlformats.org/drawingml/2006/table">
            <a:tbl>
              <a:tblPr/>
              <a:tblGrid>
                <a:gridCol w="2181240"/>
                <a:gridCol w="5092200"/>
              </a:tblGrid>
              <a:tr h="74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本类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格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1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可执行指令语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[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:] 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操作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 [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操作数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][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注释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        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例如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DD    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伪指令语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[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] 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义符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 [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参数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][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注释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           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例如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RG      1000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宏指令语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用来代替汇编语言源程序中重复使用的程序的一种语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60160" y="563040"/>
            <a:ext cx="87138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汇编语言程序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31440" y="1125360"/>
            <a:ext cx="87138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谓汇编语言程序设计，就是使用汇编语言指令来编写计算机程序。一个高质量的汇编语言源程序，应该具备以下几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简明、清晰，便于理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便于阅读、修改和调试，具有较好的维护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较高的可靠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应该是高效率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汇编语言进行程序设计的步骤可以概括如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析问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确定算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②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算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画出程序流程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③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理地分配存储空间和寄存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④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编写程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⑤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机调试程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流程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76160" y="4723920"/>
            <a:ext cx="8353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下一节中会着重介绍流程图画法及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09680" y="1998720"/>
            <a:ext cx="171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09680" y="1998720"/>
            <a:ext cx="171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09680" y="1998720"/>
            <a:ext cx="171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09680" y="1998720"/>
            <a:ext cx="171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1998720"/>
            <a:ext cx="171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281240" y="1125360"/>
          <a:ext cx="6551640" cy="3186360"/>
        </p:xfrm>
        <a:graphic>
          <a:graphicData uri="http://schemas.openxmlformats.org/drawingml/2006/table">
            <a:tbl>
              <a:tblPr/>
              <a:tblGrid>
                <a:gridCol w="1584360"/>
                <a:gridCol w="2046240"/>
                <a:gridCol w="29210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本图形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符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意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起止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程序的开始或结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矩形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计算或处理等基本操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判断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用来判断给出的条件是否成立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根据判断的结果决定程序的流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流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程序的流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连接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相关两框的连接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圆圈内数字相同表示连接在一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3368520" y="1557360"/>
            <a:ext cx="792360" cy="35892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68520" y="1989000"/>
            <a:ext cx="792360" cy="360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97240" y="2565360"/>
            <a:ext cx="934920" cy="5763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13240" y="3284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28880" y="3500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57600" y="3933720"/>
            <a:ext cx="216000" cy="2160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1440" y="476280"/>
            <a:ext cx="8642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指令系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31440" y="1341000"/>
            <a:ext cx="8642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 action="ppaction://hlinksldjump"/>
              </a:rPr>
              <a:t>数据传送指令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3" action="ppaction://hlinksldjump"/>
              </a:rPr>
              <a:t>（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4" action="ppaction://hlinksldjump"/>
              </a:rPr>
              <a:t>29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5" action="ppaction://hlinksldjump"/>
              </a:rPr>
              <a:t>）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6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算术运算指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指令系统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逻辑运算指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程序控制指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位操作指令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89240" y="1916280"/>
            <a:ext cx="505080" cy="2952720"/>
          </a:xfrm>
          <a:custGeom>
            <a:avLst/>
            <a:gdLst>
              <a:gd name="textAreaLeft" fmla="*/ 322920 w 505080"/>
              <a:gd name="textAreaRight" fmla="*/ 505440 w 50508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60520" y="563400"/>
            <a:ext cx="86407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、伪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伪指令又称伪操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源程序发送给汇编程序的指令。下面介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汇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中常用的伪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631800" y="1844640"/>
          <a:ext cx="8569080" cy="4848120"/>
        </p:xfrm>
        <a:graphic>
          <a:graphicData uri="http://schemas.openxmlformats.org/drawingml/2006/table">
            <a:tbl>
              <a:tblPr/>
              <a:tblGrid>
                <a:gridCol w="2545920"/>
                <a:gridCol w="2707200"/>
                <a:gridCol w="33159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用伪指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指令格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功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赋值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71D56BE6tCID-WinCharSetFFFF-H"/>
                        </a:rPr>
                        <a:t>EQ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符号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EQU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赋值项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赋值后的符号可以作地址使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也可以作立即数使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义字节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[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]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DB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达式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把表达式表中的字节数据存入从标号开始的连续存储单元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义字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[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]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DW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达式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把表达式表中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数据存入由标号开始的连续存储单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低地址单元存放高字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高地址单元存放低字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存储区定义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[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]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DS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达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通知汇编程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从指定的地址开始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保留指定数目的字节单元作为存储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供程序运行使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定义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符号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BI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地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给符号名赋以位地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设置起始地址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R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[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]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ORG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达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指定目标程序或数据块在存储器中的起始地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汇编结束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用于终止源程序的汇编工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三、汇编与调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5920" bIns="25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347920" y="2558880"/>
            <a:ext cx="3840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347920" y="2558880"/>
            <a:ext cx="3840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849240" y="1268280"/>
          <a:ext cx="8280000" cy="3744360"/>
        </p:xfrm>
        <a:graphic>
          <a:graphicData uri="http://schemas.openxmlformats.org/drawingml/2006/table">
            <a:tbl>
              <a:tblPr/>
              <a:tblGrid>
                <a:gridCol w="2179080"/>
                <a:gridCol w="1198080"/>
                <a:gridCol w="4902840"/>
              </a:tblGrid>
              <a:tr h="1013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汇 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机器汇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指先将汇编语言源程序输入计算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再利用汇编程序将其翻译成二进制代码的目标文件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. OBJ)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过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手工汇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指通过人工查找指令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将每一条指令的机器代码查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并分配存储空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计算地址偏移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得到目标文件的过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调 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3224160" y="3789360"/>
            <a:ext cx="1873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编写汇编语言程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73600" y="3789360"/>
            <a:ext cx="2160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建立源程序文件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.AS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40160" y="4508640"/>
            <a:ext cx="22338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编成目标程序文件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.O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"/>
          <p:cNvCxnSpPr>
            <a:stCxn id="225" idx="3"/>
            <a:endCxn id="226" idx="3"/>
          </p:cNvCxnSpPr>
          <p:nvPr/>
        </p:nvCxnSpPr>
        <p:spPr>
          <a:xfrm flipH="1">
            <a:off x="7473240" y="3970080"/>
            <a:ext cx="361080" cy="719640"/>
          </a:xfrm>
          <a:prstGeom prst="bentConnector3">
            <a:avLst>
              <a:gd name="adj1" fmla="val -629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3297240" y="4508640"/>
            <a:ext cx="1441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传送到单片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26" idx="1"/>
            <a:endCxn id="228" idx="3"/>
          </p:cNvCxnSpPr>
          <p:nvPr/>
        </p:nvCxnSpPr>
        <p:spPr>
          <a:xfrm flipH="1">
            <a:off x="4738320" y="4689000"/>
            <a:ext cx="50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24" idx="3"/>
            <a:endCxn id="225" idx="1"/>
          </p:cNvCxnSpPr>
          <p:nvPr/>
        </p:nvCxnSpPr>
        <p:spPr>
          <a:xfrm>
            <a:off x="5097600" y="3970080"/>
            <a:ext cx="57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汇编语言程序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64252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Arial"/>
                <a:ea typeface="宋体"/>
              </a:rPr>
              <a:t>见动画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31440" y="549000"/>
            <a:ext cx="864252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汇编语言程序举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编程实现如图所示的逻辑功能。其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A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地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：逻辑电路的功能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.0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程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C,20H       ;20H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C,2FH       ;C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逻辑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FH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L C           ;C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取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C,2AH      ;C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逻辑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AH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P1.0,C      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果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928880" y="1557360"/>
            <a:ext cx="6192720" cy="16066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881600" y="3213000"/>
          <a:ext cx="1871640" cy="33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81600" y="3213000"/>
                    <a:ext cx="187164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31440" y="475920"/>
            <a:ext cx="86425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比较内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3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1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元中无符号数的大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元存放大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31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元存放小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分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先清进位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然后两数作带借位减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根据借位标志判断两      数大小。程序流程图如右图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,3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B A,31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NC DONE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若无借位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0H)≥(31H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时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,3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H A,31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有借位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0H)&lt;(31H)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交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0H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1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30H,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E:      SJMP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754600" y="1557360"/>
            <a:ext cx="32306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31440" y="404280"/>
            <a:ext cx="86425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编程统计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个数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31440" y="907560"/>
            <a:ext cx="8642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首先判断累加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否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则程序结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先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Y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再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带进位循环左移一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判断进位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Y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否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则计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不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则继续循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判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否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重复这一过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直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程序流程图如图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2073240" y="1963800"/>
            <a:ext cx="575964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程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R1, # 0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计数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 ACC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保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P1:  JZ DONE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= 0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结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R C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位位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LC A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带进位循环左移一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NC LOOP1              ;CY = 0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则继续循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R1                      ;CY = 1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则计数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JMP LOO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E:   POP ACC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恢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JMP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60160" y="563040"/>
            <a:ext cx="856908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713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算术、逻辑运算模拟系统软件设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31800" y="549000"/>
            <a:ext cx="85694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.5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计算机中的数据编码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31440" y="907560"/>
            <a:ext cx="86425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、带符号数的编码表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计算机中，常常需要表示正数和负数，如何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示数据的符号位？如何表示带符号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机器数的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了表示带符号的数，可以把数的最高位作为符号位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余各位表示数值本身。一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负号，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正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这种把符号数码化了的数称为机器数，而把原来符号未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行数码化的数称为机器数的真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10011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10011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真值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10011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001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机器数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31800" y="69192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补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31440" y="836280"/>
            <a:ext cx="86425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补码表示带符号数的规则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最高位表示符号，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正号，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负号；其余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数值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正数补码的数值位与二进制真值相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负数补码的数值位是其二进制真值取反后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补码表示八位带符号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+10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0001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-10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111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+0001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0001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-0001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111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+11111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111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-11111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00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31440" y="189000"/>
            <a:ext cx="87850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指令的一些符号的意义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549360"/>
          <a:ext cx="9632880" cy="6119640"/>
        </p:xfrm>
        <a:graphic>
          <a:graphicData uri="http://schemas.openxmlformats.org/drawingml/2006/table">
            <a:tbl>
              <a:tblPr/>
              <a:tblGrid>
                <a:gridCol w="2066760"/>
                <a:gridCol w="7566120"/>
              </a:tblGrid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符  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意  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R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3D2B7B50tCID-WinCharSetFFFF-H"/>
                        </a:rPr>
                        <a:t>n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(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3D2B7B50tCID-WinCharSetFFFF-H"/>
                        </a:rPr>
                        <a:t>n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=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7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当前工作寄存器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R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R7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的某一个寄存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@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R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3D2B7B50tCID-WinCharSetFFFF-H"/>
                        </a:rPr>
                        <a:t>i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(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3D2B7B50tCID-WinCharSetFFFF-H"/>
                        </a:rPr>
                        <a:t>i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=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7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间接寻址的寄存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“@”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是间接寻址标识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r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内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AM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地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可以是单元地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00H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FH)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或特殊功能寄存器地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#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da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8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立即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中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#”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是立即数标识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#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data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位立即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addr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1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目的地址。用于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CALL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JMP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指令中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转移范围为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K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addr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16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目的地址。用于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LCALL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LJMP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指令中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转移范围为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4K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相对转移指令中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偏移地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范围是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128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+1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DPT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数据指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用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的地址寄存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b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内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AM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或特殊功能寄存器中的直接寻址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rr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操作码中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7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寄存器的编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累加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写作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”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是寄存器寻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;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写作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CC”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是直接寻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特殊功能寄存器，用于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UL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和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V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指令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操作数的前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对该位操作数取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存储单元地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某存储单元的内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间址寄存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由寄存器间接寻址的单元中的内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49240" y="-1609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00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111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+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-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-10000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8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0000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49240" y="-196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补码可以直接参加运算，符号位与数值位一起参加运算。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：补码加法的公式是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+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已知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001110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00111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+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 0 1 1 1 0 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0 0 1 1 1 0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1 0 1 0 1 1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即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+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10101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该例表示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两个十进制真值相加，等于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它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补码正好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0101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3141720"/>
            <a:ext cx="28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4880" y="-572400"/>
            <a:ext cx="539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算机中，由于机器码的位数是固定的，所以计算机中数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范围有限。若两数运算的结果超出了给定的取值范围，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运算溢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1000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01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+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1 0 0 0 1 0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0 0 0 1 0 0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 1 0 0 1 1 0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进位自动丢失，即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+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010011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两个负数相加，结果为正数，这显然是错误的，出错的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因是运算发生了溢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089240" y="3645000"/>
            <a:ext cx="245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1" dur="2000"/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4" dur="2000"/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C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Binary Coded Decimal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04880" y="907920"/>
            <a:ext cx="8569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Arial"/>
                <a:ea typeface="宋体"/>
              </a:rPr>
              <a:t>见动画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测试与练习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名词解释：寻址方式、操作数、汇编语言、机器码、伪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令、汇编、算术运算、逻辑运算、散转、子程序、程序流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写出指令运行的结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已知内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2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外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F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=01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1F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8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试问执行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列程序段后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10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3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C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A+DP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1440" y="-232560"/>
            <a:ext cx="864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1440" y="404640"/>
            <a:ext cx="864252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数据传送指令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现计算机内不同存储区域之间的信息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递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系统中共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数据传送指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不同存储单元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间的数据传递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36520" y="1700280"/>
            <a:ext cx="75614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31440" y="-123840"/>
            <a:ext cx="900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1440" y="404280"/>
            <a:ext cx="87138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2" action="ppaction://hlinksldjump"/>
              </a:rPr>
              <a:t>1.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3" action="ppaction://hlinksldjump"/>
              </a:rPr>
              <a:t>内部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4" action="ppaction://hlinksldjump"/>
              </a:rPr>
              <a:t>RAM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5" action="ppaction://hlinksldjump"/>
              </a:rPr>
              <a:t>、特殊功能寄存器之间的数据传送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6" action="ppaction://hlinksldjump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为操作码助记符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共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条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7" action="ppaction://hlinksldjump"/>
              </a:rPr>
              <a:t>2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．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9" action="ppaction://hlinksldjump"/>
              </a:rPr>
              <a:t>累加器与外部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10" action="ppaction://hlinksldjump"/>
              </a:rPr>
              <a:t>RAM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11" action="ppaction://hlinksldjump"/>
              </a:rPr>
              <a:t>之间的数据传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这类指令的操作码助记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”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外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元只能使用间接寻址方式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即可以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间址寄存器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程序存储器中的数据传送到累加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这类指令的数据传送是单向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只能从程序存储器向累加器传送数据。指令助记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C”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共两条指令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元与累加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之间数据交换指令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包括三种指令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字节交换指令、半字节交换指令、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位与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位交换指令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堆栈操作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包括进栈、出栈指令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9240" y="-2523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31440" y="33300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立即数传送指令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, # data       ;  A←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irect, # data    ; (direct)←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Rn, # data      ; Rn ←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@ Ri, # data    ; (Ri)←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PTR, # data16 ; DPH ←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L←data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析下列指令的寻址方式以及指令执行后存储单元和寄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器的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A, # 20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采用寄存器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2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32H, # 23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采用直接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2H)=23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R4, # 2F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采用寄存器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4=2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T7F5F5B8tCID-WinCharSetFFFF-H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T7F5F5B8tCID-WinCharSetFFFF-H"/>
              </a:rPr>
              <a:t>MOV @ R0, # 5A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采用寄存器间接寻址，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R0)=5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DPTR, # 203F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采用寄存器寻址，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=203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49240" y="-232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31440" y="404280"/>
            <a:ext cx="86425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元之间的数据传送指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irec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2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rect1)←(direct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i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rect)←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R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←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i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Ri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rect)←(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@ R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i)←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指令的寻址方式和执行结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P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采用直接寻址，源操作数为寄存器寻址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2=R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指令等价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0A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 2F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两个操作数均采用直接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FH)= (30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 20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@ R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为直接寻址，源操作数为寄存器间接寻址，执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果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0H)=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2:26:23Z</dcterms:created>
  <dc:creator>艳之语</dc:creator>
  <dc:description/>
  <cp:keywords/>
  <dc:language>en-US</dc:language>
  <cp:lastModifiedBy>艳之语</cp:lastModifiedBy>
  <dcterms:modified xsi:type="dcterms:W3CDTF">2008-05-30T05:13:36Z</dcterms:modified>
  <cp:revision>66</cp:revision>
  <dc:subject/>
  <dc:title>第3章  指令系统与汇编语言程序设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962582052</vt:lpwstr>
  </property>
</Properties>
</file>