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971-6FFF-4DF5-9199-0697FDBB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836-E540-49E4-9168-812EA355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6C2-2E09-4313-8852-B82607F7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AC1-A638-431F-A602-9BFD4091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69A-C146-4833-BB78-FB5C4512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438-70A5-4194-84BA-2E935587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E33-EE61-4DC0-9785-66D8027D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7D4-B5C3-4418-8BB7-F8FC7309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D0D-FFDD-4090-9D65-E43A4028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478-2BE3-464A-BF9E-7DAAD813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A6F-190B-4153-9C5F-CC90C2B0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F0D-5897-4C87-AD88-D3AC737B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4286-E440-4E5A-B6DD-B6E0FAEA13B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华文彩云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华文彩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电子与信息技术专业教学课程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</a:t>
            </a:r>
            <a:br>
              <a:rPr sz="3200"/>
            </a:b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</a:t>
            </a:r>
            <a:r>
              <a:rPr b="1" i="1" lang="zh-CN" sz="6000" spc="-1" strike="noStrike">
                <a:solidFill>
                  <a:srgbClr val="cc6600"/>
                </a:solidFill>
                <a:latin typeface="宋体"/>
                <a:ea typeface="宋体"/>
              </a:rPr>
              <a:t>单片机原理与应用</a:t>
            </a:r>
            <a:br>
              <a:rPr sz="6000"/>
            </a:br>
            <a:endParaRPr b="1" i="1" lang="en-US" sz="6000" spc="-1" strike="noStrike">
              <a:solidFill>
                <a:srgbClr val="000000"/>
              </a:solidFill>
              <a:latin typeface="华文彩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-360" y="3428640"/>
            <a:ext cx="9906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2008</a:t>
            </a:r>
            <a:r>
              <a:rPr b="1" i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年</a:t>
            </a:r>
            <a:r>
              <a:rPr b="1" i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7</a:t>
            </a:r>
            <a:r>
              <a:rPr b="1" i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912960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8880" y="11376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691920"/>
            <a:ext cx="8642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学习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 熟悉单片机的内部资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 熟悉单片机的指令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理论与实践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软件设计与硬件电路设计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5616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单片机实验开发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04520" y="1196640"/>
            <a:ext cx="165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验开发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3448" t="3831" r="3448" b="5745"/>
          <a:stretch/>
        </p:blipFill>
        <p:spPr>
          <a:xfrm>
            <a:off x="2360520" y="1197000"/>
            <a:ext cx="73440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49240" y="563400"/>
            <a:ext cx="82072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9240" y="1125360"/>
            <a:ext cx="82072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单片机的一般组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单片机应用在哪些领域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因特网查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现更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X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导体）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ch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公司的单片机产品系列，哪些产品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系列？并搜索相关主要技术参数，归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品特点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章    单片机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1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2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特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3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应用领域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4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发展方向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5  MCS-5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系列单片机产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6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技术的学习方法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1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单片机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2880" y="1557360"/>
            <a:ext cx="9360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单片机又称单片微型计算机，是将中央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器、存储器、输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出接口电路集成到同一块芯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上，具有独特功能的微型计算机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0880" y="6688440"/>
            <a:ext cx="79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88640"/>
            <a:ext cx="86425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81240" y="1989000"/>
            <a:ext cx="7127640" cy="4083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88880" y="692280"/>
            <a:ext cx="3024360" cy="1152360"/>
          </a:xfrm>
          <a:prstGeom prst="wedgeRectCallout">
            <a:avLst>
              <a:gd name="adj1" fmla="val -4856"/>
              <a:gd name="adj2" fmla="val 92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单片机的核心部件。包括算术逻辑单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ithmetic Logic Uni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控制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68520" y="5084640"/>
            <a:ext cx="2592360" cy="1197000"/>
          </a:xfrm>
          <a:prstGeom prst="wedgeRectCallout">
            <a:avLst>
              <a:gd name="adj1" fmla="val 38671"/>
              <a:gd name="adj2" fmla="val -95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的记忆部件，用于存放程序和数据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只读存储器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随机存储器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5600" y="549360"/>
            <a:ext cx="2449440" cy="1439640"/>
          </a:xfrm>
          <a:prstGeom prst="wedgeRectCallout">
            <a:avLst>
              <a:gd name="adj1" fmla="val -38851"/>
              <a:gd name="adj2" fmla="val 156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，用来连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输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设备，完成信号转换与驱动、数据传输和控制等功能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1440" y="1599840"/>
            <a:ext cx="8642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干扰性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可靠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控制功能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令系统简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920124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8481960" y="630864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4289" y="10800"/>
                </a:moveTo>
                <a:lnTo>
                  <a:pt x="18302" y="3794"/>
                </a:lnTo>
                <a:lnTo>
                  <a:pt x="183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83520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应用领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9240" y="1699920"/>
            <a:ext cx="8207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智能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办公自动化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商业营销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工业自动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家用电器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48880" y="563400"/>
            <a:ext cx="84250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发展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96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功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个世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代，作为主流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（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功耗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0m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而现在的单片机普遍都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微型单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的单片机产品普遍要求体积小、重量轻，所以大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单片机具有多种封装形式，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表面封装）越来越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欢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流与多种产品共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虽然单片机的产品繁多，各具特色，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机仍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C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核心的单片机占主流，兼容其结构和指令系统的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、中国台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BO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等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8880" y="62028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5  MCS-5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产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1344960"/>
            <a:ext cx="864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是美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推出的产品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早期的最典型的代表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核实际上已经成为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的标准。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之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也有很大的发展，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推出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。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比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字长增加了一倍，另外其指令系统、中断系统、定时器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等其它性能也有很大的提高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8352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6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技术的学习方法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学习条件和环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环境：个人计算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工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（含万用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仿真器或实验开发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环境：用于编辑、编译、调试源程序的工具软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（如“伟福”模拟调试软件或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ile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下载目标代码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在系统编程）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载软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2:32:29Z</dcterms:created>
  <dc:creator>艳之语</dc:creator>
  <dc:description/>
  <cp:keywords/>
  <dc:language>en-US</dc:language>
  <cp:lastModifiedBy>hep</cp:lastModifiedBy>
  <dcterms:modified xsi:type="dcterms:W3CDTF">2008-07-14T07:01:39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