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1E8-E631-45E6-9AA3-04FE3EB5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DD2-F3F3-4C16-81A7-FECC39A0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0C5-DFA9-406B-8DE9-ADE79E47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B63-077E-49F9-80B0-61F4B651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FF6-7FEE-4B75-9DD7-5C1B79C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412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9000" y="159984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4924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412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99000" y="3796200"/>
            <a:ext cx="26424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3A2-3E2F-43CA-8844-9CBD6564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A45-F1ED-4DDF-AC75-C0D3CB4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262-8A4C-4E17-AA11-F4281CED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563040"/>
            <a:ext cx="53992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991-0BE8-41C7-BBCA-FB5C580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738-8054-4767-93F4-905CF76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760" y="379620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11F-F56E-4691-8A69-F659B3C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760" y="1599840"/>
            <a:ext cx="40050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3796200"/>
            <a:ext cx="820728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B4F-2236-493C-A5B1-08180B6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53992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1360"/>
            <a:ext cx="2311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81360"/>
            <a:ext cx="31366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81360"/>
            <a:ext cx="23115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1354-8AD7-41CF-84FA-05FC80A9804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华文彩云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电子与信息技术专业教学课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br>
              <a:rPr sz="3200"/>
            </a:br>
            <a:r>
              <a:rPr b="1" i="1" lang="zh-CN" sz="3200" spc="-1" strike="noStrike">
                <a:solidFill>
                  <a:srgbClr val="cc6600"/>
                </a:solidFill>
                <a:latin typeface="宋体"/>
                <a:ea typeface="宋体"/>
              </a:rPr>
              <a:t>        </a:t>
            </a:r>
            <a:r>
              <a:rPr b="1" i="1" lang="zh-CN" sz="6000" spc="-1" strike="noStrike">
                <a:solidFill>
                  <a:srgbClr val="cc6600"/>
                </a:solidFill>
                <a:latin typeface="宋体"/>
                <a:ea typeface="宋体"/>
              </a:rPr>
              <a:t>单片机原理与应用</a:t>
            </a:r>
            <a:br>
              <a:rPr sz="6000"/>
            </a:br>
            <a:endParaRPr b="1" i="1" lang="en-US" sz="6000" spc="-1" strike="noStrike">
              <a:solidFill>
                <a:srgbClr val="000000"/>
              </a:solidFill>
              <a:latin typeface="华文彩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9906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2008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年</a:t>
            </a:r>
            <a:r>
              <a:rPr b="1" i="1" lang="en-US" sz="3600" spc="-1" strike="noStrike">
                <a:solidFill>
                  <a:srgbClr val="cc6600"/>
                </a:solidFill>
                <a:latin typeface="Arial"/>
                <a:ea typeface="宋体"/>
              </a:rPr>
              <a:t>7</a:t>
            </a:r>
            <a:r>
              <a:rPr b="1" i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912960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8880" y="113760"/>
            <a:ext cx="842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1440" y="691920"/>
            <a:ext cx="8642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学习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内部资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 熟悉单片机的指令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理论与实践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软件设计与硬件电路设计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5616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单片机实验开发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4520" y="1196640"/>
            <a:ext cx="165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右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验开发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3448" t="3831" r="3448" b="5745"/>
          <a:stretch/>
        </p:blipFill>
        <p:spPr>
          <a:xfrm>
            <a:off x="2360520" y="1197000"/>
            <a:ext cx="73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9240" y="563400"/>
            <a:ext cx="82072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测试与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9240" y="1125360"/>
            <a:ext cx="8207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的一般组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单片机应用在哪些领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因特网查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现更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X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导体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ch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公司的单片机产品系列，哪些产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系列？并搜索相关主要技术参数，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品特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9240" y="-65880"/>
            <a:ext cx="5399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1440" y="549000"/>
            <a:ext cx="8642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章    单片机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1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2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特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3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应用领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4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的发展方向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5  MCS-5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系列单片机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1.6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单片机技术的学习方法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片机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2880" y="155736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单片机又称单片微型计算机，是将中央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器、存储器、输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出接口电路集成到同一块芯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，具有独特功能的微型计算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0880" y="6688440"/>
            <a:ext cx="799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8864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81240" y="1989000"/>
            <a:ext cx="7127640" cy="408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8880" y="692280"/>
            <a:ext cx="3024360" cy="1152360"/>
          </a:xfrm>
          <a:prstGeom prst="wedgeRectCallout">
            <a:avLst>
              <a:gd name="adj1" fmla="val -4856"/>
              <a:gd name="adj2" fmla="val 92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单片机的核心部件。包括算术逻辑单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ithmetic Logic Un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控制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8520" y="5084640"/>
            <a:ext cx="2592360" cy="1197000"/>
          </a:xfrm>
          <a:prstGeom prst="wedgeRectCallout">
            <a:avLst>
              <a:gd name="adj1" fmla="val 38671"/>
              <a:gd name="adj2" fmla="val -95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的记忆部件，用于存放程序和数据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只读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和随机存储器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0" y="549360"/>
            <a:ext cx="2449440" cy="1439640"/>
          </a:xfrm>
          <a:prstGeom prst="wedgeRectCallout">
            <a:avLst>
              <a:gd name="adj1" fmla="val -38851"/>
              <a:gd name="adj2" fmla="val 15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，用来连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输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输出设备，完成信号转换与驱动、数据传输和控制等功能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800" y="563040"/>
            <a:ext cx="85694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2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440" y="1599840"/>
            <a:ext cx="8642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干扰性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可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控制功能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令系统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01240" y="6308640"/>
            <a:ext cx="504720" cy="549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09">
                <a:moveTo>
                  <a:pt x="0" y="0"/>
                </a:moveTo>
                <a:lnTo>
                  <a:pt x="21600" y="0"/>
                </a:lnTo>
                <a:lnTo>
                  <a:pt x="21600" y="23509"/>
                </a:lnTo>
                <a:lnTo>
                  <a:pt x="0" y="23509"/>
                </a:lnTo>
                <a:close/>
              </a:path>
              <a:path fill="lightenLess" w="21600" h="23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9">
                <a:moveTo>
                  <a:pt x="21600" y="0"/>
                </a:moveTo>
                <a:lnTo>
                  <a:pt x="21600" y="23509"/>
                </a:lnTo>
                <a:lnTo>
                  <a:pt x="20200" y="22109"/>
                </a:lnTo>
                <a:lnTo>
                  <a:pt x="20200" y="1400"/>
                </a:lnTo>
                <a:close/>
              </a:path>
              <a:path fill="darkenLess" w="21600" h="23509">
                <a:moveTo>
                  <a:pt x="21600" y="23509"/>
                </a:moveTo>
                <a:lnTo>
                  <a:pt x="0" y="23509"/>
                </a:lnTo>
                <a:lnTo>
                  <a:pt x="1400" y="22109"/>
                </a:lnTo>
                <a:lnTo>
                  <a:pt x="20200" y="22109"/>
                </a:lnTo>
                <a:close/>
              </a:path>
              <a:path fill="lighten" w="21600" h="23509">
                <a:moveTo>
                  <a:pt x="0" y="23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9"/>
                </a:lnTo>
                <a:close/>
              </a:path>
              <a:path fill="darken" w="21600" h="23509">
                <a:moveTo>
                  <a:pt x="3794" y="4748"/>
                </a:moveTo>
                <a:lnTo>
                  <a:pt x="17806" y="11755"/>
                </a:lnTo>
                <a:lnTo>
                  <a:pt x="3794" y="187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481960" y="630864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10800"/>
                </a:moveTo>
                <a:lnTo>
                  <a:pt x="18302" y="3794"/>
                </a:lnTo>
                <a:lnTo>
                  <a:pt x="18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应用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69992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能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办公自动化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业营销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业自动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家用电器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8880" y="563400"/>
            <a:ext cx="84250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4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的发展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9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功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个世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代，作为主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（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功耗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0m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而现在的单片机普遍都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微型单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的单片机产品普遍要求体积小、重量轻，所以大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单片机具有多种封装形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表面封装）越来越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欢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流与多种产品共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虽然单片机的产品繁多，各具特色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机仍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C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核心的单片机占主流，兼容其结构和指令系统的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ILI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、中国台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BO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等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8880" y="62028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5  MCS-5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产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134496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是美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推出的产品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早期的最典型的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核实际上已经成为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的标准。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之后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位单片机也有很大的发展，例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推出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列单片机。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比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CS-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字长增加了一倍，另外其指令系统、中断系统、定时器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口电路等其它性能也有很大的提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49240" y="563040"/>
            <a:ext cx="8352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6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技术的学习方法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9240" y="1599840"/>
            <a:ext cx="82072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学习条件和环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硬件环境：个人计算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工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含万用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仿真器或实验开发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环境：用于编辑、编译、调试源程序的工具软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（如“伟福”模拟调试软件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ile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软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下载目标代码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在系统编程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载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2:32:29Z</dcterms:created>
  <dc:creator>艳之语</dc:creator>
  <dc:description/>
  <cp:keywords/>
  <dc:language>en-US</dc:language>
  <cp:lastModifiedBy>hep</cp:lastModifiedBy>
  <dcterms:modified xsi:type="dcterms:W3CDTF">2008-07-14T07:01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62582052</vt:lpwstr>
  </property>
</Properties>
</file>