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C61-3BA7-4467-8C7B-EAFD43E6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2BC8-F3AA-4F9A-981A-0DDAA9C9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9EC-2485-4197-ABAA-19A3DFBD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1AB-3344-453A-90F3-E9ACE642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3968-BC20-4DFE-BEE3-C10F7DB0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E325-EEFE-4B6B-95BE-72285776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F1B6-AF72-4A92-B6A8-D0F6F038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AC42-620A-4C45-9AB9-06AECABB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136B-572F-47D5-B55A-77A606BE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7412-E942-453E-95B4-24047C8F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D6DA-0403-439E-84C9-F0C80C17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5A4D-ACBE-42A7-BAE5-2A9B4765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78EC-D94F-40B1-9114-52515113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C9E8-2153-4AC1-936F-618064C8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38ED-3372-4A25-86F2-0B0F3D11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3D30-87CA-4F4B-A086-624672EF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C8DC-3E74-4615-BE15-6AEF2D80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189-E739-48CB-A419-E1B4A4BA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2468-8386-4D1A-9147-6667EB75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421-6024-4F49-8079-698B82E1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CA8-287B-4BF4-83A8-1B32EB55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27A-02C9-495F-BE03-7F7D0E1E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D76-1635-4BB4-9923-00B5C575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2CB-5598-416B-85DD-B1BC30C9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0488-6B35-4C37-98FB-04D547A45FE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18F1-E3AE-44C4-8564-18BA5720DB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981000"/>
            <a:ext cx="9361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中断系统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和串行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1700280"/>
            <a:ext cx="9217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.1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中断系统</a:t>
            </a:r>
            <a:r>
              <a:rPr b="0" lang="zh-CN" sz="3200" spc="-1" strike="noStrike">
                <a:solidFill>
                  <a:srgbClr val="33cc33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4.2  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定时器</a:t>
            </a:r>
            <a:r>
              <a:rPr b="0" lang="en-US" sz="3200" spc="-1" strike="noStrike">
                <a:solidFill>
                  <a:srgbClr val="cc66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计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4.3  </a:t>
            </a:r>
            <a:r>
              <a:rPr b="0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串行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查询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每个机器周期结束时查询中断源是否有中断申请，若没有，则继续当前任务；若有，则自动设置相应中断请求标志位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448160" y="3068640"/>
                <a:ext cx="5763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376880" y="2781360"/>
                <a:ext cx="576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376880" y="4292640"/>
                <a:ext cx="5760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1496880" y="1832040"/>
          <a:ext cx="7488360" cy="5025960"/>
        </p:xfrm>
        <a:graphic>
          <a:graphicData uri="http://schemas.openxmlformats.org/drawingml/2006/table">
            <a:tbl>
              <a:tblPr/>
              <a:tblGrid>
                <a:gridCol w="1638360"/>
                <a:gridCol w="4483080"/>
                <a:gridCol w="13669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效的申请信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设置的标志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引脚为低电平申请中断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 引脚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负跳变信号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E0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满溢出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F0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        引脚为低电平申请中断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，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引脚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负跳变信号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E1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满溢出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F1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口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发送完一帧数据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接收完一帧数据时申请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48160" y="4724280"/>
                <a:ext cx="5047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49240" y="-3182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响应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标志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开放，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且相应中断允许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同级或更高优先级中断正在被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保证指令执行得正确，必须现行指令执行完，若现行指令为中断返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访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寄存器指令，必须执行完该指令和紧接着的下一条指令后才能响应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注：上述只要有一个条件不满足，就不会立即响应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8880" y="764640"/>
            <a:ext cx="4103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中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设置相应的优先级状态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发器，以便屏蔽后面的同级或低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现行程序断点地址，即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送入堆栈（硬件执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C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指定的中断服务程序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地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规定各中断源有相应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服务程序入口地址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13240" y="1052640"/>
          <a:ext cx="4103280" cy="4751640"/>
        </p:xfrm>
        <a:graphic>
          <a:graphicData uri="http://schemas.openxmlformats.org/drawingml/2006/table">
            <a:tbl>
              <a:tblPr/>
              <a:tblGrid>
                <a:gridCol w="1996560"/>
                <a:gridCol w="2106720"/>
              </a:tblGrid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服务程序入口地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0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0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部中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1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时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1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口中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23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中断服务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断服务程序的设计不仅要考虑完成相应的服务任务，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还要考虑现场保护与现场恢复，以便保护主程序中不应破坏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返回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除响应时设置的优先级状态触发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主程序断点地址，即把堆栈的内容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的撤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某中断后，在返回之前必须撤除上一次中断请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会错误地引起另一次中断的发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49360"/>
            <a:ext cx="86425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四、外部中断源的扩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800" y="83664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只有两个外部中断源，在实际应用中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会遇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个外设进行服务的情况，此时系统需要扩展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源的扩展有两种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查询方式扩展外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利用定时器扩展外部中断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3144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4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与打印机的数据传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二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单片机与打印机数据传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31800" y="62028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440" y="981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内部集成有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的总体结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结构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76160" y="2997360"/>
            <a:ext cx="8280360" cy="3535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97600" y="2276640"/>
            <a:ext cx="1943280" cy="647640"/>
          </a:xfrm>
          <a:prstGeom prst="wedgeRectCallout">
            <a:avLst>
              <a:gd name="adj1" fmla="val -32759"/>
              <a:gd name="adj2" fmla="val 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特殊功能寄存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TH0,TLO.TH1,TL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方式寄存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1800" y="112536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殊功能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控制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启动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、计数脉冲源的选择、工作方式的选择。其各位含义如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92160" y="2421000"/>
            <a:ext cx="80643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控制寄存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C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各位含义如图所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68520" y="1628640"/>
            <a:ext cx="67672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定时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数器的基本工作过程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000160" y="1628640"/>
            <a:ext cx="51134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8880" y="563040"/>
            <a:ext cx="8425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642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输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出方式及中断的概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方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外设的信息交换称为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。输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出方式有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条件传送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81960" y="3500280"/>
            <a:ext cx="1839600" cy="237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57240" y="4365720"/>
            <a:ext cx="3382920" cy="1871640"/>
          </a:xfrm>
          <a:prstGeom prst="wedgeRectCallout">
            <a:avLst>
              <a:gd name="adj1" fmla="val 94111"/>
              <a:gd name="adj2" fmla="val -25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的传送取决于程序执行输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指令，而与外设的状态无关。它适合于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同步的快速设备或状态已知外设，软、硬件系统简单。如：驱动继电器、驱动数码显示器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1800" y="47628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，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65240" y="1916280"/>
            <a:ext cx="7200720" cy="282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0520" y="4797360"/>
            <a:ext cx="2520720" cy="1368360"/>
          </a:xfrm>
          <a:prstGeom prst="wedgeRectCallout">
            <a:avLst>
              <a:gd name="adj1" fmla="val 15615"/>
              <a:gd name="adj2" fmla="val -159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位进位（即溢出）时，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。响应中断后，系统自动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复位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0" y="1700280"/>
            <a:ext cx="1295280" cy="1657440"/>
          </a:xfrm>
          <a:prstGeom prst="wedgeRectCallout">
            <a:avLst>
              <a:gd name="adj1" fmla="val -109680"/>
              <a:gd name="adj2" fmla="val 2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定时功能；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/ 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计数功能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840880" y="170028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345600" y="227664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8265960" y="4005360"/>
            <a:ext cx="1150920" cy="647640"/>
          </a:xfrm>
          <a:prstGeom prst="wedgeRectCallout">
            <a:avLst>
              <a:gd name="adj1" fmla="val -121722"/>
              <a:gd name="adj2" fmla="val -33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三者为启动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时时间</a:t>
            </a:r>
            <a:r>
              <a:rPr b="0" i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计数器的位数、设置的计数初值（又称时间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）、时钟频率有关。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¹³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时间常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时钟频率。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¹³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―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s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8.19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49240" y="-572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在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定时功能，定时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5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启动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。写出初始化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0=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定时功能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 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TE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5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由上述公式计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3192=1100011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0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的其余高位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011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1=63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1=1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0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定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T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63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送时间常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 TL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1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  T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启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977240" y="1484280"/>
                <a:ext cx="257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。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下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唯一区别在于计数位数不同，其它工作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2160" y="1989000"/>
            <a:ext cx="77058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时时间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=65.5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08160" y="1557360"/>
          <a:ext cx="432000" cy="3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08160" y="1557360"/>
                    <a:ext cx="4320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152880" y="2492280"/>
          <a:ext cx="431640" cy="38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52880" y="2492280"/>
                    <a:ext cx="4316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0520" y="-123840"/>
            <a:ext cx="539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0520" y="40464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在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计数功能，计数数目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启动由     引脚控制。写出初始化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0=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计数功能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/   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启动：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ATE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216―10000=55536=0D8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其余高位送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0=0D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L0=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DH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计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H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D8H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送计数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TL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0F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 TR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启动由引脚控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19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81960" y="1341360"/>
                <a:ext cx="64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89960" y="1341360"/>
                <a:ext cx="2556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865600" y="836640"/>
                <a:ext cx="64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INT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的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为可重栽时间常数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计数器结构。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理图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352520" y="2133720"/>
            <a:ext cx="7201080" cy="3060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08160" y="5445000"/>
            <a:ext cx="3457440" cy="1224000"/>
          </a:xfrm>
          <a:prstGeom prst="wedgeRectCallout">
            <a:avLst>
              <a:gd name="adj1" fmla="val 22587"/>
              <a:gd name="adj2" fmla="val -108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重载时间常数寄存器，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满溢出后，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F0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申请中断，同时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据自动装载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重新工作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时间计算公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计数最大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周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值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定时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―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2/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.2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48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936880" y="1413000"/>
          <a:ext cx="4064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6880" y="1413000"/>
                    <a:ext cx="406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297240" y="2276640"/>
          <a:ext cx="40644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7240" y="2276640"/>
                    <a:ext cx="406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为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停止工作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置为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分成两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独立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器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理图如图所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08160" y="1989000"/>
            <a:ext cx="7272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1440" y="1196640"/>
            <a:ext cx="8642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5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产线零件打包机控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三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生产线零件打包机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0160" y="-237960"/>
            <a:ext cx="26636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查询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断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92880" y="333360"/>
            <a:ext cx="2590920" cy="295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537240" y="3573360"/>
            <a:ext cx="280836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65600" y="476280"/>
            <a:ext cx="2879640" cy="2808360"/>
          </a:xfrm>
          <a:prstGeom prst="wedgeRectCallout">
            <a:avLst>
              <a:gd name="adj1" fmla="val 70231"/>
              <a:gd name="adj2" fmla="val -3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查询方式是一种条件传送。在传送数据前，首先读取外设状态信息，并加以测试判断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其特点是：在硬件上不仅要考虑数据信息的传送，而且还要考虑状态信息的输入；在查询过程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利用率不高，适合于实时性能要求不高的情况下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65600" y="3933720"/>
            <a:ext cx="3240000" cy="2160720"/>
          </a:xfrm>
          <a:prstGeom prst="wedgeRectCallout">
            <a:avLst>
              <a:gd name="adj1" fmla="val 71509"/>
              <a:gd name="adj2" fmla="val -8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方式也是一种条件传送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与外设同时工作，并执行与外设无关的操作，一旦外设需要服务，就主动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申请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暂停现在的操作去执行对外设的输入输出程序，执行完毕又返回继续执行现在的操作。 应用范围较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课堂实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31800" y="1196640"/>
            <a:ext cx="856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时功能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上产生周期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方波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，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2MH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四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  <a:ea typeface="宋体"/>
              </a:rPr>
              <a:t>方波发生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口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串行通信的基本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024520" y="4005360"/>
          <a:ext cx="259236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4520" y="4005360"/>
                    <a:ext cx="259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168880" y="4869000"/>
          <a:ext cx="2521080" cy="100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68880" y="4869000"/>
                    <a:ext cx="25210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024520" y="5877000"/>
          <a:ext cx="2449440" cy="98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4520" y="5877000"/>
                    <a:ext cx="24494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11480" y="1914480"/>
            <a:ext cx="219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20880" y="1557360"/>
          <a:ext cx="8569080" cy="5184720"/>
        </p:xfrm>
        <a:graphic>
          <a:graphicData uri="http://schemas.openxmlformats.org/drawingml/2006/table">
            <a:tbl>
              <a:tblPr/>
              <a:tblGrid>
                <a:gridCol w="936360"/>
                <a:gridCol w="792360"/>
                <a:gridCol w="1366920"/>
                <a:gridCol w="547344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并行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位信息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常为一个字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各位数据同时传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31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行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同步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送和接收同步进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从而实现数据的不间断传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步通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送与接收没有用同步时钟同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传送过程中数据之间有间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传送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半双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双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波特率的概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秒传送数据的位数称为波特率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ud R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单位为波特，即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/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波特率的倒数称为位传送时间，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，单位为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传送速率每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数据，每一帧数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则传送波特率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传送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9.1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1800" y="404280"/>
            <a:ext cx="8424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串行口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串口的总体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12880" y="1484280"/>
            <a:ext cx="6264360" cy="4962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113600" y="3500280"/>
            <a:ext cx="2519280" cy="1368720"/>
          </a:xfrm>
          <a:prstGeom prst="wedgeRectCallout">
            <a:avLst>
              <a:gd name="adj1" fmla="val -128763"/>
              <a:gd name="adj2" fmla="val -20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设置特殊功能寄存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C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控制串行口的工作方式与波特率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60520" y="-171360"/>
            <a:ext cx="5688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串口控制寄存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1800" y="90792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数据格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串行口工作方式选择位。可以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工作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92160" y="1413000"/>
          <a:ext cx="7632360" cy="988920"/>
        </p:xfrm>
        <a:graphic>
          <a:graphicData uri="http://schemas.openxmlformats.org/drawingml/2006/table">
            <a:tbl>
              <a:tblPr/>
              <a:tblGrid>
                <a:gridCol w="900000"/>
                <a:gridCol w="833400"/>
                <a:gridCol w="838080"/>
                <a:gridCol w="836640"/>
                <a:gridCol w="836640"/>
                <a:gridCol w="846360"/>
                <a:gridCol w="834840"/>
                <a:gridCol w="836640"/>
                <a:gridCol w="869760"/>
              </a:tblGrid>
              <a:tr h="61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F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E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B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B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B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424160" y="3357720"/>
          <a:ext cx="7343640" cy="2238120"/>
        </p:xfrm>
        <a:graphic>
          <a:graphicData uri="http://schemas.openxmlformats.org/drawingml/2006/table">
            <a:tbl>
              <a:tblPr/>
              <a:tblGrid>
                <a:gridCol w="1271520"/>
                <a:gridCol w="1073160"/>
                <a:gridCol w="2185920"/>
                <a:gridCol w="2813040"/>
              </a:tblGrid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0S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工作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波特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移位寄存器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s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溢出率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s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异步通信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溢出率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097600" y="260280"/>
            <a:ext cx="2160360" cy="865080"/>
          </a:xfrm>
          <a:prstGeom prst="wedgeRectCallout">
            <a:avLst>
              <a:gd name="adj1" fmla="val -54703"/>
              <a:gd name="adj2" fmla="val 109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接收允许位。由软件设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接收，设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禁止接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00880" y="333360"/>
            <a:ext cx="2305080" cy="1440000"/>
          </a:xfrm>
          <a:prstGeom prst="wedgeRectCallout">
            <a:avLst>
              <a:gd name="adj1" fmla="val -110124"/>
              <a:gd name="adj2" fmla="val 665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异步通信方式下，由于缓冲器只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故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B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发送的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B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接收的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69240" y="2637000"/>
            <a:ext cx="1136880" cy="1152360"/>
          </a:xfrm>
          <a:prstGeom prst="wedgeRectCallout">
            <a:avLst>
              <a:gd name="adj1" fmla="val -146925"/>
              <a:gd name="adj2" fmla="val -76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发送中断标志与接收中断标志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49240" y="5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允许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机通信控制位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5240" y="1628640"/>
          <a:ext cx="7705800" cy="3841560"/>
        </p:xfrm>
        <a:graphic>
          <a:graphicData uri="http://schemas.openxmlformats.org/drawingml/2006/table">
            <a:tbl>
              <a:tblPr/>
              <a:tblGrid>
                <a:gridCol w="1527120"/>
                <a:gridCol w="1113120"/>
                <a:gridCol w="506556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口工作方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此位无意义，设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只有接收到有效的停止位，才将数据送入接收缓冲器保存，并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否则数据丢失，不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论是否接收到有效的停止位，都将数据保存，并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只有接收到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才将数据送入接收缓冲器保存，并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=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否则数据丢失，不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2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论是否接收到第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都将数据保存，并置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800" y="25992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电源控制寄存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C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来控制串行口的波特率倍增，以及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MO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实现电源控制，其格式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76160" y="2060640"/>
          <a:ext cx="7992720" cy="431640"/>
        </p:xfrm>
        <a:graphic>
          <a:graphicData uri="http://schemas.openxmlformats.org/drawingml/2006/table">
            <a:tbl>
              <a:tblPr/>
              <a:tblGrid>
                <a:gridCol w="885600"/>
                <a:gridCol w="865080"/>
                <a:gridCol w="863640"/>
                <a:gridCol w="868320"/>
                <a:gridCol w="868680"/>
                <a:gridCol w="887400"/>
                <a:gridCol w="866520"/>
                <a:gridCol w="866880"/>
                <a:gridCol w="102060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600200"/>
                          <a:tab algn="l" pos="240048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857240" y="3429000"/>
            <a:ext cx="3527640" cy="1152360"/>
          </a:xfrm>
          <a:prstGeom prst="wedgeRectCallout">
            <a:avLst>
              <a:gd name="adj1" fmla="val -42486"/>
              <a:gd name="adj2" fmla="val -1183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波特率倍增位。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O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使串行口波特率加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0520" y="189000"/>
            <a:ext cx="8496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串行口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发送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数据送入发送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U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自动启动串口发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②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以固定的波特率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低位在前，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脚串行输出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发送移位时钟信号（频率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移位时钟对应一个输出的数据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发送完毕，置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，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发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一个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收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设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N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启动接收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串行口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c/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固定的波特率，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串行输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低位在前）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X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输出移位时钟信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接收完毕，将数据送入接收缓冲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U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并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申请中断，通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走数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串行口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31800" y="1052640"/>
            <a:ext cx="8569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发送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将数据送入发送缓冲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BU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后，启动串行口发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以指定的波特率，串行发送一位起始位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位（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在前）、一位停止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帧数据发送完毕，置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申请中断，通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发送下一个数据。在未发送下一帧数据时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始终为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收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软件设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N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时，启动接收过程，串行口检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，当检测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负跳变（起始位到来）时，开始接收数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串行口以指定的波特率，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X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脚串行输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（低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前）、一位停止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③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当数据接收完毕，当数据接收完毕，必须同时满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=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M2=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收到有效的停止位，才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数据送入接收缓冲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BU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保存，并置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=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申请中断，通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取走数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569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工作过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04520" y="112536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发送和接受过程与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8352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800" y="333000"/>
            <a:ext cx="842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 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正在执行程序的过程中，由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之外的某种原因，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暂停该程序的执行，转而去执行相应的处理程序，待处理程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束之后，再返回原程序断点处继续运行的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中断过程的软、硬件系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源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中断申请的来源。中断源一般有外设、定时时钟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故障源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4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主程序与中断服务程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的当前程序称为主程序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去对突发事件的处理程序，称为中断服务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5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级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多个中断源同时申请中断时，为了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能够按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用户的规定先处理最紧急的，然后再处理其他事件，中断系统设置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权排队电路，通过用户的设置，排在前面的中断源称为高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，排在后面的称为低级中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6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嵌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响应某一中断源请求而进入中断处理时，若更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级别的中断源发出申请，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暂停现行的中断服务程序，去响应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先级更高的中断，待更高级别的中断处理完毕后，再返回低级中断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务程序，继续原先的处理，这个过程称为中断嵌套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0520" y="563040"/>
            <a:ext cx="8640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0160" y="1196640"/>
            <a:ext cx="878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6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双机通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五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  <a:ea typeface="宋体"/>
              </a:rPr>
              <a:t>单片机双机通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编程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外部中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，高级中断，边沿触发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式。写出初始化程序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定时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方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定时工作，时间常数初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软件启动定时，溢出允许中断，低级中断。写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化程序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断系统结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系统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中断源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级中断优先级。结构框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49240" y="2060640"/>
            <a:ext cx="79200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-29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请求标志寄存器是由定时器控制寄存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口控制寄存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的若干位构成，如图所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15800" y="1557360"/>
            <a:ext cx="9074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9240" y="-12384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允许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控制着中断的允许与禁止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76160" y="1484280"/>
            <a:ext cx="8425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9240" y="-2556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优先级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S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级中断优先级，每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源都可以软件设置为高级中断或低级中断，由中断优先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控制。相应位置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此中断为高级中断，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设置为低级中断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1800" y="2421000"/>
            <a:ext cx="84247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1800" y="563400"/>
            <a:ext cx="8424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中断的处理过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9S5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的处理过程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529240" y="404640"/>
            <a:ext cx="35416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hep</cp:lastModifiedBy>
  <dcterms:modified xsi:type="dcterms:W3CDTF">2008-07-14T08:05:44Z</dcterms:modified>
  <cp:revision>76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