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8609-C959-42D5-8746-A8D0E3B29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820728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49240" y="3796200"/>
            <a:ext cx="820728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09A4-8A16-4A98-BC65-FECC053DE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49240" y="379620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4760" y="379620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9FA5-17BA-4A87-A064-2F5A219A6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24120" y="159984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99000" y="159984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49240" y="379620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24120" y="379620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99000" y="379620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622B-2819-4171-A5BB-1F566B598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89EA8-E32E-41CF-9184-6B0590F5E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49240" y="1599840"/>
            <a:ext cx="820728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CEAA0-4DCF-430A-8F2A-C64E89B49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820728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52F04-7C5A-4882-826C-ABE704DA5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EFA2C-F7E4-4AC5-9DC6-3FD985D64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79956-FF33-40CB-9691-0FC7C81C4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49240" y="563040"/>
            <a:ext cx="539928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FCA4C-7080-425F-8E7F-F8B2528CE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49240" y="379620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938DA-5570-487F-B0A7-2C463C173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49240" y="1599840"/>
            <a:ext cx="820728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8840-C129-4EBD-8009-64015D177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54760" y="379620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14D5B-7D0D-4B29-8F43-373D65C3D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49240" y="3796200"/>
            <a:ext cx="820728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413F3-C1DE-46F5-A17B-0620AAE9A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820728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49240" y="3796200"/>
            <a:ext cx="820728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CFDCB-6A70-4879-8BEB-637266673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49240" y="379620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54760" y="379620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C17B3-BFCC-4ACC-A41C-105BF958A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24120" y="159984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99000" y="159984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49240" y="379620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24120" y="379620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99000" y="379620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74DCF-4FBD-49D9-B57F-8DD3B4525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820728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2DD5-FD29-4D53-A3C9-0B0583404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136A-C3CD-4D36-8EAB-6B95BBE88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9E7B-EBB6-4AAF-B898-82C600DC0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49240" y="563040"/>
            <a:ext cx="539928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D83B-3525-45A4-B2B8-34BE6D9C7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49240" y="379620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C01C-CF3E-4D53-8E74-8B1A1C88C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4760" y="379620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A6ED-5999-499E-BFE6-5DF68E162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49240" y="3796200"/>
            <a:ext cx="820728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A9CD-D2C7-4A53-B76B-16AAE1DC8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49240" y="1599840"/>
            <a:ext cx="820728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81360"/>
            <a:ext cx="231120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81360"/>
            <a:ext cx="31366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81360"/>
            <a:ext cx="231156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B6EE6-90BE-4679-97E7-DAE4803FB761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2880" y="980640"/>
            <a:ext cx="92887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7466040" y="522900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7473960" y="6265440"/>
            <a:ext cx="2303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451280" y="5740560"/>
            <a:ext cx="231156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B129C-0933-45AA-BAE6-45A81A801E9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.xml"/><Relationship Id="rId3" Type="http://schemas.openxmlformats.org/officeDocument/2006/relationships/slide" Target="slide6.xml"/><Relationship Id="rId4" Type="http://schemas.openxmlformats.org/officeDocument/2006/relationships/slide" Target="slide6.xml"/><Relationship Id="rId5" Type="http://schemas.openxmlformats.org/officeDocument/2006/relationships/slide" Target="slide6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8.xml"/><Relationship Id="rId3" Type="http://schemas.openxmlformats.org/officeDocument/2006/relationships/slide" Target="slide8.xml"/><Relationship Id="rId4" Type="http://schemas.openxmlformats.org/officeDocument/2006/relationships/slide" Target="slide8.xml"/><Relationship Id="rId5" Type="http://schemas.openxmlformats.org/officeDocument/2006/relationships/slide" Target="slide8.xml"/><Relationship Id="rId6" Type="http://schemas.openxmlformats.org/officeDocument/2006/relationships/slide" Target="slide8.xml"/><Relationship Id="rId7" Type="http://schemas.openxmlformats.org/officeDocument/2006/relationships/slide" Target="slide11.xml"/><Relationship Id="rId8" Type="http://schemas.openxmlformats.org/officeDocument/2006/relationships/slide" Target="slide11.xml"/><Relationship Id="rId9" Type="http://schemas.openxmlformats.org/officeDocument/2006/relationships/slide" Target="slide11.xml"/><Relationship Id="rId10" Type="http://schemas.openxmlformats.org/officeDocument/2006/relationships/slide" Target="slide11.xml"/><Relationship Id="rId11" Type="http://schemas.openxmlformats.org/officeDocument/2006/relationships/slide" Target="slide11.xml"/><Relationship Id="rId1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72880" y="980640"/>
            <a:ext cx="92887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第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章  指令系统与汇编语言程序设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72520" y="2060280"/>
            <a:ext cx="921708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Arial"/>
              </a:rPr>
              <a:t>              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ea typeface="宋体"/>
                <a:hlinkClick r:id="rId2" action="ppaction://hlinksldjump"/>
              </a:rPr>
              <a:t>3.1  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Times New Roman"/>
                <a:ea typeface="宋体"/>
                <a:hlinkClick r:id="rId3" action="ppaction://hlinksldjump"/>
              </a:rPr>
              <a:t>寻址方式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Times New Roman"/>
                <a:ea typeface="宋体"/>
                <a:hlinkClick r:id="rId4" action="ppaction://hlinksldjump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                 </a:t>
            </a:r>
            <a:r>
              <a:rPr b="0" lang="en-US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3.2  </a:t>
            </a:r>
            <a:r>
              <a:rPr b="0" lang="zh-CN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指令系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3.3  </a:t>
            </a:r>
            <a:r>
              <a:rPr b="0" lang="zh-CN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汇编语言程序的汇编与调试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                 </a:t>
            </a:r>
            <a:r>
              <a:rPr b="0" lang="en-US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3.4  </a:t>
            </a:r>
            <a:r>
              <a:rPr b="0" lang="zh-CN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汇编语言程序设计举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                 </a:t>
            </a:r>
            <a:r>
              <a:rPr b="0" lang="en-US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3.5  </a:t>
            </a:r>
            <a:r>
              <a:rPr b="0" lang="zh-CN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计算机中的数据编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49240" y="-19656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31440" y="404280"/>
            <a:ext cx="878508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与累加器有关的数据传送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n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←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 R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n←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rect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←(dir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 direc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direct)←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@ Ri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←(R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 @ R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i)←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析下列指令的寻址方式和执行结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OV A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R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两操作数均采用寄存器寻址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T7F5F5B8tCID-WinCharSetFFFF-H"/>
              </a:rPr>
              <a:t>A=R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OV A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0F0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原操作数为直接寻址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=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F0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OV A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@ R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源操作数为寄存器间接寻址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=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48880" y="78480"/>
            <a:ext cx="8425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31440" y="549360"/>
            <a:ext cx="878508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这类指令的操作码助记符为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”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对外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单元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能使用间接寻址方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即可以使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PTR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i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作间址寄存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X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@ DPTR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←(DPT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X @ DPT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DPTR)←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X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@ Ri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←(R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X @ R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i)←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.4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已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PTR=2000H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片外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AM (2000H)=05H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1=0F0H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片外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AM (0F0H)=0A0H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X 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@ DPT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；指令执行后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=05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X @ R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；指令执行后，片外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AM(0F0H)=05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49240" y="14940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31440" y="620640"/>
            <a:ext cx="864252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这类指令助记符为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”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共两条指令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C 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@A+DPTR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←(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PT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C 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@A+PC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←(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5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把累加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的十六进制数字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0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FH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转换成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SCII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NC A 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调整偏移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数据表的首地址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指令间隔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个单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C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@ A + PC 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查表取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 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子程序返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B 30H,31H,32H,33H,34H 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在程序存储器中顺序存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B 35H,36H,37H,38H,39H ;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CI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B 41H,42H,43H,44H,45H,46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如果累加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=0F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则执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 A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后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=10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程序存储器取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指令后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 = 2001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+ PC=2011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于是执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C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指令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=(2011H)=46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即将累加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中十六进制数字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转换成相应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CII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6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31440" y="563400"/>
            <a:ext cx="864252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1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字节交换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31440" y="980640"/>
            <a:ext cx="8642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CH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n    ; A← →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CH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rect  ; A← →(dir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CH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@ Ri   ; A← →(R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2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半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字节交换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CHD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@ Ri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(D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0)← →(Ri)(D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0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即累加器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低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位与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i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间址的内部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单元的低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位交换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3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累加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高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位与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位交换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P A    ; A(D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～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0)← →A(D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～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49240" y="7848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31440" y="549000"/>
            <a:ext cx="8785080" cy="61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1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进栈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SH direct   ;SP←SP + 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P)←(dir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2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出栈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P direct   ; (direct)←(SP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←SP –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8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已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P = 3A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PTR= 1234H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USH DPL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P←SP + 1=3B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3BH)=34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OP  DPH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P←SP + 1=3C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3CH)=12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执行指令后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P=3C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3CH)=12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3BH)=34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49240" y="12132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0160" y="620640"/>
            <a:ext cx="885636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加减运算指令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算术运算指令      乘除法指令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十进制调整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720880" y="1989000"/>
            <a:ext cx="71640" cy="2087640"/>
          </a:xfrm>
          <a:custGeom>
            <a:avLst/>
            <a:gdLst>
              <a:gd name="textAreaLeft" fmla="*/ 45720 w 71640"/>
              <a:gd name="textAreaRight" fmla="*/ 72000 w 71640"/>
              <a:gd name="textAreaTop" fmla="*/ 54360 h 2087640"/>
              <a:gd name="textAreaBottom" fmla="*/ 2033280 h 208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31440" y="475920"/>
            <a:ext cx="86425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加法指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(Addi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31440" y="907920"/>
            <a:ext cx="86425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指令格式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DD A,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指令功能：将累加器和源操作数相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结果送累加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源操作数不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源操作数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种寻址方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所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DD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指令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种形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n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+Rn→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rect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+(direct)→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@Ri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+(Ri)→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#data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+data→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例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 = 0C0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1 = 0AF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执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DD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指令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+ 101011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11011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D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指令影响程序状态字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SW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V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1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31440" y="563400"/>
            <a:ext cx="864252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2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带进位加法指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DDC (Addition with Carr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31440" y="1052280"/>
            <a:ext cx="864252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指令格式与加法指令相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指令功能是将累加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、不同寻址方式的源操作数以及进位标志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Y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相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运算结果送累加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。带进位加法指令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n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+Rn+CY→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C   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rect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+(direct) +CY→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C  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@Ri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+(Ri) +CY→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C  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#data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+data+CY→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DD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指令对状态标志位的影响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D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指令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31440" y="563400"/>
            <a:ext cx="864252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带借位减法指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B (Subtraction with Borrow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31800" y="1125000"/>
            <a:ext cx="856944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与加法指令相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目的操作数为累加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,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源操作数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种寻址方式。所以带借位减法指令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种形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B  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n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-Rn-CY→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B  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rect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-(direct)-CY→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B  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@Ri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-(Ri)-CY→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B  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data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-data-CY→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例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若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 = 0C0H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R0 = 7AH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Y = 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执行指令：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UBB A,R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执行结果为：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 = 45H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Y = 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 = 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= 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若进行不减借位的减法运算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只需将借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进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位标志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Y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清零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例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LR 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带借位减法指令对状态标志位的影响与加法指令相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31440" y="563040"/>
            <a:ext cx="864252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4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指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 (INCrement destination by o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31440" y="1052640"/>
            <a:ext cx="864252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指令格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INC d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执行操作是把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est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的内容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结果送回原单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指令共有以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种形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 A              ;A + 1→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 Rn             ;Rn + 1→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 direct           ;(direct)+ 1→(dir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 @ Ri            ;(Ri)+ 1→(R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 DPTR           ;DPTR + 1→DPT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指令主要用于修改地址指针和计数次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它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没有影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48880" y="563040"/>
            <a:ext cx="84250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.1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寻址方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31440" y="1600200"/>
            <a:ext cx="8642520" cy="45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寻址方式是指在指令执行过程中，如何找到操作数有效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址的方法。绝大多数指令执行时都需要使用操作数，而操作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可以指一个直接参与指令运行的数据，也可以指一个寄存器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还可以指一个存储器单元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CS-5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单片机指令系统提供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不同的寻址方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31440" y="563040"/>
            <a:ext cx="864252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5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指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 (Decrement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31440" y="980640"/>
            <a:ext cx="864252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指令与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指令格式相似，只有一个操作数，该指令共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种形式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  A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-1→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  Rn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n1→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  direct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direct)-1→(dir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  @Ri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i)-1→(R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这类指令不影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V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31440" y="563400"/>
            <a:ext cx="864252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乘法指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31440" y="1125360"/>
            <a:ext cx="864252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指令格式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UL 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指令功能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把累加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和寄存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中的无符号数相乘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所得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位乘积的低位字节存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中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高位字节存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例如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 = 1AH,B = 20H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执行指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UL 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执行结果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 = 40H,B = 03H,OV = 1,CY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乘法运算影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SW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状态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进位标志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Y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总是清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除法指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指令格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IV 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指令功能是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位无符号数除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位无符号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所得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存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余数存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并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Y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V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。只有当除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时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V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表示除法的结果无意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例如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 = 0F4H,B = 0A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执行指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IV 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执行结果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 = 18H,B = 04H,OV = 0,CY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6" dur="5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1" dur="500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" dur="500"/>
                                        <p:tgtEl>
                                          <p:spTgt spid="1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500"/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6" dur="500"/>
                                        <p:tgtEl>
                                          <p:spTgt spid="1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1" dur="500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31800" y="563040"/>
            <a:ext cx="8569440" cy="2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十进制调整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31440" y="981000"/>
            <a:ext cx="86425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功能：把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中的数作为两个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C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数相加之和进行调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得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两位正确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C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形式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A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例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3-54=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先执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9AH-54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得到补熟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6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再执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3H+46H=0B9H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后执行调整指令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B9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加上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0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得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9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即得到正确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C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49240" y="4140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31440" y="549000"/>
            <a:ext cx="864252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逻辑与运算指令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条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逻辑或运算指令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条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逻辑运算指令         逻辑异或运算指令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条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累加器清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和取反指令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条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循环移位指令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条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081240" y="1341360"/>
            <a:ext cx="503280" cy="2951280"/>
          </a:xfrm>
          <a:custGeom>
            <a:avLst/>
            <a:gdLst>
              <a:gd name="textAreaLeft" fmla="*/ 321480 w 503280"/>
              <a:gd name="textAreaRight" fmla="*/ 503640 w 503280"/>
              <a:gd name="textAreaTop" fmla="*/ 76680 h 2951280"/>
              <a:gd name="textAreaBottom" fmla="*/ 2874600 h 295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31440" y="563040"/>
            <a:ext cx="864252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这类指令的助记符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N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31440" y="980640"/>
            <a:ext cx="86425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L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n       ;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∧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n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L A,direct       ; 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∧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direct)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L A,@Ri        ;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∧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i)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L A, # data      ;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∧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L direct,A       ;(direct)∧A→(dir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L direct, # data    ;(direct)∧data→(dir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例如：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=0A6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1=0A4H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执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NL A,R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 = 0A4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逻辑与运算常用作字节清零或位清零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6" dur="500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31800" y="563040"/>
            <a:ext cx="856944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这类指令的助记符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R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60520" y="907920"/>
            <a:ext cx="864216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L A, Rn        ;A∨Rn→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L A, direct      ;A∨(direct)→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L A, @Ri       ;A∨(Ri)→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L A,  # data      ;A∨data→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L direct, A       ;(direct)∨A→(dir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L direct,  # data    ;(direct)∨data→(dir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例如 把累加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位传送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口的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位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口的高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位保持不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USH ACC 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累加器内容入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NL A, # 0FH 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屏蔽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高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NL P0, # 0F0H 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屏蔽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0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口的低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ORL P0,A 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传送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低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OP ACC 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恢复累加器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逻辑或运算可以实现对某个单元的某些位置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,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其余位不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13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52520" y="78480"/>
            <a:ext cx="4896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31440" y="620280"/>
            <a:ext cx="87138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RL A,Rn            ;ARn→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RL A,direct          ;A(direct)→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RL A,@Ri            ;A(Ri)→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RL A, # data          ;Adata→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RL direct,A           ;(direct)A→(dir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RL direct, # data       ;(direct)data→(dir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例如：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=7F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1=0A5H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则执行指令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XRL A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R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后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=0DAH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逻辑异或运算可以用来比较两个数据是否相等。当两个数据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或结果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0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则表示相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否则表示不相等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4" dur="500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9" dur="500"/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49240" y="7776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31440" y="549360"/>
            <a:ext cx="864252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累加器清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指令：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LR A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→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累加器按位取反指令：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PL A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例如：若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=55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则执行指令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PL A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执行结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=0AA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LR A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执行结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=00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31800" y="563040"/>
            <a:ext cx="856944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循环右移指令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R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31440" y="980640"/>
            <a:ext cx="864252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功能：将累加器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内容逐位循环右移一位。如图所示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例如，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=6AH=01101010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执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R 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指令后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=35H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2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循环左移指令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L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功能：将累加器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内容逐位左移一位，如图所示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例如，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=0A3H=10100011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执行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L 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指令后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=47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2360520" y="1484280"/>
            <a:ext cx="5184720" cy="11527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2432160" y="4076640"/>
            <a:ext cx="525600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31440" y="563400"/>
            <a:ext cx="864252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3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带进位循环右移指令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RC 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31440" y="980640"/>
            <a:ext cx="864252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功能：将累加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内容和进位位一起逐位循环右移一位，如图所示：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例如，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=4BH=01001011B,CY=1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执行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RL A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指令后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=0A5H,CY=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4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带进位循环左移指令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LC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功能：将累加器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内容和进位位一起逐位循环左移一位，如图所示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此两操作影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Y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4232160" y="1628640"/>
            <a:ext cx="4464000" cy="129564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4089240" y="4365720"/>
            <a:ext cx="4680000" cy="14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0" dur="500"/>
                                        <p:tgtEl>
                                          <p:spTgt spid="1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31440" y="563040"/>
            <a:ext cx="86425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一、寻址方式</a:t>
            </a:r>
            <a:br>
              <a:rPr sz="3200"/>
            </a:br>
            <a:r>
              <a:rPr b="0" lang="zh-CN" sz="2400" spc="-1" strike="noStrike">
                <a:solidFill>
                  <a:srgbClr val="cc6600"/>
                </a:solidFill>
                <a:latin typeface="Arial"/>
                <a:ea typeface="宋体"/>
              </a:rPr>
              <a:t>见动画五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  <a:ea typeface="宋体"/>
              </a:rPr>
              <a:t>—</a:t>
            </a:r>
            <a:r>
              <a:rPr b="0" lang="zh-CN" sz="2400" spc="-1" strike="noStrike">
                <a:solidFill>
                  <a:srgbClr val="cc6600"/>
                </a:solidFill>
                <a:latin typeface="Arial"/>
                <a:ea typeface="宋体"/>
              </a:rPr>
              <a:t>寻址方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31440" y="1628280"/>
            <a:ext cx="86425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立即寻址方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直接寻址方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寄存器寻址方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寻址方式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寄存器间接寻址方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相对寻址方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变址寻址方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位寻址方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76520" y="1844640"/>
            <a:ext cx="360360" cy="3311640"/>
          </a:xfrm>
          <a:custGeom>
            <a:avLst/>
            <a:gdLst>
              <a:gd name="textAreaLeft" fmla="*/ 230400 w 360360"/>
              <a:gd name="textAreaRight" fmla="*/ 360720 w 360360"/>
              <a:gd name="textAreaTop" fmla="*/ 86040 h 3311640"/>
              <a:gd name="textAreaBottom" fmla="*/ 3225600 h 331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49240" y="7776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31800" y="549360"/>
            <a:ext cx="842472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无条件转移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条件转移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程序控制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调用和返回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空操作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016520" y="1628640"/>
            <a:ext cx="215640" cy="2232000"/>
          </a:xfrm>
          <a:custGeom>
            <a:avLst/>
            <a:gdLst>
              <a:gd name="textAreaLeft" fmla="*/ 137880 w 215640"/>
              <a:gd name="textAreaRight" fmla="*/ 216000 w 215640"/>
              <a:gd name="textAreaTop" fmla="*/ 57960 h 2232000"/>
              <a:gd name="textAreaBottom" fmla="*/ 2174040 h 223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032520" y="3933720"/>
            <a:ext cx="2592360" cy="1008000"/>
          </a:xfrm>
          <a:prstGeom prst="wedgeRectCallout">
            <a:avLst>
              <a:gd name="adj1" fmla="val -58694"/>
              <a:gd name="adj2" fmla="val -6763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NOP   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；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PC+1→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操作：该指令不执行任何操作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常用于程序的等待或时间的延迟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9240" y="22932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31440" y="620640"/>
            <a:ext cx="864252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相对转移指令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JMP r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绝对转移指令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JMP addr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无条件转移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长转移指令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JMP addr16 ;addr16→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间接转移指令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JMP @ A + DPTR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 + DPTR→PC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081240" y="1341360"/>
            <a:ext cx="142920" cy="2737080"/>
          </a:xfrm>
          <a:custGeom>
            <a:avLst/>
            <a:gdLst>
              <a:gd name="textAreaLeft" fmla="*/ 91440 w 142920"/>
              <a:gd name="textAreaRight" fmla="*/ 143280 w 142920"/>
              <a:gd name="textAreaTop" fmla="*/ 71280 h 2737080"/>
              <a:gd name="textAreaBottom" fmla="*/ 2665800 h 273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329600" y="260280"/>
            <a:ext cx="2376360" cy="2016360"/>
          </a:xfrm>
          <a:prstGeom prst="wedgeRectCallout">
            <a:avLst>
              <a:gd name="adj1" fmla="val -78722"/>
              <a:gd name="adj2" fmla="val 3669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操作：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PC+2→PC,addr11→PC(D10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D0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例如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若转移指令首地址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2456H,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即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PC = 2456H,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执行指令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AJMP 26AH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后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,PC = 226AH,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程序转向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226AH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单元执行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04880" y="692280"/>
            <a:ext cx="2232000" cy="1439640"/>
          </a:xfrm>
          <a:prstGeom prst="wedgeRectCallout">
            <a:avLst>
              <a:gd name="adj1" fmla="val 77523"/>
              <a:gd name="adj2" fmla="val 7932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该指令把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16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位地址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addr16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装入程序计数器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PC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，转移范围可达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64 KB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LJMP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与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AJMP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指令都是直接寻址方式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31800" y="3141720"/>
            <a:ext cx="1944720" cy="2519280"/>
          </a:xfrm>
          <a:prstGeom prst="wedgeRectCallout">
            <a:avLst>
              <a:gd name="adj1" fmla="val 103712"/>
              <a:gd name="adj2" fmla="val -1767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该指令采用基址变址寻址方式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转移地址由数据指针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DPTR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和累加器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的内容相加形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例如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设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A = A0H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DPTR = 45A0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执行指令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JMP @ A+ DPTR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后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PC =4640H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49240" y="7848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31440" y="549360"/>
            <a:ext cx="864252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该指令采用相对寻址方式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目的地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 PC + rel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相对转移指令的操作数有两种形式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偏移量和目标地址。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果是目标地址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则在程序汇编时由汇编程序自动计算并填入偏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向高地址方向转移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el=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目标地址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(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首地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+2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 =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地址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向低地址方向转移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el=(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目标地址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(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首地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+2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)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例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若转移指令的首地址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100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地址标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OOP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所指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元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120H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则执行指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JMP LOOP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偏移量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 = 0120H - (0100H + 2)= 1E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指令机器码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01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49240" y="576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31440" y="549360"/>
            <a:ext cx="871380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累加器判零转移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比较转移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条件转移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不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转移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位控制转移指令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368520" y="1557360"/>
            <a:ext cx="360360" cy="3024000"/>
          </a:xfrm>
          <a:custGeom>
            <a:avLst/>
            <a:gdLst>
              <a:gd name="textAreaLeft" fmla="*/ 230400 w 360360"/>
              <a:gd name="textAreaRight" fmla="*/ 360720 w 360360"/>
              <a:gd name="textAreaTop" fmla="*/ 78840 h 3024000"/>
              <a:gd name="textAreaBottom" fmla="*/ 2945160 h 30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040520" y="765000"/>
            <a:ext cx="2865600" cy="2951280"/>
          </a:xfrm>
          <a:prstGeom prst="wedgeRectCallout">
            <a:avLst>
              <a:gd name="adj1" fmla="val -66175"/>
              <a:gd name="adj2" fmla="val -1659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JZ rel 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；若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A=0,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则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PC+2+rel→PC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，否则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PC+2→P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JNZ rel 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；若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A≠0,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则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PC+2+rel→PC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，否则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PC+2→P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例如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设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A = 01H,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执行指令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JZ TABLE1 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A = 0,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转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TABLE1,A≠0,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执行下一条指令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DEC A        ;A - 1→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JZ TABLE2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;A = 0,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转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TABLE2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执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31800" y="333360"/>
            <a:ext cx="2233800" cy="2016000"/>
          </a:xfrm>
          <a:prstGeom prst="wedgeRectCallout">
            <a:avLst>
              <a:gd name="adj1" fmla="val 94277"/>
              <a:gd name="adj2" fmla="val 5905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CJNE A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direct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rel    ;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A≠(direct)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则转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CJNE A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#data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rel    ;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A≠data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则转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CJNE Rn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#data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rel    ;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Rn≠data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则转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CJNE @Ri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#data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rel    ;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(Ri)≠data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则转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31800" y="3141720"/>
            <a:ext cx="2521080" cy="1800000"/>
          </a:xfrm>
          <a:prstGeom prst="wedgeRectCallout">
            <a:avLst>
              <a:gd name="adj1" fmla="val 79347"/>
              <a:gd name="adj2" fmla="val -3324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DJNZ Rn,rel    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Rn-1→Rn,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若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Rn≠0,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PC+2+rel→PC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否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PC+2→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DJNZ direct,rel  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(direct)-1→(direct),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若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(direct)≠0,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PC+3+rel→PC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否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PC+3→PC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608880" y="3933720"/>
            <a:ext cx="3024000" cy="2303640"/>
          </a:xfrm>
          <a:prstGeom prst="wedgeRectCallout">
            <a:avLst>
              <a:gd name="adj1" fmla="val -70050"/>
              <a:gd name="adj2" fmla="val -3187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JC rel       ;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若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CY = 1,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PC + 2 + rel→PC,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否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PC + 2→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JNC rel      ;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若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CY = 0,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PC + 2 + rel→PC,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否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PC + 2→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JB bit,rel     ;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若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(bit)= 1,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PC + 3 + rel→PC,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否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PC + 3→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JNB bit,rel    ;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若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(bit)= 0,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PC + 3 + rel→PC,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否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PC + 3→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JBC bit,rel    ;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若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(bit)= 1,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PC + 3 + rel→PC,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且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(bit)= 0,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否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PC+ 3→PC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49240" y="22932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31440" y="620640"/>
            <a:ext cx="864252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绝对调用指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:ACALL addr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调用和返回指令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长调用指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:LCALL addr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返回指令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584520" y="2637000"/>
            <a:ext cx="289080" cy="1871640"/>
          </a:xfrm>
          <a:custGeom>
            <a:avLst/>
            <a:gdLst>
              <a:gd name="textAreaLeft" fmla="*/ 184680 w 289080"/>
              <a:gd name="textAreaRight" fmla="*/ 289080 w 289080"/>
              <a:gd name="textAreaTop" fmla="*/ 48600 h 1871640"/>
              <a:gd name="textAreaBottom" fmla="*/ 1823040 h 187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00160" y="0"/>
            <a:ext cx="2808000" cy="2060640"/>
          </a:xfrm>
          <a:prstGeom prst="wedgeRectCallout">
            <a:avLst>
              <a:gd name="adj1" fmla="val 84199"/>
              <a:gd name="adj2" fmla="val 7264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操作过程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PC←PC + 2 ;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取出指令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SP←SP + 1 ,  (SP)←PC (D7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～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D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SP←SP + 1,  (SP)←PC (D15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～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D8)  ;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断点地址入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PC (D10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～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D0)←addr11,PC (D15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～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D11)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不变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进入子程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961240" y="0"/>
            <a:ext cx="3944880" cy="2421000"/>
          </a:xfrm>
          <a:prstGeom prst="wedgeRoundRectCallout">
            <a:avLst>
              <a:gd name="adj1" fmla="val -58773"/>
              <a:gd name="adj2" fmla="val 53736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例如，若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SP = 60H,PC = 2100H,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子程序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sub1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首地址为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23A0H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。执行下面指令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2100H:ACALL sub1 ;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指令代码是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71A0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执行过程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PC= PC + 2 = 2102H,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将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PC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压栈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即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(61H)= 02H,(62H) = 21H,SP = 62H;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用指令提供的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11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位地址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01110100000B (3A0H)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替换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PC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的低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11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位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形成目的地址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0010001110100000B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，即进入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sub1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子程序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3860640"/>
            <a:ext cx="2649600" cy="1729080"/>
          </a:xfrm>
          <a:prstGeom prst="wedgeRectCallout">
            <a:avLst>
              <a:gd name="adj1" fmla="val 97875"/>
              <a:gd name="adj2" fmla="val -6937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操作过程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PC←PC + 3  ;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取出指令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SP←SP + 1,(SP)←PC (D7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～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D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SP←SP + 1,(SP)←PC (D15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～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D8)   ;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断点地址入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PC←addr16     ;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进入子程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61240" y="4221000"/>
            <a:ext cx="3384360" cy="1295640"/>
          </a:xfrm>
          <a:prstGeom prst="wedgeRectCallout">
            <a:avLst>
              <a:gd name="adj1" fmla="val -71625"/>
              <a:gd name="adj2" fmla="val -2573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RET   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；子程序返回指令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RETI  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；中断返回指令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操作过程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(SP)→PC (D15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D8) , SP-1→SP , (SP)→PC (D7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～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D0) , SP - 1→SP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49240" y="8568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31800" y="620640"/>
            <a:ext cx="885816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位传送指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位操作指令         置位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复位指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位逻辑运算指令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224160" y="1844640"/>
            <a:ext cx="432000" cy="1944720"/>
          </a:xfrm>
          <a:custGeom>
            <a:avLst/>
            <a:gdLst>
              <a:gd name="textAreaLeft" fmla="*/ 276120 w 432000"/>
              <a:gd name="textAreaRight" fmla="*/ 432360 w 432000"/>
              <a:gd name="textAreaTop" fmla="*/ 50400 h 1944720"/>
              <a:gd name="textAreaBottom" fmla="*/ 1894320 h 194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065240" y="907920"/>
            <a:ext cx="2592360" cy="576360"/>
          </a:xfrm>
          <a:prstGeom prst="wedgeRectCallout">
            <a:avLst>
              <a:gd name="adj1" fmla="val 38486"/>
              <a:gd name="adj2" fmla="val 11198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MOV C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bit   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；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(bit) →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MOV bit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C   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；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CY→(bi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673600" y="765000"/>
            <a:ext cx="3382920" cy="1584360"/>
          </a:xfrm>
          <a:prstGeom prst="wedgeRoundRectCallout">
            <a:avLst>
              <a:gd name="adj1" fmla="val -70365"/>
              <a:gd name="adj2" fmla="val 27254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例如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,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把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0H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位传送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30H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位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MOV 10H,C    ;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暂存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Y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MOV C,20H    ;20H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位送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MOV 30H,C    ;CY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送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30H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MOV C,10H    ;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恢复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Y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032520" y="2421000"/>
            <a:ext cx="2016000" cy="1008000"/>
          </a:xfrm>
          <a:prstGeom prst="wedgeRectCallout">
            <a:avLst>
              <a:gd name="adj1" fmla="val -82046"/>
              <a:gd name="adj2" fmla="val 291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CLR C        ;0→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CLR bit       ;0→(bi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SETB C       ;1→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SETB bit     ;1→(bi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2852640"/>
            <a:ext cx="3600360" cy="1656000"/>
          </a:xfrm>
          <a:prstGeom prst="wedgeRoundRectCallout">
            <a:avLst>
              <a:gd name="adj1" fmla="val 55643"/>
              <a:gd name="adj2" fmla="val -54217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例如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, P0 = 01011010B,CY = 0,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执行指令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SETB 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SETB P0.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CLR P0.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执行结果为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:CY = 1,P0 =0101001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568520" y="4724280"/>
            <a:ext cx="3673440" cy="1513080"/>
          </a:xfrm>
          <a:prstGeom prst="wedgeRectCallout">
            <a:avLst>
              <a:gd name="adj1" fmla="val 22300"/>
              <a:gd name="adj2" fmla="val -11065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ANL C,bit       ;CY∧(bit)→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ANL C, / bit     ;CY ∧ (/bit) → 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ORL C,bit       ;CY∨(bit)→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ORL C, / bit      ;CY ∨ (/bit) →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CPL C          ; (/CY) →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CPL bit         ; (/bit) →(bit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816520" y="3645000"/>
            <a:ext cx="3457800" cy="2448000"/>
          </a:xfrm>
          <a:prstGeom prst="wedgeRoundRectCallout">
            <a:avLst>
              <a:gd name="adj1" fmla="val -70157"/>
              <a:gd name="adj2" fmla="val -49611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例：设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D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E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F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代表位地址，计算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F = D  E =(/D)E+ D(/E)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MOV C,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ANL C, / D      ; (/D)E →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MOV F,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MOV C,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ANL C, / E       ;D(/E) →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ORL C,F         ;D(/E) + (/D)E →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MOV F,C        ;D  E→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6392880" y="4076640"/>
          <a:ext cx="225360" cy="225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392880" y="4076640"/>
                    <a:ext cx="225360" cy="22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7400880" y="5734080"/>
          <a:ext cx="225360" cy="225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400880" y="5734080"/>
                    <a:ext cx="225360" cy="22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31440" y="563400"/>
            <a:ext cx="864252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.3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汇编语言程序的汇编与调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31440" y="1052280"/>
            <a:ext cx="864252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一、汇编语言程序的一般组成与设计方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源程序、汇编程序和目标程序之间的关系为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281240" y="3573360"/>
            <a:ext cx="165564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汇编语言源程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584520" y="3500280"/>
            <a:ext cx="165564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汇编程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889600" y="3500280"/>
            <a:ext cx="165564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目标程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936880" y="371628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0160" y="3716280"/>
            <a:ext cx="649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．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汇编语言的语句种类和格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704520" y="-360"/>
            <a:ext cx="35892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1208160" y="1600200"/>
          <a:ext cx="7273440" cy="4204080"/>
        </p:xfrm>
        <a:graphic>
          <a:graphicData uri="http://schemas.openxmlformats.org/drawingml/2006/table">
            <a:tbl>
              <a:tblPr/>
              <a:tblGrid>
                <a:gridCol w="2181240"/>
                <a:gridCol w="5092200"/>
              </a:tblGrid>
              <a:tr h="741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基本类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格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1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可执行指令语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[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标号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:] &lt;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操作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&gt; [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操作数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][;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注释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                 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例如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ADD    A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R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2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伪指令语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[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标号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] &lt;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定义符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&gt; [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参数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][;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注释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                    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例如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ORG      1000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8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宏指令语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用来代替汇编语言源程序中重复使用的程序的一种语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60160" y="563040"/>
            <a:ext cx="871380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．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汇编语言程序设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31440" y="1125360"/>
            <a:ext cx="871380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所谓汇编语言程序设计，就是使用汇编语言指令来编写计算机程序。一个高质量的汇编语言源程序，应该具备以下几点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结构简明、清晰，便于理解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②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便于阅读、修改和调试，具有较好的维护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③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具有较高的可靠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④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程序应该是高效率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汇编语言进行程序设计的步骤可以概括如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①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分析问题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确定算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②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根据算法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画出程序流程图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③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合理地分配存储空间和寄存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④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编写程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⑤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上机调试程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31440" y="563040"/>
            <a:ext cx="8642520" cy="2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．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流程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776160" y="4723920"/>
            <a:ext cx="8353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在下一节中会着重介绍流程图画法及意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209680" y="1998720"/>
            <a:ext cx="1714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209680" y="1998720"/>
            <a:ext cx="1714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209680" y="1998720"/>
            <a:ext cx="1714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209680" y="1998720"/>
            <a:ext cx="1714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209680" y="1998720"/>
            <a:ext cx="1714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1281240" y="1125360"/>
          <a:ext cx="6551640" cy="3186360"/>
        </p:xfrm>
        <a:graphic>
          <a:graphicData uri="http://schemas.openxmlformats.org/drawingml/2006/table">
            <a:tbl>
              <a:tblPr/>
              <a:tblGrid>
                <a:gridCol w="1584360"/>
                <a:gridCol w="2046240"/>
                <a:gridCol w="292104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基本图形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符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意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起止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表示程序的开始或结束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矩形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表示计算或处理等基本操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判断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用来判断给出的条件是否成立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根据判断的结果决定程序的流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流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表示程序的流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连接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表示相关两框的连接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圆圈内数字相同表示连接在一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0" name=""/>
          <p:cNvSpPr/>
          <p:nvPr/>
        </p:nvSpPr>
        <p:spPr>
          <a:xfrm>
            <a:off x="3368520" y="1557360"/>
            <a:ext cx="792360" cy="35892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368520" y="1989000"/>
            <a:ext cx="792360" cy="360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97240" y="2565360"/>
            <a:ext cx="934920" cy="5763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13240" y="3284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728880" y="350028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657600" y="3933720"/>
            <a:ext cx="216000" cy="2160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31440" y="476280"/>
            <a:ext cx="86425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.2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指令系统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31440" y="1341000"/>
            <a:ext cx="86425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 action="ppaction://hlinksldjump"/>
              </a:rPr>
              <a:t>数据传送指令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Times New Roman"/>
                <a:ea typeface="宋体"/>
                <a:hlinkClick r:id="rId3" action="ppaction://hlinksldjump"/>
              </a:rPr>
              <a:t>（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ea typeface="宋体"/>
                <a:hlinkClick r:id="rId4" action="ppaction://hlinksldjump"/>
              </a:rPr>
              <a:t>29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Times New Roman"/>
                <a:ea typeface="宋体"/>
                <a:hlinkClick r:id="rId5" action="ppaction://hlinksldjump"/>
              </a:rPr>
              <a:t>）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ea typeface="宋体"/>
                <a:hlinkClick r:id="rId6" action="ppaction://hlinksldjump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算术运算指令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4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指令系统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逻辑运算指令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4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程序控制指令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位操作指令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089240" y="1916280"/>
            <a:ext cx="505080" cy="2952720"/>
          </a:xfrm>
          <a:custGeom>
            <a:avLst/>
            <a:gdLst>
              <a:gd name="textAreaLeft" fmla="*/ 322920 w 505080"/>
              <a:gd name="textAreaRight" fmla="*/ 505440 w 505080"/>
              <a:gd name="textAreaTop" fmla="*/ 76680 h 2952720"/>
              <a:gd name="textAreaBottom" fmla="*/ 2876040 h 295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60520" y="563400"/>
            <a:ext cx="864072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二、伪指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31440" y="1052640"/>
            <a:ext cx="86425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伪指令又称伪操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是源程序发送给汇编程序的指令。下面介绍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CS-5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汇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程序中常用的伪指令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631800" y="1844640"/>
          <a:ext cx="8569080" cy="4848120"/>
        </p:xfrm>
        <a:graphic>
          <a:graphicData uri="http://schemas.openxmlformats.org/drawingml/2006/table">
            <a:tbl>
              <a:tblPr/>
              <a:tblGrid>
                <a:gridCol w="2545920"/>
                <a:gridCol w="2707200"/>
                <a:gridCol w="33159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常用伪指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指令格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功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赋值伪指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T71D56BE6tCID-WinCharSetFFFF-H"/>
                        </a:rPr>
                        <a:t>EQ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&lt;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符号名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&gt;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TFDF1282EtCID-WinCharSetFFFF-H"/>
                        </a:rPr>
                        <a:t>EQU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 &lt;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赋值项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&g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赋值后的符号可以作地址使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也可以作立即数使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定义字节伪指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D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[&lt;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标号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&gt;]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TFDF1282EtCID-WinCharSetFFFF-H"/>
                        </a:rPr>
                        <a:t>DB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 &lt;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表达式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&g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把表达式表中的字节数据存入从标号开始的连续存储单元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定义字伪指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D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[&lt;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标号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&gt;]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T7F5F5B8tCID-WinCharSetFFFF-H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TFDF1282EtCID-WinCharSetFFFF-H"/>
                        </a:rPr>
                        <a:t>DW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&lt;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表达式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&g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把表达式表中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6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位数据存入由标号开始的连续存储单元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低地址单元存放高字节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高地址单元存放低字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存储区定义伪指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D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[&lt;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标号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&gt;]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TFDF1282EtCID-WinCharSetFFFF-H"/>
                        </a:rPr>
                        <a:t>DS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&lt;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表达式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&g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通知汇编程序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从指定的地址开始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保留指定数目的字节单元作为存储区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供程序运行使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8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位定义伪指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B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&lt;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符号名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&gt;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TFDF1282EtCID-WinCharSetFFFF-H"/>
                        </a:rPr>
                        <a:t>BI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 &lt;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位地址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&g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给符号名赋以位地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设置起始地址伪指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OR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[&lt;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标号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&gt;]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TFDF1282EtCID-WinCharSetFFFF-H"/>
                        </a:rPr>
                        <a:t>ORG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&lt;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表达式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&g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指定目标程序或数据块在存储器中的起始地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汇编结束伪指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E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E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用于终止源程序的汇编工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31800" y="563040"/>
            <a:ext cx="856944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三、汇编与调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31440" y="1052640"/>
            <a:ext cx="8642520" cy="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5920" bIns="259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347920" y="2558880"/>
            <a:ext cx="3840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347920" y="2558880"/>
            <a:ext cx="3840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849240" y="1268280"/>
          <a:ext cx="8280000" cy="3744360"/>
        </p:xfrm>
        <a:graphic>
          <a:graphicData uri="http://schemas.openxmlformats.org/drawingml/2006/table">
            <a:tbl>
              <a:tblPr/>
              <a:tblGrid>
                <a:gridCol w="2179080"/>
                <a:gridCol w="1198080"/>
                <a:gridCol w="4902840"/>
              </a:tblGrid>
              <a:tr h="10134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汇 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机器汇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指先将汇编语言源程序输入计算机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再利用汇编程序将其翻译成二进制代码的目标文件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(. OBJ)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的过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3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手工汇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指通过人工查找指令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将每一条指令的机器代码查出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并分配存储空间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计算地址偏移量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得到目标文件的过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2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调 试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24" name=""/>
          <p:cNvSpPr/>
          <p:nvPr/>
        </p:nvSpPr>
        <p:spPr>
          <a:xfrm>
            <a:off x="3224160" y="3789360"/>
            <a:ext cx="18734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编写汇编语言程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673600" y="3789360"/>
            <a:ext cx="21607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建立源程序文件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.AS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240160" y="4508640"/>
            <a:ext cx="22338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编成目标程序文件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.OB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7" name=""/>
          <p:cNvCxnSpPr>
            <a:stCxn id="225" idx="3"/>
            <a:endCxn id="226" idx="3"/>
          </p:cNvCxnSpPr>
          <p:nvPr/>
        </p:nvCxnSpPr>
        <p:spPr>
          <a:xfrm flipH="1">
            <a:off x="7473240" y="3970080"/>
            <a:ext cx="361080" cy="719640"/>
          </a:xfrm>
          <a:prstGeom prst="bentConnector3">
            <a:avLst>
              <a:gd name="adj1" fmla="val -629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8" name=""/>
          <p:cNvSpPr/>
          <p:nvPr/>
        </p:nvSpPr>
        <p:spPr>
          <a:xfrm>
            <a:off x="3297240" y="4508640"/>
            <a:ext cx="14414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传送到单片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9" name=""/>
          <p:cNvCxnSpPr>
            <a:stCxn id="226" idx="1"/>
            <a:endCxn id="228" idx="3"/>
          </p:cNvCxnSpPr>
          <p:nvPr/>
        </p:nvCxnSpPr>
        <p:spPr>
          <a:xfrm flipH="1">
            <a:off x="4738320" y="4689000"/>
            <a:ext cx="5018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"/>
          <p:cNvCxnSpPr>
            <a:stCxn id="224" idx="3"/>
            <a:endCxn id="225" idx="1"/>
          </p:cNvCxnSpPr>
          <p:nvPr/>
        </p:nvCxnSpPr>
        <p:spPr>
          <a:xfrm>
            <a:off x="5097600" y="3970080"/>
            <a:ext cx="57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31800" y="563040"/>
            <a:ext cx="856944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汇编语言程序结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31440" y="1052280"/>
            <a:ext cx="8642520" cy="51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6600"/>
                </a:solidFill>
                <a:latin typeface="Arial"/>
                <a:ea typeface="宋体"/>
              </a:rPr>
              <a:t>见动画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31440" y="549000"/>
            <a:ext cx="8642520" cy="41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汇编语言程序举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31440" y="1052640"/>
            <a:ext cx="864252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编程实现如图所示的逻辑功能。其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0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F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AH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是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地址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分析：逻辑电路的功能是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1.0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程序如下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C,20H       ;20H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L C,2FH       ;CY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逻辑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FH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L C           ;CY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取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L C,2AH      ;CY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逻辑或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AH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 P1.0,C      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结果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1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1928880" y="1557360"/>
            <a:ext cx="6192720" cy="160668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0" y="330984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4881600" y="3213000"/>
          <a:ext cx="1871640" cy="331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81600" y="3213000"/>
                    <a:ext cx="1871640" cy="33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31440" y="475920"/>
            <a:ext cx="864252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比较内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AM 30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1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单元中无符号数的大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使得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0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单元存放大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,31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单元存放小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31440" y="1052280"/>
            <a:ext cx="864252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分析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先清进位位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然后两数作带借位减法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根据借位标志判断两      数大小。程序流程图如右图所示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程序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TAR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LR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 A,30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B A,31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NC DONE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若无借位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即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30H)≥(31H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时转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 A,30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CH A,31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有借位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即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30H)&lt;(31H),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交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30H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31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 30H,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NE:      SJMP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5754600" y="1557360"/>
            <a:ext cx="323064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33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2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2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2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2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2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2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31440" y="404280"/>
            <a:ext cx="86425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编程统计累加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的个数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31440" y="907560"/>
            <a:ext cx="8642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分析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: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首先判断累加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是否为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0,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若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 = 0,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则程序结束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否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先清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Y,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再将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带进位循环左移一位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判断进位位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Y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是否为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,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则计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不为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则继续循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判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是否为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0,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重复这一过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直至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 = 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。程序流程图如图所示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2073240" y="1963800"/>
            <a:ext cx="5759640" cy="48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31800" y="563040"/>
            <a:ext cx="856944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程序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31440" y="980640"/>
            <a:ext cx="8642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 R1, # 0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计数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清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SH ACC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保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P1:  JZ DONE                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= 0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程序结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R C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进位位清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LC A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累加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带进位循环左移一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NC LOOP1              ;CY = 0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则继续循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 R1                      ;CY = 1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则计数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JMP LOO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NE:   POP ACC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恢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JMP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60160" y="563040"/>
            <a:ext cx="856908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任务演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31440" y="1052640"/>
            <a:ext cx="8713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任务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T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：算术、逻辑运算模拟系统软件设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见动画十一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31800" y="549000"/>
            <a:ext cx="856944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3.5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计算机中的数据编码</a:t>
            </a: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31440" y="907560"/>
            <a:ext cx="864252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一、带符号数的编码表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在计算机中，常常需要表示正数和负数，如何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示数据的符号位？如何表示带符号数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机器数的概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了表示带符号的数，可以把数的最高位作为符号位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余各位表示数值本身。一般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表示负号，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表示正号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这种把符号数码化了的数称为机器数，而把原来符号未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行数码化的数称为机器数的真值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如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+100111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-100111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是真值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100111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10011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是机器数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31800" y="691920"/>
            <a:ext cx="856944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补码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31440" y="836280"/>
            <a:ext cx="86425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补码表示带符号数的规则如下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1)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最高位表示符号，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表示正号，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表示负号；其余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表示数值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2)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正数补码的数值位与二进制真值相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3)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负数补码的数值位是其二进制真值取反后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补码表示八位带符号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=+10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00001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=-10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11101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=+000110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00001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=-000110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1110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=+111111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011111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=-111111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0000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31440" y="189000"/>
            <a:ext cx="87850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描述指令的一些符号的意义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0" y="549360"/>
          <a:ext cx="9632880" cy="6119640"/>
        </p:xfrm>
        <a:graphic>
          <a:graphicData uri="http://schemas.openxmlformats.org/drawingml/2006/table">
            <a:tbl>
              <a:tblPr/>
              <a:tblGrid>
                <a:gridCol w="2066760"/>
                <a:gridCol w="7566120"/>
              </a:tblGrid>
              <a:tr h="382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符  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意  义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TFDF1282EtCID-WinCharSetFFFF-H"/>
                        </a:rPr>
                        <a:t>R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T3D2B7B50tCID-WinCharSetFFFF-H"/>
                        </a:rPr>
                        <a:t>n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T7F5F5B8tCID-WinCharSetFFFF-H"/>
                        </a:rPr>
                        <a:t>(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T3D2B7B50tCID-WinCharSetFFFF-H"/>
                        </a:rPr>
                        <a:t>n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T7F5F5B8tCID-WinCharSetFFFF-H"/>
                        </a:rPr>
                        <a:t>=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TFDF1282EtCID-WinCharSetFFFF-H"/>
                        </a:rPr>
                        <a:t>0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TFDF1282EtCID-WinCharSetFFFF-H"/>
                        </a:rPr>
                        <a:t>7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T7F5F5B8tCID-WinCharSetFFFF-H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当前工作寄存器组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TFDF1282EtCID-WinCharSetFFFF-H"/>
                        </a:rPr>
                        <a:t>R0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TFDF1282EtCID-WinCharSetFFFF-H"/>
                        </a:rPr>
                        <a:t>R7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中的某一个寄存器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@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TFDF1282EtCID-WinCharSetFFFF-H"/>
                        </a:rPr>
                        <a:t>R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T3D2B7B50tCID-WinCharSetFFFF-H"/>
                        </a:rPr>
                        <a:t>i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T7F5F5B8tCID-WinCharSetFFFF-H"/>
                        </a:rPr>
                        <a:t>(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T3D2B7B50tCID-WinCharSetFFFF-H"/>
                        </a:rPr>
                        <a:t>i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T7F5F5B8tCID-WinCharSetFFFF-H"/>
                        </a:rPr>
                        <a:t>=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TFDF1282EtCID-WinCharSetFFFF-H"/>
                        </a:rPr>
                        <a:t>0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TFDF1282EtCID-WinCharSetFFFF-H"/>
                        </a:rPr>
                        <a:t>7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T7F5F5B8tCID-WinCharSetFFFF-H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作间接寻址的寄存器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“@”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是间接寻址标识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dir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内部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RAM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的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8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位地址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可以是单元地址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(00H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7FH)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或特殊功能寄存器地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T7F5F5B8tCID-WinCharSetFFFF-H"/>
                        </a:rPr>
                        <a:t>#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TFDF1282EtCID-WinCharSetFFFF-H"/>
                        </a:rPr>
                        <a:t>da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TFDF1282EtCID-WinCharSetFFFF-H"/>
                        </a:rPr>
                        <a:t>8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位立即数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其中“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#”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是立即数标识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T7F5F5B8tCID-WinCharSetFFFF-H"/>
                        </a:rPr>
                        <a:t>#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TFDF1282EtCID-WinCharSetFFFF-H"/>
                        </a:rPr>
                        <a:t>data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6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位立即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TFDF1282EtCID-WinCharSetFFFF-H"/>
                        </a:rPr>
                        <a:t>addr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TFDF1282EtCID-WinCharSetFFFF-H"/>
                        </a:rPr>
                        <a:t>11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位目的地址。用于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ACALL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和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AJMP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指令中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转移范围为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K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9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TFDF1282EtCID-WinCharSetFFFF-H"/>
                        </a:rPr>
                        <a:t>addr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TFDF1282EtCID-WinCharSetFFFF-H"/>
                        </a:rPr>
                        <a:t>16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位目的地址。用于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LCALL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和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LJMP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指令中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转移范围为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64K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re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相对转移指令中的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8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位偏移地址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范围是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-128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+1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9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TFDF1282EtCID-WinCharSetFFFF-H"/>
                        </a:rPr>
                        <a:t>DPT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数据指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用作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6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位的地址寄存器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TFDF1282EtCID-WinCharSetFFFF-H"/>
                        </a:rPr>
                        <a:t>bi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内部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RAM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或特殊功能寄存器中的直接寻址位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9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TFDF1282EtCID-WinCharSetFFFF-H"/>
                        </a:rPr>
                        <a:t>rr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在操作码中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表示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R0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R7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寄存器的编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TFDF1282EtCID-WinCharSetFFFF-H"/>
                        </a:rPr>
                        <a:t>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累加器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写作“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A”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时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是寄存器寻址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;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写作“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ACC”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时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是直接寻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特殊功能寄存器，用于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MUL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和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DIV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指令中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6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T7F5F5B8tCID-WinCharSetFFFF-H"/>
                        </a:rPr>
                        <a:t>/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位操作数的前缀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表示对该位操作数取反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(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存储单元地址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表示某存储单元的内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(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间址寄存器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由寄存器间接寻址的单元中的内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49240" y="-16092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31440" y="475920"/>
            <a:ext cx="864252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=+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00000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=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11111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=+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0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=-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0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=-1000000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8+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00000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49240" y="-19656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31440" y="475920"/>
            <a:ext cx="864252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补码可以直接参加运算，符号位与数值位一起参加运算。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如：补码加法的公式是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+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已知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0011101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1001110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+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解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 0 1 1 1 0 1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 0 0 1 1 1 0 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 1 0 1 0 1 1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即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+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1101011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该例表示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与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99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两个十进制真值相加，等于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它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补码正好是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101011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657600" y="3141720"/>
            <a:ext cx="28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64880" y="-572400"/>
            <a:ext cx="5398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31440" y="549360"/>
            <a:ext cx="864252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计算机中，由于机器码的位数是固定的，所以计算机中数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表示范围有限。若两数运算的结果超出了给定的取值范围，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发生运算溢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110001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0010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+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解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 1 0 0 0 1 0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 0 0 0 1 0 0 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 1 0 0 1 1 0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进位自动丢失，即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+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0100110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两个负数相加，结果为正数，这显然是错误的，出错的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因是运算发生了溢出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089240" y="3645000"/>
            <a:ext cx="2457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1" dur="2000"/>
                                        <p:tgtEl>
                                          <p:spTgt spid="2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4" dur="2000"/>
                                        <p:tgtEl>
                                          <p:spTgt spid="2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31800" y="563040"/>
            <a:ext cx="856944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二、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BCD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码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(Binary Coded Decimal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704880" y="907920"/>
            <a:ext cx="85694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6600"/>
                </a:solidFill>
                <a:latin typeface="Arial"/>
                <a:ea typeface="宋体"/>
              </a:rPr>
              <a:t>见动画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31440" y="563040"/>
            <a:ext cx="864252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测试与练习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820728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名词解释：寻址方式、操作数、汇编语言、机器码、伪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令、汇编、算术运算、逻辑运算、散转、子程序、程序流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写出指令运行的结果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1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已知内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2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0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外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0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F0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PTR=0100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O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1F0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8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试问执行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列程序段后累加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内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RG  0100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R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#32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@R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 R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X 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@R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C 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@A+DPT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31440" y="-232560"/>
            <a:ext cx="864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31440" y="404640"/>
            <a:ext cx="8642520" cy="60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数据传送指令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实现计算机内不同存储区域之间的信息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递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CS-5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指令系统中共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9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条数据传送指令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不同存储单元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间的数据传递如图所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136520" y="1700280"/>
            <a:ext cx="756144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31440" y="-123840"/>
            <a:ext cx="900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31440" y="404280"/>
            <a:ext cx="871380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ea typeface="宋体"/>
                <a:hlinkClick r:id="rId2" action="ppaction://hlinksldjump"/>
              </a:rPr>
              <a:t>1.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宋体"/>
                <a:ea typeface="宋体"/>
                <a:hlinkClick r:id="rId3" action="ppaction://hlinksldjump"/>
              </a:rPr>
              <a:t>内部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ea typeface="宋体"/>
                <a:hlinkClick r:id="rId4" action="ppaction://hlinksldjump"/>
              </a:rPr>
              <a:t>RAM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宋体"/>
                <a:ea typeface="宋体"/>
                <a:hlinkClick r:id="rId5" action="ppaction://hlinksldjump"/>
              </a:rPr>
              <a:t>、特殊功能寄存器之间的数据传送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宋体"/>
                <a:ea typeface="宋体"/>
                <a:hlinkClick r:id="rId6" action="ppaction://hlinksldjump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使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”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作为操作码助记符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共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6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条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7" action="ppaction://hlinksldjump"/>
              </a:rPr>
              <a:t>2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Times New Roman"/>
                <a:hlinkClick r:id="rId8" action="ppaction://hlinksldjump"/>
              </a:rPr>
              <a:t>．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宋体"/>
                <a:ea typeface="宋体"/>
                <a:hlinkClick r:id="rId9" action="ppaction://hlinksldjump"/>
              </a:rPr>
              <a:t>累加器与外部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ea typeface="宋体"/>
                <a:hlinkClick r:id="rId10" action="ppaction://hlinksldjump"/>
              </a:rPr>
              <a:t>RAM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宋体"/>
                <a:ea typeface="宋体"/>
                <a:hlinkClick r:id="rId11" action="ppaction://hlinksldjump"/>
              </a:rPr>
              <a:t>之间的数据传送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这类指令的操作码助记符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X”,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外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单元只能使用间接寻址方式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即可以使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PTR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i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作间址寄存器。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程序存储器中的数据传送到累加器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指令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这类指令的数据传送是单向的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只能从程序存储器向累加器传送数据。指令助记符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C”,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共两条指令。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内部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RAM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单元与累加器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之间数据交换指令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包括三种指令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字节交换指令、半字节交换指令、累加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的高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位与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位交换指令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堆栈操作指令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包括进栈、出栈指令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9240" y="-25236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31440" y="333000"/>
            <a:ext cx="87138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立即数传送指令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 A, # data       ;  A←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 direct, # data    ; (direct)←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 Rn, # data      ; Rn ←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 @ Ri, # data    ; (Ri)←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 DPTR, # data16 ; DPH ←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高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位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PL←data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析下列指令的寻址方式以及指令执行后存储单元和寄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器的内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A, # 20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目的操作数采用寄存器寻址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=20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32H, # 23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目的操作数采用直接寻址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32H)=23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R4, # 2F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目的操作数采用寄存器寻址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4=2F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T7F5F5B8tCID-WinCharSetFFFF-H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T7F5F5B8tCID-WinCharSetFFFF-H"/>
              </a:rPr>
              <a:t>MOV @ R0, # 5A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目的操作数采用寄存器间接寻址，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R0)=5A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DPTR, # 203F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目的操作数采用寄存器寻址，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PTR=203F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49240" y="-23256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31440" y="404280"/>
            <a:ext cx="864252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内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AM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单元之间的数据传送指令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 direct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rect2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direct1)←(direct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 direc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n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direct)←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 R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rect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n←(dir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 direc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@ Ri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direct)←(R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 @ R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rect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i)←(dir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例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分析指令的寻址方式和执行结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OV P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R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目的操作数采用直接寻址，源操作数为寄存器寻址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2=R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该指令等价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0A0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V 2FH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0H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两个操作数均采用直接寻址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FH)= (30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V 20H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@ R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目的操作数为直接寻址，源操作数为寄存器间接寻址，执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结果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0H)= (R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1T12:26:23Z</dcterms:created>
  <dc:creator>艳之语</dc:creator>
  <dc:description/>
  <cp:keywords/>
  <dc:language>en-US</dc:language>
  <cp:lastModifiedBy>艳之语</cp:lastModifiedBy>
  <dcterms:modified xsi:type="dcterms:W3CDTF">2008-05-30T05:13:36Z</dcterms:modified>
  <cp:revision>66</cp:revision>
  <dc:subject/>
  <dc:title>第3章  指令系统与汇编语言程序设计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962582052</vt:lpwstr>
  </property>
</Properties>
</file>