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09C-81EC-4793-AC82-2F833288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B15-54F3-4335-99D4-97F58E2C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91D-5717-4EEE-BED1-558A07FD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01E-EFC9-4A2F-BB69-865DD9A9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ECF-842B-4E59-9F39-F347251D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2DE-3AD2-4FF9-BD9E-562DF95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0983-F53D-441A-8BC6-27C5B55D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1C6-6AF7-433F-88D7-FACBBE0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EC8-670B-4E70-9D3C-DB25FF8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6AF-75BD-4798-AE0C-3BDE8AD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644-AA3D-49B7-A791-C44BE89E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CD6-C14C-4B66-A4C2-03F1252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284-BABD-4896-9411-93B42DC9E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1&#31456;%20%20&#30005;&#21160;&#26426;&#19982;&#30005;&#27668;&#25511;&#21046;&#32447;&#36335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电气控制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LC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功能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变频器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基本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200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步进指令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2286000" y="1371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电动机与电气控制线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第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章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PLC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与变频器综合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</cp:lastModifiedBy>
  <dcterms:modified xsi:type="dcterms:W3CDTF">2009-09-24T09:42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