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629-286B-40DD-8B06-8159DC70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F08-C9B7-45C6-AA84-141A018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7B2-852C-4E9E-8757-AE6D7E14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C74-7E67-47D1-A954-175BEA06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80D-E056-47F1-A187-D0377B7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6FF-6E36-41EC-8187-13836C4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7E6-BDD7-4CA3-BCEE-44F1F6E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3CB-DDF7-483F-9935-AEC5C02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1BF-E6E8-44D2-9087-F5D485B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C78-2389-4F84-8898-B8FBED8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58D-85EC-49CA-900D-38FB378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387-3DE5-469D-AD44-E46A2F6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EEBE-3001-49C8-A376-DD625E92D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1000" y="53352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功能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321640" y="167544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050200" y="22086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2120" y="2742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3240" y="327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3240" y="3808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7840" y="4266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200" y="47232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7840" y="56376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41320" y="51804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1200" y="851760"/>
            <a:ext cx="40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Times New Roman MT Extra Bold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黑体"/>
              </a:rPr>
              <a:t>降压启动过程和传送控制数据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76520"/>
          <a:ext cx="9144000" cy="3078000"/>
        </p:xfrm>
        <a:graphic>
          <a:graphicData uri="http://schemas.openxmlformats.org/drawingml/2006/table">
            <a:tbl>
              <a:tblPr/>
              <a:tblGrid>
                <a:gridCol w="1179360"/>
                <a:gridCol w="1509840"/>
                <a:gridCol w="965160"/>
                <a:gridCol w="1119240"/>
                <a:gridCol w="1066680"/>
                <a:gridCol w="1067040"/>
                <a:gridCol w="977760"/>
                <a:gridCol w="12589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端口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负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/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/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/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/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启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运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7848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0" y="39618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  Y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696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11960" y="30384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4768" t="0" r="0" b="0"/>
          <a:stretch/>
        </p:blipFill>
        <p:spPr>
          <a:xfrm>
            <a:off x="380880" y="1066680"/>
            <a:ext cx="390528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440" y="58665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程序跳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77380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用跳转指令的程序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手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选择开关的信号输入端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未接通时，执行手动程序段，反之执行自动程序段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闭接点起联锁作用，使手动、自动两个程序段只能选择其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47920"/>
          <a:ext cx="9144000" cy="1004760"/>
        </p:xfrm>
        <a:graphic>
          <a:graphicData uri="http://schemas.openxmlformats.org/drawingml/2006/table">
            <a:tbl>
              <a:tblPr/>
              <a:tblGrid>
                <a:gridCol w="1170000"/>
                <a:gridCol w="2467080"/>
                <a:gridCol w="2822400"/>
                <a:gridCol w="26845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条件跳转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0      C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跳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J   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175200" y="213120"/>
            <a:ext cx="266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3000" y="990000"/>
            <a:ext cx="31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61080"/>
            <a:ext cx="86104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标号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1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用于分支和跳转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放置在左母线的左边，一个标号只能出现一次，如出现两次或两次以上，程序报错。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一步步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跳转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跳转条件满足，则执行跳转指令，程序跳到以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入口的程序段中执行。否则不执行跳转指令，按顺序执行下一条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跳转指令可以使用同一个标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控制跳转的条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变成无条件跳转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495680" cy="417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05520" y="1378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39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具有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两种操作方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操作方式选择开关，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断开状态时，选择手动操作方式；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接通状态时，选择自动操作方式，不同操作方式进程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运转；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自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连续运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自动停机。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立即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01360" y="6095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3680" y="365760"/>
            <a:ext cx="37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设计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9920" y="60951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467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9320" y="30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905120"/>
          <a:ext cx="9144000" cy="1095120"/>
        </p:xfrm>
        <a:graphic>
          <a:graphicData uri="http://schemas.openxmlformats.org/drawingml/2006/table">
            <a:tbl>
              <a:tblPr/>
              <a:tblGrid>
                <a:gridCol w="839880"/>
                <a:gridCol w="1415880"/>
                <a:gridCol w="124956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2440" y="747360"/>
            <a:ext cx="256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7040" y="144720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03920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加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为相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指令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5766"/>
          <a:stretch/>
        </p:blipFill>
        <p:spPr>
          <a:xfrm>
            <a:off x="457200" y="2490840"/>
            <a:ext cx="8381880" cy="284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87000" y="548568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  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加法指令操作数的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DD   D0   D10 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操作数构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被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“和”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3760" y="227880"/>
            <a:ext cx="21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038840" cy="179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6920" y="2894760"/>
            <a:ext cx="27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267440" cy="312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88920" y="4876200"/>
            <a:ext cx="27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496040" cy="128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5040" y="5485680"/>
            <a:ext cx="29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1952640"/>
          <a:ext cx="9145440" cy="1095480"/>
        </p:xfrm>
        <a:graphic>
          <a:graphicData uri="http://schemas.openxmlformats.org/drawingml/2006/table">
            <a:tbl>
              <a:tblPr/>
              <a:tblGrid>
                <a:gridCol w="838080"/>
                <a:gridCol w="1306800"/>
                <a:gridCol w="128412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80680" y="518040"/>
            <a:ext cx="2548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减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9320" y="13852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00" y="3458160"/>
            <a:ext cx="8785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减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减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，例如指令语句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SUB    D0   D10   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245320" y="37980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1000" y="747360"/>
            <a:ext cx="238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元件与字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39520" y="1340640"/>
            <a:ext cx="6017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具有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或断开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种状态的元件称为位元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6560" y="2102760"/>
            <a:ext cx="5288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元件是位元件的有序集合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字元件最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最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77880" y="30474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元件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3429000"/>
          <a:ext cx="9144000" cy="3014640"/>
        </p:xfrm>
        <a:graphic>
          <a:graphicData uri="http://schemas.openxmlformats.org/drawingml/2006/table">
            <a:tbl>
              <a:tblPr/>
              <a:tblGrid>
                <a:gridCol w="2335320"/>
                <a:gridCol w="6808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继电器位元件组合的字元件，也称为输入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继电器位元件组合的字元件，也称为输出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辅助继电器位元件组合的字元件，也称为辅助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位元件组合的字元件，也称为状态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址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104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数据寄存器中存储的数据相减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减法指令，减法运算的结果差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−2 =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715000" cy="35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29920" y="5866560"/>
            <a:ext cx="25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79600" y="105840"/>
            <a:ext cx="256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乘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29320" y="608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0" y="1066680"/>
          <a:ext cx="9142560" cy="1005120"/>
        </p:xfrm>
        <a:graphic>
          <a:graphicData uri="http://schemas.openxmlformats.org/drawingml/2006/table">
            <a:tbl>
              <a:tblPr/>
              <a:tblGrid>
                <a:gridCol w="1063800"/>
                <a:gridCol w="1495440"/>
                <a:gridCol w="1334880"/>
                <a:gridCol w="52484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416960" y="2208960"/>
            <a:ext cx="62701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乘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乘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4087800"/>
            <a:ext cx="7848360" cy="223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2840" y="6338160"/>
            <a:ext cx="27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乘法的积占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乘法指令语句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   D0  D10  D20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被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积则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中。操作数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876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乘法指令，乘法运算的结果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×2 = 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标操作数中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33760" cy="41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29400" y="540972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乘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440" y="1876320"/>
          <a:ext cx="9142560" cy="1095480"/>
        </p:xfrm>
        <a:graphic>
          <a:graphicData uri="http://schemas.openxmlformats.org/drawingml/2006/table">
            <a:tbl>
              <a:tblPr/>
              <a:tblGrid>
                <a:gridCol w="887400"/>
                <a:gridCol w="1204920"/>
                <a:gridCol w="133524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355920" y="639360"/>
            <a:ext cx="2414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除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138528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3448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除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0900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但目标操作数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035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除法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V  D0  D10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被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商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操作数的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458200" cy="254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46840" y="5180760"/>
            <a:ext cx="38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除法的商和余数构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目标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14228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除法指令。除法运算结果的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可以看出，数据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根据余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判断数据的奇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181840" cy="3967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49080" y="54856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除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600200"/>
          <a:ext cx="9144000" cy="1095480"/>
        </p:xfrm>
        <a:graphic>
          <a:graphicData uri="http://schemas.openxmlformats.org/drawingml/2006/table">
            <a:tbl>
              <a:tblPr/>
              <a:tblGrid>
                <a:gridCol w="885960"/>
                <a:gridCol w="1784160"/>
                <a:gridCol w="1544760"/>
                <a:gridCol w="4929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145320" y="456120"/>
            <a:ext cx="2563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9320" y="1142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064680"/>
            <a:ext cx="8229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执行结果不影响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实际控制中通常不使用每个扫描周期目标操作数都要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连续执行方式，所以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经常使用脉冲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减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E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和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执行方式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736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开机初始脉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的那个扫描周期执行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数据被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存储，即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+1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接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存储的数据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3100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53520" y="6095160"/>
            <a:ext cx="25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9480" y="289440"/>
            <a:ext cx="384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单按钮的功率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89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线路和控制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的功率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控制要求是：加热功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挡位可调，大小分别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功率选择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第一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，第二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……第八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加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248520" cy="390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4816080"/>
            <a:ext cx="18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981080"/>
          <a:ext cx="9144000" cy="4016160"/>
        </p:xfrm>
        <a:graphic>
          <a:graphicData uri="http://schemas.openxmlformats.org/drawingml/2006/table">
            <a:tbl>
              <a:tblPr/>
              <a:tblGrid>
                <a:gridCol w="1789200"/>
                <a:gridCol w="1347840"/>
                <a:gridCol w="1349280"/>
                <a:gridCol w="1347840"/>
                <a:gridCol w="1350720"/>
                <a:gridCol w="19591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功率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元件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1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按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SB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065240" y="10659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功率控制的工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5231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功率控制的工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666880"/>
          <a:ext cx="9144000" cy="3259080"/>
        </p:xfrm>
        <a:graphic>
          <a:graphicData uri="http://schemas.openxmlformats.org/drawingml/2006/table">
            <a:tbl>
              <a:tblPr/>
              <a:tblGrid>
                <a:gridCol w="1660680"/>
                <a:gridCol w="1596960"/>
                <a:gridCol w="1251000"/>
                <a:gridCol w="2833560"/>
                <a:gridCol w="1801800"/>
              </a:tblGrid>
              <a:tr h="560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适用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n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包含的位元件最高位～最低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位元件个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能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6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8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28600" y="760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组件。多个位元件按一定规律的组合叫位组件，例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十进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组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取值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位元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输出位组件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组合及适用指令范围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2120" y="198036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全部组合及适用指令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93840" y="74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455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6916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93600" y="379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257560"/>
          <a:ext cx="9144000" cy="1095120"/>
        </p:xfrm>
        <a:graphic>
          <a:graphicData uri="http://schemas.openxmlformats.org/drawingml/2006/table">
            <a:tbl>
              <a:tblPr/>
              <a:tblGrid>
                <a:gridCol w="797040"/>
                <a:gridCol w="1407960"/>
                <a:gridCol w="130032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与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54400" y="1051560"/>
            <a:ext cx="34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与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8080" y="17661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03920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作相“与”逻辑运算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与”逻辑运算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字“与”指令的功能是将两个源操作数的数据，进行二进制按位相“与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53244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要求用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去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对字元件多余的控制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“与”进行屏蔽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171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65040" y="35805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与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4343400" cy="26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01320" y="61714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与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676520"/>
          <a:ext cx="9145440" cy="1095120"/>
        </p:xfrm>
        <a:graphic>
          <a:graphicData uri="http://schemas.openxmlformats.org/drawingml/2006/table">
            <a:tbl>
              <a:tblPr/>
              <a:tblGrid>
                <a:gridCol w="744480"/>
                <a:gridCol w="1409760"/>
                <a:gridCol w="127476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962080" y="365760"/>
            <a:ext cx="328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28960" y="121860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504240"/>
            <a:ext cx="85345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个相“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存储“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或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3600" y="29894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384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不受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控制而始终处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。可用字“或”指令屏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410080" cy="163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526" descr=""/>
          <p:cNvPicPr/>
          <p:nvPr/>
        </p:nvPicPr>
        <p:blipFill>
          <a:blip r:embed="rId2"/>
          <a:stretch/>
        </p:blipFill>
        <p:spPr>
          <a:xfrm>
            <a:off x="228600" y="3838680"/>
            <a:ext cx="4800600" cy="29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01320" y="60951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或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72840" y="32457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或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724040"/>
          <a:ext cx="9144000" cy="109548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29528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异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024000" y="258480"/>
            <a:ext cx="3675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异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05280" y="123264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4232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两个相“异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异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异或”，并将运算结果存入目标操作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456480"/>
            <a:ext cx="8534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反状态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67280" cy="1765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920" y="3798720"/>
            <a:ext cx="4800600" cy="2830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74560" y="3245760"/>
            <a:ext cx="25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异或”指令的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6360" y="54856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异或”指令运算过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5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69920" y="3038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96240" cy="5092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16520" y="62478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与返回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1523880"/>
          <a:ext cx="9144000" cy="1735200"/>
        </p:xfrm>
        <a:graphic>
          <a:graphicData uri="http://schemas.openxmlformats.org/drawingml/2006/table">
            <a:tbl>
              <a:tblPr/>
              <a:tblGrid>
                <a:gridCol w="1523880"/>
                <a:gridCol w="2667240"/>
                <a:gridCol w="2666880"/>
                <a:gridCol w="2286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   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    S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T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    F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ND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489680" y="334440"/>
            <a:ext cx="643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子程序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AL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R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与主程序结束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3360" y="106596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91716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表示主程序结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整个程序（包括主程序和子程序）结束。一个完整的程序可以没有子程序，但一定要有主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编写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后面，以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头，以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子程序调用条件满足，则中断主程序去执行子程序，标号是被调用子程序的入口地址。在子程序结束处一定要使用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意思是返回主程序中断处去继续执行主程序的下一条指令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子程序中，使用定时器的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子程序中再调用其他子程序称为子程序嵌套，嵌套总数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跳转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使用相同的标号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437360" cy="5638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7760" y="60840"/>
            <a:ext cx="3297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89680" y="762120"/>
            <a:ext cx="3902040" cy="3205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98480" y="64904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子程序调用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465440"/>
            <a:ext cx="33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功能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别接通时，将相应的数据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调用子程序；在子程序中，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的数据相加，运算结果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控制输出字元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4114800"/>
          <a:ext cx="9145440" cy="1403280"/>
        </p:xfrm>
        <a:graphic>
          <a:graphicData uri="http://schemas.openxmlformats.org/drawingml/2006/table">
            <a:tbl>
              <a:tblPr/>
              <a:tblGrid>
                <a:gridCol w="1324080"/>
                <a:gridCol w="2209680"/>
                <a:gridCol w="2054160"/>
                <a:gridCol w="1933560"/>
                <a:gridCol w="16239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（可用程序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（不可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殊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址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7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7-V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-Z0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68040" y="518040"/>
            <a:ext cx="26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53640" cy="226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9240" y="3245760"/>
            <a:ext cx="25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3733200"/>
            <a:ext cx="41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6840" y="5623560"/>
            <a:ext cx="58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32 7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9560" y="6247440"/>
            <a:ext cx="74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2 147 483 6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147 483 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18040" y="2275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295280"/>
          <a:ext cx="9144000" cy="1369800"/>
        </p:xfrm>
        <a:graphic>
          <a:graphicData uri="http://schemas.openxmlformats.org/drawingml/2006/table">
            <a:tbl>
              <a:tblPr/>
              <a:tblGrid>
                <a:gridCol w="1523880"/>
                <a:gridCol w="2057400"/>
                <a:gridCol w="4327560"/>
                <a:gridCol w="12351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8   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9   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452320" y="761040"/>
            <a:ext cx="364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658680"/>
            <a:ext cx="37339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必须成对出现，缺一不可。位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程序称为循环体，在一个扫描周期内，循环体反复被执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操作数用于指定循环的次数，只有执行完循环次数后，才执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下一条指令语句。循环指令的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，图中指定循环次数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05720" cy="5369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8000" y="183600"/>
            <a:ext cx="52138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用循环指令编写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循环增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694480" cy="6324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48520" y="51768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2948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嵌套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73280"/>
            <a:ext cx="6705360" cy="600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24640" y="137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循环指令的脉冲执行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50188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指令的脉冲执行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173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本例中，每按下一次按钮接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执行一次循环指令，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储的数据就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65800" y="60840"/>
            <a:ext cx="2764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变址寄存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52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38560" y="62478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址操作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3800" y="13716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循环、变址和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8222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分别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求它们的代数和，将运算结果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并用此结果控制输出位组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计算控制端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端，操作程序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7909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629400" cy="5948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59320" y="632376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、变址、子程序调用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2468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36000" y="684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9440" y="2163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比较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3352680"/>
          <a:ext cx="9144000" cy="25560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729520" y="2894760"/>
            <a:ext cx="36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接点比较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432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是根据运算比较结果，去控制相应的对象。比较类指令包括三种，即接点比较指令，组件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区间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228600"/>
          <a:ext cx="9144000" cy="47466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5943600" cy="87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77720" y="62478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点相等比较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2743200"/>
          <a:ext cx="9144000" cy="2465280"/>
        </p:xfrm>
        <a:graphic>
          <a:graphicData uri="http://schemas.openxmlformats.org/drawingml/2006/table">
            <a:tbl>
              <a:tblPr/>
              <a:tblGrid>
                <a:gridCol w="1216080"/>
                <a:gridCol w="797040"/>
                <a:gridCol w="799920"/>
                <a:gridCol w="1224000"/>
                <a:gridCol w="1225440"/>
                <a:gridCol w="1225800"/>
                <a:gridCol w="2655720"/>
              </a:tblGrid>
              <a:tr h="62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作 方 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作方式选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按钮作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动作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手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472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有两台电动机，受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；设手动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挡工作方式；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端，其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工作方式选择开关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过载保护。在手动方式中采用点动操作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挡自动方式中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后分别延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再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接点比较指令编写程序和分析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根据题意列出控制关系，如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2160" y="22852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730040"/>
            <a:ext cx="84582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的使用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X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列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编号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24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实际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功能指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分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。功能指令默认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加上前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O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默认是连续执行方式，加上后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为脉冲执行方式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多数功能指令有操作数。执行指令后其内容不变的称为源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被刷新内容的称为目标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81440" y="33814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0080" y="61560"/>
            <a:ext cx="296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28960" y="6087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440" y="1066680"/>
          <a:ext cx="9145440" cy="1249560"/>
        </p:xfrm>
        <a:graphic>
          <a:graphicData uri="http://schemas.openxmlformats.org/drawingml/2006/table">
            <a:tbl>
              <a:tblPr/>
              <a:tblGrid>
                <a:gridCol w="1625400"/>
                <a:gridCol w="1306440"/>
                <a:gridCol w="1440000"/>
                <a:gridCol w="47736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脉冲型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目标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790960" cy="1930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96160" y="37332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能指令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461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28680" y="64904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1764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组件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720" y="68508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0" y="1143000"/>
          <a:ext cx="9142560" cy="1004760"/>
        </p:xfrm>
        <a:graphic>
          <a:graphicData uri="http://schemas.openxmlformats.org/drawingml/2006/table">
            <a:tbl>
              <a:tblPr/>
              <a:tblGrid>
                <a:gridCol w="1060560"/>
                <a:gridCol w="1411200"/>
                <a:gridCol w="1409760"/>
                <a:gridCol w="52610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496040" cy="3436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599440" y="2422800"/>
            <a:ext cx="2594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3124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0520" y="61714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0" y="4572000"/>
          <a:ext cx="9144000" cy="1674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件 规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信号输入控制字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K1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转换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28600" y="9597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大、中、小三种规格的工件，用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判别工件规格，然后启动分别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相应操作机构；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光电传感器用于复位操作机构。用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工件规格判别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9320" y="198720"/>
            <a:ext cx="2442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943600" cy="181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76640" y="3656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8480" y="411408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件规格与光电信号转换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70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38560" y="632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件规格判别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93960" y="60840"/>
            <a:ext cx="288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6087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990720"/>
          <a:ext cx="9144000" cy="1004760"/>
        </p:xfrm>
        <a:graphic>
          <a:graphicData uri="http://schemas.openxmlformats.org/drawingml/2006/table">
            <a:tbl>
              <a:tblPr/>
              <a:tblGrid>
                <a:gridCol w="719280"/>
                <a:gridCol w="1338120"/>
                <a:gridCol w="1560600"/>
                <a:gridCol w="55260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91160" y="2102760"/>
            <a:ext cx="4379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格式为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  S1  S2  S3  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572000" cy="3513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70160" y="63237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47508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 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 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62880" y="274680"/>
            <a:ext cx="2385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898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工件，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。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对工件进行计数。当计件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指示灯常亮；当计件数量等于或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时，指示灯闪烁；当计件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传送带停机，同时指示灯熄灭。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并用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1238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15280" y="26661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5257800" cy="344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546520" y="6171480"/>
            <a:ext cx="29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20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33920" y="61560"/>
            <a:ext cx="311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马路照明灯时钟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0560" y="579600"/>
            <a:ext cx="358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时钟专用的特殊辅助继电器和特殊数据寄存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7040" y="990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0720" y="35046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数据寄存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1371600"/>
          <a:ext cx="9144000" cy="2009880"/>
        </p:xfrm>
        <a:graphic>
          <a:graphicData uri="http://schemas.openxmlformats.org/drawingml/2006/table">
            <a:tbl>
              <a:tblPr/>
              <a:tblGrid>
                <a:gridCol w="3032280"/>
                <a:gridCol w="3033720"/>
                <a:gridCol w="307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辅助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    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和改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，改写时钟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显示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显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复位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升沿时修正秒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时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错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写时间数据超出范围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0" y="3886200"/>
          <a:ext cx="9144000" cy="26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范   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历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周日～周六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8160" y="122400"/>
            <a:ext cx="1450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设定时钟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13360" cy="6095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19524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时钟信息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05520" y="2584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5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盏指示灯，控制要求是：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奇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偶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灭。试设计电路并用数据传送指令编写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2200" y="1980360"/>
            <a:ext cx="25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84836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5000" y="6019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136440"/>
            <a:ext cx="219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马路照明灯时钟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7200" y="152280"/>
            <a:ext cx="6099480" cy="6705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53080" y="50288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马路照明灯时钟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5400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马路照明灯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控制一半。每年夏季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）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开一半灯。其余季节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开一半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84320" y="151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2000" y="532800"/>
            <a:ext cx="2980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2120" y="9900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171440"/>
                <a:gridCol w="5857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04920" y="259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循环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13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执行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P  D0  K4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后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3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进位标志位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执行过程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458200" cy="2616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33560" y="609516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273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68280" y="2666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13720" y="38854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4582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9852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9320" y="76140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143000"/>
          <a:ext cx="9144000" cy="1004760"/>
        </p:xfrm>
        <a:graphic>
          <a:graphicData uri="http://schemas.openxmlformats.org/drawingml/2006/table">
            <a:tbl>
              <a:tblPr/>
              <a:tblGrid>
                <a:gridCol w="831960"/>
                <a:gridCol w="1055520"/>
                <a:gridCol w="1170000"/>
                <a:gridCol w="60865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右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240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604960" y="51048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73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2681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225480" y="2971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61080" y="380916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8763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3110040"/>
          <a:ext cx="9144000" cy="1919160"/>
        </p:xfrm>
        <a:graphic>
          <a:graphicData uri="http://schemas.openxmlformats.org/drawingml/2006/table">
            <a:tbl>
              <a:tblPr/>
              <a:tblGrid>
                <a:gridCol w="1382760"/>
                <a:gridCol w="1400040"/>
                <a:gridCol w="1847880"/>
                <a:gridCol w="2108160"/>
                <a:gridCol w="2405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04920" y="6084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现流水灯控制。某灯光招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灯，要求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灯以正、反序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隔轮流点亮；按下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由于输出动作频繁，应选择晶体管或晶闸管输出类型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流水灯控制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7920" y="2590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35800" cy="6705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38920" y="60192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731680" y="137160"/>
            <a:ext cx="2850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4400" y="91368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898560"/>
                <a:gridCol w="1062000"/>
                <a:gridCol w="1181160"/>
                <a:gridCol w="2841480"/>
                <a:gridCol w="1055880"/>
                <a:gridCol w="2104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80880" y="3229560"/>
            <a:ext cx="8458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左移就是源操作数从目标操作数的低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高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指令的连续执行方式中，每一个扫描周期都会移位一次。在实际控制中，常采用脉冲执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84760" y="380160"/>
            <a:ext cx="39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5638680" cy="2371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833200" y="335196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7467840" cy="1971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11160" y="6247800"/>
            <a:ext cx="29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88080" y="198720"/>
            <a:ext cx="234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897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3720" y="312336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21164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43440" y="6019200"/>
            <a:ext cx="19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762120"/>
          <a:ext cx="9144000" cy="2009520"/>
        </p:xfrm>
        <a:graphic>
          <a:graphicData uri="http://schemas.openxmlformats.org/drawingml/2006/table">
            <a:tbl>
              <a:tblPr/>
              <a:tblGrid>
                <a:gridCol w="1222200"/>
                <a:gridCol w="828720"/>
                <a:gridCol w="831960"/>
                <a:gridCol w="828720"/>
                <a:gridCol w="831960"/>
                <a:gridCol w="828720"/>
                <a:gridCol w="828360"/>
                <a:gridCol w="831960"/>
                <a:gridCol w="828720"/>
                <a:gridCol w="12826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位组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572560" y="3042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6386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60640" y="518040"/>
            <a:ext cx="288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13089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1800360"/>
          <a:ext cx="9144000" cy="1095120"/>
        </p:xfrm>
        <a:graphic>
          <a:graphicData uri="http://schemas.openxmlformats.org/drawingml/2006/table">
            <a:tbl>
              <a:tblPr/>
              <a:tblGrid>
                <a:gridCol w="914400"/>
                <a:gridCol w="1201680"/>
                <a:gridCol w="1174680"/>
                <a:gridCol w="2500560"/>
                <a:gridCol w="1143000"/>
                <a:gridCol w="2209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04920" y="3305880"/>
            <a:ext cx="8534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右移就是源操作数从目标操作数的高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低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856160" y="456120"/>
            <a:ext cx="39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952880" cy="2082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757240" y="3123360"/>
            <a:ext cx="30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624780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807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837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7200" y="212760"/>
            <a:ext cx="2388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056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在未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前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89680" y="304740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8839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7610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为了减小电动机同时启动对电源的影响，利用位移指令实现间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顺序通电控制。按下停止按钮时，同时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675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60720" y="2680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3263760"/>
          <a:ext cx="9144000" cy="14605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7680"/>
                <a:gridCol w="2041560"/>
                <a:gridCol w="2043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01320" y="617148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568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0010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94360" y="456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0840" y="1020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97760" y="57142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数码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72600" y="19512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七段数码管与显示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440" y="1752480"/>
          <a:ext cx="9142560" cy="4019400"/>
        </p:xfrm>
        <a:graphic>
          <a:graphicData uri="http://schemas.openxmlformats.org/drawingml/2006/table">
            <a:tbl>
              <a:tblPr/>
              <a:tblGrid>
                <a:gridCol w="1292400"/>
                <a:gridCol w="1303200"/>
                <a:gridCol w="736560"/>
                <a:gridCol w="738360"/>
                <a:gridCol w="738000"/>
                <a:gridCol w="736920"/>
                <a:gridCol w="738000"/>
                <a:gridCol w="738360"/>
                <a:gridCol w="738000"/>
                <a:gridCol w="138276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进制数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显示电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显示代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进制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4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62840" y="129456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字与七段显示电平和显示代码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67680" y="351000"/>
            <a:ext cx="1602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数码管应用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217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计一个用数码显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智力竞赛抢答器。某参赛选手抢先按下自己的按钮时，则显示该选手的号码，同时联锁其他参赛选手的输入信号无效。主持人按复位按钮清除显示数码后，比赛继续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5241960"/>
            <a:ext cx="18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8672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553080" y="380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2552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700360" y="1232640"/>
            <a:ext cx="33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46240" y="563040"/>
            <a:ext cx="313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编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1440" y="1724040"/>
          <a:ext cx="9146880" cy="1095480"/>
        </p:xfrm>
        <a:graphic>
          <a:graphicData uri="http://schemas.openxmlformats.org/drawingml/2006/table">
            <a:tbl>
              <a:tblPr/>
              <a:tblGrid>
                <a:gridCol w="777600"/>
                <a:gridCol w="1295640"/>
                <a:gridCol w="1179360"/>
                <a:gridCol w="58942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编码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28600" y="3503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编码的源操作组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七段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二进制数编码，如果源操作组件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只对最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编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编码范围为十六进制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98520" y="213120"/>
            <a:ext cx="306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10040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0" y="1539720"/>
          <a:ext cx="9142560" cy="669960"/>
        </p:xfrm>
        <a:graphic>
          <a:graphicData uri="http://schemas.openxmlformats.org/drawingml/2006/table">
            <a:tbl>
              <a:tblPr/>
              <a:tblGrid>
                <a:gridCol w="1251000"/>
                <a:gridCol w="1970280"/>
                <a:gridCol w="2960640"/>
                <a:gridCol w="2960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区间复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40   Z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489040"/>
            <a:ext cx="6400800" cy="200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4880" y="481428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复位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547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  Y0  Y3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时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5160" y="670680"/>
            <a:ext cx="30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57240" y="46476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4952880" cy="3119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510444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并将编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6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110 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0 0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40040" y="1172880"/>
            <a:ext cx="304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3  BC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132640"/>
            <a:ext cx="853452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，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二进制形式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；对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，显示的数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十六进制数，而不是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然，要想显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就要先将二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成反映十进制进位关系（即逢十进一）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10 0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别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出七段显示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种用二进制形式反映十进制进位关系的代码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其中最常用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838080"/>
          <a:ext cx="9144000" cy="56944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8421BC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838080"/>
          <a:ext cx="9144000" cy="23446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101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304920" y="3854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表中可以看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从低位起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为一组，高位不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与二进制数的形式相同，但概念完全不同，虽然在一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中，每位的进位也是二进制，但在组与组之间的进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则是十进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45648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码转换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正确地显示十进制数码，必须先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将二进制形式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再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成七段显示码，最后输出控制数码管发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43520" y="1751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0" y="2209680"/>
          <a:ext cx="9142560" cy="1095480"/>
        </p:xfrm>
        <a:graphic>
          <a:graphicData uri="http://schemas.openxmlformats.org/drawingml/2006/table">
            <a:tbl>
              <a:tblPr/>
              <a:tblGrid>
                <a:gridCol w="1121040"/>
                <a:gridCol w="1296720"/>
                <a:gridCol w="1181160"/>
                <a:gridCol w="55436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C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转换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04920" y="39009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转换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源操作数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目标操作数中。在目标操作数中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，从低至高分别表示个位、十位、百位、千位……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 99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4561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先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040" y="2666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2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4952880" cy="228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19160" y="6247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3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23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7160" y="13788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位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807480"/>
            <a:ext cx="8686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停车场最多可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辆车，用两位数码管显示停车数量。用出入传感器检测进出车辆数，每进一辆车停车数量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出一辆车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场内停车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入口处绿灯亮，允许入场；等于和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绿灯闪烁，提醒待进车辆注意将满场；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红灯亮，禁止车辆入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72400" y="44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2155680"/>
            <a:ext cx="7467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248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7108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483360" y="59436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、输出器件位置示意图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0566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9520" cy="1712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06120" y="3428280"/>
            <a:ext cx="36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设备位置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5880" y="281952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03640" y="304200"/>
            <a:ext cx="525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5.1.5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31840" y="5804640"/>
            <a:ext cx="27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46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