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89C-D2C6-43AF-BA4D-B4FF8181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95C-011A-4352-A9AC-9160267E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1B8-22A7-4537-AA2C-8138FDBF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805-CC84-40DD-BD47-AB435CEC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BA6-2262-4DE6-95AC-17CA342F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858-AC9B-4666-A515-45A38182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F33-B032-4986-B141-10BBEC30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5B8-3BA9-4389-BF25-2EEE5418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B14-D5E0-4A1E-A957-475B88D4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346-DA6C-428F-AD2A-768CB61E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EBE-F4CD-4254-B052-886AAAF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926-17E1-4662-87D8-9E597A78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69C2-DD3B-4D38-909D-871D3B73D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4680" y="1143000"/>
            <a:ext cx="49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步进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3025080" y="236160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1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及步进程序的编程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1440" y="312336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2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单流程控制举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53440" y="396180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3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选择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53440" y="472356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4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并行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4821120" cy="670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699120"/>
            <a:ext cx="28954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2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运料小车单流程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537804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48520" y="2278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3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选择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760" y="791640"/>
            <a:ext cx="348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选择不同运行方式的运料小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155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27320" y="3733560"/>
            <a:ext cx="17334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运料小车的选择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84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在左面装料处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种原料中选择一种装入，右行送料，自动将原料对应卸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处，左行返回装料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6040" y="500400"/>
            <a:ext cx="472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组合选择在何处卸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闭合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闭合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闭合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333760" cy="455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48320" y="5942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结构的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-1440" y="3962520"/>
          <a:ext cx="9145440" cy="27288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53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元 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开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开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限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345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17920" y="3472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12680" y="105840"/>
            <a:ext cx="512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选择不同运行方式的运料小车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620120" cy="590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58600" y="63237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77120" y="38016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4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并行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1320" y="867960"/>
            <a:ext cx="2748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十字路口交通信号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50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信号灯一个周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时序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南北信号灯和东西信号灯同时工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绿灯亮，东西信号红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黄灯亮，东西信号红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红灯亮，东西信号绿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红灯亮，东西信号黄灯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5410440" cy="370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24480" y="5394240"/>
            <a:ext cx="23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的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384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68840" y="59112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4160" y="7610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信号灯控制线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48840" y="456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流程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487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21400" y="59112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886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2720520" y="45648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1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及步进程序的编程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4760" y="1097640"/>
            <a:ext cx="348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台电动机顺序启动控制线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9036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控制要求是：按下启动按钮，第一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三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全部停机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6640" y="289476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3352680"/>
          <a:ext cx="9144000" cy="187344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523880"/>
                <a:gridCol w="1676520"/>
                <a:gridCol w="137160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5854680" cy="655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11271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控制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560" y="281880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06320" y="182160"/>
            <a:ext cx="1651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工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80060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3360960" cy="487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20320" y="5942880"/>
            <a:ext cx="26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27160" y="598716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895480"/>
          <a:ext cx="9144000" cy="1005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初始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回零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用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保持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报警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188880" y="639360"/>
            <a:ext cx="229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状态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44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步进程序中要使用状态继电器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有状态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点，分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，状态继电器元件分类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96600" y="24058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25240" y="258480"/>
            <a:ext cx="2017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状态流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29707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流程图是描述顺序控制功能的图解表示法（见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状态流程图主要由状态（工步）、动作、有向连线、转换条件组成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344016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64640" y="6171480"/>
            <a:ext cx="15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503880"/>
            <a:ext cx="8382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使用说明如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将步进接点接到左母线，步进接点只有常开接点。步进接点接通，需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置位。步进接点如同主控指令一样，将左母线移到新的临时位置，即移到步进接点右边，相当于临时母线。所以，步进指令后的接点必须使用“取”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步进接点具有主控功能。步进接点接通，与之相连的电路被执行；步进接点断开，与之相连的电路停止执行。若要在步进接点断开时仍然保持线圈的输出，要使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不要使用输出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称为“步进返回”指令，其功能是返回到原来左母线的位置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仅在最后一个状态的末行使用一次，否则程序报错不能运行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80560" y="182160"/>
            <a:ext cx="3376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步进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TL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8720" y="76140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-1440" y="1371600"/>
          <a:ext cx="9145440" cy="1095120"/>
        </p:xfrm>
        <a:graphic>
          <a:graphicData uri="http://schemas.openxmlformats.org/drawingml/2006/table">
            <a:tbl>
              <a:tblPr/>
              <a:tblGrid>
                <a:gridCol w="1220760"/>
                <a:gridCol w="1471320"/>
                <a:gridCol w="3453120"/>
                <a:gridCol w="1933560"/>
                <a:gridCol w="1066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进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左母线上连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继电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进返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左母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91320" y="486720"/>
            <a:ext cx="2838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步进梯形图和指令表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16564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的步进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45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69252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29160" y="30420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2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单流程控制举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14280" y="867960"/>
            <a:ext cx="2748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运料小车单流程控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1120" y="61714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工作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16920" y="6247800"/>
            <a:ext cx="15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609480"/>
          <a:ext cx="9147240" cy="200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4240"/>
                <a:gridCol w="1523880"/>
                <a:gridCol w="15256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限位开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限位开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装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卸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617920" y="1962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5715000" cy="3740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10280" y="539388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3T07:52:0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