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E79-2BCA-4A46-8031-BFBACD2D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AD3-1337-4F94-8953-C7C94CBF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F88-1CD1-427C-B8A2-B46A2032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659-6F79-4220-B40F-FBAE2C1A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519-FF8C-4743-AFF0-CB728B48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A79-634F-47E5-BB0D-D2679C2F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E08-3AA6-4A67-89F8-64055B3B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015-DFD7-4BFE-8360-C7DE63E6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B92-32A9-443C-ABE2-4F762CCC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151-68CA-4C97-9AB9-C374670A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A7C-0E02-4079-AF5D-9409E85B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1E3-12A8-421B-8ED9-37225E2B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D8DB-9A37-4EE7-B8A0-D2E162B249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31532;1&#31456;%20%20&#30005;&#21160;&#26426;&#19982;&#30005;&#27668;&#25511;&#21046;&#32447;&#36335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电气控制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PLC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功能指令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981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变频器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2590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基本指令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3200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步进指令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2286000" y="1371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电动机与电气控制线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343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与变频器综合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</cp:lastModifiedBy>
  <dcterms:modified xsi:type="dcterms:W3CDTF">2009-09-24T09:42:0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