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90FC-EF6C-4B98-B3B1-16B22295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CFF3-669D-4D73-8AAE-1C984EBE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4660-D83C-4679-B311-4495A133B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274F-8A9F-4E9C-98AC-617C25FCE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668C-C650-439A-BAA0-47DA1015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A0CF-5F8C-4A8C-A572-A7790AEF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FE16-71F8-4B41-A334-2FFF81EE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FC17-3F03-440B-A69F-BC0378BA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6803-04AE-43A9-92BF-0DA90396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C129-1D12-48D3-A5AB-8454BBFA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7FCB-77A5-4208-86E0-EE759640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89A5-E971-4B01-8702-24D1CD1C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楷体_GB2312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楷体_GB2312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A184-0272-4670-A32D-AA5AF8FB68E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84720" y="-27000"/>
            <a:ext cx="3059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</a:t>
            </a: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出版社  理工分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546960" y="115920"/>
            <a:ext cx="401400" cy="3999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6929280" y="187200"/>
            <a:ext cx="738360" cy="3016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68360" y="189000"/>
            <a:ext cx="5832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电动电热器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27169;&#22359;&#20108;%20&#30005;&#21160;&#22120;&#20855;.ppt" TargetMode="External"/><Relationship Id="rId3" Type="http://schemas.openxmlformats.org/officeDocument/2006/relationships/hyperlink" Target="file:///&#27169;&#22359;&#19968;%20&#30005;&#28909;&#22120;&#20855;.ppt" TargetMode="External"/><Relationship Id="rId4" Type="http://schemas.openxmlformats.org/officeDocument/2006/relationships/hyperlink" Target="file:///&#21442;&#32771;&#25991;&#29486;.ppt" TargetMode="External"/><Relationship Id="rId5" Type="http://schemas.openxmlformats.org/officeDocument/2006/relationships/hyperlink" Target="file:///&#38468;&#24405;.ppt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2160" y="-73080"/>
            <a:ext cx="9329760" cy="7004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780000" y="26028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国家一级出版社  全国百佳图书出版单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-100080"/>
            <a:ext cx="7524720" cy="64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中等职业教育电类专业系列教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17840" y="190008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主讲人：毛国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1440" y="981000"/>
            <a:ext cx="45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电动电热器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52720" y="6165720"/>
            <a:ext cx="401760" cy="400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56720" y="62611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出版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284720" y="6097680"/>
            <a:ext cx="1138320" cy="644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300720" y="-100080"/>
            <a:ext cx="2843280" cy="64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38080" indent="-838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出版社  理工分社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546960" y="115920"/>
            <a:ext cx="401400" cy="399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7002360" y="187200"/>
            <a:ext cx="738360" cy="30168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rId2"/>
          </p:cNvPr>
          <p:cNvSpPr/>
          <p:nvPr/>
        </p:nvSpPr>
        <p:spPr>
          <a:xfrm>
            <a:off x="1476360" y="2997360"/>
            <a:ext cx="5040360" cy="576000"/>
          </a:xfrm>
          <a:prstGeom prst="rect">
            <a:avLst/>
          </a:prstGeom>
          <a:solidFill>
            <a:srgbClr val="def2e8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模块二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电动器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3"/>
          </p:cNvPr>
          <p:cNvSpPr/>
          <p:nvPr/>
        </p:nvSpPr>
        <p:spPr>
          <a:xfrm>
            <a:off x="1476360" y="2060640"/>
            <a:ext cx="5040360" cy="576360"/>
          </a:xfrm>
          <a:prstGeom prst="rect">
            <a:avLst/>
          </a:prstGeom>
          <a:solidFill>
            <a:srgbClr val="def2e8"/>
          </a:solidFill>
          <a:ln w="9360">
            <a:solidFill>
              <a:srgbClr val="bbe0e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模块一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电热器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4"/>
          </p:cNvPr>
          <p:cNvSpPr/>
          <p:nvPr/>
        </p:nvSpPr>
        <p:spPr>
          <a:xfrm>
            <a:off x="4500720" y="4726080"/>
            <a:ext cx="3600360" cy="504720"/>
          </a:xfrm>
          <a:prstGeom prst="rect">
            <a:avLst/>
          </a:prstGeom>
          <a:solidFill>
            <a:srgbClr val="def2e8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参考文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5"/>
          </p:cNvPr>
          <p:cNvSpPr/>
          <p:nvPr/>
        </p:nvSpPr>
        <p:spPr>
          <a:xfrm>
            <a:off x="4500720" y="4005360"/>
            <a:ext cx="3600360" cy="504720"/>
          </a:xfrm>
          <a:prstGeom prst="rect">
            <a:avLst/>
          </a:prstGeom>
          <a:solidFill>
            <a:srgbClr val="def2e8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附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-100080"/>
            <a:ext cx="7524720" cy="64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高中等职业教育电类专业系列教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00720" y="-100080"/>
            <a:ext cx="2843280" cy="64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38080" indent="-838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出版社  理工分社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546960" y="115920"/>
            <a:ext cx="401400" cy="399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7002360" y="187200"/>
            <a:ext cx="738360" cy="301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72720" y="1577880"/>
            <a:ext cx="630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著作权人   毛国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字编辑   谭  敏  曾春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责任校对   夏  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艺术设计   莫  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作单位   重庆大学电子音像出版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    号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SBN 978-7-5624-5292-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 版 人   张鸽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监    制   刘茂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 版 社   重庆大学电子音像出版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xit" presetID="3" presetSubtype="10">
                                  <p:stCondLst>
                                    <p:cond delay="3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-100080"/>
            <a:ext cx="7524720" cy="64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中等职业教育电类专业系列教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00720" y="-100080"/>
            <a:ext cx="2843280" cy="64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38080" indent="-838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出版社  理工分社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546960" y="115920"/>
            <a:ext cx="401400" cy="399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7002360" y="187200"/>
            <a:ext cx="738360" cy="3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708360" y="2276640"/>
            <a:ext cx="180036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再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01:09:35Z</dcterms:created>
  <dc:creator>莫克</dc:creator>
  <dc:description/>
  <dc:language>en-US</dc:language>
  <cp:lastModifiedBy>User</cp:lastModifiedBy>
  <dcterms:modified xsi:type="dcterms:W3CDTF">2010-08-04T08:58:24Z</dcterms:modified>
  <cp:revision>101</cp:revision>
  <dc:subject/>
  <dc:title>旅游文学作品赏析 </dc:title>
</cp:coreProperties>
</file>