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679-8CC5-4E7B-AB3C-D949777C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BD3-7452-4DC7-AD4E-E037DE1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1F8-2D57-4B4C-B292-F8B5B49B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4F-67B8-4918-AF68-37D8AC80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9CC-9C7B-42BD-AA0A-CE53E6BE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E56-E737-41C6-81BC-7FAF7F79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12A-62C3-4583-A91F-1FBE6C65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7C2-D4EA-4812-AAD7-8BD09CB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5F4-4B15-4C54-ACA6-42C5C2B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662-B265-451A-84CD-93421C6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85B-666D-4D24-A937-F15D6A9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D7C-DC66-45D6-AA75-D3B1469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310-B918-4CFB-8BF6-E79D262DF4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经管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0"/>
            <a:ext cx="6372360" cy="547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147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王学屯．常用小家电原理与维修技巧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电子工业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程美玲，周小群．家电维修速成图解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南京：江苏科学技术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麦汉光，王军伟．家用电器技术基础与维修技术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：高等教育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付克达，王国玉．家用电动电热器具原理与维修实训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7188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参考文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F3D-92C8-4525-AECC-048AF7707DB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052640"/>
            <a:ext cx="8147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刘文科．厨卫家电使用与维修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中国劳动社会保障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代明恒．吸尘器修理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重庆：重庆大学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王新华．厨房电器维修速成图解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南京：江苏科学技术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周志敏，纪爱华．电磁炉故障维修入门与电路图集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中国电力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韩雪涛．电磁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波炉常见故障实修演练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D75-AECC-4F21-A056-B33675993E7C}" type="slidenum">
              <a:t>2</a:t>
            </a:fld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roger</cp:lastModifiedBy>
  <dcterms:modified xsi:type="dcterms:W3CDTF">2010-07-20T03:43:54Z</dcterms:modified>
  <cp:revision>111</cp:revision>
  <dc:subject/>
  <dc:title>旅游文学作品赏析 </dc:title>
</cp:coreProperties>
</file>