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921D-C4D9-4911-B0E7-A4680C31B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F666-A09C-474D-BFD5-99BBDEB89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BAA7-B734-4A62-BB4E-E6B9E6211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C7A1-2B1E-4737-8C90-7276F3B7B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C049-54D5-4C65-BC1A-8B04F48B3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C4AF-8B7C-4838-87E3-4031AE66A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0B9A-FD34-4B9D-9B49-F482BD6A2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B05F-A6E4-4380-9EB8-D590D6C2F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7264-A131-486D-BF77-3051242C6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C0E3-FDBE-4504-8AD0-9F7C247A3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1764-317E-43B4-A53C-517158ED5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C0DA-3CD1-428D-AC84-FED121093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5493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84A4A-37D0-429D-AFEC-AEE7FCE0F02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084720" y="-27000"/>
            <a:ext cx="30592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</a:t>
            </a:r>
            <a:r>
              <a:rPr b="0" lang="zh-CN" sz="1000" spc="-1" strike="noStrike">
                <a:solidFill>
                  <a:srgbClr val="ffffff"/>
                </a:solidFill>
                <a:latin typeface="黑体"/>
                <a:ea typeface="黑体"/>
              </a:rPr>
              <a:t>出版社  理工分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6546960" y="115920"/>
            <a:ext cx="401400" cy="3999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6929280" y="187200"/>
            <a:ext cx="738360" cy="3016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395280" y="189000"/>
            <a:ext cx="583236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838080" indent="-838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电动电热器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11280" y="1011240"/>
            <a:ext cx="78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附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录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52360" y="1916280"/>
            <a:ext cx="8640720" cy="4192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EDE1-8D0B-4495-9CC9-E2B200AE2BFF}" type="slidenum">
              <a:t>1</a:t>
            </a:fld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4360" y="1557360"/>
            <a:ext cx="784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938320" y="1916280"/>
            <a:ext cx="2857680" cy="39654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11280" y="1011240"/>
            <a:ext cx="78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附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录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671B-3001-4DE2-B6F0-5CA6F78D1FB8}" type="slidenum">
              <a:t>2</a:t>
            </a:fld>
          </a:p>
        </p:txBody>
      </p:sp>
    </p:spTree>
  </p:cSld>
  <p:transition spd="slow">
    <p:zoom dir="ou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30T01:09:35Z</dcterms:created>
  <dc:creator>莫克</dc:creator>
  <dc:description/>
  <dc:language>en-US</dc:language>
  <cp:lastModifiedBy>roger</cp:lastModifiedBy>
  <dcterms:modified xsi:type="dcterms:W3CDTF">2010-07-20T03:42:41Z</dcterms:modified>
  <cp:revision>148</cp:revision>
  <dc:subject/>
  <dc:title>旅游文学作品赏析 </dc:title>
</cp:coreProperties>
</file>