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AA1-9774-46A4-8F6C-671EACFE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344-2BC8-430E-89D2-AC30626C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1F9-206B-470C-930C-F7740F6E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7EC-FE72-4DD3-BBB7-79E3E5B7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C63-1865-46A1-8B8E-F46C5624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7AF-2365-4EC7-AA42-4BA26FF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AF6-7FEA-43DD-8484-B77C44C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807-0B63-4FA1-A48D-1925382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43C-5D3D-4BFD-8A74-CFC4AA25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6DD-84FF-4468-B879-1A48916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AC2-5CA1-4AF8-A2D3-1A3EBA4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34D-8494-4B7C-94BD-DED2340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02D-EE53-4FD3-981B-ECD83AC664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836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7169;&#22359;&#20108;%20&#30005;&#21160;&#22120;&#20855;.ppt" TargetMode="External"/><Relationship Id="rId3" Type="http://schemas.openxmlformats.org/officeDocument/2006/relationships/hyperlink" Target="file:///&#27169;&#22359;&#19968;%20&#30005;&#28909;&#22120;&#20855;.ppt" TargetMode="External"/><Relationship Id="rId4" Type="http://schemas.openxmlformats.org/officeDocument/2006/relationships/hyperlink" Target="file:///&#21442;&#32771;&#25991;&#29486;.ppt" TargetMode="External"/><Relationship Id="rId5" Type="http://schemas.openxmlformats.org/officeDocument/2006/relationships/hyperlink" Target="file:///&#38468;&#24405;.pp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2160" y="-73080"/>
            <a:ext cx="9329760" cy="700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0000" y="26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国家一级出版社  全国百佳图书出版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7840" y="1900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讲人：毛国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1440" y="98100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52720" y="6165720"/>
            <a:ext cx="401760" cy="4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6720" y="6261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出版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6097680"/>
            <a:ext cx="1138320" cy="64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2"/>
          </p:cNvPr>
          <p:cNvSpPr/>
          <p:nvPr/>
        </p:nvSpPr>
        <p:spPr>
          <a:xfrm>
            <a:off x="1476360" y="2997360"/>
            <a:ext cx="5040360" cy="57600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动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/>
          </p:cNvPr>
          <p:cNvSpPr/>
          <p:nvPr/>
        </p:nvSpPr>
        <p:spPr>
          <a:xfrm>
            <a:off x="1476360" y="2060640"/>
            <a:ext cx="5040360" cy="576360"/>
          </a:xfrm>
          <a:prstGeom prst="rect">
            <a:avLst/>
          </a:prstGeom>
          <a:solidFill>
            <a:srgbClr val="def2e8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一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热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/>
          </p:cNvPr>
          <p:cNvSpPr/>
          <p:nvPr/>
        </p:nvSpPr>
        <p:spPr>
          <a:xfrm>
            <a:off x="4500720" y="472608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参考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/>
          </p:cNvPr>
          <p:cNvSpPr/>
          <p:nvPr/>
        </p:nvSpPr>
        <p:spPr>
          <a:xfrm>
            <a:off x="4500720" y="400536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附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高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72720" y="1577880"/>
            <a:ext cx="63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作权人   毛国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字编辑   谭  敏  曾春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任校对   夏  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术设计   莫  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单位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    号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SBN 978-7-5624-5292-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人   张鸽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    制   刘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社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2276640"/>
            <a:ext cx="18003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User</cp:lastModifiedBy>
  <dcterms:modified xsi:type="dcterms:W3CDTF">2010-08-04T08:58:24Z</dcterms:modified>
  <cp:revision>101</cp:revision>
  <dc:subject/>
  <dc:title>旅游文学作品赏析 </dc:title>
</cp:coreProperties>
</file>