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A70A-079D-41C2-AC7D-734B8E1D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BAAA-5ACE-4E00-93B5-82A667D3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576E-EFD8-40F5-B376-EF0C244E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1CD3-D366-40BA-83B2-F81CFC84A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703B-F7DA-4D6F-8C93-1C3857B7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BCF9-B4CE-492D-80D3-E335F514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108E-73AA-416C-B26F-17821B0F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4AF0-4FB1-4C88-831E-05BEAA6A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A3FC-0484-4235-B4D5-B64744BE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53A9-BD91-49EC-8B6F-91D120A0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E5A6-1A8D-4261-AEA9-DF31A54C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0D94-D001-4736-B8EC-B287BBDF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6D04-4B1F-4280-9D3E-A3FF61E2C5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84720" y="-27000"/>
            <a:ext cx="3059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</a:t>
            </a: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出版社  经管分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546960" y="115920"/>
            <a:ext cx="401400" cy="3999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6929280" y="187200"/>
            <a:ext cx="738360" cy="3016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95280" y="0"/>
            <a:ext cx="6372360" cy="547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电动电热器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000" y="1699920"/>
            <a:ext cx="814716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 王学屯．常用小家电原理与维修技巧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．北京：电子工业出版社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 程美玲，周小群．家电维修速成图解 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．南京：江苏科学技术出版社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 麦汉光，王军伟．家用电器技术基础与维修技术 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北京：高等教育出版社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 付克达，王国玉．家用电动电热器具原理与维修实训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．北京：人民邮电出版社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71880" y="836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参考文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38DB-A40B-40C8-AA32-73D57A7FCCE0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155736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1052640"/>
            <a:ext cx="814716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6040" indent="-716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 刘文科．厨卫家电使用与维修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．北京：中国劳动社会保障出版社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 代明恒．吸尘器修理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．重庆：重庆大学出版社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 王新华．厨房电器维修速成图解 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．南京：江苏科学技术出版社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 周志敏，纪爱华．电磁炉故障维修入门与电路图集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．北京：中国电力出版社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 韩雪涛．电磁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微波炉常见故障实修演练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．北京：人民邮电出版社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690B-4989-4338-BEEA-81489DA31F3D}" type="slidenum">
              <a:t>2</a:t>
            </a:fld>
          </a:p>
        </p:txBody>
      </p:sp>
    </p:spTree>
  </p:cSld>
  <p:transition spd="slow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01:09:35Z</dcterms:created>
  <dc:creator>莫克</dc:creator>
  <dc:description/>
  <dc:language>en-US</dc:language>
  <cp:lastModifiedBy>roger</cp:lastModifiedBy>
  <dcterms:modified xsi:type="dcterms:W3CDTF">2010-07-20T03:43:54Z</dcterms:modified>
  <cp:revision>111</cp:revision>
  <dc:subject/>
  <dc:title>旅游文学作品赏析 </dc:title>
</cp:coreProperties>
</file>