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9B1-2728-4F25-81FA-93DC026A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5D6-15C4-47A5-BEC9-347897E0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27C-2A61-4BE0-A12F-1A4FBAFD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F4C-9027-4B4D-949B-DDD87665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477-1D30-4CA3-B9AA-88B3468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533-F2C9-48CD-8CDD-94F3176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460-DECA-46E0-8E7A-A939A7D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968-8792-4F0B-8BEC-781A261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522-4270-467F-8E58-64EB190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168-29BC-4A81-89B1-EA91387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82E-67AD-4948-A7A3-3AD5B33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4AE-0570-42DB-BF3E-F5839E9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506-ADDD-46BF-A250-33CDCE9E7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2360" y="1916280"/>
            <a:ext cx="8640720" cy="41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B3F-814E-463C-9307-7B499068290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38320" y="1916280"/>
            <a:ext cx="2857680" cy="396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0F1-868C-4B51-9F67-B8BCA53BB19C}" type="slidenum">
              <a:t>2</a:t>
            </a:fld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2:41Z</dcterms:modified>
  <cp:revision>148</cp:revision>
  <dc:subject/>
  <dc:title>旅游文学作品赏析 </dc:title>
</cp:coreProperties>
</file>