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BB2-88E2-46BF-AEEC-8BDA76F3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07A-A6D8-48EB-A67E-C99A518F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BA8-65F6-4DA7-AE12-1365D3CD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838-A98A-4865-A9A5-E87100AB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314-2E35-4EA8-A8D3-7E1A9BA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8E5-C6B7-4017-8BC5-11E8F531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4A5-1A00-4B72-B81B-4DEDB3D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CC9-FEE7-434F-8213-B87C37A7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A3A-6A92-48C4-A11B-2693AD3D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A62-E343-4C43-8026-22E315F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830-3FF4-4CA9-B676-5B82FDC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397-070D-4311-8ECB-BFFF6B5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B13-E301-498B-8677-E00D65022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5280" y="189000"/>
            <a:ext cx="58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112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2360" y="1916280"/>
            <a:ext cx="8640720" cy="419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1A1-372E-4357-82DE-C0802DD57C4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557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38320" y="1916280"/>
            <a:ext cx="2857680" cy="396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0112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80C-761B-4237-8ED0-4E6E92488ACB}" type="slidenum">
              <a:t>2</a:t>
            </a:fld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roger</cp:lastModifiedBy>
  <dcterms:modified xsi:type="dcterms:W3CDTF">2010-07-20T03:42:41Z</dcterms:modified>
  <cp:revision>148</cp:revision>
  <dc:subject/>
  <dc:title>旅游文学作品赏析 </dc:title>
</cp:coreProperties>
</file>