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B4EB-0834-406D-AB65-D5E95EFB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2336-B5D8-4839-94A0-F8C231D2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0F2-76E4-4FE4-9844-54F68C72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4A35-9F8A-4282-A532-CB69A355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8D9B-8163-41CC-9603-300FFD1B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8A5D-86CD-481D-9281-09979EF0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728-249F-4F6B-BDF2-84914D1E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F46C-694D-488A-B582-BFB64EC8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D54-FD35-4CCD-BA99-4CDD9AF6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1A37-550E-466B-85EB-AB02E41B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0FA8-748D-429B-98BA-751991F3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8E9B-8F52-40E7-9379-5D3375B9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21DA-4295-4D5E-8CB4-018A97AC0D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84720" y="-27000"/>
            <a:ext cx="3059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</a:t>
            </a:r>
            <a:r>
              <a:rPr b="0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出版社  经管分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546960" y="115920"/>
            <a:ext cx="401400" cy="399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6929280" y="187200"/>
            <a:ext cx="738360" cy="3016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95280" y="0"/>
            <a:ext cx="6372360" cy="547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电动电热器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000" y="1699920"/>
            <a:ext cx="814716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王学屯．常用小家电原理与维修技巧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北京：电子工业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程美玲，周小群．家电维修速成图解 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南京：江苏科学技术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麦汉光，王军伟．家用电器技术基础与维修技术 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北京：高等教育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付克达，王国玉．家用电动电热器具原理与维修实训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北京：人民邮电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71880" y="836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参考文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8E0C-66C6-44A5-8CFD-1773F91E67A6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155736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052640"/>
            <a:ext cx="814716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6040" indent="-71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刘文科．厨卫家电使用与维修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北京：中国劳动社会保障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代明恒．吸尘器修理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重庆：重庆大学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王新华．厨房电器维修速成图解 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南京：江苏科学技术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周志敏，纪爱华．电磁炉故障维修入门与电路图集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北京：中国电力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 韩雪涛．电磁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微波炉常见故障实修演练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］．北京：人民邮电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6E4-3954-47F1-B979-8D7E69CA024D}" type="slidenum">
              <a:t>2</a:t>
            </a:fld>
          </a:p>
        </p:txBody>
      </p:sp>
    </p:spTree>
  </p:cSld>
  <p:transition spd="slow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01:09:35Z</dcterms:created>
  <dc:creator>莫克</dc:creator>
  <dc:description/>
  <dc:language>en-US</dc:language>
  <cp:lastModifiedBy>roger</cp:lastModifiedBy>
  <dcterms:modified xsi:type="dcterms:W3CDTF">2010-07-20T03:43:54Z</dcterms:modified>
  <cp:revision>111</cp:revision>
  <dc:subject/>
  <dc:title>旅游文学作品赏析 </dc:title>
</cp:coreProperties>
</file>