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AB4-D325-4DAB-A10C-C491C7D9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147-F284-45BC-AF09-5F0D289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471-1061-4925-8E17-757BE2D5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A03-B829-465B-81FC-8BB66BB9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50F-1386-4AB7-84E8-EE99D9C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0B1-459A-4395-AB10-6F82AE87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E8B-62CC-41AA-875C-CA9DC180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8B7-FD11-4A2F-900F-9005F5CD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BFC-1437-40FD-8471-2F231D16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604-F92C-4D67-9E70-0F5F553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437-C80D-43CC-AC6F-F5B078D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10F-3CF9-4D08-8F29-ABFD41B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2D10-9E0A-4F41-83BB-8E8B71F159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68360" y="189000"/>
            <a:ext cx="58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27169;&#22359;&#20108;%20&#30005;&#21160;&#22120;&#20855;.ppt" TargetMode="External"/><Relationship Id="rId3" Type="http://schemas.openxmlformats.org/officeDocument/2006/relationships/hyperlink" Target="file:///&#27169;&#22359;&#19968;%20&#30005;&#28909;&#22120;&#20855;.ppt" TargetMode="External"/><Relationship Id="rId4" Type="http://schemas.openxmlformats.org/officeDocument/2006/relationships/hyperlink" Target="file:///&#21442;&#32771;&#25991;&#29486;.ppt" TargetMode="External"/><Relationship Id="rId5" Type="http://schemas.openxmlformats.org/officeDocument/2006/relationships/hyperlink" Target="file:///&#38468;&#24405;.ppt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2160" y="-73080"/>
            <a:ext cx="9329760" cy="7004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0000" y="26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国家一级出版社  全国百佳图书出版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7840" y="1900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讲人：毛国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1440" y="98100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52720" y="6165720"/>
            <a:ext cx="401760" cy="40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6720" y="6261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出版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6097680"/>
            <a:ext cx="1138320" cy="64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2"/>
          </p:cNvPr>
          <p:cNvSpPr/>
          <p:nvPr/>
        </p:nvSpPr>
        <p:spPr>
          <a:xfrm>
            <a:off x="1476360" y="2997360"/>
            <a:ext cx="5040360" cy="57600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模块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电动器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/>
          </p:cNvPr>
          <p:cNvSpPr/>
          <p:nvPr/>
        </p:nvSpPr>
        <p:spPr>
          <a:xfrm>
            <a:off x="1476360" y="2060640"/>
            <a:ext cx="5040360" cy="576360"/>
          </a:xfrm>
          <a:prstGeom prst="rect">
            <a:avLst/>
          </a:prstGeom>
          <a:solidFill>
            <a:srgbClr val="def2e8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模块一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电热器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/>
          </p:cNvPr>
          <p:cNvSpPr/>
          <p:nvPr/>
        </p:nvSpPr>
        <p:spPr>
          <a:xfrm>
            <a:off x="4500720" y="4726080"/>
            <a:ext cx="3600360" cy="50472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参考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/>
          </p:cNvPr>
          <p:cNvSpPr/>
          <p:nvPr/>
        </p:nvSpPr>
        <p:spPr>
          <a:xfrm>
            <a:off x="4500720" y="4005360"/>
            <a:ext cx="3600360" cy="504720"/>
          </a:xfrm>
          <a:prstGeom prst="rect">
            <a:avLst/>
          </a:prstGeom>
          <a:solidFill>
            <a:srgbClr val="def2e8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附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高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72720" y="1577880"/>
            <a:ext cx="63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作权人   毛国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字编辑   谭  敏  曾春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责任校对   夏  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艺术设计   莫  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单位   重庆大学电子音像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    号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SBN 978-7-5624-5292-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版 人   张鸽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    制   刘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 版 社   重庆大学电子音像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-100080"/>
            <a:ext cx="752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中等职业教育电类专业系列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-100080"/>
            <a:ext cx="2843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理工分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0236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8360" y="2276640"/>
            <a:ext cx="18003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再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User</cp:lastModifiedBy>
  <dcterms:modified xsi:type="dcterms:W3CDTF">2010-08-04T08:58:24Z</dcterms:modified>
  <cp:revision>101</cp:revision>
  <dc:subject/>
  <dc:title>旅游文学作品赏析 </dc:title>
</cp:coreProperties>
</file>