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D31-144B-492A-9924-610388F3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5A0-1742-4691-93D5-86C52EBC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3EB-6816-4833-87A7-A019EBFC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292-8C01-4EB9-8A56-690B50DE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CB9-BB10-44BB-9D4C-17B15861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730F-B807-4347-992C-F6F73391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BBDA-9D4D-400A-8A05-AF7E7E2F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07DD-F66B-4917-93B0-8E8E383F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6283-A60B-4596-A8DA-706A3EC1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634A-C00B-47A0-8DC1-FB4D6422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8F19-A790-4B78-BADE-118B74F3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ACD-0D50-4CD6-AF1C-DB2BDC85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7480-38F4-4B5D-ADD1-BDF3A125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40B4-BD4B-4445-99DB-6E2F7E8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81C0-28DE-4829-9485-8ECB1C7B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A70D-7983-4A6C-9910-C3975230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9332-F0B6-437D-A21E-71E102E3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4EB-96DF-466F-868E-F9B5FC62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F51-2FC1-436E-AB8D-37F6537B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58D-6FC5-4469-AFB6-519E6F76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F77-DA0A-4F5C-B862-04AE044B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894-EF0C-4C0A-9021-7482D0D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90F-A42D-4F0D-8BF7-648054BC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18E-19CB-458B-BAF4-689A7401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6012-E3EE-44F4-9068-A83B6A6FA3E9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2EFA-1053-42F7-B506-D3850E97C534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16000" y="765000"/>
            <a:ext cx="741672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内容简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本书是根据教育部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修订的对中等职业学校电子专业学生的能力结构要求，针对电子专业的发展电视机课程的现状，结合中等职业学校电子专业学生的特点进行编写的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主要内容由四大模块组成：⑴电视的基础知识；⑵黑白电视机电路分析；⑶彩色电视机电路分析；⑷平板电视。其具体内容包括：电视基础知识，电视机的基本结构，黑白电视机电源电路分析，黑白电视机扫描电路分析，黑白电视机信号处理电路分析，彩色电视机电源电路分析，彩色电视机扫描电路分析，彩色电视机信号处理电路分析，遥控系统电路分析，液晶电视机，等离子电视机，数字电视技术等。每个知识单元包括学习要求、内容主体、单元小结、练习与习题等几个部分。本书对知识的阐述由浅入深，形成较完整的知识结构，在编写风格上，注重知识的实用性、浅显易懂、配以丰富的图表，使知识讲述更直观生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本书可作为中等职业学校电类专业的专业理论教学用书，也适宜作为专业维修人员的岗位培训教材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0T01:46:42Z</dcterms:created>
  <dc:creator>USER</dc:creator>
  <dc:description/>
  <dc:language>en-US</dc:language>
  <cp:lastModifiedBy>USER</cp:lastModifiedBy>
  <dcterms:modified xsi:type="dcterms:W3CDTF">2010-07-10T01:50:48Z</dcterms:modified>
  <cp:revision>1</cp:revision>
  <dc:subject/>
  <dc:title>幻灯片 1</dc:title>
</cp:coreProperties>
</file>