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905-E423-4DB9-9CC0-50B643BC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850-E3A3-4EB8-B784-CEB03C58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1B9-CF33-4DB8-8CF0-B2777D1B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A2D-AC2A-42AB-BD5D-BDE925D6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9586-2CE4-48B8-A515-B6B459D6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AD7C-765F-46B5-B590-0366E961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B364-A24C-4CF7-A2FE-67052EA3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0C48-CFE3-463F-B2C0-E1F4FF4F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AF20-0B98-4580-925C-059D1847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FA3F-7E40-4B79-870F-F530E610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2E73-712F-447C-AA45-B8934791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D91-BE44-40D3-9AD1-78C78E16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C267-B902-45BB-A577-C1241661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CBEF-72E3-4D9A-A379-62DA788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8391-3344-4543-AE0A-3F6C1484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6D3F-4E1A-4A14-8EAC-9AD56EA1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3203-0AAE-4068-842D-48EE6EF5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227-0789-4C90-B804-9E801246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14A-A364-4DC2-B938-BF608B6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E5C-A1A3-467B-872C-96F930AB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EA3-A391-41FF-A6DD-A6BD498B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74A-A3DE-4664-A130-46D3CFEC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0EC-C366-45E6-A680-265619C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A1B-70F5-485D-B056-2C60478A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7523-4432-4395-98BA-458F9E76E19B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3B74-A578-4FAC-ADFA-37846534A5C8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11280" y="1484280"/>
            <a:ext cx="47530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十一章  等离子电视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学习要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器的特点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屏的显像原理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电视机的组成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器的主要参数及选购要点；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200560" cy="3552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24000" y="4653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单元的内部结构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807160" cy="3381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87640" y="4653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   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内部放电腔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59280" y="54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  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显示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688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00000" y="69228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从发光的原理上来说有两种：一种是在电离形成等离子体时直接产生可见光；另一类是利用等离子体产生紫外光来激发荧光体发光。通常等离子体不是固态、液态和气态，而是一种含有离子和电子的混合物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板的像素类似于微小的氖灯管，其基本结构是在两片玻璃之间设有一排排的点阵式的驱动电极，其间充满惰性气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像素单元位于水平和垂直电极的交叉点。要使某一像素单元发光，可在两个电极之间加上足以使气体电离的电压。颜色是单元内的磷化合物（荧光粉）发光产生的，通常等离子体发出的紫外光是不可见光，但涂在显示单元中的红、绿、蓝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种荧光粉受到紫外线轰击时，会产生红、绿、蓝的颜色。改变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种颜色的合成比例就可以得到任意的颜色，这样等离子体显示屏就可以显示彩色图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对向放电型彩色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工作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⑴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对向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对向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极间电容小，对电极间绝缘性能要求低，易于提高分辨率，但由于其荧光粉处于离子轰击区，荧光粉容易劣化，因此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寿命相对较短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00000" y="260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表面放电型彩色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工作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⑴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(C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说明如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结构说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79640" y="1724040"/>
            <a:ext cx="410508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1280" y="56674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该结构的主要特点是显示发光为反射式，可大大提高像素的亮度；气体放电为单基板表面方式而远离荧光粉，降低了放电离子对荧光粉的轰击，提高了工作寿命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6920" y="1628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三节  等离子电视机的组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一、等离子电视整机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由等离子屏组件及电视信号处理电路板组成。等离子屏由屏及屏驱动电路组成，即等离子屏本身包括屏驱动电路。我们提到的等离子电视电路部分，严格地说包括了电视信号处理电路和屏驱动电路。由于屏生产商的不同或型号的不同，其屏驱动电路（包括开关电源）也不同，且这部分电路现在被屏生产商控制和掌握着。这里对等离子电视内部结构作简单介绍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电视的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由面框、滤光玻璃、压条、等离子屏、信号板和屏驱动电路板及其部件、后盖等组成，见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267160" cy="3457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00000" y="43657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屏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电路部分主要由主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V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板、遥控组件板、按键板、功放板、转接板、屏组件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下选址电路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上选址电路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驱动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驱动板、屏电源板）、电源板、逻辑板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OF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板等组成，见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从上往下看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在上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在下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276880" cy="3800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067280" y="5157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276880" cy="4295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00000" y="4869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机内部结构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电路板的作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内部电路板的作用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4000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内部电路板的作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4961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87280" y="105264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一节  等离子显示器的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机是平板电视的一个重要种类。等离子电视机又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-TV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其中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是英文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lasma Display Pane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缩写形式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lasma Display Pane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中文翻译过来就是等离子显示器。等离子电视机就是等离子显示器结合电视信号接收、处理电路构成的应用产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显示器件是一种新型器件。其主要特点是整体呈扁平状，轻而薄，它是自发光的器件，但显像原理又与传统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RT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显像管有所不同。传统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CRT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彩电显像管的屏幕上涂有一层荧光粉，显像管电子枪发射出的高速电子束击打在屏幕上，使被击打位置的荧光粉发光，从而产生了图像，每一个发光点又由“红”“绿”“蓝”三个小的发光点组成，这个发光点也就是一个像素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电视机的核心器件是等离子显示板，等离子体显示板是由几百万个像素单元构成的，每个像素单元中涂有荧光层并充有惰性气体。在外加电压的作用下气体呈离子状态，并且放电，放电电子使荧光层发光，这些单元称为放电单元。放电单元是组成图像的最小像素单元。随着等离子显示器件性能的提高，制作工艺的改善，由于它具有发光亮度高、显示效果好的特点，故等离子体彩色电视机正在进入百姓家中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55640" y="549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二、等离子屏电路及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由离子屏及屏驱动电路组成。等离子屏外观结构见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屏通常由前玻璃基板、充满惰性气体的等离子腔体及后玻璃基板三层组成。前面已对等离子体工作过程及屏组成作了介绍，这里对等离子屏结构作进一步说明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4686120" cy="2085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43280" y="4797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外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26920" y="141300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屏结构介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前面板，前面板通常由玻璃基板、扫描电极和维持扫描电极、透明介电层、保护层组成。在前玻璃基板内壁用透明导电材料制作成一层水平条纹导电极。平行导电极间隔布满整个前玻璃基极。扫描板产生的扫描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C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信号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CAN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RIVE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IGNA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及维持扫描板产生的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USTAIN DRIVE SIGNAL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控制信号分别通过两平行电极（有的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电极）控制等离子体工作。电极采用特殊制作方法蚀刻在前玻璃基板上。电极材料要求耐热、耐腐蚀、透明性好、导电性好。透明介电层通常由透明玻璃作为介电层，此层采用印刷方式将透明玻璃材料印刷在电极表面上。介电层要求具有透光性好、表面平整，无凹凸，且耐压性好等特性。在电极与电离层间设置有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介电保护层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具有透光率高，耐电子冲撞、且材料本身具有适应工作电压范围宽的特点，因而成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屏生产商首选。此层的目的在于防止电离撞击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62064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内部结构图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-9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7221" t="13717" r="23553" b="43155"/>
          <a:stretch/>
        </p:blipFill>
        <p:spPr>
          <a:xfrm>
            <a:off x="1476360" y="1125360"/>
            <a:ext cx="6058080" cy="2848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4360" y="414972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9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屏内部结构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层：等离子腔体内壁分别均匀涂沬了纯净的红、绿、蓝荧光物。腔体支撑着上下玻璃基板，并对三基色荧光物起隔离、防止混色等作用。电离子腔体在有的资料上称作肋，有的称作阻隔壁层，有的称作隔壁、障壁等。为增加画面亮度、对比度、阻隔壁层的上下部分可以做成不同的颜色。上段做成黑色，下段做成白色，这样处理后，可提高画面对比度、亮度的作用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19890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后玻璃基板上印刷有导电电极（也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极），此电极与前基板电极空间垂直正交。数据信号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Data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或控制信号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address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通过此极控制荧光物质工作。在后玻璃基板上覆盖有反光层，以此加大可见光的反射强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惰性气体：前后基板密封真空抽气处理后，再对每个腔体注入氦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He)+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Xe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或氖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Ne)+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Xe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混合惰性气体。真空处理及充入气体多少、比例都是各屏生产厂的机密。等离子腔体真空及惰性气体质量影响等离子屏的寿命。不纯的气体注入或荧光粉不纯，屏幕上可能出现红或绿或蓝色色斑现象，出现此情况时，只有更换玻璃屏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55640" y="47628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四节  等离子显示器的主要参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主要光电参数如下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亮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亮度决定于器件的结构和驱动方法。开口率是个很直观的因素，因而障壁要尽可能窄。气体放电的效率是重要的因素，潜力较大，现在高氙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Xe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浓度的器件亮度高；荧光粉的效率和涂覆方法也是重要的因素，其中反射式亮度高。从驱动方面讲，维持脉冲个数多，也就是维持频率高，可以提高亮度。提高电压也可提高亮度，但曲线比较平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对比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对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非线性较强，矩阵工作时串扰引起对比度的降低不明显，但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初始化时产生的放电，极大地影响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暗室对比度。必需尽量减少初始化放电时的发光。现在暗室对比度最好可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0 000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以上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灰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灰度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决定于驱动的子场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S,G=2S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颜色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颜色数取决于灰度，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色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色温取决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G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各基色的比份，提高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比份可以提高色温。现在一般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 500~11 000K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之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响应速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气体放电的响应速度在微秒量级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响应速度决定于荧光粉的余辉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42920" y="90792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视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荧光粉涂在凹槽中，视角大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70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没有任何颜色漂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色度范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色度范围决定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G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各基色荧光粉的色饱和度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功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功耗决定于器件的发光效率、电路效率等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26920" y="1125360"/>
            <a:ext cx="777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本章小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的基本概念及放电原理。等离子就是由大量的带电粒子组成的非束缚态的宏观体系。它具有三个特征：即非束缚性，粒子与电磁场的不可分割性和集体效应起主导作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按工作方式分类可分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D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大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电视机的主要技术特点，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-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的形成过程可以看出等离子体是物质第四态，而电离气体是一种常见的等离子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屏的显像原理。其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显示单元的放电发光过程可简单归纳为四个阶段。即预备放电，开始放电，放电发光与维持发光到消去放电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放电气体的要求与三基色荧光粉的要求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显示器的组成。在此，主要介绍了等离子屏的电路组成：由离子屏及屏驱动电路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介绍了等离子显示器的主要参数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9640" y="549360"/>
            <a:ext cx="80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练习与习题十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一、填空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通常所说的等离子体显示面板用英文表示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是利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原理实现的一种平板显示器，又称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显示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就是由大量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宏观体系。它具有以下三个特征，即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是由高度离子化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按工作方式的不同可分为电极与气体直接接触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大类。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又根据电极结构的不同，可分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种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内部放电腔的示意图可以看出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内部放电过程可归纳为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四个过程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从发光的原理上来说有两种：一种是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直接产生可见光；另一类是利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来激发荧光体发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11280" y="620640"/>
            <a:ext cx="777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电视由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。而等离子屏由屏及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电路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屏中，其前面板通常由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屏结构中的等离子腔内壁分别均匀涂抹了纯净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荧光物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亮度决定于器件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____________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方法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二、判断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其实质就是物质第四态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放电是使气体转变成等离子体的一种常见形式，等离子体</a:t>
            </a:r>
            <a:r>
              <a:rPr b="0" lang="zh-CN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电离气体，但是需要有足够电离度的电离气体才具有等离子体性质。（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彩色显示单元是将一个像素单元分割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小的单元，在相邻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单元内涂上红、绿、蓝三色荧光粉，这样从远处观看上是由这三色光合成后的效果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彩色等离子体显示板多使用紫外线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特点是荧光粉容易劣化，因此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寿命相对较长。（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表面放电型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主要特点是显示发光为折射式。可大大提高像素的亮度。（       ）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4360" y="76500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体显示板是一种新型的显示器件。其主要特点是整体呈扁平状，轻而薄，重量只有普通显像管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/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。它属于被动发光器件。（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等离子屏内部结构中设有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介电保护层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MgO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具有透光率高，耐电子冲撞、且材料本身具有适应工作电压范围宽的特点而被成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屏生产商首选。（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功耗决定于器件的发光效率、电路效率和能量复得电路的效率。（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三、问答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．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主要光电参数有哪些？各自的含义是什么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40464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一、等离子的基本概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面板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lasma Display Panel,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简称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是利用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气体放电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原理来实现显示功能的一种平板显示器件，又称为气体放电显示器。那什么是等离子体呢？等离子体就是由大量的带电粒子组成的非束缚态的宏观体系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它具有以下三个特征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非束缚性：异类带电粒子之间相互“自由”，等离子体的基本粒子元是带正负电荷的微粒（电子、离子），而不是其结合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粒子与电磁场的不可分割性：等离子体中粒子的运动与电磁场（外场及粒子产生的自由场）的运动紧密耦合，不可分割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◆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集体效应起主导作用：在等离子体中，带电粒子之间的是库仑力作用，库仑力的作用效果远远超过带电粒子可能发生的局部短程碰撞效果，等离子体中的带电粒子运动时，能引起正电荷或负电荷局部集中，产生电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体的形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物质有三种常规状态，分别是固态、液态和汽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我们平时见到的气体，是由分子组成的，称为分子气体。随着气体温度的升高，气体分子的互相碰撞加剧，分子被碰碎了，成为单个的气体原子，这就是原子气体。原子气体的温度进一步升高，由于碰撞的加剧，原子外的电子，首先是一部分被碰掉，成为自由电子与离子的混合物。当温度继续上升，原子核外的全部电子被碰掉，成为自由电子与完全电离了的裸露的原子核的混合物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692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无论是部分电离或完全电离，在一个小的体积单元内，正离子或带正电的原子核的带电量与自由电子的带电量是相等的，因此呈电中性，这些气体，称等离子体，前者称部分等离子体，后者称完全等离子体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是由高度离子化的离子、电子和中性粒子组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体是物质第四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根据等离子的形成过程，可以看出：等离子体其实质是物质的第四态，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9518" t="19464" r="13199" b="14267"/>
          <a:stretch/>
        </p:blipFill>
        <p:spPr>
          <a:xfrm>
            <a:off x="2340000" y="2708280"/>
            <a:ext cx="4943520" cy="305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987640" y="59500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物质的四态变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692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电离气体是一种常见的等离子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放电是使气体转变成等离子体的一种常见形式，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在放电时，气体内部的原子发生电离反应。由于受外部条件作用，施加电能前，气体内部已存有少量的带电粒子；施加电能后，电子被引火单元激发，并在极间电场作用下加速，当达到一定动能时碰击原子，使其电离导致自由电子增值。如此继续，形成电离雪崩效应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由此可见，等离子体 </a:t>
            </a:r>
            <a:r>
              <a:rPr b="0" lang="zh-CN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电离气体，但是需要有足够电离度的电离气体才具有等离子体性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0403" t="19039" r="18741" b="25927"/>
          <a:stretch/>
        </p:blipFill>
        <p:spPr>
          <a:xfrm>
            <a:off x="1979640" y="3068640"/>
            <a:ext cx="4848120" cy="2752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56000" y="5950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普通气体转变为等离子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765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二、等离子显示器件的特点及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显示器的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显示器的主要技术特点如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显示器的主要技术特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50292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42920" y="476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等离子显示器件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⑴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根据颜色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是指所有利用气体放电而发光的平板显示器件的总称，它属于冷阴极放电管，利用加在阴极和阳极间一定的电压，使气体产生辉光放电而发光，根据颜色不同，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分单色和彩色两类，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2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单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和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761080" cy="1476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71640" y="3933720"/>
            <a:ext cx="74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无论是单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还是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其主要原理都是基于惰性气体在一定电压作用下的气体放电现象。那么等离子按工作方式的不同，又分为哪些种类呢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根据工作方式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按工作方式不同可分为直流型等离子体显示面板（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）和交流型等离子体显示面板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(AC-PDP)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大类，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27280" y="549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两种工作方式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040360" cy="76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00000" y="191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又根据电极结构的不同，可分为对向放电型和表面放电型两种。几种工作方式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35" t="10802" r="0" b="0"/>
          <a:stretch/>
        </p:blipFill>
        <p:spPr>
          <a:xfrm>
            <a:off x="1979640" y="2637000"/>
            <a:ext cx="5048280" cy="2143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4869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  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结构分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无论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还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D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，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都是由数十万至数百万个气体放电单元组成的，这些放电单元是在两块玻璃基板之间用许多壁障分隔而成，每个空间为一个显示单元。每个显示单元都设有一组电极，并按一定排列形式涂敷有红、绿、蓝荧光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9079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第二节  等离子显示屏的显像原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了解了等离子的一些基础知识后，接下来介绍等离子电视机的显示发光原理，这也是理解等离子电视机工作原理的关键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一、气体放电的物理基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．彩色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显示机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⑴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彩色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内部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每一个显示单元都是在维持电极、地址电极（扫描）和数据电极的联合作用下放电发光的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彩色显示单元是将一个像素单元分割为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小的单元，每个小的显示单元的结构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，在相邻的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单元内涂上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（即红、绿、蓝）三色荧光粉构成一个像素单元，每一组所发的光，从远处观看是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三色光合成的效果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     ⑵ 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显示原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等离子体显示单元的放电发光过程如图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它有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个工作阶段。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AC-PDP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的显示原理见表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所示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05:38:22Z</dcterms:created>
  <dc:creator>USER</dc:creator>
  <dc:description/>
  <dc:language>en-US</dc:language>
  <cp:lastModifiedBy>USER</cp:lastModifiedBy>
  <dcterms:modified xsi:type="dcterms:W3CDTF">2010-07-12T06:08:30Z</dcterms:modified>
  <cp:revision>2</cp:revision>
  <dc:subject/>
  <dc:title>幻灯片 1</dc:title>
</cp:coreProperties>
</file>