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257-67C5-4F6C-8EF2-2528F372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0F0-4412-4745-8AD3-9453D551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333-F6F1-4AA1-B6F8-1F1CC1F8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6A6-FF81-402F-9760-E7E1BA1F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4D90-2024-4DA7-B1D5-AF2A52E1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A720-A0E9-4499-9AFB-6571E11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68A2-7DA7-4C73-921F-A16EA4F1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08A0-1AD1-445F-B354-6447E88A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987F-A176-4D87-98DC-E844FD46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2FA0-91E8-47F6-95CD-B8C6976E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E887-F6D7-4998-989E-EC4E5519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C6D-2FBF-430B-B723-BBABD137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2D12-2D95-4748-BE22-052B4CCD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BB15-1C53-4C18-BDA1-F4649C7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A0A6-7A1B-4340-874D-D237F681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853E-C6EF-417F-9BA1-47FE14E2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B56E-9759-4BBD-B0D0-A03B1A45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697-69E4-4820-8B4C-FB7ECFDD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E1A-94A8-4347-ABF9-352681DF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F65-0436-468D-8F7A-952AF5B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525-1134-486D-BDA4-82DB0B16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0AE-A61D-44A6-8132-F1743F2D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1E7-627F-4D7E-8D74-65EB937F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881-5D93-4233-B548-53886E5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5449-BBCE-431A-8D85-813013CC9553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818C-426C-4381-AF2D-8D23A4E257F1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16000" y="765000"/>
            <a:ext cx="741672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内容简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书是根据教育部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修订的对中等职业学校电子专业学生的能力结构要求，针对电子专业的发展电视机课程的现状，结合中等职业学校电子专业学生的特点进行编写的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主要内容由四大模块组成：⑴电视的基础知识；⑵黑白电视机电路分析；⑶彩色电视机电路分析；⑷平板电视。其具体内容包括：电视基础知识，电视机的基本结构，黑白电视机电源电路分析，黑白电视机扫描电路分析，黑白电视机信号处理电路分析，彩色电视机电源电路分析，彩色电视机扫描电路分析，彩色电视机信号处理电路分析，遥控系统电路分析，液晶电视机，等离子电视机，数字电视技术等。每个知识单元包括学习要求、内容主体、单元小结、练习与习题等几个部分。本书对知识的阐述由浅入深，形成较完整的知识结构，在编写风格上，注重知识的实用性、浅显易懂、配以丰富的图表，使知识讲述更直观生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书可作为中等职业学校电类专业的专业理论教学用书，也适宜作为专业维修人员的岗位培训教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01:46:42Z</dcterms:created>
  <dc:creator>USER</dc:creator>
  <dc:description/>
  <dc:language>en-US</dc:language>
  <cp:lastModifiedBy>USER</cp:lastModifiedBy>
  <dcterms:modified xsi:type="dcterms:W3CDTF">2010-07-10T01:50:48Z</dcterms:modified>
  <cp:revision>1</cp:revision>
  <dc:subject/>
  <dc:title>幻灯片 1</dc:title>
</cp:coreProperties>
</file>