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148C-7292-4F39-84A1-961121B07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5F64-897A-4424-9EAF-8716D286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49E8-566A-4F49-B7AD-01BC7472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ABC2-9B2E-40B8-8724-A70771F74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51C0-A250-4A9A-BB20-2C7A2AFE2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D07A-7EB3-43D5-B671-2FA1779C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3CA1-448F-46F5-893C-E5CEB371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A89A-53A2-4CC9-9E2F-DC4F7CA6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FAB5-F893-4842-B77B-90AC11CD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D499-BFD4-47C4-A6C5-8AD6E481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769D-8697-40E1-AC4E-C43DBD2F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AD36-7DD3-40F2-82AF-965A0413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A071-3675-4C2E-AB23-81D43C47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2CEC-C608-4EFE-B2BD-DD113D8A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A13E-5D59-485B-AA6E-B5EA441D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DB2A-8735-407C-B254-2A037F8B9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E136-FC88-484E-AF07-9822E9ACC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0387-A846-4863-948A-E43319FA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88B8-15B1-4F88-9CB5-BD304FEE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1436-6D54-4656-9629-776F9E5F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CE5E-A862-42DE-A4F8-F549D1AD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5A61-59D6-4415-B306-5A54AA0A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D971-BAD3-4609-A8D3-8304DF0A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7C5E-36A7-4DEB-BBF0-83E4F3FE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1916-303C-4E45-AB81-8B07C534EEB0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AD64-911A-4D5B-B557-9C4F47B558B0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5280" y="177336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</a:rPr>
              <a:t>课题五    三端稳压电源电路设计安装与调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357336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分课题一     三端稳压电源电路设计安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11280" y="76500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、元器件插装工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42920" y="162864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由小到大，由里到外。布局合理，美观，减小相互交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2924280"/>
            <a:ext cx="72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导线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去绝缘层，多股铜芯线拧紧（单股铜芯线去氧化层），搪锡，焊接。金属裸露部分小于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2mm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981000"/>
            <a:ext cx="7272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、焊接工艺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具有良好的导电特性，具有一定机械强度，焊点光亮、清洁，圆滑，伞状，不应有毛刺、虚焊、假焊、漏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321300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安全教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3933720"/>
            <a:ext cx="78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、正确使用仪表和设备安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、使用电烙铁过程中注意放置，不要触及人身体和其它物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、注意用电安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71640" y="76500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三、产品调试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191628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测量各点电压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393372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测量发光二极支路电流（调整电位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2565360"/>
          <a:ext cx="6192720" cy="1150920"/>
        </p:xfrm>
        <a:graphic>
          <a:graphicData uri="http://schemas.openxmlformats.org/drawingml/2006/table">
            <a:tbl>
              <a:tblPr/>
              <a:tblGrid>
                <a:gridCol w="1473120"/>
                <a:gridCol w="868320"/>
                <a:gridCol w="955800"/>
                <a:gridCol w="979560"/>
                <a:gridCol w="1031760"/>
                <a:gridCol w="88416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测试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zh-CN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e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电压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332000" y="4508640"/>
          <a:ext cx="6553080" cy="1512720"/>
        </p:xfrm>
        <a:graphic>
          <a:graphicData uri="http://schemas.openxmlformats.org/drawingml/2006/table">
            <a:tbl>
              <a:tblPr/>
              <a:tblGrid>
                <a:gridCol w="4752720"/>
                <a:gridCol w="1800360"/>
              </a:tblGrid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二极管发光最弱时电路电流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二极管发光最强时电路电流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4360" y="76500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四、评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206064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、电路能否正常工作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黑体"/>
              </a:rPr>
              <a:t>（发光二极管发光强度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2924280"/>
            <a:ext cx="59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、电压值是否正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450864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、焊接工艺是否规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371628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、电路设计安装是否合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55640" y="83664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五、教师点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6920" y="191628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六、作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731052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8229600" cy="3248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11280" y="1125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一、电路原理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948360" y="32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26028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课题五    集成稳压电源电路装配与调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95640" y="5373720"/>
            <a:ext cx="34560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Verdana"/>
                <a:ea typeface="黑体"/>
              </a:rPr>
              <a:t>滤波电路，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滤去脉动直流电中的交流纹波成分，变为平滑的直流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989000"/>
            <a:ext cx="18730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Verdana"/>
                <a:ea typeface="黑体"/>
              </a:rPr>
              <a:t>整流电路，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将交流电转换为单向脉动直流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2060640"/>
            <a:ext cx="165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Verdana"/>
                <a:ea typeface="黑体"/>
              </a:rPr>
              <a:t>保险管</a:t>
            </a:r>
            <a:r>
              <a:rPr b="0" lang="zh-CN" sz="2000" spc="-1" strike="noStrike">
                <a:solidFill>
                  <a:srgbClr val="cc0000"/>
                </a:solidFill>
                <a:latin typeface="Verdana"/>
                <a:ea typeface="黑体"/>
              </a:rPr>
              <a:t>FU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短路保护作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43280" y="3284640"/>
            <a:ext cx="18720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Verdana"/>
                <a:ea typeface="黑体"/>
              </a:rPr>
              <a:t>限流电阻</a:t>
            </a:r>
            <a:r>
              <a:rPr b="0" lang="zh-CN" sz="2000" spc="-1" strike="noStrike">
                <a:solidFill>
                  <a:srgbClr val="cc0000"/>
                </a:solidFill>
                <a:latin typeface="Verdana"/>
                <a:ea typeface="黑体"/>
              </a:rPr>
              <a:t>R1</a:t>
            </a:r>
            <a:r>
              <a:rPr b="0" lang="zh-CN" sz="2000" spc="-1" strike="noStrike">
                <a:solidFill>
                  <a:srgbClr val="cc0000"/>
                </a:solidFill>
                <a:latin typeface="Verdana"/>
                <a:ea typeface="黑体"/>
              </a:rPr>
              <a:t>、</a:t>
            </a:r>
            <a:r>
              <a:rPr b="0" lang="zh-CN" sz="2000" spc="-1" strike="noStrike">
                <a:solidFill>
                  <a:srgbClr val="cc0000"/>
                </a:solidFill>
                <a:latin typeface="Verdana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分压限流保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91280" y="5229360"/>
            <a:ext cx="20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Verdana"/>
                <a:ea typeface="黑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显示电路正常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51640" y="1844640"/>
            <a:ext cx="12970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Verdana"/>
                <a:ea typeface="黑体"/>
              </a:rPr>
              <a:t>可变电阻</a:t>
            </a:r>
            <a:r>
              <a:rPr b="0" lang="zh-CN" sz="2000" spc="-1" strike="noStrike">
                <a:solidFill>
                  <a:srgbClr val="cc0000"/>
                </a:solidFill>
                <a:latin typeface="Verdana"/>
                <a:ea typeface="黑体"/>
              </a:rPr>
              <a:t>RP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，调节电路中电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92720" y="1700280"/>
            <a:ext cx="16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7812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自动稳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" dur="1" fill="hold"/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16000" y="1916280"/>
            <a:ext cx="583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.</a:t>
            </a: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电路安装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.</a:t>
            </a: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器件选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.</a:t>
            </a: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器件引脚、导线整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.</a:t>
            </a: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插件、位置调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.</a:t>
            </a: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焊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.</a:t>
            </a: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调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83664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端稳压电源电路装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11280" y="692280"/>
            <a:ext cx="60483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54936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Verdana"/>
                <a:ea typeface="黑体"/>
              </a:rPr>
              <a:t>1</a:t>
            </a:r>
            <a:r>
              <a:rPr b="0" lang="zh-CN" sz="3600" spc="-1" strike="noStrike">
                <a:solidFill>
                  <a:srgbClr val="cc0000"/>
                </a:solidFill>
                <a:latin typeface="Verdana"/>
                <a:ea typeface="黑体"/>
              </a:rPr>
              <a:t>、线路设计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162864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1</a:t>
            </a: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）根据三端稳压电源电路原理图绘制印刷安装电路草图，要求单面布局，考虑元器件安装位置，电路中不允许有非电气交叉连接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515772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2</a:t>
            </a: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）整体布局：根据原理图按功能法布局，元件排列合理美观，疏密有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924360" y="1557360"/>
            <a:ext cx="46814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95280" y="836640"/>
            <a:ext cx="69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Verdana"/>
                <a:ea typeface="黑体"/>
              </a:rPr>
              <a:t>2</a:t>
            </a:r>
            <a:r>
              <a:rPr b="0" lang="zh-CN" sz="3200" spc="-1" strike="noStrike">
                <a:solidFill>
                  <a:srgbClr val="cc0000"/>
                </a:solidFill>
                <a:latin typeface="Verdana"/>
                <a:ea typeface="黑体"/>
              </a:rPr>
              <a:t>、</a:t>
            </a:r>
            <a:r>
              <a:rPr b="0" lang="zh-CN" sz="2800" spc="-1" strike="noStrike">
                <a:solidFill>
                  <a:srgbClr val="cc0000"/>
                </a:solidFill>
                <a:latin typeface="Verdana"/>
                <a:ea typeface="黑体"/>
              </a:rPr>
              <a:t>三端稳压电源电路安装连接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1916640"/>
            <a:ext cx="295092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）导线连接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三端稳压电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电路结构简单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采用功能布线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619280" y="3789360"/>
            <a:ext cx="3816360" cy="2233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211640" y="2349360"/>
            <a:ext cx="374328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1280" y="2911680"/>
            <a:ext cx="26654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）锡接走线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采用功能布置法，合理设计元件的安装位置，焊接线路清晰美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DZB6" descr=""/>
          <p:cNvPicPr/>
          <p:nvPr/>
        </p:nvPicPr>
        <p:blipFill>
          <a:blip r:embed="rId2"/>
          <a:stretch/>
        </p:blipFill>
        <p:spPr>
          <a:xfrm>
            <a:off x="3419640" y="1773360"/>
            <a:ext cx="5472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00000" y="62064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Verdana"/>
                <a:ea typeface="黑体"/>
              </a:rPr>
              <a:t>3</a:t>
            </a:r>
            <a:r>
              <a:rPr b="0" lang="zh-CN" sz="3200" spc="-1" strike="noStrike">
                <a:solidFill>
                  <a:srgbClr val="cc0000"/>
                </a:solidFill>
                <a:latin typeface="Verdana"/>
                <a:ea typeface="黑体"/>
              </a:rPr>
              <a:t>、电路中器件选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4360" y="1557360"/>
          <a:ext cx="7488000" cy="4292640"/>
        </p:xfrm>
        <a:graphic>
          <a:graphicData uri="http://schemas.openxmlformats.org/drawingml/2006/table">
            <a:tbl>
              <a:tblPr/>
              <a:tblGrid>
                <a:gridCol w="1947600"/>
                <a:gridCol w="1535400"/>
                <a:gridCol w="1699920"/>
                <a:gridCol w="1584360"/>
                <a:gridCol w="720720"/>
              </a:tblGrid>
              <a:tr h="544320"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电路名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元件代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器件型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器件参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备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整流电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D1---VD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N4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 rowSpan="2"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滤波电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0uF/25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uF/16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保险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电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1,R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若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发光二极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集成稳压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M78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28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可调电位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R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.7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116000" y="2997360"/>
          <a:ext cx="6048360" cy="197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2997360"/>
                    <a:ext cx="6048360" cy="19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55640" y="7650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、电路装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00000" y="306864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元器件成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537372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A≥2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黑体"/>
              </a:rPr>
              <a:t>mm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黑体"/>
              </a:rPr>
              <a:t>；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黑体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≥2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黑体"/>
              </a:rPr>
              <a:t>d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黑体"/>
              </a:rPr>
              <a:t>；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黑体"/>
              </a:rPr>
              <a:t>h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黑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0~2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黑体"/>
              </a:rPr>
              <a:t>mm h≥2 mm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26920" y="1700280"/>
            <a:ext cx="741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元器件引脚处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去氧化层，搪锡，根据安装位置成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5T07:36:59Z</dcterms:created>
  <dc:creator>微软中国</dc:creator>
  <dc:description/>
  <dc:language>en-US</dc:language>
  <cp:lastModifiedBy>微软中国</cp:lastModifiedBy>
  <dcterms:modified xsi:type="dcterms:W3CDTF">2011-04-01T22:55:35Z</dcterms:modified>
  <cp:revision>132</cp:revision>
  <dc:subject/>
  <dc:title>幻灯片 1</dc:title>
</cp:coreProperties>
</file>