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119-3EF6-431C-A79B-71CF5150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B04-A08A-4D73-94DD-CAC681E1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3C2-A5C1-4E0C-B2CB-1415F114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7A8-3767-4730-8355-19ED4F6D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E273-105A-4CD0-B07C-1AADF9C3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F34C-E690-4DF3-86FA-4ABA902F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F52A-C005-4D41-AA06-C2C1A4F9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DE60-82CA-48CE-A709-6CF66FA9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A613-C500-45F9-8DD3-CD1DDE9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205C-2F5E-4A14-ADDA-3FAFDD2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D69B-8942-42C5-9006-712F3A7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360-3B05-4C22-9B45-A780CDF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32A2-B5F5-42CB-A0AC-1C5D5B24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BC9A-E43E-4C92-BBB9-F3E1418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3A83-CE27-4FD9-9BFC-2052A93E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6FF6-822F-4F5A-806A-B5E1879E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05B0-EC1D-483B-B3A1-ED3F60BC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2B9-4316-464B-A317-C638DCE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8EC-611B-4141-810B-0439FF77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5A7-A291-4A34-95A6-E9BCFE47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F73-BC87-47C9-AED0-EF8DC2C2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337-A001-4A9A-A01A-3AFDB54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6AB-C528-48C3-BA8E-D57D260F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06C-6A46-4188-88FB-5233413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0A0B-AB8B-4AFC-9617-498D89078FA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29C9-351E-45A7-8EFA-BB97FBA4350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7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课题五    三端稳压电源电路设计安装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57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分课题一     三端稳压电源电路设计安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765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元器件插装工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628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由小到大，由里到外。布局合理，美观，减小相互交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924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导线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绝缘层，多股铜芯线拧紧（单股铜芯线去氧化层），搪锡，焊接。金属裸露部分小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mm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981000"/>
            <a:ext cx="727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具有良好的导电特性，具有一定机械强度，焊点光亮、清洁，圆滑，伞状，不应有毛刺、虚焊、假焊、漏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213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9337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正确使用仪表和设备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使用电烙铁过程中注意放置，不要触及人身体和其它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注意用电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765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三、产品调试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916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各点电压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发光二极支路电流（调整电位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565360"/>
          <a:ext cx="6192720" cy="1150920"/>
        </p:xfrm>
        <a:graphic>
          <a:graphicData uri="http://schemas.openxmlformats.org/drawingml/2006/table">
            <a:tbl>
              <a:tblPr/>
              <a:tblGrid>
                <a:gridCol w="1473120"/>
                <a:gridCol w="868320"/>
                <a:gridCol w="955800"/>
                <a:gridCol w="979560"/>
                <a:gridCol w="1031760"/>
                <a:gridCol w="8841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试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zh-CN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32000" y="4508640"/>
          <a:ext cx="6553080" cy="1512720"/>
        </p:xfrm>
        <a:graphic>
          <a:graphicData uri="http://schemas.openxmlformats.org/drawingml/2006/table">
            <a:tbl>
              <a:tblPr/>
              <a:tblGrid>
                <a:gridCol w="4752720"/>
                <a:gridCol w="18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弱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强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765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四、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能否正常工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黑体"/>
              </a:rPr>
              <a:t>（发光二极管发光强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92428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压值是否正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508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是否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716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设计安装是否合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83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五、教师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916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六、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31052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229600" cy="324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112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电路原理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0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课题五    集成稳压电源电路装配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5373720"/>
            <a:ext cx="345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滤波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滤去脉动直流电中的交流纹波成分，变为平滑的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989000"/>
            <a:ext cx="1873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整流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将交流电转换为单向脉动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060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保险管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F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短路保护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284640"/>
            <a:ext cx="187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限流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1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分压限流保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1280" y="5229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显示电路正常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1640" y="1844640"/>
            <a:ext cx="1297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可变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，调节电路中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1700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81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自动稳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1916280"/>
            <a:ext cx="58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安装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引脚、导线整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插件、位置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焊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836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端稳压电源电路装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692280"/>
            <a:ext cx="6048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1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、线路设计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628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根据三端稳压电源电路原理图绘制印刷安装电路草图，要求单面布局，考虑元器件安装位置，电路中不允许有非电气交叉连接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157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整体布局：根据原理图按功能法布局，元件排列合理美观，疏密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6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8366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三端稳压电源电路安装连接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16640"/>
            <a:ext cx="29509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导线连接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三端稳压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结构简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线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381636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2349360"/>
            <a:ext cx="374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2911680"/>
            <a:ext cx="266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锡接走线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置法，合理设计元件的安装位置，焊接线路清晰美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DZB6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54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620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电路中器件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1557360"/>
          <a:ext cx="7488000" cy="4292640"/>
        </p:xfrm>
        <a:graphic>
          <a:graphicData uri="http://schemas.openxmlformats.org/drawingml/2006/table">
            <a:tbl>
              <a:tblPr/>
              <a:tblGrid>
                <a:gridCol w="1947600"/>
                <a:gridCol w="1535400"/>
                <a:gridCol w="1699920"/>
                <a:gridCol w="1584360"/>
                <a:gridCol w="720720"/>
              </a:tblGrid>
              <a:tr h="54432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代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型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参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流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1---V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4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 rowSpan="2"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滤波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uF/25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uF/16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保险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,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若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光二极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成稳压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7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调电位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7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16000" y="2997360"/>
          <a:ext cx="6048360" cy="19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997360"/>
                    <a:ext cx="604836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55640" y="76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装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3068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成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373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A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0~2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 h≥2 mm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0028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引脚处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氧化层，搪锡，根据安装位置成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07:36:59Z</dcterms:created>
  <dc:creator>微软中国</dc:creator>
  <dc:description/>
  <dc:language>en-US</dc:language>
  <cp:lastModifiedBy>微软中国</cp:lastModifiedBy>
  <dcterms:modified xsi:type="dcterms:W3CDTF">2011-04-01T22:55:35Z</dcterms:modified>
  <cp:revision>132</cp:revision>
  <dc:subject/>
  <dc:title>幻灯片 1</dc:title>
</cp:coreProperties>
</file>