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jpeg" ContentType="image/jpeg"/>
  <Override PartName="/ppt/media/image28.png" ContentType="image/png"/>
  <Override PartName="/ppt/media/image11.png" ContentType="image/png"/>
  <Override PartName="/ppt/media/image48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37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4.png" ContentType="image/png"/>
  <Override PartName="/ppt/media/image55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10.gif" ContentType="image/gif"/>
  <Override PartName="/ppt/media/image43.wmf" ContentType="image/x-wmf"/>
  <Override PartName="/ppt/media/image39.png" ContentType="image/png"/>
  <Override PartName="/ppt/media/image9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80E-FFEF-4F57-BACF-91EB4045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3F9-3418-4014-86B5-D6D10F6B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9514-80FF-4EE7-958D-17D507BF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A5A-61A7-423E-9754-7A5492C4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9BE-DCCB-4E3C-990E-03E46C48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B9D4-6FFB-4070-B969-9B910368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22B6-7078-41D7-AEDE-EC4FD03D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0A4-5999-4976-AF6C-3F0931C8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440-EEDC-41EE-B6F5-03B39C7E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704-C94A-400E-B713-3F4E8A68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E325-4825-44E2-B571-3FF9122C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92B6-194F-4906-A47C-04A76072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9EDF-581C-41CE-B62F-01DFF347CE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" Target="slide13.xml"/><Relationship Id="rId3" Type="http://schemas.openxmlformats.org/officeDocument/2006/relationships/slide" Target="slide17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" Target="slide28.xml"/><Relationship Id="rId4" Type="http://schemas.openxmlformats.org/officeDocument/2006/relationships/slide" Target="slide15.xml"/><Relationship Id="rId5" Type="http://schemas.openxmlformats.org/officeDocument/2006/relationships/slide" Target="slide13.xml"/><Relationship Id="rId6" Type="http://schemas.openxmlformats.org/officeDocument/2006/relationships/slide" Target="slide11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316000">
            <a:off x="-165240" y="2490480"/>
            <a:ext cx="6248520" cy="67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elcome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8440" y="26640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33cc"/>
                </a:solidFill>
                <a:latin typeface="Times New Roman"/>
                <a:ea typeface="黑体"/>
              </a:rPr>
              <a:t>2031FM  </a:t>
            </a:r>
            <a:r>
              <a:rPr b="1" i="1" lang="zh-CN" sz="6000" spc="-1" strike="noStrike">
                <a:solidFill>
                  <a:srgbClr val="0033cc"/>
                </a:solidFill>
                <a:latin typeface="Times New Roman"/>
                <a:ea typeface="黑体"/>
              </a:rPr>
              <a:t>收音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88040" y="1623960"/>
            <a:ext cx="2421000" cy="26352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519120" y="4879800"/>
            <a:ext cx="8124480" cy="1333440"/>
            <a:chOff x="519120" y="4879800"/>
            <a:chExt cx="8124480" cy="1333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519120" y="4879800"/>
              <a:ext cx="812448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358800" y="5184720"/>
              <a:ext cx="51271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ff33cc"/>
                  </a:solidFill>
                  <a:latin typeface="Times New Roman"/>
                  <a:ea typeface="华文新魏"/>
                </a:rPr>
                <a:t>五六电子独家提供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3668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零      件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87600" y="1700280"/>
            <a:ext cx="2516400" cy="642600"/>
            <a:chOff x="1587600" y="1700280"/>
            <a:chExt cx="2516400" cy="642600"/>
          </a:xfrm>
        </p:grpSpPr>
        <p:sp>
          <p:nvSpPr>
            <p:cNvPr id="123" name=""/>
            <p:cNvSpPr/>
            <p:nvPr/>
          </p:nvSpPr>
          <p:spPr>
            <a:xfrm>
              <a:off x="1587600" y="2046240"/>
              <a:ext cx="974520" cy="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36640" y="1946160"/>
              <a:ext cx="692280" cy="194760"/>
            </a:xfrm>
            <a:prstGeom prst="rect">
              <a:avLst/>
            </a:pr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85880" y="1901520"/>
              <a:ext cx="131760" cy="27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04" y="18369"/>
                  </a:moveTo>
                  <a:arcTo wR="10800" hR="10800" stAng="2669816" swAng="163413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04" y="18369"/>
                  </a:moveTo>
                  <a:arcTo wR="10800" hR="10800" stAng="2669816" swAng="16341319"/>
                </a:path>
              </a:pathLst>
            </a:cu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800000">
              <a:off x="2342880" y="1900800"/>
              <a:ext cx="12708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4" y="18051"/>
                  </a:moveTo>
                  <a:arcTo wR="10800" hR="10800" stAng="2530276" swAng="16222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4" y="18051"/>
                  </a:moveTo>
                  <a:arcTo wR="10800" hR="10800" stAng="2530276" swAng="16222885"/>
                </a:path>
              </a:pathLst>
            </a:custGeom>
            <a:gradFill rotWithShape="0">
              <a:gsLst>
                <a:gs pos="0">
                  <a:srgbClr val="755e46"/>
                </a:gs>
                <a:gs pos="50000">
                  <a:srgbClr val="ffcc99"/>
                </a:gs>
                <a:gs pos="100000">
                  <a:srgbClr val="75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55840" y="1900080"/>
              <a:ext cx="77760" cy="29808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27" y="0"/>
                  </a:moveTo>
                  <a:cubicBezTo>
                    <a:pt x="28" y="47"/>
                    <a:pt x="32" y="95"/>
                    <a:pt x="29" y="142"/>
                  </a:cubicBezTo>
                  <a:cubicBezTo>
                    <a:pt x="28" y="151"/>
                    <a:pt x="3" y="136"/>
                    <a:pt x="3" y="136"/>
                  </a:cubicBezTo>
                  <a:cubicBezTo>
                    <a:pt x="7" y="94"/>
                    <a:pt x="0" y="52"/>
                    <a:pt x="5" y="10"/>
                  </a:cubicBezTo>
                  <a:cubicBezTo>
                    <a:pt x="5" y="8"/>
                    <a:pt x="24" y="1"/>
                    <a:pt x="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e4c00"/>
                </a:gs>
                <a:gs pos="50000">
                  <a:srgbClr val="cca500"/>
                </a:gs>
                <a:gs pos="100000">
                  <a:srgbClr val="5e4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03600" y="1949400"/>
              <a:ext cx="58680" cy="193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65400" y="1949400"/>
              <a:ext cx="58680" cy="193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84320" y="1949400"/>
              <a:ext cx="58680" cy="193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71280" y="1700280"/>
              <a:ext cx="133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R5  681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蓝 灰 棕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72280" y="1601640"/>
            <a:ext cx="2596680" cy="916920"/>
            <a:chOff x="5372280" y="1601640"/>
            <a:chExt cx="2596680" cy="916920"/>
          </a:xfrm>
        </p:grpSpPr>
        <p:sp>
          <p:nvSpPr>
            <p:cNvPr id="133" name=""/>
            <p:cNvSpPr/>
            <p:nvPr/>
          </p:nvSpPr>
          <p:spPr>
            <a:xfrm>
              <a:off x="6465960" y="1601640"/>
              <a:ext cx="150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L2  4.7u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黄 紫 金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72280" y="2023920"/>
              <a:ext cx="974520" cy="180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22760" y="1923840"/>
              <a:ext cx="690480" cy="195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72000" y="1879560"/>
              <a:ext cx="129240" cy="27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04" y="18369"/>
                  </a:moveTo>
                  <a:arcTo wR="10800" hR="10800" stAng="2669816" swAng="163413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04" y="18369"/>
                  </a:moveTo>
                  <a:arcTo wR="10800" hR="10800" stAng="2669816" swAng="16341319"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6127560" y="1878120"/>
              <a:ext cx="126360" cy="27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4" y="18051"/>
                  </a:moveTo>
                  <a:arcTo wR="10800" hR="10800" stAng="2530276" swAng="16222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4" y="18051"/>
                  </a:moveTo>
                  <a:arcTo wR="10800" hR="10800" stAng="2530276" swAng="16222885"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40520" y="1878120"/>
              <a:ext cx="77400" cy="298440"/>
            </a:xfrm>
            <a:custGeom>
              <a:avLst/>
              <a:gdLst/>
              <a:ahLst/>
              <a:rect l="l" t="t" r="r" b="b"/>
              <a:pathLst>
                <a:path w="32" h="151">
                  <a:moveTo>
                    <a:pt x="27" y="0"/>
                  </a:moveTo>
                  <a:cubicBezTo>
                    <a:pt x="28" y="47"/>
                    <a:pt x="32" y="95"/>
                    <a:pt x="29" y="142"/>
                  </a:cubicBezTo>
                  <a:cubicBezTo>
                    <a:pt x="28" y="151"/>
                    <a:pt x="3" y="136"/>
                    <a:pt x="3" y="136"/>
                  </a:cubicBezTo>
                  <a:cubicBezTo>
                    <a:pt x="7" y="94"/>
                    <a:pt x="0" y="52"/>
                    <a:pt x="5" y="10"/>
                  </a:cubicBezTo>
                  <a:cubicBezTo>
                    <a:pt x="5" y="8"/>
                    <a:pt x="24" y="1"/>
                    <a:pt x="27" y="0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87920" y="1927080"/>
              <a:ext cx="58320" cy="193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51520" y="1927080"/>
              <a:ext cx="58320" cy="193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67560" y="1927080"/>
              <a:ext cx="61200" cy="1936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2040" y="3890880"/>
            <a:ext cx="2077920" cy="246240"/>
            <a:chOff x="662040" y="3890880"/>
            <a:chExt cx="2077920" cy="246240"/>
          </a:xfrm>
        </p:grpSpPr>
        <p:sp>
          <p:nvSpPr>
            <p:cNvPr id="143" name=""/>
            <p:cNvSpPr/>
            <p:nvPr/>
          </p:nvSpPr>
          <p:spPr>
            <a:xfrm>
              <a:off x="1501920" y="39574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39720" y="394632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040" y="38908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5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14400" y="32814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28560" y="4181400"/>
            <a:ext cx="2077920" cy="246240"/>
            <a:chOff x="628560" y="4181400"/>
            <a:chExt cx="2077920" cy="246240"/>
          </a:xfrm>
        </p:grpSpPr>
        <p:sp>
          <p:nvSpPr>
            <p:cNvPr id="148" name=""/>
            <p:cNvSpPr/>
            <p:nvPr/>
          </p:nvSpPr>
          <p:spPr>
            <a:xfrm>
              <a:off x="1468440" y="424800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06240" y="423684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8560" y="418140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5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2960" y="4471920"/>
            <a:ext cx="2077920" cy="246240"/>
            <a:chOff x="642960" y="4471920"/>
            <a:chExt cx="2077920" cy="246240"/>
          </a:xfrm>
        </p:grpSpPr>
        <p:sp>
          <p:nvSpPr>
            <p:cNvPr id="152" name=""/>
            <p:cNvSpPr/>
            <p:nvPr/>
          </p:nvSpPr>
          <p:spPr>
            <a:xfrm>
              <a:off x="1482840" y="453852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0640" y="452736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60" y="447192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35040" y="4738680"/>
            <a:ext cx="2077920" cy="246240"/>
            <a:chOff x="635040" y="4738680"/>
            <a:chExt cx="2077920" cy="246240"/>
          </a:xfrm>
        </p:grpSpPr>
        <p:sp>
          <p:nvSpPr>
            <p:cNvPr id="156" name=""/>
            <p:cNvSpPr/>
            <p:nvPr/>
          </p:nvSpPr>
          <p:spPr>
            <a:xfrm>
              <a:off x="1474920" y="48052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12720" y="4794120"/>
              <a:ext cx="300240" cy="125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5040" y="47386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56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213080" y="3857760"/>
            <a:ext cx="2077920" cy="246240"/>
            <a:chOff x="4213080" y="3857760"/>
            <a:chExt cx="2077920" cy="246240"/>
          </a:xfrm>
        </p:grpSpPr>
        <p:sp>
          <p:nvSpPr>
            <p:cNvPr id="160" name=""/>
            <p:cNvSpPr/>
            <p:nvPr/>
          </p:nvSpPr>
          <p:spPr>
            <a:xfrm>
              <a:off x="5052960" y="39243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90760" y="39132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13080" y="38577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477040" y="319716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11240" y="38656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14120" y="41576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2160" y="47228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08000" y="4476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203720" y="4095720"/>
            <a:ext cx="2077920" cy="246240"/>
            <a:chOff x="4203720" y="4095720"/>
            <a:chExt cx="2077920" cy="246240"/>
          </a:xfrm>
        </p:grpSpPr>
        <p:sp>
          <p:nvSpPr>
            <p:cNvPr id="169" name=""/>
            <p:cNvSpPr/>
            <p:nvPr/>
          </p:nvSpPr>
          <p:spPr>
            <a:xfrm>
              <a:off x="5043600" y="416232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81400" y="415116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03720" y="409572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206960" y="4338720"/>
            <a:ext cx="2077920" cy="246240"/>
            <a:chOff x="4206960" y="4338720"/>
            <a:chExt cx="2077920" cy="246240"/>
          </a:xfrm>
        </p:grpSpPr>
        <p:sp>
          <p:nvSpPr>
            <p:cNvPr id="173" name=""/>
            <p:cNvSpPr/>
            <p:nvPr/>
          </p:nvSpPr>
          <p:spPr>
            <a:xfrm>
              <a:off x="5046840" y="440532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84640" y="439416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06960" y="433872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208400" y="4564080"/>
            <a:ext cx="2077920" cy="246240"/>
            <a:chOff x="4208400" y="4564080"/>
            <a:chExt cx="2077920" cy="246240"/>
          </a:xfrm>
        </p:grpSpPr>
        <p:sp>
          <p:nvSpPr>
            <p:cNvPr id="177" name=""/>
            <p:cNvSpPr/>
            <p:nvPr/>
          </p:nvSpPr>
          <p:spPr>
            <a:xfrm>
              <a:off x="5048280" y="46306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6080" y="461952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08400" y="45640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3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200480" y="4782960"/>
            <a:ext cx="2077920" cy="246240"/>
            <a:chOff x="4200480" y="4782960"/>
            <a:chExt cx="2077920" cy="246240"/>
          </a:xfrm>
        </p:grpSpPr>
        <p:sp>
          <p:nvSpPr>
            <p:cNvPr id="181" name=""/>
            <p:cNvSpPr/>
            <p:nvPr/>
          </p:nvSpPr>
          <p:spPr>
            <a:xfrm>
              <a:off x="5040360" y="48495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160" y="48384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00480" y="47829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202280" y="5248440"/>
            <a:ext cx="2077920" cy="246240"/>
            <a:chOff x="4202280" y="5248440"/>
            <a:chExt cx="2077920" cy="246240"/>
          </a:xfrm>
        </p:grpSpPr>
        <p:sp>
          <p:nvSpPr>
            <p:cNvPr id="185" name=""/>
            <p:cNvSpPr/>
            <p:nvPr/>
          </p:nvSpPr>
          <p:spPr>
            <a:xfrm>
              <a:off x="5042160" y="53150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79960" y="53038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02280" y="52484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8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192560" y="5477040"/>
            <a:ext cx="2077920" cy="246240"/>
            <a:chOff x="4192560" y="5477040"/>
            <a:chExt cx="2077920" cy="246240"/>
          </a:xfrm>
        </p:grpSpPr>
        <p:sp>
          <p:nvSpPr>
            <p:cNvPr id="189" name=""/>
            <p:cNvSpPr/>
            <p:nvPr/>
          </p:nvSpPr>
          <p:spPr>
            <a:xfrm>
              <a:off x="5032440" y="55436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70240" y="55324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92560" y="54770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68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199040" y="5019840"/>
            <a:ext cx="2077920" cy="246240"/>
            <a:chOff x="4199040" y="5019840"/>
            <a:chExt cx="2077920" cy="246240"/>
          </a:xfrm>
        </p:grpSpPr>
        <p:sp>
          <p:nvSpPr>
            <p:cNvPr id="193" name=""/>
            <p:cNvSpPr/>
            <p:nvPr/>
          </p:nvSpPr>
          <p:spPr>
            <a:xfrm>
              <a:off x="5038920" y="50864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76720" y="50752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99040" y="50198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3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132600" y="3836880"/>
            <a:ext cx="2077920" cy="246240"/>
            <a:chOff x="6132600" y="3836880"/>
            <a:chExt cx="2077920" cy="246240"/>
          </a:xfrm>
        </p:grpSpPr>
        <p:sp>
          <p:nvSpPr>
            <p:cNvPr id="197" name=""/>
            <p:cNvSpPr/>
            <p:nvPr/>
          </p:nvSpPr>
          <p:spPr>
            <a:xfrm>
              <a:off x="6972480" y="390348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10280" y="389232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32600" y="383688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68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122880" y="4075200"/>
            <a:ext cx="2077920" cy="246240"/>
            <a:chOff x="6122880" y="4075200"/>
            <a:chExt cx="2077920" cy="246240"/>
          </a:xfrm>
        </p:grpSpPr>
        <p:sp>
          <p:nvSpPr>
            <p:cNvPr id="201" name=""/>
            <p:cNvSpPr/>
            <p:nvPr/>
          </p:nvSpPr>
          <p:spPr>
            <a:xfrm>
              <a:off x="6962760" y="414180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00560" y="413064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22880" y="407520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126120" y="4317840"/>
            <a:ext cx="2077920" cy="246240"/>
            <a:chOff x="6126120" y="4317840"/>
            <a:chExt cx="2077920" cy="246240"/>
          </a:xfrm>
        </p:grpSpPr>
        <p:sp>
          <p:nvSpPr>
            <p:cNvPr id="205" name=""/>
            <p:cNvSpPr/>
            <p:nvPr/>
          </p:nvSpPr>
          <p:spPr>
            <a:xfrm>
              <a:off x="6966000" y="43844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03800" y="43732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6120" y="43178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127920" y="4543560"/>
            <a:ext cx="2077920" cy="246240"/>
            <a:chOff x="6127920" y="4543560"/>
            <a:chExt cx="2077920" cy="246240"/>
          </a:xfrm>
        </p:grpSpPr>
        <p:sp>
          <p:nvSpPr>
            <p:cNvPr id="209" name=""/>
            <p:cNvSpPr/>
            <p:nvPr/>
          </p:nvSpPr>
          <p:spPr>
            <a:xfrm>
              <a:off x="6967800" y="46101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05600" y="45990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27920" y="45435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119640" y="4762440"/>
            <a:ext cx="2077920" cy="246240"/>
            <a:chOff x="6119640" y="4762440"/>
            <a:chExt cx="2077920" cy="246240"/>
          </a:xfrm>
        </p:grpSpPr>
        <p:sp>
          <p:nvSpPr>
            <p:cNvPr id="213" name=""/>
            <p:cNvSpPr/>
            <p:nvPr/>
          </p:nvSpPr>
          <p:spPr>
            <a:xfrm>
              <a:off x="6959520" y="482904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97320" y="481788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19640" y="476244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47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121440" y="5227560"/>
            <a:ext cx="2077920" cy="246240"/>
            <a:chOff x="6121440" y="5227560"/>
            <a:chExt cx="2077920" cy="246240"/>
          </a:xfrm>
        </p:grpSpPr>
        <p:sp>
          <p:nvSpPr>
            <p:cNvPr id="217" name=""/>
            <p:cNvSpPr/>
            <p:nvPr/>
          </p:nvSpPr>
          <p:spPr>
            <a:xfrm>
              <a:off x="6961320" y="52941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99120" y="52830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21440" y="52275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8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111720" y="5456160"/>
            <a:ext cx="2077920" cy="246240"/>
            <a:chOff x="6111720" y="5456160"/>
            <a:chExt cx="2077920" cy="246240"/>
          </a:xfrm>
        </p:grpSpPr>
        <p:sp>
          <p:nvSpPr>
            <p:cNvPr id="221" name=""/>
            <p:cNvSpPr/>
            <p:nvPr/>
          </p:nvSpPr>
          <p:spPr>
            <a:xfrm>
              <a:off x="6951600" y="55227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89400" y="55116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11720" y="54561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1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118200" y="4998960"/>
            <a:ext cx="2077920" cy="246240"/>
            <a:chOff x="6118200" y="4998960"/>
            <a:chExt cx="2077920" cy="246240"/>
          </a:xfrm>
        </p:grpSpPr>
        <p:sp>
          <p:nvSpPr>
            <p:cNvPr id="225" name=""/>
            <p:cNvSpPr/>
            <p:nvPr/>
          </p:nvSpPr>
          <p:spPr>
            <a:xfrm>
              <a:off x="6958080" y="5065560"/>
              <a:ext cx="399960" cy="12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95880" y="5054400"/>
              <a:ext cx="300240" cy="125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18200" y="4998960"/>
              <a:ext cx="207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520880" y="38685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8920" y="41115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02160" y="47750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05040" y="43419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08280" y="45450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8920" y="50371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76600" y="54752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79840" y="52434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65600" y="38466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5480" y="40892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8720" y="47530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11600" y="43196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14840" y="45226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05480" y="50148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83160" y="54291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86400" y="522144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35120" y="11574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08800" y="111132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贴片电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6160" y="3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零件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51600" y="121932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电解电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614840" y="1910880"/>
            <a:ext cx="2838600" cy="1152360"/>
            <a:chOff x="4614840" y="1910880"/>
            <a:chExt cx="2838600" cy="1152360"/>
          </a:xfrm>
        </p:grpSpPr>
        <p:sp>
          <p:nvSpPr>
            <p:cNvPr id="249" name=""/>
            <p:cNvSpPr/>
            <p:nvPr/>
          </p:nvSpPr>
          <p:spPr>
            <a:xfrm rot="16200000">
              <a:off x="4857120" y="2008440"/>
              <a:ext cx="734760" cy="1219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5580720" y="2590920"/>
              <a:ext cx="601560" cy="95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5619600" y="2583720"/>
              <a:ext cx="73332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53040" y="2425680"/>
              <a:ext cx="9241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43680" y="2825640"/>
              <a:ext cx="14097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5262480" y="2101320"/>
              <a:ext cx="115236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＋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822560" y="2422440"/>
            <a:ext cx="7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μ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62880" y="23875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000" y="5265720"/>
            <a:ext cx="22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电位器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44440" y="1596960"/>
            <a:ext cx="3295800" cy="1067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85680" y="152712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发光二极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70280" y="5332320"/>
            <a:ext cx="28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贴片集成块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660920" y="3684600"/>
            <a:ext cx="2279520" cy="12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492120" y="3262320"/>
            <a:ext cx="24512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零件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49600" y="1317600"/>
            <a:ext cx="20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导线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264312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瓷片电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12920" y="3516480"/>
            <a:ext cx="1041120" cy="1690200"/>
            <a:chOff x="412920" y="3516480"/>
            <a:chExt cx="1041120" cy="1690200"/>
          </a:xfrm>
        </p:grpSpPr>
        <p:sp>
          <p:nvSpPr>
            <p:cNvPr id="267" name=""/>
            <p:cNvSpPr/>
            <p:nvPr/>
          </p:nvSpPr>
          <p:spPr>
            <a:xfrm>
              <a:off x="1098720" y="4440960"/>
              <a:ext cx="25200" cy="750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04880" y="4433760"/>
              <a:ext cx="38160" cy="772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446760" y="3482280"/>
              <a:ext cx="973080" cy="10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3200" y="382284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481640" y="1427040"/>
            <a:ext cx="3809880" cy="152640"/>
            <a:chOff x="4481640" y="1427040"/>
            <a:chExt cx="3809880" cy="152640"/>
          </a:xfrm>
        </p:grpSpPr>
        <p:sp>
          <p:nvSpPr>
            <p:cNvPr id="272" name=""/>
            <p:cNvSpPr/>
            <p:nvPr/>
          </p:nvSpPr>
          <p:spPr>
            <a:xfrm>
              <a:off x="4481640" y="150336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86560" y="1427040"/>
              <a:ext cx="3124080" cy="15264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497480" y="1733400"/>
            <a:ext cx="3809880" cy="152640"/>
            <a:chOff x="4497480" y="1733400"/>
            <a:chExt cx="3809880" cy="152640"/>
          </a:xfrm>
        </p:grpSpPr>
        <p:sp>
          <p:nvSpPr>
            <p:cNvPr id="275" name=""/>
            <p:cNvSpPr/>
            <p:nvPr/>
          </p:nvSpPr>
          <p:spPr>
            <a:xfrm>
              <a:off x="4497480" y="1809720"/>
              <a:ext cx="380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02400" y="1733400"/>
              <a:ext cx="3124080" cy="152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b7b7b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281320" y="3505320"/>
            <a:ext cx="1041120" cy="1690200"/>
            <a:chOff x="2281320" y="3505320"/>
            <a:chExt cx="1041120" cy="1690200"/>
          </a:xfrm>
        </p:grpSpPr>
        <p:sp>
          <p:nvSpPr>
            <p:cNvPr id="278" name=""/>
            <p:cNvSpPr/>
            <p:nvPr/>
          </p:nvSpPr>
          <p:spPr>
            <a:xfrm>
              <a:off x="2967120" y="4429800"/>
              <a:ext cx="25200" cy="7506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2573280" y="4422600"/>
              <a:ext cx="38160" cy="7729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5400000">
              <a:off x="2315160" y="3471120"/>
              <a:ext cx="973080" cy="10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41600" y="38116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419040" y="5630760"/>
            <a:ext cx="8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38560" y="5646600"/>
            <a:ext cx="8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164120" y="3576600"/>
            <a:ext cx="1495440" cy="15336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534000" y="3618000"/>
            <a:ext cx="1495440" cy="15336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483080" y="5649840"/>
            <a:ext cx="11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40360" y="5653080"/>
            <a:ext cx="11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6400" y="725400"/>
            <a:ext cx="1968840" cy="1376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96880" y="238932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空心电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219480" y="785880"/>
            <a:ext cx="1704960" cy="14288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092400" y="244152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空心电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6404040" y="262080"/>
            <a:ext cx="2095560" cy="19238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491160" y="243216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旋钮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338040" y="4295880"/>
            <a:ext cx="3301920" cy="9079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982800" y="5878440"/>
            <a:ext cx="18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挂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4202280" y="4199040"/>
            <a:ext cx="1466640" cy="10382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4230720" y="590544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7067520" y="3998880"/>
            <a:ext cx="1343160" cy="11905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889680" y="597060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钮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1720" y="593640"/>
            <a:ext cx="2471760" cy="2538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678120" y="1281240"/>
            <a:ext cx="4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前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799160" y="676440"/>
            <a:ext cx="2732040" cy="25603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8175600" y="1309680"/>
            <a:ext cx="44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393840" y="3490920"/>
            <a:ext cx="3716280" cy="28335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570560" y="4441680"/>
            <a:ext cx="44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耳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7394400" y="5681520"/>
            <a:ext cx="436320" cy="876240"/>
            <a:chOff x="7394400" y="5681520"/>
            <a:chExt cx="436320" cy="876240"/>
          </a:xfrm>
        </p:grpSpPr>
        <p:sp>
          <p:nvSpPr>
            <p:cNvPr id="307" name=""/>
            <p:cNvSpPr/>
            <p:nvPr/>
          </p:nvSpPr>
          <p:spPr>
            <a:xfrm>
              <a:off x="7535160" y="5850360"/>
              <a:ext cx="167760" cy="707400"/>
            </a:xfrm>
            <a:custGeom>
              <a:avLst/>
              <a:gdLst>
                <a:gd name="textAreaLeft" fmla="*/ 47880 w 167760"/>
                <a:gd name="textAreaRight" fmla="*/ 119880 w 167760"/>
                <a:gd name="textAreaTop" fmla="*/ 202680 h 707400"/>
                <a:gd name="textAreaBottom" fmla="*/ 504720 h 70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608" y="21600"/>
                  </a:lnTo>
                  <a:lnTo>
                    <a:pt x="799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94400" y="5681520"/>
              <a:ext cx="436320" cy="2178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48840" y="5992920"/>
              <a:ext cx="1407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7555320" y="6054840"/>
              <a:ext cx="13428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62160" y="6126120"/>
              <a:ext cx="11736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9000" y="6192720"/>
              <a:ext cx="1004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7569000" y="6259680"/>
              <a:ext cx="9684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571880" y="6326280"/>
              <a:ext cx="90720" cy="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82320" y="6406560"/>
              <a:ext cx="70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585560" y="6486480"/>
              <a:ext cx="56880" cy="3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937280" y="582768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2*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56720" y="3411360"/>
            <a:ext cx="16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螺丝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203800" y="5835600"/>
            <a:ext cx="412920" cy="625680"/>
            <a:chOff x="5203800" y="5835600"/>
            <a:chExt cx="412920" cy="625680"/>
          </a:xfrm>
        </p:grpSpPr>
        <p:sp>
          <p:nvSpPr>
            <p:cNvPr id="320" name=""/>
            <p:cNvSpPr/>
            <p:nvPr/>
          </p:nvSpPr>
          <p:spPr>
            <a:xfrm>
              <a:off x="5337000" y="5956200"/>
              <a:ext cx="158760" cy="505080"/>
            </a:xfrm>
            <a:custGeom>
              <a:avLst/>
              <a:gdLst>
                <a:gd name="textAreaLeft" fmla="*/ 45360 w 158760"/>
                <a:gd name="textAreaRight" fmla="*/ 113400 w 158760"/>
                <a:gd name="textAreaTop" fmla="*/ 144720 h 505080"/>
                <a:gd name="textAreaBottom" fmla="*/ 36036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608" y="21600"/>
                  </a:lnTo>
                  <a:lnTo>
                    <a:pt x="799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03800" y="5835600"/>
              <a:ext cx="412920" cy="155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08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49960" y="6058080"/>
              <a:ext cx="1332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356080" y="6102000"/>
              <a:ext cx="1270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62560" y="6153120"/>
              <a:ext cx="11124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69040" y="6200640"/>
              <a:ext cx="950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5369040" y="6248160"/>
              <a:ext cx="9180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5371920" y="6295680"/>
              <a:ext cx="8604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81640" y="6353280"/>
              <a:ext cx="66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384880" y="6410520"/>
              <a:ext cx="54000" cy="2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440320" y="4292640"/>
            <a:ext cx="308160" cy="523440"/>
            <a:chOff x="5440320" y="4292640"/>
            <a:chExt cx="308160" cy="523440"/>
          </a:xfrm>
        </p:grpSpPr>
        <p:sp>
          <p:nvSpPr>
            <p:cNvPr id="331" name=""/>
            <p:cNvSpPr/>
            <p:nvPr/>
          </p:nvSpPr>
          <p:spPr>
            <a:xfrm>
              <a:off x="5536440" y="4333680"/>
              <a:ext cx="115200" cy="482400"/>
            </a:xfrm>
            <a:prstGeom prst="can">
              <a:avLst>
                <a:gd name="adj" fmla="val 14472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40320" y="4292640"/>
              <a:ext cx="308160" cy="133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41480" y="4479840"/>
              <a:ext cx="10080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43640" y="452412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43640" y="456228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46160" y="460044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43640" y="464184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46160" y="468612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46160" y="4724280"/>
              <a:ext cx="10116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48680" y="4762440"/>
              <a:ext cx="100800" cy="0"/>
            </a:xfrm>
            <a:prstGeom prst="line">
              <a:avLst/>
            </a:prstGeom>
            <a:ln w="9360">
              <a:solidFill>
                <a:srgbClr val="d2b5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425640" y="4295880"/>
            <a:ext cx="173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电位器螺丝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1.6*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60960" y="576756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2*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二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二 极 管、电容、电阻的 认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46640" y="3068640"/>
            <a:ext cx="5510160" cy="2109960"/>
          </a:xfrm>
          <a:prstGeom prst="wedgeEllipseCallout">
            <a:avLst>
              <a:gd name="adj1" fmla="val -72787"/>
              <a:gd name="adj2" fmla="val -46537"/>
            </a:avLst>
          </a:prstGeom>
          <a:solidFill>
            <a:srgbClr val="ccffff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元件的大小与极性一定不能弄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1640" y="2090880"/>
            <a:ext cx="1737000" cy="1436400"/>
          </a:xfrm>
          <a:prstGeom prst="ellipse">
            <a:avLst/>
          </a:prstGeom>
          <a:solidFill>
            <a:srgbClr val="ccffff"/>
          </a:solid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注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区分二极管的极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-93240" y="632880"/>
            <a:ext cx="4525920" cy="5374080"/>
            <a:chOff x="-93240" y="632880"/>
            <a:chExt cx="4525920" cy="5374080"/>
          </a:xfrm>
        </p:grpSpPr>
        <p:sp>
          <p:nvSpPr>
            <p:cNvPr id="348" name=""/>
            <p:cNvSpPr/>
            <p:nvPr/>
          </p:nvSpPr>
          <p:spPr>
            <a:xfrm>
              <a:off x="1066680" y="1041480"/>
              <a:ext cx="2286000" cy="2895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95280" y="1270080"/>
              <a:ext cx="182880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752480" y="2641680"/>
              <a:ext cx="914400" cy="917280"/>
              <a:chOff x="1752480" y="2641680"/>
              <a:chExt cx="914400" cy="917280"/>
            </a:xfrm>
          </p:grpSpPr>
          <p:sp>
            <p:nvSpPr>
              <p:cNvPr id="351" name=""/>
              <p:cNvSpPr/>
              <p:nvPr/>
            </p:nvSpPr>
            <p:spPr>
              <a:xfrm>
                <a:off x="1752480" y="2641680"/>
                <a:ext cx="914400" cy="914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515200">
                <a:off x="2133360" y="2565360"/>
                <a:ext cx="101520" cy="110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2209680" y="2717640"/>
                <a:ext cx="304560" cy="381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flipV="1" rot="13500000">
              <a:off x="568440" y="1296360"/>
              <a:ext cx="3202200" cy="319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694" swAng="4244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694" swAng="424465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33720" y="2413080"/>
              <a:ext cx="152280" cy="75960"/>
            </a:xfrm>
            <a:prstGeom prst="ellipse">
              <a:avLst/>
            </a:prstGeom>
            <a:solidFill>
              <a:srgbClr val="00cc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19320" y="36320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19320" y="33274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8120" y="3327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48120" y="363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43000" y="3048120"/>
              <a:ext cx="247680" cy="247680"/>
            </a:xfrm>
            <a:prstGeom prst="plus">
              <a:avLst>
                <a:gd name="adj" fmla="val 43847"/>
              </a:avLst>
            </a:prstGeom>
            <a:solidFill>
              <a:srgbClr val="ff00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7920" y="37339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00000" y="1600200"/>
              <a:ext cx="4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38280" y="23623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209680" y="1447560"/>
              <a:ext cx="76212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496440" y="3416400"/>
              <a:ext cx="762120" cy="2590560"/>
              <a:chOff x="496440" y="3416400"/>
              <a:chExt cx="762120" cy="2590560"/>
            </a:xfrm>
          </p:grpSpPr>
          <p:sp>
            <p:nvSpPr>
              <p:cNvPr id="366" name=""/>
              <p:cNvSpPr/>
              <p:nvPr/>
            </p:nvSpPr>
            <p:spPr>
              <a:xfrm flipH="1">
                <a:off x="496440" y="3416400"/>
                <a:ext cx="7621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96800" y="3416400"/>
                <a:ext cx="0" cy="2590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96800" y="600696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1106280" y="4863600"/>
                <a:ext cx="76320" cy="1143000"/>
                <a:chOff x="1106280" y="4863600"/>
                <a:chExt cx="76320" cy="11430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106280" y="5214600"/>
                  <a:ext cx="76320" cy="792000"/>
                </a:xfrm>
                <a:custGeom>
                  <a:avLst/>
                  <a:gdLst>
                    <a:gd name="textAreaLeft" fmla="*/ 16560 w 76320"/>
                    <a:gd name="textAreaRight" fmla="*/ 59760 w 76320"/>
                    <a:gd name="textAreaTop" fmla="*/ 174240 h 792000"/>
                    <a:gd name="textAreaBottom" fmla="*/ 617760 h 792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1147320" y="4863600"/>
                  <a:ext cx="0" cy="3567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739800" y="3706920"/>
              <a:ext cx="3505320" cy="2286000"/>
              <a:chOff x="739800" y="3706920"/>
              <a:chExt cx="3505320" cy="2286000"/>
            </a:xfrm>
          </p:grpSpPr>
          <p:sp>
            <p:nvSpPr>
              <p:cNvPr id="373" name=""/>
              <p:cNvSpPr/>
              <p:nvPr/>
            </p:nvSpPr>
            <p:spPr>
              <a:xfrm flipH="1">
                <a:off x="739800" y="37069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39800" y="37069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9800" y="4240080"/>
                <a:ext cx="350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245120" y="4240080"/>
                <a:ext cx="0" cy="175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3711600" y="59929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3635280" y="4849920"/>
                <a:ext cx="76320" cy="1143000"/>
                <a:chOff x="3635280" y="4849920"/>
                <a:chExt cx="76320" cy="11430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635280" y="5198760"/>
                  <a:ext cx="76320" cy="794160"/>
                </a:xfrm>
                <a:custGeom>
                  <a:avLst/>
                  <a:gdLst>
                    <a:gd name="textAreaLeft" fmla="*/ 16560 w 76320"/>
                    <a:gd name="textAreaRight" fmla="*/ 59760 w 76320"/>
                    <a:gd name="textAreaTop" fmla="*/ 174600 h 794160"/>
                    <a:gd name="textAreaBottom" fmla="*/ 619560 h 794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3675960" y="4849920"/>
                  <a:ext cx="0" cy="3549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1" name=""/>
          <p:cNvGrpSpPr/>
          <p:nvPr/>
        </p:nvGrpSpPr>
        <p:grpSpPr>
          <a:xfrm>
            <a:off x="609480" y="4648320"/>
            <a:ext cx="3352680" cy="761760"/>
            <a:chOff x="609480" y="4648320"/>
            <a:chExt cx="3352680" cy="761760"/>
          </a:xfrm>
        </p:grpSpPr>
        <p:grpSp>
          <p:nvGrpSpPr>
            <p:cNvPr id="382" name=""/>
            <p:cNvGrpSpPr/>
            <p:nvPr/>
          </p:nvGrpSpPr>
          <p:grpSpPr>
            <a:xfrm>
              <a:off x="1981080" y="4648320"/>
              <a:ext cx="609480" cy="761760"/>
              <a:chOff x="1981080" y="4648320"/>
              <a:chExt cx="609480" cy="7617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1928520" y="4737600"/>
                <a:ext cx="723960" cy="599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81080" y="4648320"/>
                <a:ext cx="0" cy="761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609480" y="5029200"/>
              <a:ext cx="3352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181840" y="4648320"/>
            <a:ext cx="3352680" cy="761760"/>
            <a:chOff x="5181840" y="4648320"/>
            <a:chExt cx="3352680" cy="761760"/>
          </a:xfrm>
        </p:grpSpPr>
        <p:grpSp>
          <p:nvGrpSpPr>
            <p:cNvPr id="387" name=""/>
            <p:cNvGrpSpPr/>
            <p:nvPr/>
          </p:nvGrpSpPr>
          <p:grpSpPr>
            <a:xfrm>
              <a:off x="6553440" y="4648320"/>
              <a:ext cx="609480" cy="761760"/>
              <a:chOff x="6553440" y="4648320"/>
              <a:chExt cx="609480" cy="761760"/>
            </a:xfrm>
          </p:grpSpPr>
          <p:sp>
            <p:nvSpPr>
              <p:cNvPr id="388" name=""/>
              <p:cNvSpPr/>
              <p:nvPr/>
            </p:nvSpPr>
            <p:spPr>
              <a:xfrm flipH="1" rot="5400000">
                <a:off x="6491160" y="4737600"/>
                <a:ext cx="723960" cy="599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162920" y="4648320"/>
                <a:ext cx="0" cy="761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 flipH="1">
              <a:off x="5181840" y="5029200"/>
              <a:ext cx="3352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478760" y="632880"/>
            <a:ext cx="4525920" cy="5374080"/>
            <a:chOff x="4478760" y="632880"/>
            <a:chExt cx="4525920" cy="5374080"/>
          </a:xfrm>
        </p:grpSpPr>
        <p:sp>
          <p:nvSpPr>
            <p:cNvPr id="392" name=""/>
            <p:cNvSpPr/>
            <p:nvPr/>
          </p:nvSpPr>
          <p:spPr>
            <a:xfrm>
              <a:off x="5638680" y="1041480"/>
              <a:ext cx="2286000" cy="2895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67280" y="1270080"/>
              <a:ext cx="182880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6324480" y="2641680"/>
              <a:ext cx="914400" cy="917280"/>
              <a:chOff x="6324480" y="2641680"/>
              <a:chExt cx="914400" cy="917280"/>
            </a:xfrm>
          </p:grpSpPr>
          <p:sp>
            <p:nvSpPr>
              <p:cNvPr id="395" name=""/>
              <p:cNvSpPr/>
              <p:nvPr/>
            </p:nvSpPr>
            <p:spPr>
              <a:xfrm>
                <a:off x="6324480" y="2641680"/>
                <a:ext cx="914400" cy="914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515200">
                <a:off x="6705360" y="2565360"/>
                <a:ext cx="101520" cy="110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6781680" y="2717640"/>
                <a:ext cx="304560" cy="381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 flipV="1" rot="13500000">
              <a:off x="5140440" y="1296360"/>
              <a:ext cx="3202200" cy="3198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06" y="136"/>
                  </a:moveTo>
                  <a:arcTo wR="10800" hR="10800" stAng="-4854694" swAng="4244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06" y="136"/>
                  </a:moveTo>
                  <a:arcTo wR="10800" hR="10800" stAng="-4854694" swAng="424465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05720" y="2413080"/>
              <a:ext cx="152280" cy="75960"/>
            </a:xfrm>
            <a:prstGeom prst="ellipse">
              <a:avLst/>
            </a:prstGeom>
            <a:solidFill>
              <a:srgbClr val="00cc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91320" y="36320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91320" y="33274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20120" y="3327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0120" y="363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15000" y="3048120"/>
              <a:ext cx="247680" cy="247680"/>
            </a:xfrm>
            <a:prstGeom prst="plus">
              <a:avLst>
                <a:gd name="adj" fmla="val 43847"/>
              </a:avLst>
            </a:prstGeom>
            <a:solidFill>
              <a:srgbClr val="ff00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19920" y="373392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72000" y="1600200"/>
              <a:ext cx="4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10280" y="23623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019920" y="1371240"/>
              <a:ext cx="761760" cy="1066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5124600" y="3416400"/>
              <a:ext cx="761760" cy="2590560"/>
              <a:chOff x="5124600" y="3416400"/>
              <a:chExt cx="761760" cy="2590560"/>
            </a:xfrm>
          </p:grpSpPr>
          <p:sp>
            <p:nvSpPr>
              <p:cNvPr id="410" name=""/>
              <p:cNvSpPr/>
              <p:nvPr/>
            </p:nvSpPr>
            <p:spPr>
              <a:xfrm flipH="1">
                <a:off x="5124600" y="3416400"/>
                <a:ext cx="7617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124600" y="3416400"/>
                <a:ext cx="0" cy="2590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124600" y="6006960"/>
                <a:ext cx="685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5733720" y="4863600"/>
                <a:ext cx="75960" cy="1143000"/>
                <a:chOff x="5733720" y="4863600"/>
                <a:chExt cx="75960" cy="11430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5733720" y="5214600"/>
                  <a:ext cx="75960" cy="792000"/>
                </a:xfrm>
                <a:custGeom>
                  <a:avLst/>
                  <a:gdLst>
                    <a:gd name="textAreaLeft" fmla="*/ 16560 w 75960"/>
                    <a:gd name="textAreaRight" fmla="*/ 59400 w 75960"/>
                    <a:gd name="textAreaTop" fmla="*/ 174240 h 792000"/>
                    <a:gd name="textAreaBottom" fmla="*/ 617760 h 792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>
                  <a:off x="5774760" y="4863600"/>
                  <a:ext cx="0" cy="3567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6" name=""/>
            <p:cNvGrpSpPr/>
            <p:nvPr/>
          </p:nvGrpSpPr>
          <p:grpSpPr>
            <a:xfrm>
              <a:off x="5337000" y="3705120"/>
              <a:ext cx="3505320" cy="2286000"/>
              <a:chOff x="5337000" y="3705120"/>
              <a:chExt cx="3505320" cy="228600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5337000" y="37051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337000" y="37051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337000" y="4238280"/>
                <a:ext cx="350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842320" y="4238280"/>
                <a:ext cx="0" cy="175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8308800" y="599112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8232480" y="4848120"/>
                <a:ext cx="76320" cy="1143000"/>
                <a:chOff x="8232480" y="4848120"/>
                <a:chExt cx="76320" cy="114300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8232480" y="5196960"/>
                  <a:ext cx="76320" cy="794160"/>
                </a:xfrm>
                <a:custGeom>
                  <a:avLst/>
                  <a:gdLst>
                    <a:gd name="textAreaLeft" fmla="*/ 16560 w 76320"/>
                    <a:gd name="textAreaRight" fmla="*/ 59760 w 76320"/>
                    <a:gd name="textAreaTop" fmla="*/ 174600 h 794160"/>
                    <a:gd name="textAreaBottom" fmla="*/ 619560 h 794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8273160" y="4848120"/>
                  <a:ext cx="0" cy="35496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0" y="6713640"/>
            <a:ext cx="125280" cy="137880"/>
          </a:xfrm>
          <a:custGeom>
            <a:avLst/>
            <a:gdLst>
              <a:gd name="textAreaLeft" fmla="*/ 7920 w 125280"/>
              <a:gd name="textAreaRight" fmla="*/ 117360 w 125280"/>
              <a:gd name="textAreaTop" fmla="*/ 7920 h 137880"/>
              <a:gd name="textAreaBottom" fmla="*/ 129960 h 137880"/>
            </a:gdLst>
            <a:ahLst/>
            <a:rect l="textAreaLeft" t="textAreaTop" r="textAreaRight" b="textAreaBottom"/>
            <a:pathLst>
              <a:path w="21600" h="23766">
                <a:moveTo>
                  <a:pt x="0" y="0"/>
                </a:moveTo>
                <a:lnTo>
                  <a:pt x="21600" y="0"/>
                </a:lnTo>
                <a:lnTo>
                  <a:pt x="21600" y="23766"/>
                </a:lnTo>
                <a:lnTo>
                  <a:pt x="0" y="23766"/>
                </a:lnTo>
                <a:close/>
              </a:path>
              <a:path fill="lightenLess" w="21600" h="23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6">
                <a:moveTo>
                  <a:pt x="21600" y="0"/>
                </a:moveTo>
                <a:lnTo>
                  <a:pt x="21600" y="23766"/>
                </a:lnTo>
                <a:lnTo>
                  <a:pt x="20200" y="22366"/>
                </a:lnTo>
                <a:lnTo>
                  <a:pt x="20200" y="1400"/>
                </a:lnTo>
                <a:close/>
              </a:path>
              <a:path fill="darkenLess" w="21600" h="23766">
                <a:moveTo>
                  <a:pt x="21600" y="23766"/>
                </a:moveTo>
                <a:lnTo>
                  <a:pt x="0" y="23766"/>
                </a:lnTo>
                <a:lnTo>
                  <a:pt x="1400" y="22366"/>
                </a:lnTo>
                <a:lnTo>
                  <a:pt x="20200" y="22366"/>
                </a:lnTo>
                <a:close/>
              </a:path>
              <a:path fill="lighten" w="21600" h="23766">
                <a:moveTo>
                  <a:pt x="0" y="23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6"/>
                </a:lnTo>
                <a:close/>
              </a:path>
              <a:path fill="darken" w="21600" h="23766">
                <a:moveTo>
                  <a:pt x="3794" y="4877"/>
                </a:moveTo>
                <a:lnTo>
                  <a:pt x="17806" y="11883"/>
                </a:lnTo>
                <a:lnTo>
                  <a:pt x="3794" y="188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218960" y="6019920"/>
            <a:ext cx="2350800" cy="609480"/>
            <a:chOff x="1218960" y="6019920"/>
            <a:chExt cx="2350800" cy="609480"/>
          </a:xfrm>
        </p:grpSpPr>
        <p:sp>
          <p:nvSpPr>
            <p:cNvPr id="427" name=""/>
            <p:cNvSpPr/>
            <p:nvPr/>
          </p:nvSpPr>
          <p:spPr>
            <a:xfrm>
              <a:off x="2116080" y="6095880"/>
              <a:ext cx="820800" cy="533520"/>
            </a:xfrm>
            <a:prstGeom prst="rect">
              <a:avLst/>
            </a:prstGeom>
            <a:gradFill rotWithShape="0">
              <a:gsLst>
                <a:gs pos="0">
                  <a:srgbClr val="fec49d"/>
                </a:gs>
                <a:gs pos="50000">
                  <a:srgbClr val="ff6600"/>
                </a:gs>
                <a:gs pos="100000">
                  <a:srgbClr val="fec49d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59040" y="6095880"/>
              <a:ext cx="263520" cy="533520"/>
            </a:xfrm>
            <a:prstGeom prst="rect">
              <a:avLst/>
            </a:prstGeom>
            <a:gradFill rotWithShape="0">
              <a:gsLst>
                <a:gs pos="0">
                  <a:srgbClr val="979797"/>
                </a:gs>
                <a:gs pos="50000">
                  <a:srgbClr val="333333"/>
                </a:gs>
                <a:gs pos="100000">
                  <a:srgbClr val="97979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293004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21896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56040" y="6172200"/>
              <a:ext cx="2761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16240" y="6019920"/>
              <a:ext cx="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59080" y="6172200"/>
              <a:ext cx="345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52080" y="618336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41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5715000" y="6019920"/>
            <a:ext cx="2351160" cy="609480"/>
            <a:chOff x="5715000" y="6019920"/>
            <a:chExt cx="2351160" cy="609480"/>
          </a:xfrm>
        </p:grpSpPr>
        <p:sp>
          <p:nvSpPr>
            <p:cNvPr id="436" name=""/>
            <p:cNvSpPr/>
            <p:nvPr/>
          </p:nvSpPr>
          <p:spPr>
            <a:xfrm flipH="1">
              <a:off x="6348240" y="6095880"/>
              <a:ext cx="820800" cy="533520"/>
            </a:xfrm>
            <a:prstGeom prst="rect">
              <a:avLst/>
            </a:prstGeom>
            <a:gradFill rotWithShape="0">
              <a:gsLst>
                <a:gs pos="0">
                  <a:srgbClr val="feb382"/>
                </a:gs>
                <a:gs pos="50000">
                  <a:srgbClr val="ff6600"/>
                </a:gs>
                <a:gs pos="100000">
                  <a:srgbClr val="feb382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162920" y="6095880"/>
              <a:ext cx="263520" cy="533520"/>
            </a:xfrm>
            <a:prstGeom prst="rect">
              <a:avLst/>
            </a:prstGeom>
            <a:gradFill rotWithShape="0">
              <a:gsLst>
                <a:gs pos="0">
                  <a:srgbClr val="9d9d9d"/>
                </a:gs>
                <a:gs pos="50000">
                  <a:srgbClr val="000000"/>
                </a:gs>
                <a:gs pos="100000">
                  <a:srgbClr val="9d9d9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1500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426440" y="6375240"/>
              <a:ext cx="639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952960" y="6172200"/>
              <a:ext cx="276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68880" y="6019920"/>
              <a:ext cx="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480080" y="6172200"/>
              <a:ext cx="345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30600" y="620856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41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43040" y="40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区分电解电容的极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79880" y="5180040"/>
            <a:ext cx="3733560" cy="1089000"/>
          </a:xfrm>
          <a:prstGeom prst="wedgeEllipseCallout">
            <a:avLst>
              <a:gd name="adj1" fmla="val -22236"/>
              <a:gd name="adj2" fmla="val -168222"/>
            </a:avLst>
          </a:prstGeom>
          <a:solidFill>
            <a:srgbClr val="a3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长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+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短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1371600" y="3666960"/>
            <a:ext cx="1828800" cy="25927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584280" y="1746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根据正接时漏电流小（阻值大），反接时漏电流大来判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rId2" action="ppaction://hlinksldjump"/>
          </p:cNvPr>
          <p:cNvSpPr/>
          <p:nvPr/>
        </p:nvSpPr>
        <p:spPr>
          <a:xfrm>
            <a:off x="0" y="6713640"/>
            <a:ext cx="125280" cy="137880"/>
          </a:xfrm>
          <a:custGeom>
            <a:avLst/>
            <a:gdLst>
              <a:gd name="textAreaLeft" fmla="*/ 7920 w 125280"/>
              <a:gd name="textAreaRight" fmla="*/ 117360 w 125280"/>
              <a:gd name="textAreaTop" fmla="*/ 7920 h 137880"/>
              <a:gd name="textAreaBottom" fmla="*/ 129960 h 137880"/>
            </a:gdLst>
            <a:ahLst/>
            <a:rect l="textAreaLeft" t="textAreaTop" r="textAreaRight" b="textAreaBottom"/>
            <a:pathLst>
              <a:path w="21600" h="23766">
                <a:moveTo>
                  <a:pt x="0" y="0"/>
                </a:moveTo>
                <a:lnTo>
                  <a:pt x="21600" y="0"/>
                </a:lnTo>
                <a:lnTo>
                  <a:pt x="21600" y="23766"/>
                </a:lnTo>
                <a:lnTo>
                  <a:pt x="0" y="23766"/>
                </a:lnTo>
                <a:close/>
              </a:path>
              <a:path fill="lightenLess" w="21600" h="23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6">
                <a:moveTo>
                  <a:pt x="21600" y="0"/>
                </a:moveTo>
                <a:lnTo>
                  <a:pt x="21600" y="23766"/>
                </a:lnTo>
                <a:lnTo>
                  <a:pt x="20200" y="22366"/>
                </a:lnTo>
                <a:lnTo>
                  <a:pt x="20200" y="1400"/>
                </a:lnTo>
                <a:close/>
              </a:path>
              <a:path fill="darkenLess" w="21600" h="23766">
                <a:moveTo>
                  <a:pt x="21600" y="23766"/>
                </a:moveTo>
                <a:lnTo>
                  <a:pt x="0" y="23766"/>
                </a:lnTo>
                <a:lnTo>
                  <a:pt x="1400" y="22366"/>
                </a:lnTo>
                <a:lnTo>
                  <a:pt x="20200" y="22366"/>
                </a:lnTo>
                <a:close/>
              </a:path>
              <a:path fill="lighten" w="21600" h="23766">
                <a:moveTo>
                  <a:pt x="0" y="23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6"/>
                </a:lnTo>
                <a:close/>
              </a:path>
              <a:path fill="darken" w="21600" h="23766">
                <a:moveTo>
                  <a:pt x="3794" y="4877"/>
                </a:moveTo>
                <a:lnTo>
                  <a:pt x="17806" y="11883"/>
                </a:lnTo>
                <a:lnTo>
                  <a:pt x="3794" y="188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6942240" y="2600280"/>
            <a:ext cx="1260360" cy="2590920"/>
            <a:chOff x="6942240" y="2600280"/>
            <a:chExt cx="1260360" cy="2590920"/>
          </a:xfrm>
        </p:grpSpPr>
        <p:grpSp>
          <p:nvGrpSpPr>
            <p:cNvPr id="450" name=""/>
            <p:cNvGrpSpPr/>
            <p:nvPr/>
          </p:nvGrpSpPr>
          <p:grpSpPr>
            <a:xfrm>
              <a:off x="7059600" y="2600280"/>
              <a:ext cx="1143000" cy="2590920"/>
              <a:chOff x="7059600" y="2600280"/>
              <a:chExt cx="1143000" cy="2590920"/>
            </a:xfrm>
          </p:grpSpPr>
          <p:sp>
            <p:nvSpPr>
              <p:cNvPr id="451" name=""/>
              <p:cNvSpPr/>
              <p:nvPr/>
            </p:nvSpPr>
            <p:spPr>
              <a:xfrm flipV="1" rot="5400000">
                <a:off x="7554960" y="3095280"/>
                <a:ext cx="152280" cy="114300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059600" y="4200480"/>
                <a:ext cx="1143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7669080" y="2600280"/>
                <a:ext cx="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7669080" y="4200480"/>
                <a:ext cx="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6942240" y="2982960"/>
              <a:ext cx="89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77160" y="4114800"/>
              <a:ext cx="89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319560" y="3083040"/>
            <a:ext cx="2838240" cy="838080"/>
            <a:chOff x="3319560" y="3083040"/>
            <a:chExt cx="2838240" cy="838080"/>
          </a:xfrm>
        </p:grpSpPr>
        <p:grpSp>
          <p:nvGrpSpPr>
            <p:cNvPr id="458" name=""/>
            <p:cNvGrpSpPr/>
            <p:nvPr/>
          </p:nvGrpSpPr>
          <p:grpSpPr>
            <a:xfrm>
              <a:off x="3319560" y="3083040"/>
              <a:ext cx="2838240" cy="838080"/>
              <a:chOff x="3319560" y="3083040"/>
              <a:chExt cx="2838240" cy="838080"/>
            </a:xfrm>
          </p:grpSpPr>
          <p:sp>
            <p:nvSpPr>
              <p:cNvPr id="459" name=""/>
              <p:cNvSpPr/>
              <p:nvPr/>
            </p:nvSpPr>
            <p:spPr>
              <a:xfrm flipH="1" rot="5400000">
                <a:off x="5180760" y="2874960"/>
                <a:ext cx="734760" cy="12189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 rot="5400000">
                <a:off x="4589640" y="3457800"/>
                <a:ext cx="601200" cy="954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5400000">
                <a:off x="4419000" y="3450600"/>
                <a:ext cx="733320" cy="114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1b1b1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795840" y="3292200"/>
                <a:ext cx="9237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319560" y="3692520"/>
                <a:ext cx="14097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rot="5400000">
                <a:off x="4580640" y="3116160"/>
                <a:ext cx="83808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－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5138640" y="3147840"/>
              <a:ext cx="839160" cy="10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三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焊接前的准备工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111400" y="2179800"/>
            <a:ext cx="5891040" cy="3067920"/>
            <a:chOff x="2111400" y="2179800"/>
            <a:chExt cx="5891040" cy="3067920"/>
          </a:xfrm>
        </p:grpSpPr>
        <p:sp>
          <p:nvSpPr>
            <p:cNvPr id="468" name=""/>
            <p:cNvSpPr/>
            <p:nvPr/>
          </p:nvSpPr>
          <p:spPr>
            <a:xfrm>
              <a:off x="2111400" y="2229120"/>
              <a:ext cx="64116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读数测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62560" y="2208240"/>
              <a:ext cx="6033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插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87800" y="2217960"/>
              <a:ext cx="5522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去氧化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94320" y="2179800"/>
              <a:ext cx="6033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焊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99440" y="2192400"/>
              <a:ext cx="60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84720" y="2217960"/>
              <a:ext cx="5522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元件弯制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631880" y="1496880"/>
            <a:ext cx="5064120" cy="693720"/>
            <a:chOff x="1631880" y="1496880"/>
            <a:chExt cx="5064120" cy="693720"/>
          </a:xfrm>
        </p:grpSpPr>
        <p:sp>
          <p:nvSpPr>
            <p:cNvPr id="475" name=""/>
            <p:cNvSpPr/>
            <p:nvPr/>
          </p:nvSpPr>
          <p:spPr>
            <a:xfrm>
              <a:off x="1631880" y="1506600"/>
              <a:ext cx="65556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01920" y="1528560"/>
              <a:ext cx="0" cy="65592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54400" y="1496880"/>
              <a:ext cx="4341600" cy="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651640" y="153504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497400" y="149688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79920" y="152244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83400" y="1535040"/>
              <a:ext cx="0" cy="6555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410080" y="4468680"/>
            <a:ext cx="3402000" cy="2125800"/>
          </a:xfrm>
          <a:prstGeom prst="cloudCallout">
            <a:avLst>
              <a:gd name="adj1" fmla="val -77810"/>
              <a:gd name="adj2" fmla="val -59259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现在开始焊接了，要注意安全哦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1219320" y="2104920"/>
            <a:ext cx="7378560" cy="4349880"/>
            <a:chOff x="1219320" y="2104920"/>
            <a:chExt cx="7378560" cy="4349880"/>
          </a:xfrm>
        </p:grpSpPr>
        <p:sp>
          <p:nvSpPr>
            <p:cNvPr id="484" name=""/>
            <p:cNvSpPr/>
            <p:nvPr/>
          </p:nvSpPr>
          <p:spPr>
            <a:xfrm>
              <a:off x="7077240" y="612000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1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746680" y="612000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－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16280" y="612000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84440" y="61200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52600" y="61200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219320" y="6120000"/>
              <a:ext cx="1133280" cy="33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aeaea"/>
                  </a:solidFill>
                  <a:latin typeface="Times New Roman"/>
                  <a:ea typeface="华文行楷"/>
                </a:rPr>
                <a:t>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77240" y="578556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46680" y="578556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－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16280" y="578556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84440" y="57855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52600" y="57855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19320" y="5785560"/>
              <a:ext cx="1133280" cy="33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c00"/>
                  </a:solidFill>
                  <a:latin typeface="Times New Roman"/>
                  <a:ea typeface="华文行楷"/>
                </a:rPr>
                <a:t>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77240" y="545076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46680" y="545076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16280" y="545076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84440" y="54507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352600" y="54507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19320" y="5450760"/>
              <a:ext cx="1133280" cy="33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华文行楷"/>
                </a:rPr>
                <a:t>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46680" y="511632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46680" y="478152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46680" y="444708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746680" y="411228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46680" y="377784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46680" y="344304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46680" y="310860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46680" y="277380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46680" y="243936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  <a:ea typeface="华文行楷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46680" y="2104920"/>
              <a:ext cx="133056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倍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077240" y="511632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6280" y="511632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84440" y="51163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52600" y="51163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19320" y="511632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75757"/>
                  </a:solidFill>
                  <a:latin typeface="Times New Roman"/>
                  <a:ea typeface="华文行楷"/>
                </a:rPr>
                <a:t>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77240" y="478152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0.1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16280" y="478152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84440" y="47815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52600" y="47815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19320" y="478152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ff"/>
                  </a:solidFill>
                  <a:latin typeface="Times New Roman"/>
                  <a:ea typeface="华文行楷"/>
                </a:rPr>
                <a:t>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77240" y="444708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0.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616280" y="444708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84440" y="44470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52600" y="44470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219320" y="444708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Times New Roman"/>
                  <a:ea typeface="华文行楷"/>
                </a:rPr>
                <a:t>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77240" y="411228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0.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16280" y="411228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84440" y="41122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52600" y="411228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19320" y="411228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cc99"/>
                  </a:solidFill>
                  <a:latin typeface="Times New Roman"/>
                  <a:ea typeface="华文行楷"/>
                </a:rPr>
                <a:t>绿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77240" y="377784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16280" y="377784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84440" y="37778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52600" y="37778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19320" y="377784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c00"/>
                  </a:solidFill>
                  <a:latin typeface="Times New Roman"/>
                  <a:ea typeface="华文行楷"/>
                </a:rPr>
                <a:t>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77240" y="344304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16280" y="344304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84440" y="34430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352600" y="344304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19320" y="344304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华文行楷"/>
                </a:rPr>
                <a:t>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77240" y="310860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2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16280" y="310860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84440" y="31086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52600" y="31086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19320" y="310860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77240" y="277380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±1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616280" y="277380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484440" y="27738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352600" y="277380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219320" y="277380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663300"/>
                  </a:solidFill>
                  <a:latin typeface="Times New Roman"/>
                  <a:ea typeface="华文行楷"/>
                </a:rPr>
                <a:t>棕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77240" y="243936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16280" y="243936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84440" y="24393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352600" y="243936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19320" y="243936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77240" y="2104920"/>
              <a:ext cx="1520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误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16280" y="2104920"/>
              <a:ext cx="113040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484440" y="21049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352600" y="2104920"/>
              <a:ext cx="11318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19320" y="2104920"/>
              <a:ext cx="113328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颜色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19320" y="2104920"/>
              <a:ext cx="7378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19320" y="243936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19320" y="277380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19320" y="310860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19320" y="344304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19320" y="377784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19320" y="411228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219320" y="444708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19320" y="478152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19320" y="511632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19320" y="6454800"/>
              <a:ext cx="7378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19320" y="2104920"/>
              <a:ext cx="0" cy="4349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5260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8444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1628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4668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597880" y="2104920"/>
              <a:ext cx="0" cy="43498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77240" y="2104920"/>
              <a:ext cx="0" cy="434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19320" y="545076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219320" y="578556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19320" y="6120000"/>
              <a:ext cx="737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7000" y="0"/>
            <a:ext cx="80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色  环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色  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849400" y="351000"/>
            <a:ext cx="5046840" cy="1726560"/>
            <a:chOff x="2849400" y="351000"/>
            <a:chExt cx="5046840" cy="1726560"/>
          </a:xfrm>
        </p:grpSpPr>
        <p:sp>
          <p:nvSpPr>
            <p:cNvPr id="585" name=""/>
            <p:cNvSpPr/>
            <p:nvPr/>
          </p:nvSpPr>
          <p:spPr>
            <a:xfrm>
              <a:off x="4032360" y="807840"/>
              <a:ext cx="361800" cy="1263600"/>
            </a:xfrm>
            <a:custGeom>
              <a:avLst/>
              <a:gdLst/>
              <a:ahLst/>
              <a:rect l="l" t="t" r="r" b="b"/>
              <a:pathLst>
                <a:path w="228" h="796">
                  <a:moveTo>
                    <a:pt x="224" y="0"/>
                  </a:moveTo>
                  <a:lnTo>
                    <a:pt x="228" y="592"/>
                  </a:lnTo>
                  <a:lnTo>
                    <a:pt x="4" y="596"/>
                  </a:lnTo>
                  <a:lnTo>
                    <a:pt x="0" y="796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83040" y="795240"/>
              <a:ext cx="1524240" cy="1276200"/>
            </a:xfrm>
            <a:custGeom>
              <a:avLst/>
              <a:gdLst/>
              <a:ahLst/>
              <a:rect l="l" t="t" r="r" b="b"/>
              <a:pathLst>
                <a:path w="960" h="804">
                  <a:moveTo>
                    <a:pt x="0" y="0"/>
                  </a:moveTo>
                  <a:lnTo>
                    <a:pt x="0" y="72"/>
                  </a:lnTo>
                  <a:lnTo>
                    <a:pt x="276" y="76"/>
                  </a:lnTo>
                  <a:lnTo>
                    <a:pt x="276" y="660"/>
                  </a:lnTo>
                  <a:lnTo>
                    <a:pt x="952" y="660"/>
                  </a:lnTo>
                  <a:lnTo>
                    <a:pt x="960" y="80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72240" y="814320"/>
              <a:ext cx="2124000" cy="1260000"/>
            </a:xfrm>
            <a:custGeom>
              <a:avLst/>
              <a:gdLst/>
              <a:ahLst/>
              <a:rect l="l" t="t" r="r" b="b"/>
              <a:pathLst>
                <a:path w="1338" h="794">
                  <a:moveTo>
                    <a:pt x="4" y="0"/>
                  </a:moveTo>
                  <a:lnTo>
                    <a:pt x="0" y="72"/>
                  </a:lnTo>
                  <a:lnTo>
                    <a:pt x="200" y="68"/>
                  </a:lnTo>
                  <a:lnTo>
                    <a:pt x="196" y="524"/>
                  </a:lnTo>
                  <a:lnTo>
                    <a:pt x="1322" y="522"/>
                  </a:lnTo>
                  <a:lnTo>
                    <a:pt x="1338" y="79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27520" y="814320"/>
              <a:ext cx="984240" cy="1263240"/>
            </a:xfrm>
            <a:custGeom>
              <a:avLst/>
              <a:gdLst/>
              <a:ahLst/>
              <a:rect l="l" t="t" r="r" b="b"/>
              <a:pathLst>
                <a:path w="620" h="796">
                  <a:moveTo>
                    <a:pt x="612" y="0"/>
                  </a:moveTo>
                  <a:lnTo>
                    <a:pt x="620" y="580"/>
                  </a:lnTo>
                  <a:lnTo>
                    <a:pt x="0" y="584"/>
                  </a:lnTo>
                  <a:lnTo>
                    <a:pt x="0" y="796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2849400" y="351000"/>
              <a:ext cx="4019400" cy="458280"/>
              <a:chOff x="2849400" y="351000"/>
              <a:chExt cx="4019400" cy="458280"/>
            </a:xfrm>
          </p:grpSpPr>
          <p:sp>
            <p:nvSpPr>
              <p:cNvPr id="590" name=""/>
              <p:cNvSpPr/>
              <p:nvPr/>
            </p:nvSpPr>
            <p:spPr>
              <a:xfrm>
                <a:off x="3521880" y="351000"/>
                <a:ext cx="2666160" cy="45828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50000">
                    <a:srgbClr val="ffffff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49400" y="603720"/>
                <a:ext cx="67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768840" y="351000"/>
                <a:ext cx="268560" cy="4582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229640" y="351000"/>
                <a:ext cx="268560" cy="458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712400" y="351000"/>
                <a:ext cx="268560" cy="45828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50000">
                    <a:srgbClr val="ffffff"/>
                  </a:gs>
                  <a:gs pos="100000">
                    <a:srgbClr val="008000"/>
                  </a:gs>
                </a:gsLst>
                <a:lin ang="5400000"/>
              </a:gra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54080" y="351000"/>
                <a:ext cx="403560" cy="45828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50000">
                    <a:srgbClr val="ffffff"/>
                  </a:gs>
                  <a:gs pos="100000">
                    <a:srgbClr val="663300"/>
                  </a:gs>
                </a:gsLst>
                <a:lin ang="5400000"/>
              </a:gra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196320" y="594720"/>
                <a:ext cx="67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2865600" y="1022400"/>
              <a:ext cx="4220280" cy="499320"/>
              <a:chOff x="2865600" y="1022400"/>
              <a:chExt cx="4220280" cy="499320"/>
            </a:xfrm>
          </p:grpSpPr>
          <p:sp>
            <p:nvSpPr>
              <p:cNvPr id="598" name=""/>
              <p:cNvSpPr/>
              <p:nvPr/>
            </p:nvSpPr>
            <p:spPr>
              <a:xfrm>
                <a:off x="3522600" y="1022400"/>
                <a:ext cx="2898360" cy="49932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865600" y="1297800"/>
                <a:ext cx="657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76416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21524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17068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5000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60080" y="1022400"/>
                <a:ext cx="394200" cy="49932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50000">
                    <a:srgbClr val="ffffff"/>
                  </a:gs>
                  <a:gs pos="100000">
                    <a:srgbClr val="663300"/>
                  </a:gs>
                </a:gsLst>
                <a:lin ang="5400000"/>
              </a:gra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28880" y="1278000"/>
                <a:ext cx="657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19600" y="1022400"/>
                <a:ext cx="262800" cy="49932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50000">
                    <a:srgbClr val="ffffff"/>
                  </a:gs>
                  <a:gs pos="100000">
                    <a:srgbClr val="008000"/>
                  </a:gs>
                </a:gsLst>
                <a:lin ang="5400000"/>
              </a:gra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4857840" y="1531800"/>
              <a:ext cx="304560" cy="533160"/>
            </a:xfrm>
            <a:custGeom>
              <a:avLst/>
              <a:gdLst/>
              <a:ahLst/>
              <a:rect l="l" t="t" r="r" b="b"/>
              <a:pathLst>
                <a:path w="192" h="336">
                  <a:moveTo>
                    <a:pt x="0" y="0"/>
                  </a:moveTo>
                  <a:lnTo>
                    <a:pt x="0" y="116"/>
                  </a:lnTo>
                  <a:lnTo>
                    <a:pt x="192" y="116"/>
                  </a:lnTo>
                  <a:lnTo>
                    <a:pt x="184" y="336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47920" y="1066680"/>
            <a:ext cx="60958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细黑"/>
              </a:rPr>
              <a:t>2031</a:t>
            </a:r>
            <a:r>
              <a:rPr b="1" i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细黑"/>
              </a:rPr>
              <a:t>收音机的安装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细黑"/>
              <a:ea typeface="华文细黑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17720" y="420840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电子工艺实训教学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044800" cy="1866960"/>
          </a:xfrm>
          <a:custGeom>
            <a:avLst/>
            <a:gdLst/>
            <a:ahLst/>
            <a:rect l="l" t="t" r="r" b="b"/>
            <a:pathLst>
              <a:path w="1288" h="1176">
                <a:moveTo>
                  <a:pt x="49" y="60"/>
                </a:moveTo>
                <a:lnTo>
                  <a:pt x="459" y="0"/>
                </a:lnTo>
                <a:lnTo>
                  <a:pt x="807" y="79"/>
                </a:lnTo>
                <a:lnTo>
                  <a:pt x="1203" y="39"/>
                </a:lnTo>
                <a:lnTo>
                  <a:pt x="1288" y="270"/>
                </a:lnTo>
                <a:lnTo>
                  <a:pt x="1251" y="492"/>
                </a:lnTo>
                <a:lnTo>
                  <a:pt x="1041" y="864"/>
                </a:lnTo>
                <a:lnTo>
                  <a:pt x="744" y="813"/>
                </a:lnTo>
                <a:lnTo>
                  <a:pt x="807" y="1176"/>
                </a:lnTo>
                <a:lnTo>
                  <a:pt x="781" y="1155"/>
                </a:lnTo>
                <a:lnTo>
                  <a:pt x="753" y="1129"/>
                </a:lnTo>
                <a:lnTo>
                  <a:pt x="716" y="1097"/>
                </a:lnTo>
                <a:lnTo>
                  <a:pt x="674" y="1058"/>
                </a:lnTo>
                <a:lnTo>
                  <a:pt x="626" y="1014"/>
                </a:lnTo>
                <a:lnTo>
                  <a:pt x="575" y="967"/>
                </a:lnTo>
                <a:lnTo>
                  <a:pt x="522" y="919"/>
                </a:lnTo>
                <a:lnTo>
                  <a:pt x="471" y="870"/>
                </a:lnTo>
                <a:lnTo>
                  <a:pt x="420" y="823"/>
                </a:lnTo>
                <a:lnTo>
                  <a:pt x="373" y="776"/>
                </a:lnTo>
                <a:lnTo>
                  <a:pt x="329" y="734"/>
                </a:lnTo>
                <a:lnTo>
                  <a:pt x="294" y="697"/>
                </a:lnTo>
                <a:lnTo>
                  <a:pt x="269" y="669"/>
                </a:lnTo>
                <a:lnTo>
                  <a:pt x="248" y="633"/>
                </a:lnTo>
                <a:lnTo>
                  <a:pt x="241" y="603"/>
                </a:lnTo>
                <a:lnTo>
                  <a:pt x="216" y="548"/>
                </a:lnTo>
                <a:lnTo>
                  <a:pt x="197" y="515"/>
                </a:lnTo>
                <a:lnTo>
                  <a:pt x="176" y="479"/>
                </a:lnTo>
                <a:lnTo>
                  <a:pt x="153" y="439"/>
                </a:lnTo>
                <a:lnTo>
                  <a:pt x="130" y="402"/>
                </a:lnTo>
                <a:lnTo>
                  <a:pt x="105" y="362"/>
                </a:lnTo>
                <a:lnTo>
                  <a:pt x="81" y="327"/>
                </a:lnTo>
                <a:lnTo>
                  <a:pt x="42" y="263"/>
                </a:lnTo>
                <a:lnTo>
                  <a:pt x="12" y="218"/>
                </a:lnTo>
                <a:lnTo>
                  <a:pt x="0" y="201"/>
                </a:lnTo>
                <a:lnTo>
                  <a:pt x="49" y="60"/>
                </a:lnTo>
                <a:lnTo>
                  <a:pt x="49" y="60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14" h="4278">
                <a:moveTo>
                  <a:pt x="60" y="182"/>
                </a:moveTo>
                <a:lnTo>
                  <a:pt x="209" y="704"/>
                </a:lnTo>
                <a:lnTo>
                  <a:pt x="234" y="1217"/>
                </a:lnTo>
                <a:lnTo>
                  <a:pt x="97" y="1550"/>
                </a:lnTo>
                <a:lnTo>
                  <a:pt x="222" y="1892"/>
                </a:lnTo>
                <a:lnTo>
                  <a:pt x="60" y="2204"/>
                </a:lnTo>
                <a:lnTo>
                  <a:pt x="171" y="2969"/>
                </a:lnTo>
                <a:lnTo>
                  <a:pt x="148" y="3202"/>
                </a:lnTo>
                <a:lnTo>
                  <a:pt x="0" y="3856"/>
                </a:lnTo>
                <a:lnTo>
                  <a:pt x="148" y="3886"/>
                </a:lnTo>
                <a:lnTo>
                  <a:pt x="123" y="4066"/>
                </a:lnTo>
                <a:lnTo>
                  <a:pt x="568" y="4057"/>
                </a:lnTo>
                <a:lnTo>
                  <a:pt x="1163" y="4156"/>
                </a:lnTo>
                <a:lnTo>
                  <a:pt x="1374" y="4096"/>
                </a:lnTo>
                <a:lnTo>
                  <a:pt x="2850" y="4248"/>
                </a:lnTo>
                <a:lnTo>
                  <a:pt x="2850" y="4147"/>
                </a:lnTo>
                <a:lnTo>
                  <a:pt x="3258" y="4177"/>
                </a:lnTo>
                <a:lnTo>
                  <a:pt x="3346" y="4237"/>
                </a:lnTo>
                <a:lnTo>
                  <a:pt x="3679" y="4117"/>
                </a:lnTo>
                <a:lnTo>
                  <a:pt x="3964" y="4177"/>
                </a:lnTo>
                <a:lnTo>
                  <a:pt x="4361" y="4126"/>
                </a:lnTo>
                <a:lnTo>
                  <a:pt x="5118" y="4156"/>
                </a:lnTo>
                <a:lnTo>
                  <a:pt x="5500" y="4278"/>
                </a:lnTo>
                <a:lnTo>
                  <a:pt x="5688" y="3955"/>
                </a:lnTo>
                <a:lnTo>
                  <a:pt x="5514" y="3865"/>
                </a:lnTo>
                <a:lnTo>
                  <a:pt x="5714" y="3512"/>
                </a:lnTo>
                <a:lnTo>
                  <a:pt x="5514" y="3352"/>
                </a:lnTo>
                <a:lnTo>
                  <a:pt x="5341" y="2527"/>
                </a:lnTo>
                <a:lnTo>
                  <a:pt x="5500" y="2063"/>
                </a:lnTo>
                <a:lnTo>
                  <a:pt x="5463" y="1802"/>
                </a:lnTo>
                <a:lnTo>
                  <a:pt x="5674" y="1388"/>
                </a:lnTo>
                <a:lnTo>
                  <a:pt x="5463" y="524"/>
                </a:lnTo>
                <a:lnTo>
                  <a:pt x="5700" y="182"/>
                </a:lnTo>
                <a:lnTo>
                  <a:pt x="5514" y="50"/>
                </a:lnTo>
                <a:lnTo>
                  <a:pt x="5304" y="101"/>
                </a:lnTo>
                <a:lnTo>
                  <a:pt x="4697" y="0"/>
                </a:lnTo>
                <a:lnTo>
                  <a:pt x="4212" y="182"/>
                </a:lnTo>
                <a:lnTo>
                  <a:pt x="3753" y="92"/>
                </a:lnTo>
                <a:lnTo>
                  <a:pt x="2861" y="41"/>
                </a:lnTo>
                <a:lnTo>
                  <a:pt x="2377" y="81"/>
                </a:lnTo>
                <a:lnTo>
                  <a:pt x="1710" y="62"/>
                </a:lnTo>
                <a:lnTo>
                  <a:pt x="1003" y="122"/>
                </a:lnTo>
                <a:lnTo>
                  <a:pt x="841" y="554"/>
                </a:lnTo>
                <a:lnTo>
                  <a:pt x="1844" y="624"/>
                </a:lnTo>
                <a:lnTo>
                  <a:pt x="2106" y="513"/>
                </a:lnTo>
                <a:lnTo>
                  <a:pt x="2699" y="614"/>
                </a:lnTo>
                <a:lnTo>
                  <a:pt x="3109" y="545"/>
                </a:lnTo>
                <a:lnTo>
                  <a:pt x="3557" y="605"/>
                </a:lnTo>
                <a:lnTo>
                  <a:pt x="4076" y="513"/>
                </a:lnTo>
                <a:lnTo>
                  <a:pt x="4523" y="563"/>
                </a:lnTo>
                <a:lnTo>
                  <a:pt x="4560" y="765"/>
                </a:lnTo>
                <a:lnTo>
                  <a:pt x="4819" y="815"/>
                </a:lnTo>
                <a:lnTo>
                  <a:pt x="4708" y="1178"/>
                </a:lnTo>
                <a:lnTo>
                  <a:pt x="4882" y="1268"/>
                </a:lnTo>
                <a:lnTo>
                  <a:pt x="4720" y="1762"/>
                </a:lnTo>
                <a:lnTo>
                  <a:pt x="4856" y="1933"/>
                </a:lnTo>
                <a:lnTo>
                  <a:pt x="4734" y="2315"/>
                </a:lnTo>
                <a:lnTo>
                  <a:pt x="4734" y="2527"/>
                </a:lnTo>
                <a:lnTo>
                  <a:pt x="4819" y="2719"/>
                </a:lnTo>
                <a:lnTo>
                  <a:pt x="4622" y="3080"/>
                </a:lnTo>
                <a:lnTo>
                  <a:pt x="4819" y="3313"/>
                </a:lnTo>
                <a:lnTo>
                  <a:pt x="4646" y="3583"/>
                </a:lnTo>
                <a:lnTo>
                  <a:pt x="4361" y="3655"/>
                </a:lnTo>
                <a:lnTo>
                  <a:pt x="3705" y="3593"/>
                </a:lnTo>
                <a:lnTo>
                  <a:pt x="3469" y="3764"/>
                </a:lnTo>
                <a:lnTo>
                  <a:pt x="3024" y="3613"/>
                </a:lnTo>
                <a:lnTo>
                  <a:pt x="2588" y="3623"/>
                </a:lnTo>
                <a:lnTo>
                  <a:pt x="1995" y="3634"/>
                </a:lnTo>
                <a:lnTo>
                  <a:pt x="1633" y="3733"/>
                </a:lnTo>
                <a:lnTo>
                  <a:pt x="1499" y="3574"/>
                </a:lnTo>
                <a:lnTo>
                  <a:pt x="1163" y="3715"/>
                </a:lnTo>
                <a:lnTo>
                  <a:pt x="1163" y="3452"/>
                </a:lnTo>
                <a:lnTo>
                  <a:pt x="816" y="3352"/>
                </a:lnTo>
                <a:lnTo>
                  <a:pt x="1040" y="2950"/>
                </a:lnTo>
                <a:lnTo>
                  <a:pt x="816" y="2768"/>
                </a:lnTo>
                <a:lnTo>
                  <a:pt x="1003" y="2416"/>
                </a:lnTo>
                <a:lnTo>
                  <a:pt x="755" y="2335"/>
                </a:lnTo>
                <a:lnTo>
                  <a:pt x="890" y="1309"/>
                </a:lnTo>
                <a:lnTo>
                  <a:pt x="841" y="896"/>
                </a:lnTo>
                <a:lnTo>
                  <a:pt x="741" y="746"/>
                </a:lnTo>
                <a:lnTo>
                  <a:pt x="704" y="473"/>
                </a:lnTo>
                <a:lnTo>
                  <a:pt x="804" y="263"/>
                </a:lnTo>
                <a:lnTo>
                  <a:pt x="60" y="182"/>
                </a:lnTo>
                <a:lnTo>
                  <a:pt x="60" y="182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960" y="4191120"/>
            <a:ext cx="409680" cy="895320"/>
          </a:xfrm>
          <a:custGeom>
            <a:avLst/>
            <a:gdLst/>
            <a:ahLst/>
            <a:rect l="l" t="t" r="r" b="b"/>
            <a:pathLst>
              <a:path w="258" h="564">
                <a:moveTo>
                  <a:pt x="258" y="79"/>
                </a:moveTo>
                <a:lnTo>
                  <a:pt x="244" y="378"/>
                </a:lnTo>
                <a:lnTo>
                  <a:pt x="223" y="477"/>
                </a:lnTo>
                <a:lnTo>
                  <a:pt x="211" y="517"/>
                </a:lnTo>
                <a:lnTo>
                  <a:pt x="183" y="543"/>
                </a:lnTo>
                <a:lnTo>
                  <a:pt x="146" y="560"/>
                </a:lnTo>
                <a:lnTo>
                  <a:pt x="107" y="564"/>
                </a:lnTo>
                <a:lnTo>
                  <a:pt x="31" y="538"/>
                </a:lnTo>
                <a:lnTo>
                  <a:pt x="0" y="468"/>
                </a:lnTo>
                <a:lnTo>
                  <a:pt x="12" y="357"/>
                </a:lnTo>
                <a:lnTo>
                  <a:pt x="24" y="280"/>
                </a:lnTo>
                <a:lnTo>
                  <a:pt x="42" y="214"/>
                </a:lnTo>
                <a:lnTo>
                  <a:pt x="75" y="70"/>
                </a:lnTo>
                <a:lnTo>
                  <a:pt x="84" y="38"/>
                </a:lnTo>
                <a:lnTo>
                  <a:pt x="107" y="15"/>
                </a:lnTo>
                <a:lnTo>
                  <a:pt x="137" y="4"/>
                </a:lnTo>
                <a:lnTo>
                  <a:pt x="170" y="0"/>
                </a:lnTo>
                <a:lnTo>
                  <a:pt x="232" y="23"/>
                </a:lnTo>
                <a:lnTo>
                  <a:pt x="258" y="79"/>
                </a:lnTo>
                <a:lnTo>
                  <a:pt x="258" y="7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39880" y="5935680"/>
            <a:ext cx="135432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4"/>
                </a:moveTo>
                <a:lnTo>
                  <a:pt x="252" y="42"/>
                </a:lnTo>
                <a:lnTo>
                  <a:pt x="410" y="29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7"/>
                </a:lnTo>
                <a:lnTo>
                  <a:pt x="853" y="85"/>
                </a:lnTo>
                <a:lnTo>
                  <a:pt x="846" y="115"/>
                </a:lnTo>
                <a:lnTo>
                  <a:pt x="827" y="143"/>
                </a:lnTo>
                <a:lnTo>
                  <a:pt x="795" y="162"/>
                </a:lnTo>
                <a:lnTo>
                  <a:pt x="748" y="169"/>
                </a:lnTo>
                <a:lnTo>
                  <a:pt x="401" y="164"/>
                </a:lnTo>
                <a:lnTo>
                  <a:pt x="53" y="136"/>
                </a:lnTo>
                <a:lnTo>
                  <a:pt x="12" y="113"/>
                </a:lnTo>
                <a:lnTo>
                  <a:pt x="0" y="77"/>
                </a:lnTo>
                <a:lnTo>
                  <a:pt x="7" y="59"/>
                </a:lnTo>
                <a:lnTo>
                  <a:pt x="23" y="45"/>
                </a:lnTo>
                <a:lnTo>
                  <a:pt x="72" y="34"/>
                </a:lnTo>
                <a:lnTo>
                  <a:pt x="72" y="34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7400" y="5935680"/>
            <a:ext cx="146520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3"/>
                </a:lnTo>
                <a:lnTo>
                  <a:pt x="621" y="32"/>
                </a:lnTo>
                <a:lnTo>
                  <a:pt x="818" y="32"/>
                </a:lnTo>
                <a:lnTo>
                  <a:pt x="865" y="40"/>
                </a:lnTo>
                <a:lnTo>
                  <a:pt x="897" y="59"/>
                </a:lnTo>
                <a:lnTo>
                  <a:pt x="923" y="117"/>
                </a:lnTo>
                <a:lnTo>
                  <a:pt x="916" y="149"/>
                </a:lnTo>
                <a:lnTo>
                  <a:pt x="897" y="175"/>
                </a:lnTo>
                <a:lnTo>
                  <a:pt x="865" y="194"/>
                </a:lnTo>
                <a:lnTo>
                  <a:pt x="818" y="201"/>
                </a:lnTo>
                <a:lnTo>
                  <a:pt x="621" y="201"/>
                </a:lnTo>
                <a:lnTo>
                  <a:pt x="357" y="192"/>
                </a:lnTo>
                <a:lnTo>
                  <a:pt x="93" y="168"/>
                </a:lnTo>
                <a:lnTo>
                  <a:pt x="49" y="158"/>
                </a:lnTo>
                <a:lnTo>
                  <a:pt x="19" y="136"/>
                </a:lnTo>
                <a:lnTo>
                  <a:pt x="0" y="76"/>
                </a:lnTo>
                <a:lnTo>
                  <a:pt x="10" y="45"/>
                </a:lnTo>
                <a:lnTo>
                  <a:pt x="33" y="19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27600" y="5924520"/>
            <a:ext cx="130500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2"/>
                </a:lnTo>
                <a:lnTo>
                  <a:pt x="352" y="7"/>
                </a:lnTo>
                <a:lnTo>
                  <a:pt x="461" y="0"/>
                </a:lnTo>
                <a:lnTo>
                  <a:pt x="616" y="9"/>
                </a:lnTo>
                <a:lnTo>
                  <a:pt x="764" y="41"/>
                </a:lnTo>
                <a:lnTo>
                  <a:pt x="799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1"/>
                </a:lnTo>
                <a:lnTo>
                  <a:pt x="780" y="178"/>
                </a:lnTo>
                <a:lnTo>
                  <a:pt x="746" y="188"/>
                </a:lnTo>
                <a:lnTo>
                  <a:pt x="706" y="184"/>
                </a:lnTo>
                <a:lnTo>
                  <a:pt x="583" y="163"/>
                </a:lnTo>
                <a:lnTo>
                  <a:pt x="458" y="160"/>
                </a:lnTo>
                <a:lnTo>
                  <a:pt x="252" y="143"/>
                </a:lnTo>
                <a:lnTo>
                  <a:pt x="157" y="130"/>
                </a:lnTo>
                <a:lnTo>
                  <a:pt x="46" y="120"/>
                </a:lnTo>
                <a:lnTo>
                  <a:pt x="9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51760" y="133668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1" y="317"/>
                </a:lnTo>
                <a:lnTo>
                  <a:pt x="194" y="539"/>
                </a:lnTo>
                <a:lnTo>
                  <a:pt x="192" y="571"/>
                </a:lnTo>
                <a:lnTo>
                  <a:pt x="174" y="597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4"/>
                </a:lnTo>
                <a:lnTo>
                  <a:pt x="30" y="45"/>
                </a:lnTo>
                <a:lnTo>
                  <a:pt x="55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91360" y="2752560"/>
            <a:ext cx="312840" cy="1125720"/>
          </a:xfrm>
          <a:custGeom>
            <a:avLst/>
            <a:gdLst/>
            <a:ahLst/>
            <a:rect l="l" t="t" r="r" b="b"/>
            <a:pathLst>
              <a:path w="197" h="709">
                <a:moveTo>
                  <a:pt x="174" y="70"/>
                </a:moveTo>
                <a:lnTo>
                  <a:pt x="197" y="637"/>
                </a:lnTo>
                <a:lnTo>
                  <a:pt x="188" y="669"/>
                </a:lnTo>
                <a:lnTo>
                  <a:pt x="165" y="692"/>
                </a:lnTo>
                <a:lnTo>
                  <a:pt x="135" y="705"/>
                </a:lnTo>
                <a:lnTo>
                  <a:pt x="102" y="709"/>
                </a:lnTo>
                <a:lnTo>
                  <a:pt x="40" y="686"/>
                </a:lnTo>
                <a:lnTo>
                  <a:pt x="14" y="630"/>
                </a:lnTo>
                <a:lnTo>
                  <a:pt x="19" y="481"/>
                </a:lnTo>
                <a:lnTo>
                  <a:pt x="14" y="352"/>
                </a:lnTo>
                <a:lnTo>
                  <a:pt x="0" y="72"/>
                </a:lnTo>
                <a:lnTo>
                  <a:pt x="7" y="42"/>
                </a:lnTo>
                <a:lnTo>
                  <a:pt x="26" y="19"/>
                </a:lnTo>
                <a:lnTo>
                  <a:pt x="54" y="4"/>
                </a:lnTo>
                <a:lnTo>
                  <a:pt x="86" y="0"/>
                </a:lnTo>
                <a:lnTo>
                  <a:pt x="146" y="17"/>
                </a:lnTo>
                <a:lnTo>
                  <a:pt x="174" y="70"/>
                </a:lnTo>
                <a:lnTo>
                  <a:pt x="174" y="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26560" y="421812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0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0" y="180"/>
                </a:lnTo>
                <a:lnTo>
                  <a:pt x="0" y="85"/>
                </a:lnTo>
                <a:lnTo>
                  <a:pt x="2" y="53"/>
                </a:lnTo>
                <a:lnTo>
                  <a:pt x="18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80040" y="318960"/>
            <a:ext cx="1158840" cy="25740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1"/>
                </a:lnTo>
                <a:lnTo>
                  <a:pt x="480" y="8"/>
                </a:lnTo>
                <a:lnTo>
                  <a:pt x="630" y="0"/>
                </a:lnTo>
                <a:lnTo>
                  <a:pt x="672" y="8"/>
                </a:lnTo>
                <a:lnTo>
                  <a:pt x="704" y="26"/>
                </a:lnTo>
                <a:lnTo>
                  <a:pt x="730" y="81"/>
                </a:lnTo>
                <a:lnTo>
                  <a:pt x="723" y="111"/>
                </a:lnTo>
                <a:lnTo>
                  <a:pt x="704" y="135"/>
                </a:lnTo>
                <a:lnTo>
                  <a:pt x="672" y="154"/>
                </a:lnTo>
                <a:lnTo>
                  <a:pt x="630" y="162"/>
                </a:lnTo>
                <a:lnTo>
                  <a:pt x="63" y="145"/>
                </a:lnTo>
                <a:lnTo>
                  <a:pt x="14" y="128"/>
                </a:lnTo>
                <a:lnTo>
                  <a:pt x="0" y="94"/>
                </a:lnTo>
                <a:lnTo>
                  <a:pt x="14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400" y="379440"/>
            <a:ext cx="136836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5"/>
                </a:moveTo>
                <a:lnTo>
                  <a:pt x="269" y="11"/>
                </a:lnTo>
                <a:lnTo>
                  <a:pt x="435" y="0"/>
                </a:lnTo>
                <a:lnTo>
                  <a:pt x="605" y="3"/>
                </a:lnTo>
                <a:lnTo>
                  <a:pt x="790" y="28"/>
                </a:lnTo>
                <a:lnTo>
                  <a:pt x="829" y="41"/>
                </a:lnTo>
                <a:lnTo>
                  <a:pt x="853" y="64"/>
                </a:lnTo>
                <a:lnTo>
                  <a:pt x="862" y="118"/>
                </a:lnTo>
                <a:lnTo>
                  <a:pt x="848" y="144"/>
                </a:lnTo>
                <a:lnTo>
                  <a:pt x="825" y="163"/>
                </a:lnTo>
                <a:lnTo>
                  <a:pt x="792" y="174"/>
                </a:lnTo>
                <a:lnTo>
                  <a:pt x="751" y="174"/>
                </a:lnTo>
                <a:lnTo>
                  <a:pt x="584" y="154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8"/>
                </a:lnTo>
                <a:lnTo>
                  <a:pt x="81" y="35"/>
                </a:lnTo>
                <a:lnTo>
                  <a:pt x="81" y="3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1800" y="387360"/>
            <a:ext cx="1357200" cy="268200"/>
          </a:xfrm>
          <a:custGeom>
            <a:avLst/>
            <a:gdLst/>
            <a:ahLst/>
            <a:rect l="l" t="t" r="r" b="b"/>
            <a:pathLst>
              <a:path w="855" h="169">
                <a:moveTo>
                  <a:pt x="90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2" y="42"/>
                </a:lnTo>
                <a:lnTo>
                  <a:pt x="855" y="94"/>
                </a:lnTo>
                <a:lnTo>
                  <a:pt x="850" y="121"/>
                </a:lnTo>
                <a:lnTo>
                  <a:pt x="832" y="145"/>
                </a:lnTo>
                <a:lnTo>
                  <a:pt x="804" y="162"/>
                </a:lnTo>
                <a:lnTo>
                  <a:pt x="765" y="169"/>
                </a:lnTo>
                <a:lnTo>
                  <a:pt x="429" y="158"/>
                </a:lnTo>
                <a:lnTo>
                  <a:pt x="90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1720" y="1255680"/>
            <a:ext cx="371520" cy="131616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2"/>
                </a:lnTo>
                <a:lnTo>
                  <a:pt x="130" y="797"/>
                </a:lnTo>
                <a:lnTo>
                  <a:pt x="114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2"/>
                </a:lnTo>
                <a:lnTo>
                  <a:pt x="12" y="425"/>
                </a:lnTo>
                <a:lnTo>
                  <a:pt x="35" y="75"/>
                </a:lnTo>
                <a:lnTo>
                  <a:pt x="46" y="41"/>
                </a:lnTo>
                <a:lnTo>
                  <a:pt x="72" y="17"/>
                </a:lnTo>
                <a:lnTo>
                  <a:pt x="104" y="4"/>
                </a:lnTo>
                <a:lnTo>
                  <a:pt x="139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63868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3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7"/>
                </a:lnTo>
                <a:lnTo>
                  <a:pt x="318" y="65"/>
                </a:lnTo>
                <a:lnTo>
                  <a:pt x="334" y="39"/>
                </a:lnTo>
                <a:lnTo>
                  <a:pt x="353" y="20"/>
                </a:lnTo>
                <a:lnTo>
                  <a:pt x="383" y="0"/>
                </a:lnTo>
                <a:lnTo>
                  <a:pt x="408" y="0"/>
                </a:lnTo>
                <a:lnTo>
                  <a:pt x="431" y="18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0" y="201"/>
                </a:lnTo>
                <a:lnTo>
                  <a:pt x="767" y="223"/>
                </a:lnTo>
                <a:lnTo>
                  <a:pt x="735" y="251"/>
                </a:lnTo>
                <a:lnTo>
                  <a:pt x="714" y="268"/>
                </a:lnTo>
                <a:lnTo>
                  <a:pt x="693" y="285"/>
                </a:lnTo>
                <a:lnTo>
                  <a:pt x="668" y="304"/>
                </a:lnTo>
                <a:lnTo>
                  <a:pt x="640" y="323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3" y="496"/>
                </a:lnTo>
                <a:lnTo>
                  <a:pt x="320" y="516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58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7"/>
                </a:lnTo>
                <a:lnTo>
                  <a:pt x="5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23200" y="8424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18" y="270"/>
                </a:moveTo>
                <a:lnTo>
                  <a:pt x="27" y="255"/>
                </a:lnTo>
                <a:lnTo>
                  <a:pt x="51" y="240"/>
                </a:lnTo>
                <a:lnTo>
                  <a:pt x="129" y="221"/>
                </a:lnTo>
                <a:lnTo>
                  <a:pt x="280" y="203"/>
                </a:lnTo>
                <a:lnTo>
                  <a:pt x="299" y="129"/>
                </a:lnTo>
                <a:lnTo>
                  <a:pt x="315" y="65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1"/>
                </a:lnTo>
                <a:lnTo>
                  <a:pt x="428" y="18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1"/>
                </a:lnTo>
                <a:lnTo>
                  <a:pt x="713" y="268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6"/>
                </a:lnTo>
                <a:lnTo>
                  <a:pt x="723" y="623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498" y="546"/>
                </a:lnTo>
                <a:lnTo>
                  <a:pt x="470" y="526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6"/>
                </a:lnTo>
                <a:lnTo>
                  <a:pt x="285" y="537"/>
                </a:lnTo>
                <a:lnTo>
                  <a:pt x="255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7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2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18" y="270"/>
                </a:lnTo>
                <a:lnTo>
                  <a:pt x="18" y="27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548640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2"/>
                </a:lnTo>
                <a:lnTo>
                  <a:pt x="130" y="222"/>
                </a:lnTo>
                <a:lnTo>
                  <a:pt x="283" y="203"/>
                </a:lnTo>
                <a:lnTo>
                  <a:pt x="299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0" y="0"/>
                </a:lnTo>
                <a:lnTo>
                  <a:pt x="406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1" y="182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2" y="635"/>
                </a:lnTo>
                <a:lnTo>
                  <a:pt x="693" y="639"/>
                </a:lnTo>
                <a:lnTo>
                  <a:pt x="591" y="601"/>
                </a:lnTo>
                <a:lnTo>
                  <a:pt x="559" y="584"/>
                </a:lnTo>
                <a:lnTo>
                  <a:pt x="528" y="566"/>
                </a:lnTo>
                <a:lnTo>
                  <a:pt x="501" y="547"/>
                </a:lnTo>
                <a:lnTo>
                  <a:pt x="471" y="528"/>
                </a:lnTo>
                <a:lnTo>
                  <a:pt x="445" y="509"/>
                </a:lnTo>
                <a:lnTo>
                  <a:pt x="422" y="494"/>
                </a:lnTo>
                <a:lnTo>
                  <a:pt x="389" y="475"/>
                </a:lnTo>
                <a:lnTo>
                  <a:pt x="352" y="496"/>
                </a:lnTo>
                <a:lnTo>
                  <a:pt x="318" y="519"/>
                </a:lnTo>
                <a:lnTo>
                  <a:pt x="285" y="537"/>
                </a:lnTo>
                <a:lnTo>
                  <a:pt x="257" y="556"/>
                </a:lnTo>
                <a:lnTo>
                  <a:pt x="230" y="571"/>
                </a:lnTo>
                <a:lnTo>
                  <a:pt x="206" y="584"/>
                </a:lnTo>
                <a:lnTo>
                  <a:pt x="169" y="599"/>
                </a:lnTo>
                <a:lnTo>
                  <a:pt x="149" y="592"/>
                </a:lnTo>
                <a:lnTo>
                  <a:pt x="146" y="560"/>
                </a:lnTo>
                <a:lnTo>
                  <a:pt x="160" y="498"/>
                </a:lnTo>
                <a:lnTo>
                  <a:pt x="176" y="453"/>
                </a:lnTo>
                <a:lnTo>
                  <a:pt x="199" y="398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89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6440" y="122400"/>
            <a:ext cx="1287360" cy="101412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69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4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1" y="169"/>
                </a:lnTo>
                <a:lnTo>
                  <a:pt x="793" y="201"/>
                </a:lnTo>
                <a:lnTo>
                  <a:pt x="767" y="224"/>
                </a:lnTo>
                <a:lnTo>
                  <a:pt x="735" y="252"/>
                </a:lnTo>
                <a:lnTo>
                  <a:pt x="714" y="269"/>
                </a:lnTo>
                <a:lnTo>
                  <a:pt x="693" y="286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5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7" y="509"/>
                </a:lnTo>
                <a:lnTo>
                  <a:pt x="424" y="494"/>
                </a:lnTo>
                <a:lnTo>
                  <a:pt x="390" y="474"/>
                </a:lnTo>
                <a:lnTo>
                  <a:pt x="353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6"/>
                </a:lnTo>
                <a:lnTo>
                  <a:pt x="232" y="571"/>
                </a:lnTo>
                <a:lnTo>
                  <a:pt x="207" y="584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69"/>
                </a:lnTo>
                <a:lnTo>
                  <a:pt x="21" y="2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0800" y="279864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7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2" y="441"/>
                </a:lnTo>
                <a:lnTo>
                  <a:pt x="46" y="347"/>
                </a:lnTo>
                <a:lnTo>
                  <a:pt x="39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343400"/>
            <a:ext cx="404640" cy="895320"/>
          </a:xfrm>
          <a:custGeom>
            <a:avLst/>
            <a:gdLst/>
            <a:ahLst/>
            <a:rect l="l" t="t" r="r" b="b"/>
            <a:pathLst>
              <a:path w="255" h="564">
                <a:moveTo>
                  <a:pt x="255" y="79"/>
                </a:moveTo>
                <a:lnTo>
                  <a:pt x="241" y="378"/>
                </a:lnTo>
                <a:lnTo>
                  <a:pt x="220" y="478"/>
                </a:lnTo>
                <a:lnTo>
                  <a:pt x="208" y="517"/>
                </a:lnTo>
                <a:lnTo>
                  <a:pt x="181" y="543"/>
                </a:lnTo>
                <a:lnTo>
                  <a:pt x="146" y="560"/>
                </a:lnTo>
                <a:lnTo>
                  <a:pt x="104" y="564"/>
                </a:lnTo>
                <a:lnTo>
                  <a:pt x="30" y="538"/>
                </a:lnTo>
                <a:lnTo>
                  <a:pt x="0" y="468"/>
                </a:lnTo>
                <a:lnTo>
                  <a:pt x="9" y="357"/>
                </a:lnTo>
                <a:lnTo>
                  <a:pt x="23" y="280"/>
                </a:lnTo>
                <a:lnTo>
                  <a:pt x="42" y="215"/>
                </a:lnTo>
                <a:lnTo>
                  <a:pt x="72" y="72"/>
                </a:lnTo>
                <a:lnTo>
                  <a:pt x="81" y="38"/>
                </a:lnTo>
                <a:lnTo>
                  <a:pt x="104" y="15"/>
                </a:lnTo>
                <a:lnTo>
                  <a:pt x="134" y="4"/>
                </a:lnTo>
                <a:lnTo>
                  <a:pt x="169" y="0"/>
                </a:lnTo>
                <a:lnTo>
                  <a:pt x="229" y="21"/>
                </a:lnTo>
                <a:lnTo>
                  <a:pt x="255" y="79"/>
                </a:lnTo>
                <a:lnTo>
                  <a:pt x="255" y="7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6172200"/>
            <a:ext cx="1353960" cy="268200"/>
          </a:xfrm>
          <a:custGeom>
            <a:avLst/>
            <a:gdLst/>
            <a:ahLst/>
            <a:rect l="l" t="t" r="r" b="b"/>
            <a:pathLst>
              <a:path w="853" h="169">
                <a:moveTo>
                  <a:pt x="72" y="33"/>
                </a:moveTo>
                <a:lnTo>
                  <a:pt x="253" y="41"/>
                </a:lnTo>
                <a:lnTo>
                  <a:pt x="410" y="28"/>
                </a:lnTo>
                <a:lnTo>
                  <a:pt x="570" y="9"/>
                </a:lnTo>
                <a:lnTo>
                  <a:pt x="748" y="0"/>
                </a:lnTo>
                <a:lnTo>
                  <a:pt x="795" y="7"/>
                </a:lnTo>
                <a:lnTo>
                  <a:pt x="827" y="26"/>
                </a:lnTo>
                <a:lnTo>
                  <a:pt x="853" y="84"/>
                </a:lnTo>
                <a:lnTo>
                  <a:pt x="846" y="114"/>
                </a:lnTo>
                <a:lnTo>
                  <a:pt x="827" y="142"/>
                </a:lnTo>
                <a:lnTo>
                  <a:pt x="795" y="161"/>
                </a:lnTo>
                <a:lnTo>
                  <a:pt x="748" y="169"/>
                </a:lnTo>
                <a:lnTo>
                  <a:pt x="401" y="163"/>
                </a:lnTo>
                <a:lnTo>
                  <a:pt x="56" y="135"/>
                </a:lnTo>
                <a:lnTo>
                  <a:pt x="12" y="112"/>
                </a:lnTo>
                <a:lnTo>
                  <a:pt x="0" y="77"/>
                </a:lnTo>
                <a:lnTo>
                  <a:pt x="9" y="60"/>
                </a:lnTo>
                <a:lnTo>
                  <a:pt x="23" y="45"/>
                </a:lnTo>
                <a:lnTo>
                  <a:pt x="72" y="33"/>
                </a:lnTo>
                <a:lnTo>
                  <a:pt x="72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6248520"/>
            <a:ext cx="1465560" cy="318960"/>
          </a:xfrm>
          <a:custGeom>
            <a:avLst/>
            <a:gdLst/>
            <a:ahLst/>
            <a:rect l="l" t="t" r="r" b="b"/>
            <a:pathLst>
              <a:path w="923" h="201">
                <a:moveTo>
                  <a:pt x="114" y="0"/>
                </a:moveTo>
                <a:lnTo>
                  <a:pt x="369" y="22"/>
                </a:lnTo>
                <a:lnTo>
                  <a:pt x="621" y="31"/>
                </a:lnTo>
                <a:lnTo>
                  <a:pt x="818" y="31"/>
                </a:lnTo>
                <a:lnTo>
                  <a:pt x="865" y="39"/>
                </a:lnTo>
                <a:lnTo>
                  <a:pt x="897" y="58"/>
                </a:lnTo>
                <a:lnTo>
                  <a:pt x="923" y="116"/>
                </a:lnTo>
                <a:lnTo>
                  <a:pt x="916" y="148"/>
                </a:lnTo>
                <a:lnTo>
                  <a:pt x="897" y="174"/>
                </a:lnTo>
                <a:lnTo>
                  <a:pt x="865" y="193"/>
                </a:lnTo>
                <a:lnTo>
                  <a:pt x="818" y="201"/>
                </a:lnTo>
                <a:lnTo>
                  <a:pt x="621" y="201"/>
                </a:lnTo>
                <a:lnTo>
                  <a:pt x="357" y="191"/>
                </a:lnTo>
                <a:lnTo>
                  <a:pt x="93" y="169"/>
                </a:lnTo>
                <a:lnTo>
                  <a:pt x="49" y="157"/>
                </a:lnTo>
                <a:lnTo>
                  <a:pt x="19" y="135"/>
                </a:lnTo>
                <a:lnTo>
                  <a:pt x="0" y="75"/>
                </a:lnTo>
                <a:lnTo>
                  <a:pt x="10" y="45"/>
                </a:lnTo>
                <a:lnTo>
                  <a:pt x="33" y="20"/>
                </a:lnTo>
                <a:lnTo>
                  <a:pt x="68" y="3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6324480"/>
            <a:ext cx="1304640" cy="298440"/>
          </a:xfrm>
          <a:custGeom>
            <a:avLst/>
            <a:gdLst/>
            <a:ahLst/>
            <a:rect l="l" t="t" r="r" b="b"/>
            <a:pathLst>
              <a:path w="822" h="188">
                <a:moveTo>
                  <a:pt x="53" y="39"/>
                </a:moveTo>
                <a:lnTo>
                  <a:pt x="257" y="23"/>
                </a:lnTo>
                <a:lnTo>
                  <a:pt x="354" y="8"/>
                </a:lnTo>
                <a:lnTo>
                  <a:pt x="463" y="0"/>
                </a:lnTo>
                <a:lnTo>
                  <a:pt x="616" y="9"/>
                </a:lnTo>
                <a:lnTo>
                  <a:pt x="764" y="41"/>
                </a:lnTo>
                <a:lnTo>
                  <a:pt x="801" y="58"/>
                </a:lnTo>
                <a:lnTo>
                  <a:pt x="820" y="81"/>
                </a:lnTo>
                <a:lnTo>
                  <a:pt x="822" y="135"/>
                </a:lnTo>
                <a:lnTo>
                  <a:pt x="806" y="162"/>
                </a:lnTo>
                <a:lnTo>
                  <a:pt x="780" y="179"/>
                </a:lnTo>
                <a:lnTo>
                  <a:pt x="748" y="188"/>
                </a:lnTo>
                <a:lnTo>
                  <a:pt x="706" y="184"/>
                </a:lnTo>
                <a:lnTo>
                  <a:pt x="586" y="164"/>
                </a:lnTo>
                <a:lnTo>
                  <a:pt x="461" y="160"/>
                </a:lnTo>
                <a:lnTo>
                  <a:pt x="254" y="143"/>
                </a:lnTo>
                <a:lnTo>
                  <a:pt x="157" y="130"/>
                </a:lnTo>
                <a:lnTo>
                  <a:pt x="48" y="120"/>
                </a:lnTo>
                <a:lnTo>
                  <a:pt x="11" y="107"/>
                </a:lnTo>
                <a:lnTo>
                  <a:pt x="0" y="77"/>
                </a:lnTo>
                <a:lnTo>
                  <a:pt x="13" y="51"/>
                </a:lnTo>
                <a:lnTo>
                  <a:pt x="53" y="39"/>
                </a:lnTo>
                <a:lnTo>
                  <a:pt x="53" y="3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05920" y="1371600"/>
            <a:ext cx="379440" cy="987480"/>
          </a:xfrm>
          <a:custGeom>
            <a:avLst/>
            <a:gdLst/>
            <a:ahLst/>
            <a:rect l="l" t="t" r="r" b="b"/>
            <a:pathLst>
              <a:path w="239" h="622">
                <a:moveTo>
                  <a:pt x="239" y="96"/>
                </a:moveTo>
                <a:lnTo>
                  <a:pt x="222" y="212"/>
                </a:lnTo>
                <a:lnTo>
                  <a:pt x="204" y="318"/>
                </a:lnTo>
                <a:lnTo>
                  <a:pt x="195" y="539"/>
                </a:lnTo>
                <a:lnTo>
                  <a:pt x="192" y="571"/>
                </a:lnTo>
                <a:lnTo>
                  <a:pt x="174" y="598"/>
                </a:lnTo>
                <a:lnTo>
                  <a:pt x="146" y="614"/>
                </a:lnTo>
                <a:lnTo>
                  <a:pt x="113" y="622"/>
                </a:lnTo>
                <a:lnTo>
                  <a:pt x="49" y="609"/>
                </a:lnTo>
                <a:lnTo>
                  <a:pt x="11" y="554"/>
                </a:lnTo>
                <a:lnTo>
                  <a:pt x="0" y="319"/>
                </a:lnTo>
                <a:lnTo>
                  <a:pt x="16" y="85"/>
                </a:lnTo>
                <a:lnTo>
                  <a:pt x="30" y="45"/>
                </a:lnTo>
                <a:lnTo>
                  <a:pt x="56" y="19"/>
                </a:lnTo>
                <a:lnTo>
                  <a:pt x="93" y="4"/>
                </a:lnTo>
                <a:lnTo>
                  <a:pt x="134" y="0"/>
                </a:lnTo>
                <a:lnTo>
                  <a:pt x="208" y="26"/>
                </a:lnTo>
                <a:lnTo>
                  <a:pt x="239" y="96"/>
                </a:lnTo>
                <a:lnTo>
                  <a:pt x="239" y="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2743200"/>
            <a:ext cx="317520" cy="1123920"/>
          </a:xfrm>
          <a:custGeom>
            <a:avLst/>
            <a:gdLst/>
            <a:ahLst/>
            <a:rect l="l" t="t" r="r" b="b"/>
            <a:pathLst>
              <a:path w="200" h="708">
                <a:moveTo>
                  <a:pt x="174" y="69"/>
                </a:moveTo>
                <a:lnTo>
                  <a:pt x="200" y="637"/>
                </a:lnTo>
                <a:lnTo>
                  <a:pt x="188" y="669"/>
                </a:lnTo>
                <a:lnTo>
                  <a:pt x="167" y="691"/>
                </a:lnTo>
                <a:lnTo>
                  <a:pt x="137" y="704"/>
                </a:lnTo>
                <a:lnTo>
                  <a:pt x="102" y="708"/>
                </a:lnTo>
                <a:lnTo>
                  <a:pt x="40" y="687"/>
                </a:lnTo>
                <a:lnTo>
                  <a:pt x="14" y="629"/>
                </a:lnTo>
                <a:lnTo>
                  <a:pt x="19" y="481"/>
                </a:lnTo>
                <a:lnTo>
                  <a:pt x="14" y="351"/>
                </a:lnTo>
                <a:lnTo>
                  <a:pt x="0" y="71"/>
                </a:lnTo>
                <a:lnTo>
                  <a:pt x="7" y="41"/>
                </a:lnTo>
                <a:lnTo>
                  <a:pt x="26" y="18"/>
                </a:lnTo>
                <a:lnTo>
                  <a:pt x="54" y="3"/>
                </a:lnTo>
                <a:lnTo>
                  <a:pt x="86" y="0"/>
                </a:lnTo>
                <a:lnTo>
                  <a:pt x="146" y="16"/>
                </a:lnTo>
                <a:lnTo>
                  <a:pt x="174" y="69"/>
                </a:lnTo>
                <a:lnTo>
                  <a:pt x="174" y="6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05920" y="4191120"/>
            <a:ext cx="377640" cy="858600"/>
          </a:xfrm>
          <a:custGeom>
            <a:avLst/>
            <a:gdLst/>
            <a:ahLst/>
            <a:rect l="l" t="t" r="r" b="b"/>
            <a:pathLst>
              <a:path w="238" h="541">
                <a:moveTo>
                  <a:pt x="183" y="62"/>
                </a:moveTo>
                <a:lnTo>
                  <a:pt x="238" y="477"/>
                </a:lnTo>
                <a:lnTo>
                  <a:pt x="220" y="511"/>
                </a:lnTo>
                <a:lnTo>
                  <a:pt x="206" y="524"/>
                </a:lnTo>
                <a:lnTo>
                  <a:pt x="190" y="534"/>
                </a:lnTo>
                <a:lnTo>
                  <a:pt x="113" y="541"/>
                </a:lnTo>
                <a:lnTo>
                  <a:pt x="48" y="509"/>
                </a:lnTo>
                <a:lnTo>
                  <a:pt x="34" y="479"/>
                </a:lnTo>
                <a:lnTo>
                  <a:pt x="34" y="442"/>
                </a:lnTo>
                <a:lnTo>
                  <a:pt x="48" y="348"/>
                </a:lnTo>
                <a:lnTo>
                  <a:pt x="41" y="263"/>
                </a:lnTo>
                <a:lnTo>
                  <a:pt x="23" y="181"/>
                </a:lnTo>
                <a:lnTo>
                  <a:pt x="0" y="85"/>
                </a:lnTo>
                <a:lnTo>
                  <a:pt x="2" y="53"/>
                </a:lnTo>
                <a:lnTo>
                  <a:pt x="18" y="27"/>
                </a:lnTo>
                <a:lnTo>
                  <a:pt x="44" y="10"/>
                </a:lnTo>
                <a:lnTo>
                  <a:pt x="76" y="0"/>
                </a:lnTo>
                <a:lnTo>
                  <a:pt x="143" y="10"/>
                </a:lnTo>
                <a:lnTo>
                  <a:pt x="183" y="62"/>
                </a:lnTo>
                <a:lnTo>
                  <a:pt x="183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304920"/>
            <a:ext cx="1158840" cy="257040"/>
          </a:xfrm>
          <a:custGeom>
            <a:avLst/>
            <a:gdLst/>
            <a:ahLst/>
            <a:rect l="l" t="t" r="r" b="b"/>
            <a:pathLst>
              <a:path w="730" h="162">
                <a:moveTo>
                  <a:pt x="63" y="43"/>
                </a:moveTo>
                <a:lnTo>
                  <a:pt x="345" y="23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7"/>
                </a:lnTo>
                <a:lnTo>
                  <a:pt x="730" y="81"/>
                </a:lnTo>
                <a:lnTo>
                  <a:pt x="723" y="111"/>
                </a:lnTo>
                <a:lnTo>
                  <a:pt x="704" y="136"/>
                </a:lnTo>
                <a:lnTo>
                  <a:pt x="674" y="154"/>
                </a:lnTo>
                <a:lnTo>
                  <a:pt x="630" y="162"/>
                </a:lnTo>
                <a:lnTo>
                  <a:pt x="63" y="145"/>
                </a:lnTo>
                <a:lnTo>
                  <a:pt x="16" y="128"/>
                </a:lnTo>
                <a:lnTo>
                  <a:pt x="0" y="94"/>
                </a:lnTo>
                <a:lnTo>
                  <a:pt x="16" y="58"/>
                </a:lnTo>
                <a:lnTo>
                  <a:pt x="35" y="47"/>
                </a:lnTo>
                <a:lnTo>
                  <a:pt x="63" y="43"/>
                </a:lnTo>
                <a:lnTo>
                  <a:pt x="63" y="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28600"/>
            <a:ext cx="1368720" cy="306360"/>
          </a:xfrm>
          <a:custGeom>
            <a:avLst/>
            <a:gdLst/>
            <a:ahLst/>
            <a:rect l="l" t="t" r="r" b="b"/>
            <a:pathLst>
              <a:path w="862" h="193">
                <a:moveTo>
                  <a:pt x="81" y="36"/>
                </a:moveTo>
                <a:lnTo>
                  <a:pt x="269" y="11"/>
                </a:lnTo>
                <a:lnTo>
                  <a:pt x="438" y="0"/>
                </a:lnTo>
                <a:lnTo>
                  <a:pt x="605" y="4"/>
                </a:lnTo>
                <a:lnTo>
                  <a:pt x="792" y="30"/>
                </a:lnTo>
                <a:lnTo>
                  <a:pt x="829" y="43"/>
                </a:lnTo>
                <a:lnTo>
                  <a:pt x="853" y="64"/>
                </a:lnTo>
                <a:lnTo>
                  <a:pt x="862" y="118"/>
                </a:lnTo>
                <a:lnTo>
                  <a:pt x="848" y="145"/>
                </a:lnTo>
                <a:lnTo>
                  <a:pt x="825" y="163"/>
                </a:lnTo>
                <a:lnTo>
                  <a:pt x="792" y="176"/>
                </a:lnTo>
                <a:lnTo>
                  <a:pt x="753" y="175"/>
                </a:lnTo>
                <a:lnTo>
                  <a:pt x="584" y="156"/>
                </a:lnTo>
                <a:lnTo>
                  <a:pt x="433" y="156"/>
                </a:lnTo>
                <a:lnTo>
                  <a:pt x="116" y="193"/>
                </a:lnTo>
                <a:lnTo>
                  <a:pt x="72" y="193"/>
                </a:lnTo>
                <a:lnTo>
                  <a:pt x="37" y="180"/>
                </a:lnTo>
                <a:lnTo>
                  <a:pt x="2" y="129"/>
                </a:lnTo>
                <a:lnTo>
                  <a:pt x="0" y="114"/>
                </a:lnTo>
                <a:lnTo>
                  <a:pt x="2" y="99"/>
                </a:lnTo>
                <a:lnTo>
                  <a:pt x="14" y="71"/>
                </a:lnTo>
                <a:lnTo>
                  <a:pt x="42" y="49"/>
                </a:lnTo>
                <a:lnTo>
                  <a:pt x="81" y="36"/>
                </a:lnTo>
                <a:lnTo>
                  <a:pt x="81" y="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28600"/>
            <a:ext cx="1360440" cy="266760"/>
          </a:xfrm>
          <a:custGeom>
            <a:avLst/>
            <a:gdLst/>
            <a:ahLst/>
            <a:rect l="l" t="t" r="r" b="b"/>
            <a:pathLst>
              <a:path w="857" h="168">
                <a:moveTo>
                  <a:pt x="93" y="0"/>
                </a:moveTo>
                <a:lnTo>
                  <a:pt x="429" y="10"/>
                </a:lnTo>
                <a:lnTo>
                  <a:pt x="765" y="19"/>
                </a:lnTo>
                <a:lnTo>
                  <a:pt x="804" y="25"/>
                </a:lnTo>
                <a:lnTo>
                  <a:pt x="834" y="42"/>
                </a:lnTo>
                <a:lnTo>
                  <a:pt x="857" y="94"/>
                </a:lnTo>
                <a:lnTo>
                  <a:pt x="850" y="121"/>
                </a:lnTo>
                <a:lnTo>
                  <a:pt x="834" y="145"/>
                </a:lnTo>
                <a:lnTo>
                  <a:pt x="804" y="162"/>
                </a:lnTo>
                <a:lnTo>
                  <a:pt x="765" y="168"/>
                </a:lnTo>
                <a:lnTo>
                  <a:pt x="429" y="158"/>
                </a:lnTo>
                <a:lnTo>
                  <a:pt x="93" y="149"/>
                </a:lnTo>
                <a:lnTo>
                  <a:pt x="51" y="143"/>
                </a:lnTo>
                <a:lnTo>
                  <a:pt x="23" y="126"/>
                </a:lnTo>
                <a:lnTo>
                  <a:pt x="0" y="74"/>
                </a:lnTo>
                <a:lnTo>
                  <a:pt x="5" y="47"/>
                </a:lnTo>
                <a:lnTo>
                  <a:pt x="23" y="23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295280"/>
            <a:ext cx="371520" cy="1316160"/>
          </a:xfrm>
          <a:custGeom>
            <a:avLst/>
            <a:gdLst/>
            <a:ahLst/>
            <a:rect l="l" t="t" r="r" b="b"/>
            <a:pathLst>
              <a:path w="234" h="829">
                <a:moveTo>
                  <a:pt x="234" y="85"/>
                </a:moveTo>
                <a:lnTo>
                  <a:pt x="211" y="267"/>
                </a:lnTo>
                <a:lnTo>
                  <a:pt x="195" y="350"/>
                </a:lnTo>
                <a:lnTo>
                  <a:pt x="179" y="429"/>
                </a:lnTo>
                <a:lnTo>
                  <a:pt x="137" y="773"/>
                </a:lnTo>
                <a:lnTo>
                  <a:pt x="130" y="797"/>
                </a:lnTo>
                <a:lnTo>
                  <a:pt x="116" y="814"/>
                </a:lnTo>
                <a:lnTo>
                  <a:pt x="67" y="829"/>
                </a:lnTo>
                <a:lnTo>
                  <a:pt x="21" y="814"/>
                </a:lnTo>
                <a:lnTo>
                  <a:pt x="0" y="773"/>
                </a:lnTo>
                <a:lnTo>
                  <a:pt x="12" y="425"/>
                </a:lnTo>
                <a:lnTo>
                  <a:pt x="37" y="75"/>
                </a:lnTo>
                <a:lnTo>
                  <a:pt x="46" y="42"/>
                </a:lnTo>
                <a:lnTo>
                  <a:pt x="72" y="17"/>
                </a:lnTo>
                <a:lnTo>
                  <a:pt x="104" y="4"/>
                </a:lnTo>
                <a:lnTo>
                  <a:pt x="141" y="0"/>
                </a:lnTo>
                <a:lnTo>
                  <a:pt x="206" y="23"/>
                </a:lnTo>
                <a:lnTo>
                  <a:pt x="234" y="85"/>
                </a:lnTo>
                <a:lnTo>
                  <a:pt x="234" y="85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843520"/>
            <a:ext cx="129240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0"/>
                </a:moveTo>
                <a:lnTo>
                  <a:pt x="31" y="254"/>
                </a:lnTo>
                <a:lnTo>
                  <a:pt x="54" y="240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39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5"/>
                </a:lnTo>
                <a:lnTo>
                  <a:pt x="533" y="180"/>
                </a:lnTo>
                <a:lnTo>
                  <a:pt x="626" y="165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67" y="223"/>
                </a:lnTo>
                <a:lnTo>
                  <a:pt x="735" y="252"/>
                </a:lnTo>
                <a:lnTo>
                  <a:pt x="716" y="269"/>
                </a:lnTo>
                <a:lnTo>
                  <a:pt x="693" y="285"/>
                </a:lnTo>
                <a:lnTo>
                  <a:pt x="668" y="304"/>
                </a:lnTo>
                <a:lnTo>
                  <a:pt x="640" y="325"/>
                </a:lnTo>
                <a:lnTo>
                  <a:pt x="675" y="383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6" y="639"/>
                </a:lnTo>
                <a:lnTo>
                  <a:pt x="591" y="601"/>
                </a:lnTo>
                <a:lnTo>
                  <a:pt x="561" y="584"/>
                </a:lnTo>
                <a:lnTo>
                  <a:pt x="531" y="565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3"/>
                </a:lnTo>
                <a:lnTo>
                  <a:pt x="355" y="496"/>
                </a:lnTo>
                <a:lnTo>
                  <a:pt x="320" y="517"/>
                </a:lnTo>
                <a:lnTo>
                  <a:pt x="288" y="537"/>
                </a:lnTo>
                <a:lnTo>
                  <a:pt x="258" y="554"/>
                </a:lnTo>
                <a:lnTo>
                  <a:pt x="232" y="571"/>
                </a:lnTo>
                <a:lnTo>
                  <a:pt x="209" y="584"/>
                </a:lnTo>
                <a:lnTo>
                  <a:pt x="172" y="597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6"/>
                </a:lnTo>
                <a:lnTo>
                  <a:pt x="149" y="379"/>
                </a:lnTo>
                <a:lnTo>
                  <a:pt x="65" y="348"/>
                </a:lnTo>
                <a:lnTo>
                  <a:pt x="7" y="308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56640" y="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0"/>
                </a:moveTo>
                <a:lnTo>
                  <a:pt x="28" y="255"/>
                </a:lnTo>
                <a:lnTo>
                  <a:pt x="51" y="242"/>
                </a:lnTo>
                <a:lnTo>
                  <a:pt x="129" y="222"/>
                </a:lnTo>
                <a:lnTo>
                  <a:pt x="280" y="203"/>
                </a:lnTo>
                <a:lnTo>
                  <a:pt x="299" y="129"/>
                </a:lnTo>
                <a:lnTo>
                  <a:pt x="315" y="67"/>
                </a:lnTo>
                <a:lnTo>
                  <a:pt x="333" y="39"/>
                </a:lnTo>
                <a:lnTo>
                  <a:pt x="350" y="20"/>
                </a:lnTo>
                <a:lnTo>
                  <a:pt x="380" y="0"/>
                </a:lnTo>
                <a:lnTo>
                  <a:pt x="405" y="2"/>
                </a:lnTo>
                <a:lnTo>
                  <a:pt x="428" y="19"/>
                </a:lnTo>
                <a:lnTo>
                  <a:pt x="475" y="90"/>
                </a:lnTo>
                <a:lnTo>
                  <a:pt x="500" y="135"/>
                </a:lnTo>
                <a:lnTo>
                  <a:pt x="530" y="182"/>
                </a:lnTo>
                <a:lnTo>
                  <a:pt x="623" y="167"/>
                </a:lnTo>
                <a:lnTo>
                  <a:pt x="702" y="156"/>
                </a:lnTo>
                <a:lnTo>
                  <a:pt x="799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5"/>
                </a:lnTo>
                <a:lnTo>
                  <a:pt x="734" y="253"/>
                </a:lnTo>
                <a:lnTo>
                  <a:pt x="713" y="269"/>
                </a:lnTo>
                <a:lnTo>
                  <a:pt x="690" y="285"/>
                </a:lnTo>
                <a:lnTo>
                  <a:pt x="665" y="304"/>
                </a:lnTo>
                <a:lnTo>
                  <a:pt x="637" y="325"/>
                </a:lnTo>
                <a:lnTo>
                  <a:pt x="674" y="385"/>
                </a:lnTo>
                <a:lnTo>
                  <a:pt x="702" y="447"/>
                </a:lnTo>
                <a:lnTo>
                  <a:pt x="732" y="577"/>
                </a:lnTo>
                <a:lnTo>
                  <a:pt x="725" y="624"/>
                </a:lnTo>
                <a:lnTo>
                  <a:pt x="711" y="635"/>
                </a:lnTo>
                <a:lnTo>
                  <a:pt x="692" y="639"/>
                </a:lnTo>
                <a:lnTo>
                  <a:pt x="588" y="601"/>
                </a:lnTo>
                <a:lnTo>
                  <a:pt x="558" y="584"/>
                </a:lnTo>
                <a:lnTo>
                  <a:pt x="528" y="565"/>
                </a:lnTo>
                <a:lnTo>
                  <a:pt x="500" y="547"/>
                </a:lnTo>
                <a:lnTo>
                  <a:pt x="470" y="528"/>
                </a:lnTo>
                <a:lnTo>
                  <a:pt x="445" y="509"/>
                </a:lnTo>
                <a:lnTo>
                  <a:pt x="421" y="494"/>
                </a:lnTo>
                <a:lnTo>
                  <a:pt x="389" y="475"/>
                </a:lnTo>
                <a:lnTo>
                  <a:pt x="352" y="496"/>
                </a:lnTo>
                <a:lnTo>
                  <a:pt x="317" y="517"/>
                </a:lnTo>
                <a:lnTo>
                  <a:pt x="285" y="537"/>
                </a:lnTo>
                <a:lnTo>
                  <a:pt x="257" y="556"/>
                </a:lnTo>
                <a:lnTo>
                  <a:pt x="229" y="571"/>
                </a:lnTo>
                <a:lnTo>
                  <a:pt x="206" y="584"/>
                </a:lnTo>
                <a:lnTo>
                  <a:pt x="169" y="599"/>
                </a:lnTo>
                <a:lnTo>
                  <a:pt x="148" y="592"/>
                </a:lnTo>
                <a:lnTo>
                  <a:pt x="143" y="560"/>
                </a:lnTo>
                <a:lnTo>
                  <a:pt x="160" y="496"/>
                </a:lnTo>
                <a:lnTo>
                  <a:pt x="176" y="453"/>
                </a:lnTo>
                <a:lnTo>
                  <a:pt x="197" y="398"/>
                </a:lnTo>
                <a:lnTo>
                  <a:pt x="146" y="379"/>
                </a:lnTo>
                <a:lnTo>
                  <a:pt x="65" y="347"/>
                </a:lnTo>
                <a:lnTo>
                  <a:pt x="4" y="310"/>
                </a:lnTo>
                <a:lnTo>
                  <a:pt x="0" y="289"/>
                </a:lnTo>
                <a:lnTo>
                  <a:pt x="21" y="270"/>
                </a:lnTo>
                <a:lnTo>
                  <a:pt x="21" y="2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56640" y="5638680"/>
            <a:ext cx="1287360" cy="1014480"/>
          </a:xfrm>
          <a:custGeom>
            <a:avLst/>
            <a:gdLst/>
            <a:ahLst/>
            <a:rect l="l" t="t" r="r" b="b"/>
            <a:pathLst>
              <a:path w="811" h="639">
                <a:moveTo>
                  <a:pt x="21" y="271"/>
                </a:moveTo>
                <a:lnTo>
                  <a:pt x="28" y="256"/>
                </a:lnTo>
                <a:lnTo>
                  <a:pt x="51" y="243"/>
                </a:lnTo>
                <a:lnTo>
                  <a:pt x="130" y="222"/>
                </a:lnTo>
                <a:lnTo>
                  <a:pt x="283" y="203"/>
                </a:lnTo>
                <a:lnTo>
                  <a:pt x="301" y="130"/>
                </a:lnTo>
                <a:lnTo>
                  <a:pt x="315" y="68"/>
                </a:lnTo>
                <a:lnTo>
                  <a:pt x="334" y="40"/>
                </a:lnTo>
                <a:lnTo>
                  <a:pt x="352" y="21"/>
                </a:lnTo>
                <a:lnTo>
                  <a:pt x="383" y="0"/>
                </a:lnTo>
                <a:lnTo>
                  <a:pt x="408" y="2"/>
                </a:lnTo>
                <a:lnTo>
                  <a:pt x="429" y="19"/>
                </a:lnTo>
                <a:lnTo>
                  <a:pt x="475" y="92"/>
                </a:lnTo>
                <a:lnTo>
                  <a:pt x="501" y="137"/>
                </a:lnTo>
                <a:lnTo>
                  <a:pt x="533" y="183"/>
                </a:lnTo>
                <a:lnTo>
                  <a:pt x="626" y="167"/>
                </a:lnTo>
                <a:lnTo>
                  <a:pt x="705" y="156"/>
                </a:lnTo>
                <a:lnTo>
                  <a:pt x="802" y="154"/>
                </a:lnTo>
                <a:lnTo>
                  <a:pt x="811" y="171"/>
                </a:lnTo>
                <a:lnTo>
                  <a:pt x="790" y="203"/>
                </a:lnTo>
                <a:lnTo>
                  <a:pt x="767" y="226"/>
                </a:lnTo>
                <a:lnTo>
                  <a:pt x="735" y="254"/>
                </a:lnTo>
                <a:lnTo>
                  <a:pt x="714" y="269"/>
                </a:lnTo>
                <a:lnTo>
                  <a:pt x="691" y="286"/>
                </a:lnTo>
                <a:lnTo>
                  <a:pt x="668" y="305"/>
                </a:lnTo>
                <a:lnTo>
                  <a:pt x="637" y="325"/>
                </a:lnTo>
                <a:lnTo>
                  <a:pt x="675" y="385"/>
                </a:lnTo>
                <a:lnTo>
                  <a:pt x="702" y="447"/>
                </a:lnTo>
                <a:lnTo>
                  <a:pt x="735" y="579"/>
                </a:lnTo>
                <a:lnTo>
                  <a:pt x="725" y="624"/>
                </a:lnTo>
                <a:lnTo>
                  <a:pt x="712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7"/>
                </a:lnTo>
                <a:lnTo>
                  <a:pt x="473" y="528"/>
                </a:lnTo>
                <a:lnTo>
                  <a:pt x="445" y="509"/>
                </a:lnTo>
                <a:lnTo>
                  <a:pt x="424" y="494"/>
                </a:lnTo>
                <a:lnTo>
                  <a:pt x="390" y="476"/>
                </a:lnTo>
                <a:lnTo>
                  <a:pt x="352" y="496"/>
                </a:lnTo>
                <a:lnTo>
                  <a:pt x="318" y="519"/>
                </a:lnTo>
                <a:lnTo>
                  <a:pt x="288" y="538"/>
                </a:lnTo>
                <a:lnTo>
                  <a:pt x="257" y="556"/>
                </a:lnTo>
                <a:lnTo>
                  <a:pt x="230" y="573"/>
                </a:lnTo>
                <a:lnTo>
                  <a:pt x="206" y="585"/>
                </a:lnTo>
                <a:lnTo>
                  <a:pt x="169" y="600"/>
                </a:lnTo>
                <a:lnTo>
                  <a:pt x="149" y="592"/>
                </a:lnTo>
                <a:lnTo>
                  <a:pt x="146" y="560"/>
                </a:lnTo>
                <a:lnTo>
                  <a:pt x="162" y="498"/>
                </a:lnTo>
                <a:lnTo>
                  <a:pt x="176" y="453"/>
                </a:lnTo>
                <a:lnTo>
                  <a:pt x="200" y="399"/>
                </a:lnTo>
                <a:lnTo>
                  <a:pt x="146" y="380"/>
                </a:lnTo>
                <a:lnTo>
                  <a:pt x="65" y="348"/>
                </a:lnTo>
                <a:lnTo>
                  <a:pt x="5" y="310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292400" cy="1014480"/>
          </a:xfrm>
          <a:custGeom>
            <a:avLst/>
            <a:gdLst/>
            <a:ahLst/>
            <a:rect l="l" t="t" r="r" b="b"/>
            <a:pathLst>
              <a:path w="814" h="639">
                <a:moveTo>
                  <a:pt x="21" y="271"/>
                </a:moveTo>
                <a:lnTo>
                  <a:pt x="30" y="254"/>
                </a:lnTo>
                <a:lnTo>
                  <a:pt x="54" y="241"/>
                </a:lnTo>
                <a:lnTo>
                  <a:pt x="130" y="220"/>
                </a:lnTo>
                <a:lnTo>
                  <a:pt x="283" y="201"/>
                </a:lnTo>
                <a:lnTo>
                  <a:pt x="302" y="128"/>
                </a:lnTo>
                <a:lnTo>
                  <a:pt x="318" y="66"/>
                </a:lnTo>
                <a:lnTo>
                  <a:pt x="336" y="40"/>
                </a:lnTo>
                <a:lnTo>
                  <a:pt x="353" y="21"/>
                </a:lnTo>
                <a:lnTo>
                  <a:pt x="383" y="0"/>
                </a:lnTo>
                <a:lnTo>
                  <a:pt x="408" y="0"/>
                </a:lnTo>
                <a:lnTo>
                  <a:pt x="431" y="19"/>
                </a:lnTo>
                <a:lnTo>
                  <a:pt x="475" y="90"/>
                </a:lnTo>
                <a:lnTo>
                  <a:pt x="503" y="136"/>
                </a:lnTo>
                <a:lnTo>
                  <a:pt x="533" y="181"/>
                </a:lnTo>
                <a:lnTo>
                  <a:pt x="626" y="167"/>
                </a:lnTo>
                <a:lnTo>
                  <a:pt x="705" y="154"/>
                </a:lnTo>
                <a:lnTo>
                  <a:pt x="802" y="154"/>
                </a:lnTo>
                <a:lnTo>
                  <a:pt x="814" y="169"/>
                </a:lnTo>
                <a:lnTo>
                  <a:pt x="793" y="201"/>
                </a:lnTo>
                <a:lnTo>
                  <a:pt x="770" y="224"/>
                </a:lnTo>
                <a:lnTo>
                  <a:pt x="735" y="252"/>
                </a:lnTo>
                <a:lnTo>
                  <a:pt x="716" y="269"/>
                </a:lnTo>
                <a:lnTo>
                  <a:pt x="693" y="286"/>
                </a:lnTo>
                <a:lnTo>
                  <a:pt x="668" y="305"/>
                </a:lnTo>
                <a:lnTo>
                  <a:pt x="640" y="323"/>
                </a:lnTo>
                <a:lnTo>
                  <a:pt x="675" y="384"/>
                </a:lnTo>
                <a:lnTo>
                  <a:pt x="705" y="447"/>
                </a:lnTo>
                <a:lnTo>
                  <a:pt x="735" y="577"/>
                </a:lnTo>
                <a:lnTo>
                  <a:pt x="726" y="624"/>
                </a:lnTo>
                <a:lnTo>
                  <a:pt x="714" y="635"/>
                </a:lnTo>
                <a:lnTo>
                  <a:pt x="695" y="639"/>
                </a:lnTo>
                <a:lnTo>
                  <a:pt x="591" y="602"/>
                </a:lnTo>
                <a:lnTo>
                  <a:pt x="561" y="585"/>
                </a:lnTo>
                <a:lnTo>
                  <a:pt x="531" y="566"/>
                </a:lnTo>
                <a:lnTo>
                  <a:pt x="501" y="545"/>
                </a:lnTo>
                <a:lnTo>
                  <a:pt x="473" y="526"/>
                </a:lnTo>
                <a:lnTo>
                  <a:pt x="448" y="509"/>
                </a:lnTo>
                <a:lnTo>
                  <a:pt x="424" y="494"/>
                </a:lnTo>
                <a:lnTo>
                  <a:pt x="390" y="474"/>
                </a:lnTo>
                <a:lnTo>
                  <a:pt x="355" y="496"/>
                </a:lnTo>
                <a:lnTo>
                  <a:pt x="320" y="517"/>
                </a:lnTo>
                <a:lnTo>
                  <a:pt x="288" y="538"/>
                </a:lnTo>
                <a:lnTo>
                  <a:pt x="258" y="556"/>
                </a:lnTo>
                <a:lnTo>
                  <a:pt x="232" y="571"/>
                </a:lnTo>
                <a:lnTo>
                  <a:pt x="209" y="585"/>
                </a:lnTo>
                <a:lnTo>
                  <a:pt x="172" y="598"/>
                </a:lnTo>
                <a:lnTo>
                  <a:pt x="151" y="592"/>
                </a:lnTo>
                <a:lnTo>
                  <a:pt x="146" y="560"/>
                </a:lnTo>
                <a:lnTo>
                  <a:pt x="163" y="496"/>
                </a:lnTo>
                <a:lnTo>
                  <a:pt x="179" y="451"/>
                </a:lnTo>
                <a:lnTo>
                  <a:pt x="200" y="397"/>
                </a:lnTo>
                <a:lnTo>
                  <a:pt x="149" y="380"/>
                </a:lnTo>
                <a:lnTo>
                  <a:pt x="65" y="348"/>
                </a:lnTo>
                <a:lnTo>
                  <a:pt x="7" y="308"/>
                </a:lnTo>
                <a:lnTo>
                  <a:pt x="0" y="290"/>
                </a:lnTo>
                <a:lnTo>
                  <a:pt x="21" y="271"/>
                </a:lnTo>
                <a:lnTo>
                  <a:pt x="21" y="271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895480"/>
            <a:ext cx="374760" cy="858960"/>
          </a:xfrm>
          <a:custGeom>
            <a:avLst/>
            <a:gdLst/>
            <a:ahLst/>
            <a:rect l="l" t="t" r="r" b="b"/>
            <a:pathLst>
              <a:path w="236" h="541">
                <a:moveTo>
                  <a:pt x="180" y="62"/>
                </a:moveTo>
                <a:lnTo>
                  <a:pt x="236" y="477"/>
                </a:lnTo>
                <a:lnTo>
                  <a:pt x="218" y="511"/>
                </a:lnTo>
                <a:lnTo>
                  <a:pt x="204" y="524"/>
                </a:lnTo>
                <a:lnTo>
                  <a:pt x="187" y="533"/>
                </a:lnTo>
                <a:lnTo>
                  <a:pt x="113" y="541"/>
                </a:lnTo>
                <a:lnTo>
                  <a:pt x="48" y="509"/>
                </a:lnTo>
                <a:lnTo>
                  <a:pt x="32" y="479"/>
                </a:lnTo>
                <a:lnTo>
                  <a:pt x="34" y="441"/>
                </a:lnTo>
                <a:lnTo>
                  <a:pt x="48" y="347"/>
                </a:lnTo>
                <a:lnTo>
                  <a:pt x="41" y="263"/>
                </a:lnTo>
                <a:lnTo>
                  <a:pt x="21" y="180"/>
                </a:lnTo>
                <a:lnTo>
                  <a:pt x="0" y="84"/>
                </a:lnTo>
                <a:lnTo>
                  <a:pt x="0" y="52"/>
                </a:lnTo>
                <a:lnTo>
                  <a:pt x="16" y="26"/>
                </a:lnTo>
                <a:lnTo>
                  <a:pt x="44" y="9"/>
                </a:lnTo>
                <a:lnTo>
                  <a:pt x="76" y="0"/>
                </a:lnTo>
                <a:lnTo>
                  <a:pt x="141" y="9"/>
                </a:lnTo>
                <a:lnTo>
                  <a:pt x="180" y="62"/>
                </a:lnTo>
                <a:lnTo>
                  <a:pt x="180" y="6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2120" y="3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色 环 认 识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的</a:t>
            </a: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 规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4680" y="1641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上页幻灯片可知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金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银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能是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乘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允许误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一定放在右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7280" y="29671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允许误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色 环比别的色环稍宽，离别的色 环稍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00120" y="4289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用的电阻大都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允许误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±5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，用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  <a:ea typeface="华文行楷"/>
              </a:rPr>
              <a:t>金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色 环表示，因此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  <a:ea typeface="华文行楷"/>
              </a:rPr>
              <a:t>金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般都在最右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"/>
          <p:cNvGraphicFramePr/>
          <p:nvPr/>
        </p:nvGraphicFramePr>
        <p:xfrm>
          <a:off x="228600" y="635040"/>
          <a:ext cx="8686800" cy="368784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ˎ̥"/>
                        </a:rPr>
                        <a:t>1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阻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前两位表示有效数字，第三位表示零的个数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小数点用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R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表示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例如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: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RO=1.0Ω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103=10KΩ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跨接电阻采用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"000"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ˎ̥"/>
                        </a:rPr>
                        <a:t>表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80960" y="38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元  件  的  插  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9440" y="4343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65280" y="1825560"/>
            <a:ext cx="3906360" cy="1301760"/>
            <a:chOff x="665280" y="1825560"/>
            <a:chExt cx="3906360" cy="1301760"/>
          </a:xfrm>
        </p:grpSpPr>
        <p:sp>
          <p:nvSpPr>
            <p:cNvPr id="615" name=""/>
            <p:cNvSpPr/>
            <p:nvPr/>
          </p:nvSpPr>
          <p:spPr>
            <a:xfrm>
              <a:off x="1182600" y="2487600"/>
              <a:ext cx="3389040" cy="271440"/>
            </a:xfrm>
            <a:prstGeom prst="parallelogram">
              <a:avLst>
                <a:gd name="adj" fmla="val 193350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484280" y="2127240"/>
              <a:ext cx="2225160" cy="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1938240" y="1825560"/>
              <a:ext cx="1397520" cy="634680"/>
              <a:chOff x="1938240" y="1825560"/>
              <a:chExt cx="1397520" cy="634680"/>
            </a:xfrm>
          </p:grpSpPr>
          <p:sp>
            <p:nvSpPr>
              <p:cNvPr id="618" name=""/>
              <p:cNvSpPr/>
              <p:nvPr/>
            </p:nvSpPr>
            <p:spPr>
              <a:xfrm flipH="1" flipV="1" rot="10800000">
                <a:off x="2029680" y="1924920"/>
                <a:ext cx="1231920" cy="4143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 rot="10800000">
                <a:off x="1938240" y="1830240"/>
                <a:ext cx="234000" cy="58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flipV="1">
                <a:off x="3107520" y="1825560"/>
                <a:ext cx="228240" cy="58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 rot="10800000">
                <a:off x="3131640" y="1825200"/>
                <a:ext cx="139320" cy="63468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 rot="10800000">
                <a:off x="2147400" y="1928880"/>
                <a:ext cx="104760" cy="41400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 rot="10800000">
                <a:off x="2792160" y="1928880"/>
                <a:ext cx="106200" cy="41400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 rot="10800000">
                <a:off x="2470320" y="1928880"/>
                <a:ext cx="104400" cy="414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43434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3698640" y="2112840"/>
              <a:ext cx="0" cy="9763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496880" y="2112840"/>
              <a:ext cx="0" cy="10144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5280" y="2749320"/>
              <a:ext cx="3389040" cy="271800"/>
            </a:xfrm>
            <a:prstGeom prst="parallelogram">
              <a:avLst>
                <a:gd name="adj" fmla="val 193094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987800" y="3022560"/>
            <a:ext cx="3906720" cy="2594160"/>
            <a:chOff x="4987800" y="3022560"/>
            <a:chExt cx="3906720" cy="2594160"/>
          </a:xfrm>
        </p:grpSpPr>
        <p:sp>
          <p:nvSpPr>
            <p:cNvPr id="629" name=""/>
            <p:cNvSpPr/>
            <p:nvPr/>
          </p:nvSpPr>
          <p:spPr>
            <a:xfrm>
              <a:off x="5505480" y="4954680"/>
              <a:ext cx="3389040" cy="271440"/>
            </a:xfrm>
            <a:prstGeom prst="parallelogram">
              <a:avLst>
                <a:gd name="adj" fmla="val 193350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89680" y="3105360"/>
              <a:ext cx="755640" cy="247464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6707160" y="3265200"/>
              <a:ext cx="932760" cy="1499760"/>
              <a:chOff x="6707160" y="3265200"/>
              <a:chExt cx="932760" cy="1499760"/>
            </a:xfrm>
          </p:grpSpPr>
          <p:sp>
            <p:nvSpPr>
              <p:cNvPr id="632" name=""/>
              <p:cNvSpPr/>
              <p:nvPr/>
            </p:nvSpPr>
            <p:spPr>
              <a:xfrm flipH="1" flipV="1" rot="4500000">
                <a:off x="6562440" y="3796200"/>
                <a:ext cx="1231920" cy="4143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 rot="4500000">
                <a:off x="7208280" y="4281840"/>
                <a:ext cx="234720" cy="58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 rot="15300000">
                <a:off x="6905160" y="3157920"/>
                <a:ext cx="229320" cy="58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 flipV="1" rot="4500000">
                <a:off x="6977520" y="3144960"/>
                <a:ext cx="139680" cy="63504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 rot="4500000">
                <a:off x="7245720" y="4225320"/>
                <a:ext cx="104760" cy="41436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 flipV="1" rot="4500000">
                <a:off x="7078320" y="3602880"/>
                <a:ext cx="106200" cy="4147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 rot="4500000">
                <a:off x="7162200" y="3913560"/>
                <a:ext cx="104760" cy="41436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6597000" y="3022560"/>
              <a:ext cx="306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" y="8967"/>
                  </a:moveTo>
                  <a:arcTo wR="10800" hR="10800" stAng="-10213724" swAng="10213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" y="8967"/>
                  </a:moveTo>
                  <a:arcTo wR="10800" hR="10800" stAng="-10213724" swAng="10213724"/>
                </a:path>
              </a:pathLst>
            </a:cu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603840" y="3094200"/>
              <a:ext cx="0" cy="25225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987800" y="5216760"/>
              <a:ext cx="3389400" cy="271440"/>
            </a:xfrm>
            <a:prstGeom prst="parallelogram">
              <a:avLst>
                <a:gd name="adj" fmla="val 193371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5802480" y="1509840"/>
            <a:ext cx="1842840" cy="741240"/>
          </a:xfrm>
          <a:prstGeom prst="wedgeRoundRectCallout">
            <a:avLst>
              <a:gd name="adj1" fmla="val -109430"/>
              <a:gd name="adj2" fmla="val 63060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卧式插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307040" y="3267000"/>
            <a:ext cx="1757160" cy="741600"/>
          </a:xfrm>
          <a:prstGeom prst="wedgeRoundRectCallout">
            <a:avLst>
              <a:gd name="adj1" fmla="val 69601"/>
              <a:gd name="adj2" fmla="val 193898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立式插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9696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立式插法的注意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473120" y="2070000"/>
            <a:ext cx="6221520" cy="3249720"/>
            <a:chOff x="1473120" y="2070000"/>
            <a:chExt cx="6221520" cy="3249720"/>
          </a:xfrm>
        </p:grpSpPr>
        <p:grpSp>
          <p:nvGrpSpPr>
            <p:cNvPr id="646" name=""/>
            <p:cNvGrpSpPr/>
            <p:nvPr/>
          </p:nvGrpSpPr>
          <p:grpSpPr>
            <a:xfrm>
              <a:off x="3463920" y="2070000"/>
              <a:ext cx="4230720" cy="3249720"/>
              <a:chOff x="3463920" y="2070000"/>
              <a:chExt cx="4230720" cy="3249720"/>
            </a:xfrm>
          </p:grpSpPr>
          <p:sp>
            <p:nvSpPr>
              <p:cNvPr id="647" name=""/>
              <p:cNvSpPr/>
              <p:nvPr/>
            </p:nvSpPr>
            <p:spPr>
              <a:xfrm>
                <a:off x="5307120" y="4405320"/>
                <a:ext cx="2387520" cy="9144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3463920" y="4416480"/>
                <a:ext cx="1138320" cy="4950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638600" y="2152440"/>
                <a:ext cx="682560" cy="22766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0" name=""/>
              <p:cNvGrpSpPr/>
              <p:nvPr/>
            </p:nvGrpSpPr>
            <p:grpSpPr>
              <a:xfrm>
                <a:off x="4456440" y="2311560"/>
                <a:ext cx="932760" cy="1500480"/>
                <a:chOff x="4456440" y="2311560"/>
                <a:chExt cx="932760" cy="1500480"/>
              </a:xfrm>
            </p:grpSpPr>
            <p:sp>
              <p:nvSpPr>
                <p:cNvPr id="651" name=""/>
                <p:cNvSpPr/>
                <p:nvPr/>
              </p:nvSpPr>
              <p:spPr>
                <a:xfrm flipH="1" flipV="1" rot="4500000">
                  <a:off x="4311720" y="2843280"/>
                  <a:ext cx="123192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 rot="4500000">
                  <a:off x="4957920" y="3328560"/>
                  <a:ext cx="234360" cy="58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 rot="15300000">
                  <a:off x="4654440" y="2204280"/>
                  <a:ext cx="228960" cy="586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 flipV="1" rot="4500000">
                  <a:off x="4726440" y="2192760"/>
                  <a:ext cx="139320" cy="63504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 flipV="1" rot="4500000">
                  <a:off x="4995000" y="3272400"/>
                  <a:ext cx="10440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 flipV="1" rot="4500000">
                  <a:off x="4827960" y="2649960"/>
                  <a:ext cx="10584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flipV="1" rot="4500000">
                  <a:off x="4911120" y="2960640"/>
                  <a:ext cx="104400" cy="414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4345920" y="2070000"/>
                <a:ext cx="306720" cy="294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352760" y="2141280"/>
                <a:ext cx="258840" cy="22878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" name=""/>
            <p:cNvSpPr/>
            <p:nvPr/>
          </p:nvSpPr>
          <p:spPr>
            <a:xfrm>
              <a:off x="1473120" y="4330800"/>
              <a:ext cx="6174000" cy="1000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261040" y="2744640"/>
            <a:ext cx="3398760" cy="1465200"/>
            <a:chOff x="5261040" y="2744640"/>
            <a:chExt cx="3398760" cy="1465200"/>
          </a:xfrm>
        </p:grpSpPr>
        <p:grpSp>
          <p:nvGrpSpPr>
            <p:cNvPr id="662" name=""/>
            <p:cNvGrpSpPr/>
            <p:nvPr/>
          </p:nvGrpSpPr>
          <p:grpSpPr>
            <a:xfrm>
              <a:off x="5261040" y="3662280"/>
              <a:ext cx="423720" cy="547560"/>
              <a:chOff x="5261040" y="3662280"/>
              <a:chExt cx="423720" cy="547560"/>
            </a:xfrm>
          </p:grpSpPr>
          <p:sp>
            <p:nvSpPr>
              <p:cNvPr id="663" name=""/>
              <p:cNvSpPr/>
              <p:nvPr/>
            </p:nvSpPr>
            <p:spPr>
              <a:xfrm>
                <a:off x="5373720" y="3686040"/>
                <a:ext cx="18720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5261040" y="3662280"/>
                <a:ext cx="24732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5437080" y="4124160"/>
                <a:ext cx="24768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6607080" y="2744640"/>
              <a:ext cx="2052720" cy="743040"/>
            </a:xfrm>
            <a:prstGeom prst="wedgeEllipseCallout">
              <a:avLst>
                <a:gd name="adj1" fmla="val -101509"/>
                <a:gd name="adj2" fmla="val 107263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大约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1~2m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5167440" y="1311120"/>
            <a:ext cx="821880" cy="4775040"/>
            <a:chOff x="5167440" y="1311120"/>
            <a:chExt cx="821880" cy="4775040"/>
          </a:xfrm>
        </p:grpSpPr>
        <p:sp>
          <p:nvSpPr>
            <p:cNvPr id="668" name=""/>
            <p:cNvSpPr/>
            <p:nvPr/>
          </p:nvSpPr>
          <p:spPr>
            <a:xfrm>
              <a:off x="5418000" y="1311120"/>
              <a:ext cx="0" cy="47750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67440" y="2848320"/>
              <a:ext cx="821880" cy="3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" y="11426"/>
                  </a:moveTo>
                  <a:arcTo wR="10800" hR="10800" stAng="10600705" swAng="4714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" y="11426"/>
                  </a:moveTo>
                  <a:arcTo wR="10800" hR="10800" stAng="10600705" swAng="4714640"/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1682640" y="2090880"/>
            <a:ext cx="1757520" cy="939600"/>
          </a:xfrm>
          <a:prstGeom prst="wedgeRectCallout">
            <a:avLst>
              <a:gd name="adj1" fmla="val 153162"/>
              <a:gd name="adj2" fmla="val 15541"/>
            </a:avLst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向左倾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15-20</a:t>
            </a:r>
            <a:r>
              <a:rPr b="1" lang="zh-CN" sz="1800" spc="-1" strike="noStrike" baseline="90000">
                <a:solidFill>
                  <a:srgbClr val="9900cc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828720" y="3971880"/>
            <a:ext cx="5296680" cy="1939680"/>
            <a:chOff x="828720" y="3971880"/>
            <a:chExt cx="5296680" cy="1939680"/>
          </a:xfrm>
        </p:grpSpPr>
        <p:sp>
          <p:nvSpPr>
            <p:cNvPr id="672" name=""/>
            <p:cNvSpPr/>
            <p:nvPr/>
          </p:nvSpPr>
          <p:spPr>
            <a:xfrm>
              <a:off x="828720" y="5052960"/>
              <a:ext cx="1544760" cy="858600"/>
            </a:xfrm>
            <a:prstGeom prst="borderCallout1">
              <a:avLst>
                <a:gd name="adj1" fmla="val 18750"/>
                <a:gd name="adj2" fmla="val -8333"/>
                <a:gd name="adj3" fmla="val -56703"/>
                <a:gd name="adj4" fmla="val 193916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c6b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a2000"/>
                  </a:solidFill>
                  <a:latin typeface="Times New Roman"/>
                </a:rPr>
                <a:t>元件脚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a2000"/>
                  </a:solidFill>
                  <a:latin typeface="Times New Roman"/>
                </a:rPr>
                <a:t>约折弯</a:t>
              </a:r>
              <a:r>
                <a:rPr b="1" lang="zh-CN" sz="2400" spc="-1" strike="noStrike">
                  <a:solidFill>
                    <a:srgbClr val="aa2000"/>
                  </a:solidFill>
                  <a:latin typeface="Times New Roman"/>
                </a:rPr>
                <a:t>30</a:t>
              </a:r>
              <a:r>
                <a:rPr b="1" lang="zh-CN" sz="1800" spc="-1" strike="noStrike" baseline="90000">
                  <a:solidFill>
                    <a:srgbClr val="aa2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3935160" y="3971880"/>
              <a:ext cx="693720" cy="76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63" y="12515"/>
                  </a:moveTo>
                  <a:arcTo wR="10800" hR="10800" stAng="548213" swAng="221801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63" y="12515"/>
                  </a:moveTo>
                  <a:arcTo wR="10800" hR="10800" stAng="548213" swAng="2218011"/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40720" y="4012200"/>
              <a:ext cx="108468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78" y="11482"/>
                  </a:moveTo>
                  <a:arcTo wR="10800" hR="10800" stAng="217330" swAng="2262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78" y="11482"/>
                  </a:moveTo>
                  <a:arcTo wR="10800" hR="10800" stAng="217330" swAng="2262848"/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613320" y="4552920"/>
            <a:ext cx="2835000" cy="1309680"/>
            <a:chOff x="3613320" y="4552920"/>
            <a:chExt cx="2835000" cy="1309680"/>
          </a:xfrm>
        </p:grpSpPr>
        <p:grpSp>
          <p:nvGrpSpPr>
            <p:cNvPr id="676" name=""/>
            <p:cNvGrpSpPr/>
            <p:nvPr/>
          </p:nvGrpSpPr>
          <p:grpSpPr>
            <a:xfrm>
              <a:off x="3613320" y="4552920"/>
              <a:ext cx="431640" cy="407880"/>
              <a:chOff x="3613320" y="4552920"/>
              <a:chExt cx="431640" cy="407880"/>
            </a:xfrm>
          </p:grpSpPr>
          <p:sp>
            <p:nvSpPr>
              <p:cNvPr id="677" name=""/>
              <p:cNvSpPr/>
              <p:nvPr/>
            </p:nvSpPr>
            <p:spPr>
              <a:xfrm flipH="1">
                <a:off x="3808080" y="4552920"/>
                <a:ext cx="37800" cy="407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613320" y="4701960"/>
                <a:ext cx="431640" cy="98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6009480" y="4561560"/>
              <a:ext cx="438840" cy="394560"/>
              <a:chOff x="6009480" y="4561560"/>
              <a:chExt cx="438840" cy="394560"/>
            </a:xfrm>
          </p:grpSpPr>
          <p:sp>
            <p:nvSpPr>
              <p:cNvPr id="680" name=""/>
              <p:cNvSpPr/>
              <p:nvPr/>
            </p:nvSpPr>
            <p:spPr>
              <a:xfrm>
                <a:off x="6174720" y="4561560"/>
                <a:ext cx="109440" cy="394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6009480" y="4722480"/>
                <a:ext cx="438840" cy="61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4130640" y="4898880"/>
              <a:ext cx="1928880" cy="96372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124920 h 963720"/>
                <a:gd name="textAreaBottom" fmla="*/ 838800 h 96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ccffcc"/>
            </a:solidFill>
            <a:ln w="25560">
              <a:solidFill>
                <a:srgbClr val="0066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剪去多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Times New Roman"/>
                </a:rPr>
                <a:t>的元件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25280" y="35856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-223920" y="2844000"/>
            <a:ext cx="3687480" cy="3894120"/>
            <a:chOff x="-223920" y="2844000"/>
            <a:chExt cx="3687480" cy="3894120"/>
          </a:xfrm>
        </p:grpSpPr>
        <p:sp>
          <p:nvSpPr>
            <p:cNvPr id="685" name=""/>
            <p:cNvSpPr/>
            <p:nvPr/>
          </p:nvSpPr>
          <p:spPr>
            <a:xfrm rot="1221600">
              <a:off x="232920" y="3228840"/>
              <a:ext cx="2773440" cy="312444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95400" y="4067280"/>
              <a:ext cx="1143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660033"/>
                  </a:solidFill>
                  <a:latin typeface="Times New Roman"/>
                </a:rPr>
                <a:t>no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2157480" y="173160"/>
            <a:ext cx="4848120" cy="5049720"/>
          </a:xfrm>
          <a:custGeom>
            <a:avLst/>
            <a:gdLst/>
            <a:ahLst/>
            <a:rect l="l" t="t" r="r" b="b"/>
            <a:pathLst>
              <a:path w="3054" h="3181">
                <a:moveTo>
                  <a:pt x="0" y="676"/>
                </a:moveTo>
                <a:cubicBezTo>
                  <a:pt x="4" y="663"/>
                  <a:pt x="4" y="649"/>
                  <a:pt x="12" y="638"/>
                </a:cubicBezTo>
                <a:cubicBezTo>
                  <a:pt x="30" y="614"/>
                  <a:pt x="110" y="532"/>
                  <a:pt x="138" y="513"/>
                </a:cubicBezTo>
                <a:cubicBezTo>
                  <a:pt x="170" y="465"/>
                  <a:pt x="183" y="457"/>
                  <a:pt x="238" y="475"/>
                </a:cubicBezTo>
                <a:cubicBezTo>
                  <a:pt x="295" y="591"/>
                  <a:pt x="230" y="445"/>
                  <a:pt x="275" y="626"/>
                </a:cubicBezTo>
                <a:cubicBezTo>
                  <a:pt x="279" y="644"/>
                  <a:pt x="293" y="659"/>
                  <a:pt x="300" y="676"/>
                </a:cubicBezTo>
                <a:cubicBezTo>
                  <a:pt x="318" y="723"/>
                  <a:pt x="329" y="777"/>
                  <a:pt x="338" y="826"/>
                </a:cubicBezTo>
                <a:cubicBezTo>
                  <a:pt x="346" y="948"/>
                  <a:pt x="349" y="1095"/>
                  <a:pt x="388" y="1214"/>
                </a:cubicBezTo>
                <a:cubicBezTo>
                  <a:pt x="407" y="1346"/>
                  <a:pt x="444" y="1473"/>
                  <a:pt x="476" y="1602"/>
                </a:cubicBezTo>
                <a:cubicBezTo>
                  <a:pt x="498" y="1691"/>
                  <a:pt x="471" y="1639"/>
                  <a:pt x="513" y="1703"/>
                </a:cubicBezTo>
                <a:cubicBezTo>
                  <a:pt x="534" y="1805"/>
                  <a:pt x="567" y="1938"/>
                  <a:pt x="614" y="2028"/>
                </a:cubicBezTo>
                <a:cubicBezTo>
                  <a:pt x="634" y="2133"/>
                  <a:pt x="671" y="2235"/>
                  <a:pt x="689" y="2341"/>
                </a:cubicBezTo>
                <a:cubicBezTo>
                  <a:pt x="720" y="2526"/>
                  <a:pt x="754" y="2713"/>
                  <a:pt x="839" y="2880"/>
                </a:cubicBezTo>
                <a:cubicBezTo>
                  <a:pt x="875" y="2950"/>
                  <a:pt x="947" y="3013"/>
                  <a:pt x="1014" y="3055"/>
                </a:cubicBezTo>
                <a:cubicBezTo>
                  <a:pt x="1030" y="3065"/>
                  <a:pt x="1047" y="3073"/>
                  <a:pt x="1064" y="3080"/>
                </a:cubicBezTo>
                <a:cubicBezTo>
                  <a:pt x="1088" y="3090"/>
                  <a:pt x="1139" y="3105"/>
                  <a:pt x="1139" y="3105"/>
                </a:cubicBezTo>
                <a:cubicBezTo>
                  <a:pt x="1254" y="3181"/>
                  <a:pt x="1401" y="3133"/>
                  <a:pt x="1528" y="3093"/>
                </a:cubicBezTo>
                <a:cubicBezTo>
                  <a:pt x="1557" y="3072"/>
                  <a:pt x="1595" y="3060"/>
                  <a:pt x="1615" y="3030"/>
                </a:cubicBezTo>
                <a:cubicBezTo>
                  <a:pt x="1623" y="3017"/>
                  <a:pt x="1629" y="3003"/>
                  <a:pt x="1640" y="2992"/>
                </a:cubicBezTo>
                <a:cubicBezTo>
                  <a:pt x="1691" y="2941"/>
                  <a:pt x="1684" y="2967"/>
                  <a:pt x="1740" y="2930"/>
                </a:cubicBezTo>
                <a:cubicBezTo>
                  <a:pt x="1801" y="2890"/>
                  <a:pt x="1857" y="2837"/>
                  <a:pt x="1916" y="2792"/>
                </a:cubicBezTo>
                <a:cubicBezTo>
                  <a:pt x="2001" y="2727"/>
                  <a:pt x="1934" y="2761"/>
                  <a:pt x="2003" y="2692"/>
                </a:cubicBezTo>
                <a:cubicBezTo>
                  <a:pt x="2014" y="2681"/>
                  <a:pt x="2030" y="2678"/>
                  <a:pt x="2041" y="2667"/>
                </a:cubicBezTo>
                <a:cubicBezTo>
                  <a:pt x="2138" y="2572"/>
                  <a:pt x="2026" y="2653"/>
                  <a:pt x="2116" y="2592"/>
                </a:cubicBezTo>
                <a:cubicBezTo>
                  <a:pt x="2158" y="2508"/>
                  <a:pt x="2223" y="2476"/>
                  <a:pt x="2291" y="2416"/>
                </a:cubicBezTo>
                <a:cubicBezTo>
                  <a:pt x="2395" y="2324"/>
                  <a:pt x="2282" y="2406"/>
                  <a:pt x="2417" y="2316"/>
                </a:cubicBezTo>
                <a:cubicBezTo>
                  <a:pt x="2466" y="2283"/>
                  <a:pt x="2500" y="2208"/>
                  <a:pt x="2542" y="2166"/>
                </a:cubicBezTo>
                <a:cubicBezTo>
                  <a:pt x="2557" y="2151"/>
                  <a:pt x="2577" y="2143"/>
                  <a:pt x="2592" y="2128"/>
                </a:cubicBezTo>
                <a:cubicBezTo>
                  <a:pt x="2627" y="2093"/>
                  <a:pt x="2661" y="2042"/>
                  <a:pt x="2692" y="2003"/>
                </a:cubicBezTo>
                <a:cubicBezTo>
                  <a:pt x="2718" y="1971"/>
                  <a:pt x="2771" y="1896"/>
                  <a:pt x="2792" y="1853"/>
                </a:cubicBezTo>
                <a:cubicBezTo>
                  <a:pt x="2840" y="1757"/>
                  <a:pt x="2863" y="1652"/>
                  <a:pt x="2955" y="1590"/>
                </a:cubicBezTo>
                <a:cubicBezTo>
                  <a:pt x="3054" y="1208"/>
                  <a:pt x="3009" y="1846"/>
                  <a:pt x="2980" y="701"/>
                </a:cubicBezTo>
                <a:cubicBezTo>
                  <a:pt x="2975" y="497"/>
                  <a:pt x="2990" y="551"/>
                  <a:pt x="2955" y="450"/>
                </a:cubicBezTo>
                <a:cubicBezTo>
                  <a:pt x="2936" y="329"/>
                  <a:pt x="2912" y="228"/>
                  <a:pt x="2842" y="125"/>
                </a:cubicBezTo>
                <a:cubicBezTo>
                  <a:pt x="2822" y="63"/>
                  <a:pt x="2803" y="19"/>
                  <a:pt x="2742" y="0"/>
                </a:cubicBezTo>
                <a:cubicBezTo>
                  <a:pt x="2656" y="14"/>
                  <a:pt x="2616" y="26"/>
                  <a:pt x="2554" y="87"/>
                </a:cubicBezTo>
                <a:cubicBezTo>
                  <a:pt x="2540" y="130"/>
                  <a:pt x="2529" y="162"/>
                  <a:pt x="2504" y="200"/>
                </a:cubicBezTo>
                <a:cubicBezTo>
                  <a:pt x="2478" y="309"/>
                  <a:pt x="2408" y="419"/>
                  <a:pt x="2329" y="501"/>
                </a:cubicBezTo>
                <a:cubicBezTo>
                  <a:pt x="2314" y="560"/>
                  <a:pt x="2323" y="535"/>
                  <a:pt x="2304" y="57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40640" y="947880"/>
            <a:ext cx="114300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rot="2202000">
            <a:off x="3352320" y="5812920"/>
            <a:ext cx="108000" cy="552600"/>
          </a:xfrm>
          <a:custGeom>
            <a:avLst/>
            <a:gdLst>
              <a:gd name="textAreaLeft" fmla="*/ 31320 w 108000"/>
              <a:gd name="textAreaRight" fmla="*/ 76680 w 108000"/>
              <a:gd name="textAreaTop" fmla="*/ 161280 h 552600"/>
              <a:gd name="textAreaBottom" fmla="*/ 391320 h 5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407" y="21600"/>
                </a:lnTo>
                <a:lnTo>
                  <a:pt x="8193" y="21600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946840" y="2081160"/>
            <a:ext cx="2360520" cy="4326120"/>
          </a:xfrm>
          <a:custGeom>
            <a:avLst/>
            <a:gdLst/>
            <a:ahLst/>
            <a:rect l="l" t="t" r="r" b="b"/>
            <a:pathLst>
              <a:path w="1487" h="3310">
                <a:moveTo>
                  <a:pt x="6" y="457"/>
                </a:moveTo>
                <a:cubicBezTo>
                  <a:pt x="31" y="384"/>
                  <a:pt x="0" y="450"/>
                  <a:pt x="56" y="394"/>
                </a:cubicBezTo>
                <a:cubicBezTo>
                  <a:pt x="97" y="353"/>
                  <a:pt x="69" y="365"/>
                  <a:pt x="94" y="319"/>
                </a:cubicBezTo>
                <a:cubicBezTo>
                  <a:pt x="109" y="293"/>
                  <a:pt x="127" y="269"/>
                  <a:pt x="144" y="244"/>
                </a:cubicBezTo>
                <a:cubicBezTo>
                  <a:pt x="152" y="231"/>
                  <a:pt x="169" y="206"/>
                  <a:pt x="169" y="206"/>
                </a:cubicBezTo>
                <a:cubicBezTo>
                  <a:pt x="189" y="131"/>
                  <a:pt x="168" y="94"/>
                  <a:pt x="244" y="69"/>
                </a:cubicBezTo>
                <a:cubicBezTo>
                  <a:pt x="284" y="8"/>
                  <a:pt x="284" y="0"/>
                  <a:pt x="357" y="19"/>
                </a:cubicBezTo>
                <a:cubicBezTo>
                  <a:pt x="419" y="111"/>
                  <a:pt x="335" y="5"/>
                  <a:pt x="432" y="69"/>
                </a:cubicBezTo>
                <a:cubicBezTo>
                  <a:pt x="466" y="92"/>
                  <a:pt x="500" y="205"/>
                  <a:pt x="520" y="244"/>
                </a:cubicBezTo>
                <a:cubicBezTo>
                  <a:pt x="534" y="318"/>
                  <a:pt x="545" y="398"/>
                  <a:pt x="570" y="469"/>
                </a:cubicBezTo>
                <a:cubicBezTo>
                  <a:pt x="580" y="541"/>
                  <a:pt x="595" y="610"/>
                  <a:pt x="607" y="682"/>
                </a:cubicBezTo>
                <a:cubicBezTo>
                  <a:pt x="619" y="907"/>
                  <a:pt x="627" y="1133"/>
                  <a:pt x="645" y="1358"/>
                </a:cubicBezTo>
                <a:cubicBezTo>
                  <a:pt x="652" y="1556"/>
                  <a:pt x="655" y="1751"/>
                  <a:pt x="683" y="1947"/>
                </a:cubicBezTo>
                <a:cubicBezTo>
                  <a:pt x="690" y="1996"/>
                  <a:pt x="710" y="2048"/>
                  <a:pt x="720" y="2097"/>
                </a:cubicBezTo>
                <a:cubicBezTo>
                  <a:pt x="724" y="2243"/>
                  <a:pt x="727" y="2390"/>
                  <a:pt x="733" y="2536"/>
                </a:cubicBezTo>
                <a:cubicBezTo>
                  <a:pt x="736" y="2603"/>
                  <a:pt x="742" y="2669"/>
                  <a:pt x="745" y="2736"/>
                </a:cubicBezTo>
                <a:cubicBezTo>
                  <a:pt x="756" y="2957"/>
                  <a:pt x="701" y="3099"/>
                  <a:pt x="870" y="3224"/>
                </a:cubicBezTo>
                <a:cubicBezTo>
                  <a:pt x="878" y="3237"/>
                  <a:pt x="881" y="3255"/>
                  <a:pt x="895" y="3262"/>
                </a:cubicBezTo>
                <a:cubicBezTo>
                  <a:pt x="913" y="3271"/>
                  <a:pt x="1023" y="3288"/>
                  <a:pt x="1058" y="3299"/>
                </a:cubicBezTo>
                <a:cubicBezTo>
                  <a:pt x="1108" y="3294"/>
                  <a:pt x="1172" y="3310"/>
                  <a:pt x="1208" y="3274"/>
                </a:cubicBezTo>
                <a:cubicBezTo>
                  <a:pt x="1229" y="3253"/>
                  <a:pt x="1259" y="3199"/>
                  <a:pt x="1259" y="3199"/>
                </a:cubicBezTo>
                <a:cubicBezTo>
                  <a:pt x="1274" y="3138"/>
                  <a:pt x="1301" y="3084"/>
                  <a:pt x="1321" y="3024"/>
                </a:cubicBezTo>
                <a:cubicBezTo>
                  <a:pt x="1369" y="2880"/>
                  <a:pt x="1319" y="2966"/>
                  <a:pt x="1371" y="2886"/>
                </a:cubicBezTo>
                <a:cubicBezTo>
                  <a:pt x="1397" y="2786"/>
                  <a:pt x="1441" y="2700"/>
                  <a:pt x="1459" y="2598"/>
                </a:cubicBezTo>
                <a:cubicBezTo>
                  <a:pt x="1487" y="2155"/>
                  <a:pt x="1480" y="2346"/>
                  <a:pt x="1459" y="1559"/>
                </a:cubicBezTo>
                <a:cubicBezTo>
                  <a:pt x="1457" y="1490"/>
                  <a:pt x="1434" y="1439"/>
                  <a:pt x="1434" y="137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636480" y="671400"/>
            <a:ext cx="7953480" cy="5241960"/>
            <a:chOff x="636480" y="671400"/>
            <a:chExt cx="7953480" cy="5241960"/>
          </a:xfrm>
        </p:grpSpPr>
        <p:sp>
          <p:nvSpPr>
            <p:cNvPr id="692" name=""/>
            <p:cNvSpPr/>
            <p:nvPr/>
          </p:nvSpPr>
          <p:spPr>
            <a:xfrm>
              <a:off x="636480" y="671400"/>
              <a:ext cx="114300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154160" y="1052640"/>
              <a:ext cx="108000" cy="304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19573200">
              <a:off x="941400" y="1356840"/>
              <a:ext cx="106200" cy="30492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rot="2026800">
              <a:off x="1367640" y="1356840"/>
              <a:ext cx="106560" cy="30492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22280" y="2119320"/>
              <a:ext cx="76320" cy="3808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22280" y="21956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1017000" y="2119320"/>
              <a:ext cx="75960" cy="38088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864360" y="219564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1968480" y="2014560"/>
              <a:ext cx="7632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2273400" y="2014560"/>
              <a:ext cx="7596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816200" y="1938240"/>
              <a:ext cx="685800" cy="7632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1892160" y="1708920"/>
              <a:ext cx="533520" cy="22860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1892160" y="1252440"/>
              <a:ext cx="533520" cy="457200"/>
            </a:xfrm>
            <a:custGeom>
              <a:avLst/>
              <a:gdLst>
                <a:gd name="textAreaLeft" fmla="*/ 117360 w 533520"/>
                <a:gd name="textAreaRight" fmla="*/ 416160 w 53352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2202000">
              <a:off x="4841640" y="1292400"/>
              <a:ext cx="401400" cy="16984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e2d9d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 rot="2202600">
              <a:off x="5389200" y="1360080"/>
              <a:ext cx="392040" cy="108000"/>
            </a:xfrm>
            <a:custGeom>
              <a:avLst/>
              <a:gdLst>
                <a:gd name="textAreaLeft" fmla="*/ 86040 w 392040"/>
                <a:gd name="textAreaRight" fmla="*/ 306000 w 392040"/>
                <a:gd name="textAreaTop" fmla="*/ 23760 h 108000"/>
                <a:gd name="textAreaBottom" fmla="*/ 842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2202000">
              <a:off x="4227120" y="2806200"/>
              <a:ext cx="519120" cy="171720"/>
            </a:xfrm>
            <a:prstGeom prst="rect">
              <a:avLst/>
            </a:prstGeom>
            <a:gradFill rotWithShape="0">
              <a:gsLst>
                <a:gs pos="0">
                  <a:srgbClr val="462f00"/>
                </a:gs>
                <a:gs pos="100000">
                  <a:srgbClr val="9966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2202000">
              <a:off x="4146120" y="2950920"/>
              <a:ext cx="519120" cy="997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2202000">
              <a:off x="4249800" y="3038040"/>
              <a:ext cx="223920" cy="558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2202000">
              <a:off x="4098600" y="3030480"/>
              <a:ext cx="127080" cy="622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2202000">
              <a:off x="3649680" y="3510000"/>
              <a:ext cx="165240" cy="8208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2202000">
              <a:off x="3263400" y="4198680"/>
              <a:ext cx="108000" cy="552240"/>
            </a:xfrm>
            <a:custGeom>
              <a:avLst/>
              <a:gdLst>
                <a:gd name="textAreaLeft" fmla="*/ 31320 w 108000"/>
                <a:gd name="textAreaRight" fmla="*/ 76680 w 108000"/>
                <a:gd name="textAreaTop" fmla="*/ 160920 h 552240"/>
                <a:gd name="textAreaBottom" fmla="*/ 391320 h 55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407" y="21600"/>
                  </a:lnTo>
                  <a:lnTo>
                    <a:pt x="8193" y="2160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2202000">
              <a:off x="5662440" y="974520"/>
              <a:ext cx="169920" cy="444240"/>
            </a:xfrm>
            <a:prstGeom prst="rect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23000" y="103968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81600" y="108936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745240" y="11444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716800" y="118260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81880" y="123012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651640" y="128124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614920" y="13190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92960" y="127188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30760" y="122256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62800" y="117972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691240" y="113688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764320" y="104004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729400" y="109080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2202000">
              <a:off x="4441320" y="2800080"/>
              <a:ext cx="84240" cy="17136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270680" y="276120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88320" y="2728800"/>
              <a:ext cx="158040" cy="11772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10280" y="2698920"/>
              <a:ext cx="158040" cy="11772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51600" y="278640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30960" y="29134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3280" y="288504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12240" y="2939040"/>
              <a:ext cx="156240" cy="11664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88120" y="2959920"/>
              <a:ext cx="167760" cy="12528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58320" y="1328760"/>
              <a:ext cx="107640" cy="30492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9573200">
              <a:off x="7945560" y="1633320"/>
              <a:ext cx="106200" cy="304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rot="2026800">
              <a:off x="8372520" y="1633320"/>
              <a:ext cx="106200" cy="304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326440" y="2395440"/>
              <a:ext cx="76320" cy="38124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26440" y="247176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8021520" y="2395440"/>
              <a:ext cx="76320" cy="38124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868520" y="2471760"/>
              <a:ext cx="228600" cy="22860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202000">
              <a:off x="4930560" y="2906640"/>
              <a:ext cx="401400" cy="1698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e2d9d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 rot="2202600">
              <a:off x="5478120" y="2974680"/>
              <a:ext cx="392040" cy="108000"/>
            </a:xfrm>
            <a:custGeom>
              <a:avLst/>
              <a:gdLst>
                <a:gd name="textAreaLeft" fmla="*/ 86040 w 392040"/>
                <a:gd name="textAreaRight" fmla="*/ 306000 w 392040"/>
                <a:gd name="textAreaTop" fmla="*/ 23760 h 108000"/>
                <a:gd name="textAreaBottom" fmla="*/ 8424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202000">
              <a:off x="4316040" y="4420800"/>
              <a:ext cx="519120" cy="171360"/>
            </a:xfrm>
            <a:prstGeom prst="rect">
              <a:avLst/>
            </a:prstGeom>
            <a:gradFill rotWithShape="0">
              <a:gsLst>
                <a:gs pos="0">
                  <a:srgbClr val="462f00"/>
                </a:gs>
                <a:gs pos="100000">
                  <a:srgbClr val="9966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2202000">
              <a:off x="4235400" y="4565520"/>
              <a:ext cx="519120" cy="10008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202000">
              <a:off x="4338720" y="4652640"/>
              <a:ext cx="223920" cy="554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202000">
              <a:off x="4187520" y="4645080"/>
              <a:ext cx="127080" cy="6220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202000">
              <a:off x="3738240" y="5124600"/>
              <a:ext cx="165240" cy="8204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202000">
              <a:off x="5751360" y="2588760"/>
              <a:ext cx="169920" cy="444600"/>
            </a:xfrm>
            <a:prstGeom prst="rect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911920" y="265428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70520" y="270360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34160" y="27590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05360" y="2796840"/>
              <a:ext cx="90720" cy="6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70440" y="2844360"/>
              <a:ext cx="90720" cy="6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40560" y="289584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703840" y="2933640"/>
              <a:ext cx="90360" cy="6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81880" y="288612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719680" y="283716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51720" y="279432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80160" y="2751480"/>
              <a:ext cx="88920" cy="6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53240" y="265464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18320" y="2705400"/>
              <a:ext cx="88560" cy="6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2202000">
              <a:off x="4530240" y="4414320"/>
              <a:ext cx="84240" cy="17172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9600" y="437544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77240" y="4343400"/>
              <a:ext cx="157680" cy="11736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399200" y="4313160"/>
              <a:ext cx="158040" cy="11772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340520" y="440100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19880" y="45280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42200" y="44992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600800" y="4553280"/>
              <a:ext cx="156600" cy="117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77040" y="4574520"/>
              <a:ext cx="167760" cy="12528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91360" y="4125960"/>
              <a:ext cx="1600200" cy="1066680"/>
            </a:xfrm>
            <a:prstGeom prst="wedgeRectCallout">
              <a:avLst>
                <a:gd name="adj1" fmla="val 42759"/>
                <a:gd name="adj2" fmla="val 126638"/>
              </a:avLst>
            </a:prstGeom>
            <a:gradFill rotWithShape="0">
              <a:gsLst>
                <a:gs pos="0">
                  <a:srgbClr val="66ffcc"/>
                </a:gs>
                <a:gs pos="100000">
                  <a:srgbClr val="2f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43640" y="4125960"/>
              <a:ext cx="1219320" cy="1066680"/>
            </a:xfrm>
            <a:prstGeom prst="flowChartPunchedTape">
              <a:avLst/>
            </a:prstGeom>
            <a:gradFill rotWithShape="0">
              <a:gsLst>
                <a:gs pos="0">
                  <a:srgbClr val="ff33cc"/>
                </a:gs>
                <a:gs pos="100000">
                  <a:srgbClr val="7517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595920" y="4278240"/>
              <a:ext cx="1067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  <a:ea typeface="方正舒体"/>
                </a:rPr>
                <a:t>y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056440" y="3470400"/>
              <a:ext cx="7632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361360" y="3470400"/>
              <a:ext cx="76320" cy="3808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904160" y="3851280"/>
              <a:ext cx="685800" cy="7632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0480" y="3927600"/>
              <a:ext cx="533160" cy="228600"/>
            </a:xfrm>
            <a:prstGeom prst="rect">
              <a:avLst/>
            </a:pr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980480" y="4156200"/>
              <a:ext cx="533160" cy="457200"/>
            </a:xfrm>
            <a:custGeom>
              <a:avLst/>
              <a:gdLst>
                <a:gd name="textAreaLeft" fmla="*/ 117000 w 533160"/>
                <a:gd name="textAreaRight" fmla="*/ 416160 w 53316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50000">
                  <a:srgbClr val="000000"/>
                </a:gs>
                <a:gs pos="100000">
                  <a:srgbClr val="b4b4b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4960" y="78912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必须插在烙铁架中  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50360" y="969480"/>
            <a:ext cx="3772800" cy="3846240"/>
            <a:chOff x="450360" y="969480"/>
            <a:chExt cx="3772800" cy="3846240"/>
          </a:xfrm>
        </p:grpSpPr>
        <p:sp>
          <p:nvSpPr>
            <p:cNvPr id="783" name=""/>
            <p:cNvSpPr/>
            <p:nvPr/>
          </p:nvSpPr>
          <p:spPr>
            <a:xfrm>
              <a:off x="2463480" y="2051640"/>
              <a:ext cx="1577880" cy="2017080"/>
            </a:xfrm>
            <a:prstGeom prst="irregularSeal2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221600">
              <a:off x="885960" y="1379520"/>
              <a:ext cx="2901240" cy="302580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98400" y="2253240"/>
              <a:ext cx="142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不能碰东西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290680" y="1940760"/>
            <a:ext cx="6226560" cy="4030920"/>
            <a:chOff x="2290680" y="1940760"/>
            <a:chExt cx="6226560" cy="4030920"/>
          </a:xfrm>
        </p:grpSpPr>
        <p:grpSp>
          <p:nvGrpSpPr>
            <p:cNvPr id="787" name=""/>
            <p:cNvGrpSpPr/>
            <p:nvPr/>
          </p:nvGrpSpPr>
          <p:grpSpPr>
            <a:xfrm>
              <a:off x="2332080" y="1940760"/>
              <a:ext cx="6185160" cy="3484080"/>
              <a:chOff x="2332080" y="1940760"/>
              <a:chExt cx="6185160" cy="348408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5114160" y="1940760"/>
                <a:ext cx="3403080" cy="3133080"/>
                <a:chOff x="5114160" y="1940760"/>
                <a:chExt cx="3403080" cy="3133080"/>
              </a:xfrm>
            </p:grpSpPr>
            <p:sp>
              <p:nvSpPr>
                <p:cNvPr id="789" name=""/>
                <p:cNvSpPr/>
                <p:nvPr/>
              </p:nvSpPr>
              <p:spPr>
                <a:xfrm rot="19597800">
                  <a:off x="5459760" y="2738880"/>
                  <a:ext cx="2147040" cy="190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flipV="1" rot="19597800">
                  <a:off x="7337160" y="2024280"/>
                  <a:ext cx="796320" cy="163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2332080" y="2824920"/>
                <a:ext cx="3733560" cy="2599920"/>
                <a:chOff x="2332080" y="2824920"/>
                <a:chExt cx="3733560" cy="2599920"/>
              </a:xfrm>
            </p:grpSpPr>
            <p:sp>
              <p:nvSpPr>
                <p:cNvPr id="792" name=""/>
                <p:cNvSpPr/>
                <p:nvPr/>
              </p:nvSpPr>
              <p:spPr>
                <a:xfrm rot="3354600">
                  <a:off x="4701600" y="2829600"/>
                  <a:ext cx="393480" cy="164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V="1" rot="3354000">
                  <a:off x="5431320" y="3107880"/>
                  <a:ext cx="384480" cy="104040"/>
                </a:xfrm>
                <a:custGeom>
                  <a:avLst/>
                  <a:gdLst>
                    <a:gd name="textAreaLeft" fmla="*/ 84600 w 384480"/>
                    <a:gd name="textAreaRight" fmla="*/ 299880 w 384480"/>
                    <a:gd name="textAreaTop" fmla="*/ 22680 h 104040"/>
                    <a:gd name="textAreaBottom" fmla="*/ 81360 h 104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3354600">
                  <a:off x="3897720" y="4075200"/>
                  <a:ext cx="50904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rot="3354600">
                  <a:off x="3790080" y="4185000"/>
                  <a:ext cx="509040" cy="964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rot="3354600">
                  <a:off x="3874680" y="4251600"/>
                  <a:ext cx="219600" cy="532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3354600">
                  <a:off x="3651120" y="4165560"/>
                  <a:ext cx="124560" cy="6001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rot="3354600">
                  <a:off x="3055680" y="4460040"/>
                  <a:ext cx="162720" cy="79344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rot="3354600">
                  <a:off x="2529720" y="4964040"/>
                  <a:ext cx="106200" cy="533880"/>
                </a:xfrm>
                <a:custGeom>
                  <a:avLst/>
                  <a:gdLst>
                    <a:gd name="textAreaLeft" fmla="*/ 30960 w 106200"/>
                    <a:gd name="textAreaRight" fmla="*/ 75240 w 106200"/>
                    <a:gd name="textAreaTop" fmla="*/ 155520 h 533880"/>
                    <a:gd name="textAreaBottom" fmla="*/ 37836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3354600">
                  <a:off x="5757480" y="2799360"/>
                  <a:ext cx="166680" cy="42948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959800" y="28929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905080" y="29253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54320" y="296424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816520" y="298980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767920" y="30225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724720" y="305856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679720" y="308232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5675400" y="303012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724720" y="299916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766480" y="297072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806800" y="2939040"/>
                  <a:ext cx="6120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903640" y="2873520"/>
                  <a:ext cx="61560" cy="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857200" y="2909160"/>
                  <a:ext cx="61560" cy="9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rot="3354600">
                  <a:off x="4109400" y="4069080"/>
                  <a:ext cx="8208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993480" y="3967200"/>
                  <a:ext cx="10800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020840" y="3944160"/>
                  <a:ext cx="107640" cy="1594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4050360" y="3924360"/>
                  <a:ext cx="10764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968280" y="3984120"/>
                  <a:ext cx="107640" cy="1594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186080" y="4192920"/>
                  <a:ext cx="10764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4215600" y="4172760"/>
                  <a:ext cx="107640" cy="1594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160880" y="4209840"/>
                  <a:ext cx="108000" cy="159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132800" y="4222440"/>
                  <a:ext cx="114480" cy="1695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"/>
            <p:cNvGrpSpPr/>
            <p:nvPr/>
          </p:nvGrpSpPr>
          <p:grpSpPr>
            <a:xfrm>
              <a:off x="2290680" y="4516920"/>
              <a:ext cx="1974960" cy="1454760"/>
              <a:chOff x="2290680" y="4516920"/>
              <a:chExt cx="1974960" cy="145476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2629080" y="4518000"/>
                <a:ext cx="873000" cy="753480"/>
                <a:chOff x="2629080" y="4518000"/>
                <a:chExt cx="873000" cy="753480"/>
              </a:xfrm>
            </p:grpSpPr>
            <p:sp>
              <p:nvSpPr>
                <p:cNvPr id="825" name=""/>
                <p:cNvSpPr/>
                <p:nvPr/>
              </p:nvSpPr>
              <p:spPr>
                <a:xfrm flipH="1" flipV="1" rot="14152200">
                  <a:off x="2684160" y="4966560"/>
                  <a:ext cx="337320" cy="195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 flipV="1" rot="14154600">
                  <a:off x="2721960" y="4881960"/>
                  <a:ext cx="42444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 flipV="1" rot="14171400">
                  <a:off x="2790360" y="4815000"/>
                  <a:ext cx="459360" cy="266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H="1" flipV="1" rot="14164800">
                  <a:off x="2859120" y="4737960"/>
                  <a:ext cx="515160" cy="30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 flipV="1" rot="14164800">
                  <a:off x="2973600" y="4663800"/>
                  <a:ext cx="515160" cy="30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 flipV="1" rot="14152200">
                  <a:off x="2636280" y="5023440"/>
                  <a:ext cx="281880" cy="16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" name=""/>
              <p:cNvSpPr/>
              <p:nvPr/>
            </p:nvSpPr>
            <p:spPr>
              <a:xfrm>
                <a:off x="2290680" y="5787720"/>
                <a:ext cx="1974960" cy="183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2860560" y="5230440"/>
                <a:ext cx="0" cy="59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155760" y="5662440"/>
                <a:ext cx="1009800" cy="8856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4" name=""/>
              <p:cNvGrpSpPr/>
              <p:nvPr/>
            </p:nvGrpSpPr>
            <p:grpSpPr>
              <a:xfrm>
                <a:off x="2629080" y="4516920"/>
                <a:ext cx="880200" cy="760320"/>
                <a:chOff x="2629080" y="4516920"/>
                <a:chExt cx="880200" cy="760320"/>
              </a:xfrm>
            </p:grpSpPr>
            <p:sp>
              <p:nvSpPr>
                <p:cNvPr id="835" name=""/>
                <p:cNvSpPr/>
                <p:nvPr/>
              </p:nvSpPr>
              <p:spPr>
                <a:xfrm flipH="1" rot="14143200">
                  <a:off x="2680200" y="4968000"/>
                  <a:ext cx="335880" cy="1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 rot="14140800">
                  <a:off x="2717640" y="4883040"/>
                  <a:ext cx="423360" cy="25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 rot="14124000">
                  <a:off x="2786400" y="4813200"/>
                  <a:ext cx="459720" cy="268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 rot="14130600">
                  <a:off x="2855880" y="4735440"/>
                  <a:ext cx="516960" cy="30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 rot="14130600">
                  <a:off x="2980440" y="4662720"/>
                  <a:ext cx="51480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 rot="14143200">
                  <a:off x="2636640" y="5029200"/>
                  <a:ext cx="281880" cy="168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15960" y="1230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必须插在烙铁架中 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503360" y="2247840"/>
            <a:ext cx="6791040" cy="2639520"/>
            <a:chOff x="1503360" y="2247840"/>
            <a:chExt cx="6791040" cy="2639520"/>
          </a:xfrm>
        </p:grpSpPr>
        <p:grpSp>
          <p:nvGrpSpPr>
            <p:cNvPr id="843" name=""/>
            <p:cNvGrpSpPr/>
            <p:nvPr/>
          </p:nvGrpSpPr>
          <p:grpSpPr>
            <a:xfrm>
              <a:off x="1503360" y="3235320"/>
              <a:ext cx="5333760" cy="1652040"/>
              <a:chOff x="1503360" y="3235320"/>
              <a:chExt cx="5333760" cy="1652040"/>
            </a:xfrm>
          </p:grpSpPr>
          <p:grpSp>
            <p:nvGrpSpPr>
              <p:cNvPr id="844" name=""/>
              <p:cNvGrpSpPr/>
              <p:nvPr/>
            </p:nvGrpSpPr>
            <p:grpSpPr>
              <a:xfrm>
                <a:off x="1503360" y="3235320"/>
                <a:ext cx="5333760" cy="1652040"/>
                <a:chOff x="1503360" y="3235320"/>
                <a:chExt cx="5333760" cy="165204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1503360" y="4146480"/>
                  <a:ext cx="5333760" cy="740880"/>
                </a:xfrm>
                <a:prstGeom prst="cube">
                  <a:avLst>
                    <a:gd name="adj" fmla="val 72916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1906560" y="3235320"/>
                  <a:ext cx="584280" cy="1412640"/>
                </a:xfrm>
                <a:custGeom>
                  <a:avLst/>
                  <a:gdLst/>
                  <a:ahLst/>
                  <a:rect l="l" t="t" r="r" b="b"/>
                  <a:pathLst>
                    <a:path w="368" h="890">
                      <a:moveTo>
                        <a:pt x="0" y="890"/>
                      </a:moveTo>
                      <a:lnTo>
                        <a:pt x="1" y="336"/>
                      </a:lnTo>
                      <a:cubicBezTo>
                        <a:pt x="98" y="360"/>
                        <a:pt x="142" y="344"/>
                        <a:pt x="207" y="336"/>
                      </a:cubicBezTo>
                      <a:cubicBezTo>
                        <a:pt x="272" y="328"/>
                        <a:pt x="324" y="68"/>
                        <a:pt x="368" y="0"/>
                      </a:cubicBezTo>
                      <a:lnTo>
                        <a:pt x="368" y="625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2265120" y="4178160"/>
                <a:ext cx="1371600" cy="456840"/>
              </a:xfrm>
              <a:prstGeom prst="cube">
                <a:avLst>
                  <a:gd name="adj" fmla="val 82986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1826280" y="2247840"/>
              <a:ext cx="6468120" cy="2244600"/>
              <a:chOff x="1826280" y="2247840"/>
              <a:chExt cx="6468120" cy="2244600"/>
            </a:xfrm>
          </p:grpSpPr>
          <p:grpSp>
            <p:nvGrpSpPr>
              <p:cNvPr id="849" name=""/>
              <p:cNvGrpSpPr/>
              <p:nvPr/>
            </p:nvGrpSpPr>
            <p:grpSpPr>
              <a:xfrm>
                <a:off x="5123160" y="2247840"/>
                <a:ext cx="3171240" cy="2244600"/>
                <a:chOff x="5123160" y="2247840"/>
                <a:chExt cx="3171240" cy="2244600"/>
              </a:xfrm>
            </p:grpSpPr>
            <p:sp>
              <p:nvSpPr>
                <p:cNvPr id="850" name=""/>
                <p:cNvSpPr/>
                <p:nvPr/>
              </p:nvSpPr>
              <p:spPr>
                <a:xfrm flipV="1" rot="529800">
                  <a:off x="5256000" y="2400840"/>
                  <a:ext cx="2147040" cy="190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 rot="529800">
                  <a:off x="7376760" y="2808000"/>
                  <a:ext cx="796320" cy="1632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1826280" y="3576600"/>
                <a:ext cx="4392720" cy="844920"/>
                <a:chOff x="1826280" y="3576600"/>
                <a:chExt cx="4392720" cy="844920"/>
              </a:xfrm>
            </p:grpSpPr>
            <p:sp>
              <p:nvSpPr>
                <p:cNvPr id="853" name=""/>
                <p:cNvSpPr/>
                <p:nvPr/>
              </p:nvSpPr>
              <p:spPr>
                <a:xfrm rot="5929800">
                  <a:off x="4673880" y="3268440"/>
                  <a:ext cx="393840" cy="164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V="1" rot="5929200">
                  <a:off x="5543280" y="4170960"/>
                  <a:ext cx="384480" cy="104040"/>
                </a:xfrm>
                <a:custGeom>
                  <a:avLst/>
                  <a:gdLst>
                    <a:gd name="textAreaLeft" fmla="*/ 84600 w 384480"/>
                    <a:gd name="textAreaRight" fmla="*/ 299880 w 384480"/>
                    <a:gd name="textAreaTop" fmla="*/ 22680 h 104040"/>
                    <a:gd name="textAreaBottom" fmla="*/ 81360 h 104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rot="5929800">
                  <a:off x="3723840" y="3870360"/>
                  <a:ext cx="50940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rot="5929800">
                  <a:off x="3593520" y="3886560"/>
                  <a:ext cx="509400" cy="964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rot="5929800">
                  <a:off x="3663720" y="3900240"/>
                  <a:ext cx="219960" cy="532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rot="5929800">
                  <a:off x="3385080" y="3579480"/>
                  <a:ext cx="124560" cy="6001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rot="5929800">
                  <a:off x="2677320" y="3377160"/>
                  <a:ext cx="163080" cy="79344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rot="5929800">
                  <a:off x="2045160" y="3403080"/>
                  <a:ext cx="106200" cy="533880"/>
                </a:xfrm>
                <a:custGeom>
                  <a:avLst/>
                  <a:gdLst>
                    <a:gd name="textAreaLeft" fmla="*/ 30960 w 106200"/>
                    <a:gd name="textAreaRight" fmla="*/ 75240 w 106200"/>
                    <a:gd name="textAreaTop" fmla="*/ 155520 h 533880"/>
                    <a:gd name="textAreaBottom" fmla="*/ 378360 h 533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rot="5929800">
                  <a:off x="5910480" y="4050360"/>
                  <a:ext cx="166680" cy="42948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>
                  <a:off x="6146640" y="425736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>
                  <a:off x="6084720" y="424404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>
                  <a:off x="6021000" y="423792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>
                  <a:off x="5976000" y="423108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5918040" y="422208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>
                  <a:off x="5861880" y="421884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>
                  <a:off x="5812560" y="420552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>
                  <a:off x="5844960" y="416412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>
                  <a:off x="5902200" y="417492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>
                  <a:off x="5952600" y="4182480"/>
                  <a:ext cx="1692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>
                  <a:off x="6003360" y="4186800"/>
                  <a:ext cx="1656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>
                  <a:off x="6119280" y="420480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>
                  <a:off x="6060600" y="4199400"/>
                  <a:ext cx="16920" cy="108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5929800">
                  <a:off x="3940200" y="3864240"/>
                  <a:ext cx="82440" cy="165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>
                  <a:off x="3962880" y="370476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>
                  <a:off x="3998520" y="3706920"/>
                  <a:ext cx="29520" cy="18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4033440" y="371232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>
                  <a:off x="3932640" y="370008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>
                  <a:off x="3949920" y="400140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>
                  <a:off x="3985200" y="4006800"/>
                  <a:ext cx="29520" cy="19044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>
                  <a:off x="3920040" y="3996720"/>
                  <a:ext cx="29520" cy="19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>
                  <a:off x="3888720" y="3986640"/>
                  <a:ext cx="31680" cy="2026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25400" y="56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请给烙铁架海棉加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600280" y="3940200"/>
            <a:ext cx="3587760" cy="846000"/>
          </a:xfrm>
          <a:custGeom>
            <a:avLst/>
            <a:gdLst/>
            <a:ahLst/>
            <a:rect l="l" t="t" r="r" b="b"/>
            <a:pathLst>
              <a:path w="2260" h="533">
                <a:moveTo>
                  <a:pt x="0" y="533"/>
                </a:moveTo>
                <a:cubicBezTo>
                  <a:pt x="121" y="456"/>
                  <a:pt x="521" y="138"/>
                  <a:pt x="733" y="69"/>
                </a:cubicBezTo>
                <a:cubicBezTo>
                  <a:pt x="945" y="0"/>
                  <a:pt x="1018" y="62"/>
                  <a:pt x="1272" y="121"/>
                </a:cubicBezTo>
                <a:cubicBezTo>
                  <a:pt x="1526" y="180"/>
                  <a:pt x="2054" y="359"/>
                  <a:pt x="2260" y="421"/>
                </a:cubicBezTo>
              </a:path>
            </a:pathLst>
          </a:custGeom>
          <a:noFill/>
          <a:ln w="57240">
            <a:solidFill>
              <a:srgbClr val="3333cc"/>
            </a:solidFill>
            <a:prstDash val="lg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60680" y="1570680"/>
            <a:ext cx="7600680" cy="4782240"/>
            <a:chOff x="760680" y="1570680"/>
            <a:chExt cx="7600680" cy="4782240"/>
          </a:xfrm>
        </p:grpSpPr>
        <p:grpSp>
          <p:nvGrpSpPr>
            <p:cNvPr id="887" name=""/>
            <p:cNvGrpSpPr/>
            <p:nvPr/>
          </p:nvGrpSpPr>
          <p:grpSpPr>
            <a:xfrm>
              <a:off x="5594400" y="4834080"/>
              <a:ext cx="2766960" cy="1518840"/>
              <a:chOff x="5594400" y="4834080"/>
              <a:chExt cx="2766960" cy="1518840"/>
            </a:xfrm>
          </p:grpSpPr>
          <p:sp>
            <p:nvSpPr>
              <p:cNvPr id="888" name=""/>
              <p:cNvSpPr/>
              <p:nvPr/>
            </p:nvSpPr>
            <p:spPr>
              <a:xfrm>
                <a:off x="5788800" y="4843080"/>
                <a:ext cx="2384640" cy="1509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594400" y="4834080"/>
                <a:ext cx="2766960" cy="117252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 rot="16200000">
                <a:off x="6480000" y="4571640"/>
                <a:ext cx="970200" cy="215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188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18823"/>
                  </a:path>
                </a:pathLst>
              </a:custGeom>
              <a:noFill/>
              <a:ln cap="rnd" w="76320">
                <a:solidFill>
                  <a:srgbClr val="00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6391440" y="4145040"/>
              <a:ext cx="1187280" cy="1247760"/>
            </a:xfrm>
            <a:prstGeom prst="rect">
              <a:avLst/>
            </a:prstGeom>
            <a:solidFill>
              <a:srgbClr val="ffffcc"/>
            </a:solidFill>
            <a:ln cap="rnd" w="76320">
              <a:solidFill>
                <a:srgbClr val="9966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718320" y="2462040"/>
              <a:ext cx="685800" cy="1295640"/>
            </a:xfrm>
            <a:custGeom>
              <a:avLst/>
              <a:gdLst>
                <a:gd name="textAreaLeft" fmla="*/ 160920 w 685800"/>
                <a:gd name="textAreaRight" fmla="*/ 524160 w 685800"/>
                <a:gd name="textAreaTop" fmla="*/ 152280 h 1295640"/>
                <a:gd name="textAreaBottom" fmla="*/ 812880 h 12956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1ffff"/>
                </a:gs>
              </a:gsLst>
              <a:path path="rect">
                <a:fillToRect l="50000" t="50000" r="50000" b="50000"/>
              </a:path>
            </a:gradFill>
            <a:ln cap="rnd" w="3816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水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760680" y="1570680"/>
              <a:ext cx="6185160" cy="3717360"/>
              <a:chOff x="760680" y="1570680"/>
              <a:chExt cx="6185160" cy="3717360"/>
            </a:xfrm>
          </p:grpSpPr>
          <p:grpSp>
            <p:nvGrpSpPr>
              <p:cNvPr id="894" name=""/>
              <p:cNvGrpSpPr/>
              <p:nvPr/>
            </p:nvGrpSpPr>
            <p:grpSpPr>
              <a:xfrm>
                <a:off x="1499760" y="3833640"/>
                <a:ext cx="873720" cy="754200"/>
                <a:chOff x="1499760" y="3833640"/>
                <a:chExt cx="873720" cy="754200"/>
              </a:xfrm>
            </p:grpSpPr>
            <p:sp>
              <p:nvSpPr>
                <p:cNvPr id="895" name=""/>
                <p:cNvSpPr/>
                <p:nvPr/>
              </p:nvSpPr>
              <p:spPr>
                <a:xfrm flipH="1" flipV="1" rot="14152200">
                  <a:off x="1555200" y="4282200"/>
                  <a:ext cx="337320" cy="1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 flipV="1" rot="14154600">
                  <a:off x="1593000" y="4198680"/>
                  <a:ext cx="4248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flipV="1" rot="14171400">
                  <a:off x="1662480" y="4130640"/>
                  <a:ext cx="459720" cy="266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 flipV="1" rot="14164800">
                  <a:off x="1731240" y="4054680"/>
                  <a:ext cx="5155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 flipV="1" rot="14164800">
                  <a:off x="1845720" y="3980160"/>
                  <a:ext cx="5155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 flipV="1" rot="14152200">
                  <a:off x="1506600" y="4340160"/>
                  <a:ext cx="282240" cy="16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760680" y="1570680"/>
                <a:ext cx="6185160" cy="3484440"/>
                <a:chOff x="760680" y="1570680"/>
                <a:chExt cx="6185160" cy="3484440"/>
              </a:xfrm>
            </p:grpSpPr>
            <p:grpSp>
              <p:nvGrpSpPr>
                <p:cNvPr id="902" name=""/>
                <p:cNvGrpSpPr/>
                <p:nvPr/>
              </p:nvGrpSpPr>
              <p:grpSpPr>
                <a:xfrm>
                  <a:off x="3542760" y="1570680"/>
                  <a:ext cx="3403080" cy="3133080"/>
                  <a:chOff x="3542760" y="1570680"/>
                  <a:chExt cx="3403080" cy="313308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 rot="19597800">
                    <a:off x="3888360" y="2368800"/>
                    <a:ext cx="2147040" cy="190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76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H="1" flipV="1" rot="19597800">
                    <a:off x="5765760" y="1654200"/>
                    <a:ext cx="796320" cy="163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7632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5" name=""/>
                <p:cNvGrpSpPr/>
                <p:nvPr/>
              </p:nvGrpSpPr>
              <p:grpSpPr>
                <a:xfrm>
                  <a:off x="760680" y="2454840"/>
                  <a:ext cx="3733560" cy="2600280"/>
                  <a:chOff x="760680" y="2454840"/>
                  <a:chExt cx="3733560" cy="2600280"/>
                </a:xfrm>
              </p:grpSpPr>
              <p:sp>
                <p:nvSpPr>
                  <p:cNvPr id="906" name=""/>
                  <p:cNvSpPr/>
                  <p:nvPr/>
                </p:nvSpPr>
                <p:spPr>
                  <a:xfrm rot="3354600">
                    <a:off x="3130200" y="2459520"/>
                    <a:ext cx="393480" cy="1640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63300"/>
                      </a:gs>
                      <a:gs pos="100000">
                        <a:srgbClr val="e2d9d0"/>
                      </a:gs>
                    </a:gsLst>
                    <a:lin ang="1350000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V="1" rot="3354000">
                    <a:off x="3860280" y="2737800"/>
                    <a:ext cx="384480" cy="104040"/>
                  </a:xfrm>
                  <a:custGeom>
                    <a:avLst/>
                    <a:gdLst>
                      <a:gd name="textAreaLeft" fmla="*/ 84600 w 384480"/>
                      <a:gd name="textAreaRight" fmla="*/ 299880 w 384480"/>
                      <a:gd name="textAreaTop" fmla="*/ 22680 h 104040"/>
                      <a:gd name="textAreaBottom" fmla="*/ 81360 h 1040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rot="3354600">
                    <a:off x="2326320" y="3705480"/>
                    <a:ext cx="509040" cy="165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62f00"/>
                      </a:gs>
                      <a:gs pos="100000">
                        <a:srgbClr val="996600"/>
                      </a:gs>
                    </a:gsLst>
                    <a:lin ang="1350000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rot="3354600">
                    <a:off x="2219040" y="3814920"/>
                    <a:ext cx="509040" cy="9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rot="3354600">
                    <a:off x="2303280" y="3881880"/>
                    <a:ext cx="219600" cy="53280"/>
                  </a:xfrm>
                  <a:prstGeom prst="rect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rot="3354600">
                    <a:off x="2080440" y="3795480"/>
                    <a:ext cx="124560" cy="60012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rot="3354600">
                    <a:off x="1484280" y="4090320"/>
                    <a:ext cx="162720" cy="793440"/>
                  </a:xfrm>
                  <a:prstGeom prst="rect">
                    <a:avLst/>
                  </a:pr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rot="3354600">
                    <a:off x="958320" y="4594320"/>
                    <a:ext cx="106200" cy="533880"/>
                  </a:xfrm>
                  <a:custGeom>
                    <a:avLst/>
                    <a:gdLst>
                      <a:gd name="textAreaLeft" fmla="*/ 30960 w 106200"/>
                      <a:gd name="textAreaRight" fmla="*/ 75240 w 106200"/>
                      <a:gd name="textAreaTop" fmla="*/ 155520 h 533880"/>
                      <a:gd name="textAreaBottom" fmla="*/ 378360 h 533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3407" y="21600"/>
                        </a:lnTo>
                        <a:lnTo>
                          <a:pt x="8193" y="2160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rot="3354600">
                    <a:off x="4186080" y="2429280"/>
                    <a:ext cx="166680" cy="429480"/>
                  </a:xfrm>
                  <a:prstGeom prst="rect">
                    <a:avLst/>
                  </a:prstGeom>
                  <a:solidFill>
                    <a:srgbClr val="96969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4388400" y="252288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4334040" y="255564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283280" y="259416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245480" y="261972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196880" y="265284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4153680" y="268848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4108680" y="271260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4104000" y="266040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4153320" y="262908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4195440" y="260064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4235400" y="256932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332600" y="2503440"/>
                    <a:ext cx="61560" cy="91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4286160" y="2539440"/>
                    <a:ext cx="61560" cy="90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rot="3354600">
                    <a:off x="2538000" y="3699000"/>
                    <a:ext cx="82080" cy="165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e4600"/>
                      </a:gs>
                      <a:gs pos="100000">
                        <a:srgbClr val="cc9900"/>
                      </a:gs>
                    </a:gsLst>
                    <a:lin ang="13500000"/>
                  </a:gra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2422080" y="3597480"/>
                    <a:ext cx="10800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2449800" y="3574440"/>
                    <a:ext cx="10764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479320" y="3554280"/>
                    <a:ext cx="107640" cy="15948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2396880" y="3614400"/>
                    <a:ext cx="107640" cy="15948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2615040" y="3822840"/>
                    <a:ext cx="107640" cy="15948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2644560" y="3803040"/>
                    <a:ext cx="10764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2589480" y="3840120"/>
                    <a:ext cx="108000" cy="15912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2561400" y="3852720"/>
                    <a:ext cx="114840" cy="169560"/>
                  </a:xfrm>
                  <a:prstGeom prst="line">
                    <a:avLst/>
                  </a:prstGeom>
                  <a:ln w="19080">
                    <a:solidFill>
                      <a:srgbClr val="99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37" name=""/>
              <p:cNvSpPr/>
              <p:nvPr/>
            </p:nvSpPr>
            <p:spPr>
              <a:xfrm>
                <a:off x="1162080" y="5103720"/>
                <a:ext cx="197496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1731960" y="4546080"/>
                <a:ext cx="0" cy="598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027160" y="4978440"/>
                <a:ext cx="1009800" cy="8892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0" name=""/>
              <p:cNvGrpSpPr/>
              <p:nvPr/>
            </p:nvGrpSpPr>
            <p:grpSpPr>
              <a:xfrm>
                <a:off x="1500480" y="3831840"/>
                <a:ext cx="879480" cy="761400"/>
                <a:chOff x="1500480" y="3831840"/>
                <a:chExt cx="879480" cy="761400"/>
              </a:xfrm>
            </p:grpSpPr>
            <p:sp>
              <p:nvSpPr>
                <p:cNvPr id="941" name=""/>
                <p:cNvSpPr/>
                <p:nvPr/>
              </p:nvSpPr>
              <p:spPr>
                <a:xfrm flipH="1" rot="14143200">
                  <a:off x="1551600" y="4283640"/>
                  <a:ext cx="336240" cy="1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 rot="14140800">
                  <a:off x="1589400" y="4200120"/>
                  <a:ext cx="423720" cy="250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 rot="14124000">
                  <a:off x="1656720" y="4129200"/>
                  <a:ext cx="460080" cy="268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 rot="14130600">
                  <a:off x="1726560" y="4052880"/>
                  <a:ext cx="517320" cy="303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 rot="14130600">
                  <a:off x="1850040" y="3978000"/>
                  <a:ext cx="515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 rot="14143200">
                  <a:off x="1507680" y="4345200"/>
                  <a:ext cx="282240" cy="167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99"/>
                      </a:moveTo>
                      <a:arcTo wR="10800" hR="10800" stAng="-10799826" swAng="10799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99"/>
                      </a:moveTo>
                      <a:arcTo wR="10800" hR="10800" stAng="-10799826" swAng="10799826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-804240" y="2012760"/>
            <a:ext cx="6404400" cy="4935240"/>
            <a:chOff x="-804240" y="2012760"/>
            <a:chExt cx="6404400" cy="4935240"/>
          </a:xfrm>
        </p:grpSpPr>
        <p:sp>
          <p:nvSpPr>
            <p:cNvPr id="948" name=""/>
            <p:cNvSpPr/>
            <p:nvPr/>
          </p:nvSpPr>
          <p:spPr>
            <a:xfrm rot="21013800">
              <a:off x="-471240" y="2338560"/>
              <a:ext cx="4208400" cy="428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flipV="1" rot="21013800">
              <a:off x="3737880" y="2343960"/>
              <a:ext cx="1560960" cy="367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4414320" y="1445400"/>
            <a:ext cx="2518200" cy="2403720"/>
            <a:chOff x="4414320" y="1445400"/>
            <a:chExt cx="2518200" cy="2403720"/>
          </a:xfrm>
        </p:grpSpPr>
        <p:grpSp>
          <p:nvGrpSpPr>
            <p:cNvPr id="951" name=""/>
            <p:cNvGrpSpPr/>
            <p:nvPr/>
          </p:nvGrpSpPr>
          <p:grpSpPr>
            <a:xfrm>
              <a:off x="5405400" y="1445400"/>
              <a:ext cx="1527120" cy="1660320"/>
              <a:chOff x="5405400" y="1445400"/>
              <a:chExt cx="1527120" cy="1660320"/>
            </a:xfrm>
          </p:grpSpPr>
          <p:sp>
            <p:nvSpPr>
              <p:cNvPr id="952" name=""/>
              <p:cNvSpPr/>
              <p:nvPr/>
            </p:nvSpPr>
            <p:spPr>
              <a:xfrm rot="18445200">
                <a:off x="5575320" y="1945800"/>
                <a:ext cx="1026720" cy="93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 flipV="1" rot="18445200">
                <a:off x="6307200" y="1438200"/>
                <a:ext cx="380880" cy="80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4414320" y="2109960"/>
              <a:ext cx="1314000" cy="1739160"/>
              <a:chOff x="4414320" y="2109960"/>
              <a:chExt cx="1314000" cy="1739160"/>
            </a:xfrm>
          </p:grpSpPr>
          <p:sp>
            <p:nvSpPr>
              <p:cNvPr id="955" name=""/>
              <p:cNvSpPr/>
              <p:nvPr/>
            </p:nvSpPr>
            <p:spPr>
              <a:xfrm rot="2202000">
                <a:off x="5211720" y="2260080"/>
                <a:ext cx="193680" cy="78480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 rot="2201400">
                <a:off x="5464440" y="2292120"/>
                <a:ext cx="189000" cy="49680"/>
              </a:xfrm>
              <a:custGeom>
                <a:avLst/>
                <a:gdLst>
                  <a:gd name="textAreaLeft" fmla="*/ 41400 w 189000"/>
                  <a:gd name="textAreaRight" fmla="*/ 147600 w 189000"/>
                  <a:gd name="textAreaTop" fmla="*/ 10800 h 49680"/>
                  <a:gd name="textAreaBottom" fmla="*/ 38880 h 4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202000">
                <a:off x="4926240" y="2960280"/>
                <a:ext cx="250560" cy="7884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202000">
                <a:off x="4889160" y="3027240"/>
                <a:ext cx="250560" cy="4608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2202000">
                <a:off x="4941000" y="3067200"/>
                <a:ext cx="108000" cy="255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2202000">
                <a:off x="4871520" y="3063600"/>
                <a:ext cx="61200" cy="2869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2202000">
                <a:off x="4663440" y="3285000"/>
                <a:ext cx="79920" cy="3794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2202000">
                <a:off x="4485240" y="3603600"/>
                <a:ext cx="52200" cy="255240"/>
              </a:xfrm>
              <a:custGeom>
                <a:avLst/>
                <a:gdLst>
                  <a:gd name="textAreaLeft" fmla="*/ 15120 w 52200"/>
                  <a:gd name="textAreaRight" fmla="*/ 37080 w 52200"/>
                  <a:gd name="textAreaTop" fmla="*/ 74520 h 255240"/>
                  <a:gd name="textAreaBottom" fmla="*/ 180720 h 25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2202000">
                <a:off x="5592960" y="2113920"/>
                <a:ext cx="81720" cy="20556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668560" y="2143080"/>
                <a:ext cx="4356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649120" y="216648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632200" y="2192040"/>
                <a:ext cx="4356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619240" y="220968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602680" y="223200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588640" y="2255040"/>
                <a:ext cx="4356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572080" y="227268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561280" y="224928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578560" y="2228040"/>
                <a:ext cx="4320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593320" y="220824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606280" y="2187720"/>
                <a:ext cx="4356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639760" y="2142720"/>
                <a:ext cx="4320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624280" y="2166480"/>
                <a:ext cx="43560" cy="32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2202000">
                <a:off x="5029560" y="2957040"/>
                <a:ext cx="40320" cy="7884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947120" y="2936520"/>
                <a:ext cx="75600" cy="56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955760" y="2921760"/>
                <a:ext cx="75960" cy="56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966200" y="2907720"/>
                <a:ext cx="7560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938480" y="2948040"/>
                <a:ext cx="7560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073120" y="3010320"/>
                <a:ext cx="7596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083200" y="2996640"/>
                <a:ext cx="75960" cy="5688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064120" y="3022200"/>
                <a:ext cx="75960" cy="56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053320" y="3031920"/>
                <a:ext cx="80640" cy="6048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6" name=""/>
          <p:cNvSpPr/>
          <p:nvPr/>
        </p:nvSpPr>
        <p:spPr>
          <a:xfrm>
            <a:off x="609480" y="2479680"/>
            <a:ext cx="1981440" cy="914400"/>
          </a:xfrm>
          <a:prstGeom prst="wedgeEllipseCallout">
            <a:avLst>
              <a:gd name="adj1" fmla="val 84134"/>
              <a:gd name="adj2" fmla="val 3385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15800" y="3595680"/>
            <a:ext cx="2590920" cy="2666880"/>
          </a:xfrm>
          <a:prstGeom prst="wedgeRoundRectCallout">
            <a:avLst>
              <a:gd name="adj1" fmla="val 117708"/>
              <a:gd name="adj2" fmla="val 46486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电烙铁加热的进程中要及时给裸铜面搪锡否则会不好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7960" y="587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头的保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120080" y="5326200"/>
            <a:ext cx="272880" cy="536400"/>
          </a:xfrm>
          <a:prstGeom prst="ellipse">
            <a:avLst/>
          </a:prstGeom>
          <a:solidFill>
            <a:srgbClr val="ff9900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121520" y="5326200"/>
            <a:ext cx="272880" cy="5364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4876920" y="1074960"/>
            <a:ext cx="3895920" cy="5256000"/>
            <a:chOff x="4876920" y="1074960"/>
            <a:chExt cx="3895920" cy="5256000"/>
          </a:xfrm>
        </p:grpSpPr>
        <p:sp>
          <p:nvSpPr>
            <p:cNvPr id="992" name=""/>
            <p:cNvSpPr/>
            <p:nvPr/>
          </p:nvSpPr>
          <p:spPr>
            <a:xfrm>
              <a:off x="4876920" y="3824280"/>
              <a:ext cx="1828800" cy="2506680"/>
            </a:xfrm>
            <a:custGeom>
              <a:avLst/>
              <a:gdLst/>
              <a:ahLst/>
              <a:rect l="l" t="t" r="r" b="b"/>
              <a:pathLst>
                <a:path w="1152" h="1579">
                  <a:moveTo>
                    <a:pt x="750" y="0"/>
                  </a:moveTo>
                  <a:lnTo>
                    <a:pt x="0" y="1262"/>
                  </a:lnTo>
                  <a:lnTo>
                    <a:pt x="0" y="1579"/>
                  </a:lnTo>
                  <a:lnTo>
                    <a:pt x="1152" y="30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2202000">
              <a:off x="6883200" y="1031400"/>
              <a:ext cx="976320" cy="33800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烙铁头上多余锡的处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028960" y="4273200"/>
            <a:ext cx="1973880" cy="1649160"/>
            <a:chOff x="2028960" y="4273200"/>
            <a:chExt cx="1973880" cy="1649160"/>
          </a:xfrm>
        </p:grpSpPr>
        <p:grpSp>
          <p:nvGrpSpPr>
            <p:cNvPr id="996" name=""/>
            <p:cNvGrpSpPr/>
            <p:nvPr/>
          </p:nvGrpSpPr>
          <p:grpSpPr>
            <a:xfrm>
              <a:off x="2028960" y="4273200"/>
              <a:ext cx="1973880" cy="1649160"/>
              <a:chOff x="2028960" y="4273200"/>
              <a:chExt cx="1973880" cy="1649160"/>
            </a:xfrm>
          </p:grpSpPr>
          <p:sp>
            <p:nvSpPr>
              <p:cNvPr id="997" name=""/>
              <p:cNvSpPr/>
              <p:nvPr/>
            </p:nvSpPr>
            <p:spPr>
              <a:xfrm>
                <a:off x="2028960" y="5738040"/>
                <a:ext cx="197388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V="1">
                <a:off x="2598480" y="5181120"/>
                <a:ext cx="0" cy="59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3809400">
                <a:off x="2310120" y="4791960"/>
                <a:ext cx="55692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3809400">
                <a:off x="2216880" y="4866480"/>
                <a:ext cx="46332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3809400">
                <a:off x="2377800" y="4735440"/>
                <a:ext cx="66996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3809400">
                <a:off x="2639160" y="4608360"/>
                <a:ext cx="66996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3809400">
                <a:off x="2508480" y="4658040"/>
                <a:ext cx="669600" cy="2865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3809400">
                <a:off x="2747880" y="4544280"/>
                <a:ext cx="783360" cy="28656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>
              <a:off x="2893680" y="5613480"/>
              <a:ext cx="1009440" cy="889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1253160" y="1297080"/>
            <a:ext cx="6219720" cy="4260960"/>
            <a:chOff x="1253160" y="1297080"/>
            <a:chExt cx="6219720" cy="4260960"/>
          </a:xfrm>
        </p:grpSpPr>
        <p:grpSp>
          <p:nvGrpSpPr>
            <p:cNvPr id="1007" name=""/>
            <p:cNvGrpSpPr/>
            <p:nvPr/>
          </p:nvGrpSpPr>
          <p:grpSpPr>
            <a:xfrm>
              <a:off x="2518200" y="1297080"/>
              <a:ext cx="2058120" cy="2218320"/>
              <a:chOff x="2518200" y="1297080"/>
              <a:chExt cx="2058120" cy="2218320"/>
            </a:xfrm>
          </p:grpSpPr>
          <p:sp>
            <p:nvSpPr>
              <p:cNvPr id="1008" name=""/>
              <p:cNvSpPr/>
              <p:nvPr/>
            </p:nvSpPr>
            <p:spPr>
              <a:xfrm rot="18445200">
                <a:off x="2777040" y="1927800"/>
                <a:ext cx="1338480" cy="131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 flipV="1" rot="18445200">
                <a:off x="3729240" y="1272240"/>
                <a:ext cx="496440" cy="112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1253160" y="2170440"/>
              <a:ext cx="1717560" cy="2270520"/>
              <a:chOff x="1253160" y="2170440"/>
              <a:chExt cx="1717560" cy="2270520"/>
            </a:xfrm>
          </p:grpSpPr>
          <p:sp>
            <p:nvSpPr>
              <p:cNvPr id="1011" name=""/>
              <p:cNvSpPr/>
              <p:nvPr/>
            </p:nvSpPr>
            <p:spPr>
              <a:xfrm rot="2202000">
                <a:off x="2284200" y="2367720"/>
                <a:ext cx="271440" cy="10227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 rot="2201400">
                <a:off x="2613600" y="2409120"/>
                <a:ext cx="265320" cy="64800"/>
              </a:xfrm>
              <a:custGeom>
                <a:avLst/>
                <a:gdLst>
                  <a:gd name="textAreaLeft" fmla="*/ 58320 w 265320"/>
                  <a:gd name="textAreaRight" fmla="*/ 207000 w 265320"/>
                  <a:gd name="textAreaTop" fmla="*/ 14040 h 64800"/>
                  <a:gd name="textAreaBottom" fmla="*/ 50760 h 6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2202000">
                <a:off x="1909440" y="3280320"/>
                <a:ext cx="351360" cy="10296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2202000">
                <a:off x="1861560" y="3367800"/>
                <a:ext cx="351360" cy="601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2202000">
                <a:off x="1935000" y="3420360"/>
                <a:ext cx="151560" cy="3312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2202000">
                <a:off x="1847520" y="3416400"/>
                <a:ext cx="85680" cy="3740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2202000">
                <a:off x="1575360" y="3704760"/>
                <a:ext cx="112320" cy="4946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2202000">
                <a:off x="1344960" y="4119480"/>
                <a:ext cx="73080" cy="332640"/>
              </a:xfrm>
              <a:custGeom>
                <a:avLst/>
                <a:gdLst>
                  <a:gd name="textAreaLeft" fmla="*/ 21240 w 73080"/>
                  <a:gd name="textAreaRight" fmla="*/ 51840 w 73080"/>
                  <a:gd name="textAreaTop" fmla="*/ 96840 h 332640"/>
                  <a:gd name="textAreaBottom" fmla="*/ 235800 h 33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2202000">
                <a:off x="2787120" y="2178000"/>
                <a:ext cx="114840" cy="26784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87920" y="2214720"/>
                <a:ext cx="608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862360" y="224496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840760" y="227808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823480" y="230112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801880" y="233028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783880" y="2360520"/>
                <a:ext cx="6048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761920" y="238392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746080" y="235224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768760" y="2323800"/>
                <a:ext cx="608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787840" y="2298240"/>
                <a:ext cx="608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804760" y="2271240"/>
                <a:ext cx="6048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847960" y="2212920"/>
                <a:ext cx="608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828520" y="2243520"/>
                <a:ext cx="608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2202000">
                <a:off x="2053440" y="3276360"/>
                <a:ext cx="56880" cy="10296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939320" y="324216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950840" y="322272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963800" y="32050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928160" y="32572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14640" y="33472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7960" y="332928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03480" y="3362400"/>
                <a:ext cx="106200" cy="792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089080" y="3375360"/>
                <a:ext cx="113400" cy="8424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3261600" y="2734560"/>
              <a:ext cx="4211280" cy="2823480"/>
              <a:chOff x="3261600" y="2734560"/>
              <a:chExt cx="4211280" cy="2823480"/>
            </a:xfrm>
          </p:grpSpPr>
          <p:sp>
            <p:nvSpPr>
              <p:cNvPr id="1043" name=""/>
              <p:cNvSpPr/>
              <p:nvPr/>
            </p:nvSpPr>
            <p:spPr>
              <a:xfrm flipV="1" rot="15492000">
                <a:off x="3991320" y="3857760"/>
                <a:ext cx="819360" cy="2157120"/>
              </a:xfrm>
              <a:custGeom>
                <a:avLst/>
                <a:gdLst/>
                <a:ahLst/>
                <a:rect l="l" t="t" r="r" b="b"/>
                <a:pathLst>
                  <a:path w="1152" h="1579">
                    <a:moveTo>
                      <a:pt x="750" y="0"/>
                    </a:moveTo>
                    <a:lnTo>
                      <a:pt x="0" y="1262"/>
                    </a:lnTo>
                    <a:lnTo>
                      <a:pt x="0" y="1579"/>
                    </a:lnTo>
                    <a:lnTo>
                      <a:pt x="1152" y="30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 rot="13998000">
                <a:off x="5860080" y="2373480"/>
                <a:ext cx="559440" cy="29080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 flipV="1" rot="15568800">
              <a:off x="3361680" y="2810520"/>
              <a:ext cx="733320" cy="1965240"/>
            </a:xfrm>
            <a:custGeom>
              <a:avLst/>
              <a:gdLst/>
              <a:ahLst/>
              <a:rect l="l" t="t" r="r" b="b"/>
              <a:pathLst>
                <a:path w="1152" h="1579">
                  <a:moveTo>
                    <a:pt x="750" y="0"/>
                  </a:moveTo>
                  <a:lnTo>
                    <a:pt x="0" y="1262"/>
                  </a:lnTo>
                  <a:lnTo>
                    <a:pt x="0" y="1579"/>
                  </a:lnTo>
                  <a:lnTo>
                    <a:pt x="1152" y="30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 rot="13998000">
              <a:off x="5191200" y="1101960"/>
              <a:ext cx="569880" cy="30546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电子工艺实训的目的及意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6120" y="1484280"/>
            <a:ext cx="7767720" cy="581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　　现代生活离不开电，我们每个人都必须掌握一定的用电知识及电工操作技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1200" y="2873520"/>
            <a:ext cx="7767720" cy="581400"/>
          </a:xfrm>
          <a:prstGeom prst="rect">
            <a:avLst/>
          </a:prstGeom>
          <a:solidFill>
            <a:srgbClr val="ffffcc"/>
          </a:solidFill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　　通过电子工艺实训可使我们学会一些常用电工工具、仪表、开关元件等的使用方法及工作原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2640" y="4799160"/>
            <a:ext cx="7767720" cy="581400"/>
          </a:xfrm>
          <a:prstGeom prst="rect">
            <a:avLst/>
          </a:prstGeom>
          <a:solidFill>
            <a:srgbClr val="ffffcc"/>
          </a:solidFill>
          <a:ln w="7632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　　接触电学知识，实现理论联系实际，并为后续专业课程的学习打下一定的基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22360" y="331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843120" y="3895560"/>
            <a:ext cx="1628640" cy="2203560"/>
            <a:chOff x="843120" y="3895560"/>
            <a:chExt cx="1628640" cy="2203560"/>
          </a:xfrm>
        </p:grpSpPr>
        <p:sp>
          <p:nvSpPr>
            <p:cNvPr id="1049" name=""/>
            <p:cNvSpPr/>
            <p:nvPr/>
          </p:nvSpPr>
          <p:spPr>
            <a:xfrm>
              <a:off x="843120" y="3895560"/>
              <a:ext cx="1461960" cy="2203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303640" y="3895560"/>
              <a:ext cx="168120" cy="2203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4808520" y="3919680"/>
            <a:ext cx="1628640" cy="2203200"/>
            <a:chOff x="4808520" y="3919680"/>
            <a:chExt cx="1628640" cy="2203200"/>
          </a:xfrm>
        </p:grpSpPr>
        <p:sp>
          <p:nvSpPr>
            <p:cNvPr id="1052" name=""/>
            <p:cNvSpPr/>
            <p:nvPr/>
          </p:nvSpPr>
          <p:spPr>
            <a:xfrm flipH="1">
              <a:off x="4974840" y="3919680"/>
              <a:ext cx="1461960" cy="2203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4808160" y="3919680"/>
              <a:ext cx="168120" cy="2203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925560" y="2554200"/>
            <a:ext cx="5535720" cy="416160"/>
            <a:chOff x="925560" y="2554200"/>
            <a:chExt cx="5535720" cy="416160"/>
          </a:xfrm>
        </p:grpSpPr>
        <p:grpSp>
          <p:nvGrpSpPr>
            <p:cNvPr id="1055" name=""/>
            <p:cNvGrpSpPr/>
            <p:nvPr/>
          </p:nvGrpSpPr>
          <p:grpSpPr>
            <a:xfrm>
              <a:off x="925560" y="2567160"/>
              <a:ext cx="1641600" cy="403200"/>
              <a:chOff x="925560" y="2567160"/>
              <a:chExt cx="1641600" cy="403200"/>
            </a:xfrm>
          </p:grpSpPr>
          <p:sp>
            <p:nvSpPr>
              <p:cNvPr id="1056" name=""/>
              <p:cNvSpPr/>
              <p:nvPr/>
            </p:nvSpPr>
            <p:spPr>
              <a:xfrm>
                <a:off x="925560" y="2567160"/>
                <a:ext cx="1461960" cy="4032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386080" y="2670120"/>
                <a:ext cx="181080" cy="1954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4819680" y="2554200"/>
              <a:ext cx="1641600" cy="403200"/>
              <a:chOff x="4819680" y="2554200"/>
              <a:chExt cx="1641600" cy="403200"/>
            </a:xfrm>
          </p:grpSpPr>
          <p:sp>
            <p:nvSpPr>
              <p:cNvPr id="1059" name=""/>
              <p:cNvSpPr/>
              <p:nvPr/>
            </p:nvSpPr>
            <p:spPr>
              <a:xfrm flipH="1">
                <a:off x="4998960" y="2554200"/>
                <a:ext cx="1461960" cy="4032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4819320" y="2657160"/>
                <a:ext cx="181080" cy="1954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1" name=""/>
          <p:cNvGrpSpPr/>
          <p:nvPr/>
        </p:nvGrpSpPr>
        <p:grpSpPr>
          <a:xfrm>
            <a:off x="2327400" y="4167360"/>
            <a:ext cx="2598480" cy="1852560"/>
            <a:chOff x="2327400" y="4167360"/>
            <a:chExt cx="2598480" cy="1852560"/>
          </a:xfrm>
        </p:grpSpPr>
        <p:sp>
          <p:nvSpPr>
            <p:cNvPr id="1062" name=""/>
            <p:cNvSpPr/>
            <p:nvPr/>
          </p:nvSpPr>
          <p:spPr>
            <a:xfrm>
              <a:off x="2327400" y="4167360"/>
              <a:ext cx="2598480" cy="1852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163680" y="43239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462120" y="43239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762000" y="4322520"/>
              <a:ext cx="22536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568240" y="4326480"/>
              <a:ext cx="225000" cy="19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66680" y="4326480"/>
              <a:ext cx="225000" cy="19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063680" y="43250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363920" y="43239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163680" y="48333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462120" y="48333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762000" y="4831560"/>
              <a:ext cx="22536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568240" y="48362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866680" y="48362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063680" y="483444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363920" y="4833360"/>
              <a:ext cx="225000" cy="19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66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459320" y="550440"/>
            <a:ext cx="4057200" cy="3917160"/>
            <a:chOff x="4459320" y="550440"/>
            <a:chExt cx="4057200" cy="3917160"/>
          </a:xfrm>
        </p:grpSpPr>
        <p:grpSp>
          <p:nvGrpSpPr>
            <p:cNvPr id="1078" name=""/>
            <p:cNvGrpSpPr/>
            <p:nvPr/>
          </p:nvGrpSpPr>
          <p:grpSpPr>
            <a:xfrm>
              <a:off x="6045480" y="550440"/>
              <a:ext cx="2471040" cy="2691720"/>
              <a:chOff x="6045480" y="550440"/>
              <a:chExt cx="2471040" cy="2691720"/>
            </a:xfrm>
          </p:grpSpPr>
          <p:sp>
            <p:nvSpPr>
              <p:cNvPr id="1079" name=""/>
              <p:cNvSpPr/>
              <p:nvPr/>
            </p:nvSpPr>
            <p:spPr>
              <a:xfrm rot="18445200">
                <a:off x="6309720" y="1374840"/>
                <a:ext cx="1677600" cy="149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flipV="1" rot="18445200">
                <a:off x="7506360" y="545400"/>
                <a:ext cx="622080" cy="128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459320" y="1627560"/>
              <a:ext cx="2145240" cy="2840040"/>
              <a:chOff x="4459320" y="1627560"/>
              <a:chExt cx="2145240" cy="2840040"/>
            </a:xfrm>
          </p:grpSpPr>
          <p:sp>
            <p:nvSpPr>
              <p:cNvPr id="1082" name=""/>
              <p:cNvSpPr/>
              <p:nvPr/>
            </p:nvSpPr>
            <p:spPr>
              <a:xfrm rot="2202000">
                <a:off x="5764680" y="1871640"/>
                <a:ext cx="309600" cy="12819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 rot="2201400">
                <a:off x="6177960" y="1923840"/>
                <a:ext cx="302400" cy="81360"/>
              </a:xfrm>
              <a:custGeom>
                <a:avLst/>
                <a:gdLst>
                  <a:gd name="textAreaLeft" fmla="*/ 66240 w 302400"/>
                  <a:gd name="textAreaRight" fmla="*/ 236160 w 302400"/>
                  <a:gd name="textAreaTop" fmla="*/ 17640 h 81360"/>
                  <a:gd name="textAreaBottom" fmla="*/ 63720 h 8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2202000">
                <a:off x="5299560" y="3015000"/>
                <a:ext cx="400320" cy="12888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2202000">
                <a:off x="5239800" y="3124800"/>
                <a:ext cx="400320" cy="752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2202000">
                <a:off x="5320440" y="3190320"/>
                <a:ext cx="172800" cy="417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2202000">
                <a:off x="5206320" y="3184920"/>
                <a:ext cx="97920" cy="4687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2202000">
                <a:off x="4866840" y="3546360"/>
                <a:ext cx="128160" cy="6199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2202000">
                <a:off x="4575600" y="4066560"/>
                <a:ext cx="83520" cy="417240"/>
              </a:xfrm>
              <a:custGeom>
                <a:avLst/>
                <a:gdLst>
                  <a:gd name="textAreaLeft" fmla="*/ 24120 w 83520"/>
                  <a:gd name="textAreaRight" fmla="*/ 59400 w 83520"/>
                  <a:gd name="textAreaTop" fmla="*/ 121680 h 417240"/>
                  <a:gd name="textAreaBottom" fmla="*/ 295560 h 41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2202000">
                <a:off x="6386040" y="1633320"/>
                <a:ext cx="131040" cy="33552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508440" y="168084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476400" y="171900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449040" y="176076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427440" y="1789560"/>
                <a:ext cx="6948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400080" y="1826280"/>
                <a:ext cx="6948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377760" y="186372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350400" y="1892880"/>
                <a:ext cx="6948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333480" y="185544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361920" y="181944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385680" y="178776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406920" y="1754280"/>
                <a:ext cx="6948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462000" y="1680840"/>
                <a:ext cx="69120" cy="51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436800" y="1719000"/>
                <a:ext cx="69120" cy="5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2202000">
                <a:off x="5464440" y="3010680"/>
                <a:ext cx="64800" cy="12888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32680" y="2978640"/>
                <a:ext cx="12132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47080" y="2954880"/>
                <a:ext cx="12132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63640" y="2932560"/>
                <a:ext cx="12132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18640" y="299772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34280" y="309636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50840" y="307440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519880" y="3115800"/>
                <a:ext cx="120960" cy="90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501880" y="3132360"/>
                <a:ext cx="129600" cy="961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3" name=""/>
          <p:cNvGrpSpPr/>
          <p:nvPr/>
        </p:nvGrpSpPr>
        <p:grpSpPr>
          <a:xfrm>
            <a:off x="363600" y="1741320"/>
            <a:ext cx="3734640" cy="626760"/>
            <a:chOff x="363600" y="1741320"/>
            <a:chExt cx="3734640" cy="626760"/>
          </a:xfrm>
        </p:grpSpPr>
        <p:sp>
          <p:nvSpPr>
            <p:cNvPr id="1114" name=""/>
            <p:cNvSpPr/>
            <p:nvPr/>
          </p:nvSpPr>
          <p:spPr>
            <a:xfrm>
              <a:off x="363600" y="1741320"/>
              <a:ext cx="1800000" cy="475200"/>
            </a:xfrm>
            <a:custGeom>
              <a:avLst/>
              <a:gdLst/>
              <a:ahLst/>
              <a:rect l="l" t="t" r="r" b="b"/>
              <a:pathLst>
                <a:path w="550" h="254">
                  <a:moveTo>
                    <a:pt x="43" y="17"/>
                  </a:moveTo>
                  <a:cubicBezTo>
                    <a:pt x="38" y="44"/>
                    <a:pt x="0" y="154"/>
                    <a:pt x="40" y="179"/>
                  </a:cubicBezTo>
                  <a:cubicBezTo>
                    <a:pt x="80" y="204"/>
                    <a:pt x="202" y="157"/>
                    <a:pt x="284" y="167"/>
                  </a:cubicBezTo>
                  <a:cubicBezTo>
                    <a:pt x="366" y="177"/>
                    <a:pt x="486" y="254"/>
                    <a:pt x="530" y="240"/>
                  </a:cubicBezTo>
                  <a:lnTo>
                    <a:pt x="550" y="81"/>
                  </a:lnTo>
                  <a:cubicBezTo>
                    <a:pt x="512" y="43"/>
                    <a:pt x="386" y="22"/>
                    <a:pt x="302" y="11"/>
                  </a:cubicBezTo>
                  <a:cubicBezTo>
                    <a:pt x="218" y="0"/>
                    <a:pt x="97" y="16"/>
                    <a:pt x="43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173320" y="1875600"/>
              <a:ext cx="1617480" cy="78840"/>
            </a:xfrm>
            <a:custGeom>
              <a:avLst/>
              <a:gdLst/>
              <a:ahLst/>
              <a:rect l="l" t="t" r="r" b="b"/>
              <a:pathLst>
                <a:path w="494" h="42">
                  <a:moveTo>
                    <a:pt x="0" y="12"/>
                  </a:moveTo>
                  <a:cubicBezTo>
                    <a:pt x="41" y="16"/>
                    <a:pt x="164" y="0"/>
                    <a:pt x="246" y="5"/>
                  </a:cubicBezTo>
                  <a:cubicBezTo>
                    <a:pt x="328" y="10"/>
                    <a:pt x="442" y="34"/>
                    <a:pt x="494" y="42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163600" y="1905840"/>
              <a:ext cx="1934640" cy="142200"/>
            </a:xfrm>
            <a:custGeom>
              <a:avLst/>
              <a:gdLst/>
              <a:ahLst/>
              <a:rect l="l" t="t" r="r" b="b"/>
              <a:pathLst>
                <a:path w="591" h="76">
                  <a:moveTo>
                    <a:pt x="0" y="14"/>
                  </a:moveTo>
                  <a:cubicBezTo>
                    <a:pt x="39" y="18"/>
                    <a:pt x="152" y="0"/>
                    <a:pt x="234" y="5"/>
                  </a:cubicBezTo>
                  <a:cubicBezTo>
                    <a:pt x="332" y="15"/>
                    <a:pt x="537" y="68"/>
                    <a:pt x="591" y="76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144520" y="1962000"/>
              <a:ext cx="1728000" cy="15120"/>
            </a:xfrm>
            <a:custGeom>
              <a:avLst/>
              <a:gdLst/>
              <a:ahLst/>
              <a:rect l="l" t="t" r="r" b="b"/>
              <a:pathLst>
                <a:path w="528" h="8">
                  <a:moveTo>
                    <a:pt x="0" y="2"/>
                  </a:moveTo>
                  <a:cubicBezTo>
                    <a:pt x="43" y="6"/>
                    <a:pt x="170" y="0"/>
                    <a:pt x="252" y="5"/>
                  </a:cubicBezTo>
                  <a:cubicBezTo>
                    <a:pt x="340" y="6"/>
                    <a:pt x="478" y="2"/>
                    <a:pt x="528" y="8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134080" y="1988280"/>
              <a:ext cx="1840320" cy="156960"/>
            </a:xfrm>
            <a:custGeom>
              <a:avLst/>
              <a:gdLst/>
              <a:ahLst/>
              <a:rect l="l" t="t" r="r" b="b"/>
              <a:pathLst>
                <a:path w="562" h="84">
                  <a:moveTo>
                    <a:pt x="0" y="0"/>
                  </a:moveTo>
                  <a:cubicBezTo>
                    <a:pt x="59" y="11"/>
                    <a:pt x="270" y="9"/>
                    <a:pt x="364" y="23"/>
                  </a:cubicBezTo>
                  <a:cubicBezTo>
                    <a:pt x="458" y="37"/>
                    <a:pt x="521" y="71"/>
                    <a:pt x="562" y="84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117520" y="2021760"/>
              <a:ext cx="1827000" cy="76680"/>
            </a:xfrm>
            <a:custGeom>
              <a:avLst/>
              <a:gdLst/>
              <a:ahLst/>
              <a:rect l="l" t="t" r="r" b="b"/>
              <a:pathLst>
                <a:path w="558" h="41">
                  <a:moveTo>
                    <a:pt x="0" y="0"/>
                  </a:moveTo>
                  <a:cubicBezTo>
                    <a:pt x="181" y="24"/>
                    <a:pt x="355" y="41"/>
                    <a:pt x="558" y="41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117520" y="2070720"/>
              <a:ext cx="1912320" cy="119520"/>
            </a:xfrm>
            <a:custGeom>
              <a:avLst/>
              <a:gdLst/>
              <a:ahLst/>
              <a:rect l="l" t="t" r="r" b="b"/>
              <a:pathLst>
                <a:path w="584" h="64">
                  <a:moveTo>
                    <a:pt x="0" y="0"/>
                  </a:moveTo>
                  <a:cubicBezTo>
                    <a:pt x="181" y="24"/>
                    <a:pt x="381" y="64"/>
                    <a:pt x="584" y="64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117520" y="2122920"/>
              <a:ext cx="1640520" cy="125640"/>
            </a:xfrm>
            <a:custGeom>
              <a:avLst/>
              <a:gdLst/>
              <a:ahLst/>
              <a:rect l="l" t="t" r="r" b="b"/>
              <a:pathLst>
                <a:path w="501" h="67">
                  <a:moveTo>
                    <a:pt x="0" y="0"/>
                  </a:moveTo>
                  <a:cubicBezTo>
                    <a:pt x="181" y="24"/>
                    <a:pt x="298" y="67"/>
                    <a:pt x="501" y="67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091600" y="2171520"/>
              <a:ext cx="1617480" cy="196560"/>
            </a:xfrm>
            <a:custGeom>
              <a:avLst/>
              <a:gdLst/>
              <a:ahLst/>
              <a:rect l="l" t="t" r="r" b="b"/>
              <a:pathLst>
                <a:path w="494" h="105">
                  <a:moveTo>
                    <a:pt x="0" y="0"/>
                  </a:moveTo>
                  <a:cubicBezTo>
                    <a:pt x="181" y="24"/>
                    <a:pt x="291" y="105"/>
                    <a:pt x="494" y="105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4478400" y="3419640"/>
            <a:ext cx="46080" cy="1020600"/>
          </a:xfrm>
          <a:custGeom>
            <a:avLst/>
            <a:gdLst/>
            <a:ahLst/>
            <a:rect l="l" t="t" r="r" b="b"/>
            <a:pathLst>
              <a:path w="29" h="643">
                <a:moveTo>
                  <a:pt x="0" y="643"/>
                </a:moveTo>
                <a:cubicBezTo>
                  <a:pt x="29" y="429"/>
                  <a:pt x="22" y="217"/>
                  <a:pt x="22" y="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028880" y="2197080"/>
            <a:ext cx="3904560" cy="2793600"/>
            <a:chOff x="1028880" y="2197080"/>
            <a:chExt cx="3904560" cy="2793600"/>
          </a:xfrm>
        </p:grpSpPr>
        <p:sp>
          <p:nvSpPr>
            <p:cNvPr id="1125" name=""/>
            <p:cNvSpPr/>
            <p:nvPr/>
          </p:nvSpPr>
          <p:spPr>
            <a:xfrm rot="21013800">
              <a:off x="1212840" y="2398680"/>
              <a:ext cx="2579040" cy="239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 flipV="1" rot="21013800">
              <a:off x="3809880" y="2387520"/>
              <a:ext cx="956160" cy="205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4357800" y="435780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11840" y="3324240"/>
            <a:ext cx="2032200" cy="2854440"/>
          </a:xfrm>
          <a:prstGeom prst="wedgeRoundRectCallout">
            <a:avLst>
              <a:gd name="adj1" fmla="val -153046"/>
              <a:gd name="adj2" fmla="val -8898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每人至少焊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点，给老师看过后才可焊收音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8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790560" y="26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055520" y="4849920"/>
            <a:ext cx="6705720" cy="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-996480" y="367920"/>
            <a:ext cx="9811440" cy="6055200"/>
            <a:chOff x="-996480" y="367920"/>
            <a:chExt cx="9811440" cy="6055200"/>
          </a:xfrm>
        </p:grpSpPr>
        <p:grpSp>
          <p:nvGrpSpPr>
            <p:cNvPr id="1132" name=""/>
            <p:cNvGrpSpPr/>
            <p:nvPr/>
          </p:nvGrpSpPr>
          <p:grpSpPr>
            <a:xfrm>
              <a:off x="2283840" y="4530960"/>
              <a:ext cx="1319400" cy="1892160"/>
              <a:chOff x="2283840" y="4530960"/>
              <a:chExt cx="1319400" cy="1892160"/>
            </a:xfrm>
          </p:grpSpPr>
          <p:sp>
            <p:nvSpPr>
              <p:cNvPr id="1133" name=""/>
              <p:cNvSpPr/>
              <p:nvPr/>
            </p:nvSpPr>
            <p:spPr>
              <a:xfrm flipV="1">
                <a:off x="3194280" y="4582080"/>
                <a:ext cx="408960" cy="2365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 flipV="1">
                <a:off x="2283840" y="4530960"/>
                <a:ext cx="327960" cy="2808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2642040" y="4802760"/>
                <a:ext cx="563760" cy="15642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6" name=""/>
              <p:cNvGrpSpPr/>
              <p:nvPr/>
            </p:nvGrpSpPr>
            <p:grpSpPr>
              <a:xfrm>
                <a:off x="2476440" y="5205960"/>
                <a:ext cx="800640" cy="1073880"/>
                <a:chOff x="2476440" y="5205960"/>
                <a:chExt cx="800640" cy="1073880"/>
              </a:xfrm>
            </p:grpSpPr>
            <p:sp>
              <p:nvSpPr>
                <p:cNvPr id="1137" name=""/>
                <p:cNvSpPr/>
                <p:nvPr/>
              </p:nvSpPr>
              <p:spPr>
                <a:xfrm flipH="1" rot="17100000">
                  <a:off x="2457360" y="5579280"/>
                  <a:ext cx="846000" cy="342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flipH="1" rot="17100000">
                  <a:off x="2941200" y="5103720"/>
                  <a:ext cx="160920" cy="485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H="1" rot="6300000">
                  <a:off x="2652120" y="5898600"/>
                  <a:ext cx="156960" cy="48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H="1" rot="17100000">
                  <a:off x="2705400" y="5869440"/>
                  <a:ext cx="95760" cy="52488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 rot="17100000">
                  <a:off x="2958120" y="5275440"/>
                  <a:ext cx="71640" cy="34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 rot="17100000">
                  <a:off x="2799000" y="5715000"/>
                  <a:ext cx="72720" cy="34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 rot="17100000">
                  <a:off x="2878560" y="5495400"/>
                  <a:ext cx="71640" cy="34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4" name=""/>
              <p:cNvSpPr/>
              <p:nvPr/>
            </p:nvSpPr>
            <p:spPr>
              <a:xfrm flipV="1">
                <a:off x="2400480" y="6219360"/>
                <a:ext cx="253080" cy="20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V="1">
                <a:off x="2405880" y="4803120"/>
                <a:ext cx="213840" cy="1571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-996480" y="1814400"/>
              <a:ext cx="4919400" cy="3313800"/>
              <a:chOff x="-996480" y="1814400"/>
              <a:chExt cx="4919400" cy="3313800"/>
            </a:xfrm>
          </p:grpSpPr>
          <p:sp>
            <p:nvSpPr>
              <p:cNvPr id="1147" name=""/>
              <p:cNvSpPr/>
              <p:nvPr/>
            </p:nvSpPr>
            <p:spPr>
              <a:xfrm>
                <a:off x="-996480" y="1814400"/>
                <a:ext cx="3589200" cy="331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 flipV="1">
                <a:off x="2590560" y="1966320"/>
                <a:ext cx="1332000" cy="284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3361680" y="367920"/>
              <a:ext cx="5453280" cy="4393080"/>
              <a:chOff x="3361680" y="367920"/>
              <a:chExt cx="5453280" cy="4393080"/>
            </a:xfrm>
          </p:grpSpPr>
          <p:grpSp>
            <p:nvGrpSpPr>
              <p:cNvPr id="1150" name=""/>
              <p:cNvGrpSpPr/>
              <p:nvPr/>
            </p:nvGrpSpPr>
            <p:grpSpPr>
              <a:xfrm>
                <a:off x="4796280" y="367920"/>
                <a:ext cx="4018680" cy="4211640"/>
                <a:chOff x="4796280" y="367920"/>
                <a:chExt cx="4018680" cy="4211640"/>
              </a:xfrm>
            </p:grpSpPr>
            <p:sp>
              <p:nvSpPr>
                <p:cNvPr id="1151" name=""/>
                <p:cNvSpPr/>
                <p:nvPr/>
              </p:nvSpPr>
              <p:spPr>
                <a:xfrm rot="18445200">
                  <a:off x="5490000" y="1327320"/>
                  <a:ext cx="2326320" cy="2896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H="1" flipV="1" rot="18445200">
                  <a:off x="7133400" y="221760"/>
                  <a:ext cx="863280" cy="2487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3" name=""/>
              <p:cNvGrpSpPr/>
              <p:nvPr/>
            </p:nvGrpSpPr>
            <p:grpSpPr>
              <a:xfrm>
                <a:off x="3361680" y="1844280"/>
                <a:ext cx="2204640" cy="2916720"/>
                <a:chOff x="3361680" y="1844280"/>
                <a:chExt cx="2204640" cy="2916720"/>
              </a:xfrm>
            </p:grpSpPr>
            <p:sp>
              <p:nvSpPr>
                <p:cNvPr id="1154" name=""/>
                <p:cNvSpPr/>
                <p:nvPr/>
              </p:nvSpPr>
              <p:spPr>
                <a:xfrm rot="2202000">
                  <a:off x="4689000" y="2097720"/>
                  <a:ext cx="342000" cy="131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V="1" rot="2201400">
                  <a:off x="5113080" y="2151000"/>
                  <a:ext cx="334080" cy="83160"/>
                </a:xfrm>
                <a:custGeom>
                  <a:avLst/>
                  <a:gdLst>
                    <a:gd name="textAreaLeft" fmla="*/ 73440 w 334080"/>
                    <a:gd name="textAreaRight" fmla="*/ 260640 w 334080"/>
                    <a:gd name="textAreaTop" fmla="*/ 18360 h 83160"/>
                    <a:gd name="textAreaBottom" fmla="*/ 64800 h 8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rot="2202000">
                  <a:off x="4208760" y="3269880"/>
                  <a:ext cx="442080" cy="13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rot="2202000">
                  <a:off x="4147200" y="3382200"/>
                  <a:ext cx="442080" cy="7740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rot="2202000">
                  <a:off x="4239720" y="3449520"/>
                  <a:ext cx="190800" cy="4248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2202000">
                  <a:off x="4125960" y="3444120"/>
                  <a:ext cx="108000" cy="48060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rot="2202000">
                  <a:off x="3776400" y="3814920"/>
                  <a:ext cx="141480" cy="63540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rot="2202000">
                  <a:off x="3480120" y="4347720"/>
                  <a:ext cx="92160" cy="427680"/>
                </a:xfrm>
                <a:custGeom>
                  <a:avLst/>
                  <a:gdLst>
                    <a:gd name="textAreaLeft" fmla="*/ 26640 w 92160"/>
                    <a:gd name="textAreaRight" fmla="*/ 65520 w 92160"/>
                    <a:gd name="textAreaTop" fmla="*/ 124560 h 427680"/>
                    <a:gd name="textAreaBottom" fmla="*/ 303120 h 427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rot="2202000">
                  <a:off x="5333040" y="1853280"/>
                  <a:ext cx="144720" cy="34416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5461920" y="190116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5428800" y="194004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5401080" y="198288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5379120" y="201240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5351040" y="204984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328000" y="208836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5299920" y="211824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5280480" y="2078280"/>
                  <a:ext cx="76320" cy="5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309640" y="2041560"/>
                  <a:ext cx="76320" cy="5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5334120" y="200880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5355360" y="1974600"/>
                  <a:ext cx="7668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411520" y="1899000"/>
                  <a:ext cx="76680" cy="5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5386320" y="1938600"/>
                  <a:ext cx="76320" cy="5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rot="2202000">
                  <a:off x="4390920" y="3264480"/>
                  <a:ext cx="71280" cy="13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246200" y="322344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260600" y="3198600"/>
                  <a:ext cx="133920" cy="10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277880" y="3175560"/>
                  <a:ext cx="133920" cy="10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231800" y="324324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467600" y="335520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484520" y="3332160"/>
                  <a:ext cx="133920" cy="10008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452840" y="3374640"/>
                  <a:ext cx="133920" cy="997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434480" y="3391560"/>
                  <a:ext cx="142920" cy="1065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5" name=""/>
            <p:cNvSpPr/>
            <p:nvPr/>
          </p:nvSpPr>
          <p:spPr>
            <a:xfrm>
              <a:off x="5499000" y="2547720"/>
              <a:ext cx="2598840" cy="825120"/>
            </a:xfrm>
            <a:prstGeom prst="wedgeEllipseCallout">
              <a:avLst>
                <a:gd name="adj1" fmla="val -83750"/>
                <a:gd name="adj2" fmla="val 53569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首先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96880" y="4066920"/>
              <a:ext cx="2013840" cy="942840"/>
            </a:xfrm>
            <a:prstGeom prst="wedgeEllipseCallout">
              <a:avLst>
                <a:gd name="adj1" fmla="val -130106"/>
                <a:gd name="adj2" fmla="val 2408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cc"/>
                  </a:solidFill>
                  <a:latin typeface="Times New Roman"/>
                </a:rPr>
                <a:t>焊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4200" y="3241440"/>
              <a:ext cx="1883880" cy="943200"/>
            </a:xfrm>
            <a:prstGeom prst="wedgeRoundRectCallout">
              <a:avLst>
                <a:gd name="adj1" fmla="val 64439"/>
                <a:gd name="adj2" fmla="val 85416"/>
                <a:gd name="adj3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然后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00240" y="4562640"/>
              <a:ext cx="553320" cy="289800"/>
            </a:xfrm>
            <a:custGeom>
              <a:avLst/>
              <a:gdLst/>
              <a:ahLst/>
              <a:rect l="l" t="t" r="r" b="b"/>
              <a:pathLst>
                <a:path w="409" h="236">
                  <a:moveTo>
                    <a:pt x="40" y="234"/>
                  </a:moveTo>
                  <a:cubicBezTo>
                    <a:pt x="0" y="214"/>
                    <a:pt x="98" y="158"/>
                    <a:pt x="126" y="116"/>
                  </a:cubicBezTo>
                  <a:cubicBezTo>
                    <a:pt x="153" y="75"/>
                    <a:pt x="173" y="3"/>
                    <a:pt x="206" y="0"/>
                  </a:cubicBezTo>
                  <a:cubicBezTo>
                    <a:pt x="232" y="1"/>
                    <a:pt x="255" y="84"/>
                    <a:pt x="282" y="124"/>
                  </a:cubicBezTo>
                  <a:cubicBezTo>
                    <a:pt x="307" y="162"/>
                    <a:pt x="409" y="216"/>
                    <a:pt x="369" y="236"/>
                  </a:cubicBezTo>
                  <a:lnTo>
                    <a:pt x="40" y="23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dfdfdf"/>
                </a:gs>
                <a:gs pos="100000">
                  <a:srgbClr val="808080"/>
                </a:gs>
              </a:gsLst>
              <a:lin ang="10800000"/>
            </a:gra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5416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843120" y="550440"/>
            <a:ext cx="7673400" cy="5869440"/>
            <a:chOff x="843120" y="550440"/>
            <a:chExt cx="7673400" cy="5869440"/>
          </a:xfrm>
        </p:grpSpPr>
        <p:grpSp>
          <p:nvGrpSpPr>
            <p:cNvPr id="1191" name=""/>
            <p:cNvGrpSpPr/>
            <p:nvPr/>
          </p:nvGrpSpPr>
          <p:grpSpPr>
            <a:xfrm>
              <a:off x="843120" y="3895560"/>
              <a:ext cx="5594040" cy="2524320"/>
              <a:chOff x="843120" y="3895560"/>
              <a:chExt cx="5594040" cy="2524320"/>
            </a:xfrm>
          </p:grpSpPr>
          <p:grpSp>
            <p:nvGrpSpPr>
              <p:cNvPr id="1192" name=""/>
              <p:cNvGrpSpPr/>
              <p:nvPr/>
            </p:nvGrpSpPr>
            <p:grpSpPr>
              <a:xfrm>
                <a:off x="843120" y="3895560"/>
                <a:ext cx="5594040" cy="2524320"/>
                <a:chOff x="843120" y="3895560"/>
                <a:chExt cx="5594040" cy="2524320"/>
              </a:xfrm>
            </p:grpSpPr>
            <p:grpSp>
              <p:nvGrpSpPr>
                <p:cNvPr id="1193" name=""/>
                <p:cNvGrpSpPr/>
                <p:nvPr/>
              </p:nvGrpSpPr>
              <p:grpSpPr>
                <a:xfrm>
                  <a:off x="843120" y="3895560"/>
                  <a:ext cx="1628640" cy="2500560"/>
                  <a:chOff x="843120" y="3895560"/>
                  <a:chExt cx="1628640" cy="250056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>
                    <a:off x="843120" y="3895560"/>
                    <a:ext cx="1461960" cy="25005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303640" y="3895560"/>
                    <a:ext cx="168120" cy="25005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6" name=""/>
                <p:cNvGrpSpPr/>
                <p:nvPr/>
              </p:nvGrpSpPr>
              <p:grpSpPr>
                <a:xfrm>
                  <a:off x="4808520" y="3919680"/>
                  <a:ext cx="1628640" cy="2500200"/>
                  <a:chOff x="4808520" y="3919680"/>
                  <a:chExt cx="1628640" cy="2500200"/>
                </a:xfrm>
              </p:grpSpPr>
              <p:sp>
                <p:nvSpPr>
                  <p:cNvPr id="1197" name=""/>
                  <p:cNvSpPr/>
                  <p:nvPr/>
                </p:nvSpPr>
                <p:spPr>
                  <a:xfrm flipH="1">
                    <a:off x="4974840" y="3919680"/>
                    <a:ext cx="1461960" cy="25002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flipH="1">
                    <a:off x="4808160" y="3919680"/>
                    <a:ext cx="168120" cy="250020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9" name=""/>
              <p:cNvGrpSpPr/>
              <p:nvPr/>
            </p:nvGrpSpPr>
            <p:grpSpPr>
              <a:xfrm>
                <a:off x="2327400" y="4167360"/>
                <a:ext cx="2598480" cy="2101680"/>
                <a:chOff x="2327400" y="4167360"/>
                <a:chExt cx="2598480" cy="210168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2327400" y="4167360"/>
                  <a:ext cx="2598480" cy="21016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662200" y="5038560"/>
                  <a:ext cx="1838520" cy="0"/>
                </a:xfrm>
                <a:prstGeom prst="line">
                  <a:avLst/>
                </a:prstGeom>
                <a:ln w="5724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666880" y="4457880"/>
                  <a:ext cx="1838520" cy="0"/>
                </a:xfrm>
                <a:prstGeom prst="line">
                  <a:avLst/>
                </a:prstGeom>
                <a:ln w="5724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164040" y="434484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3462480" y="434484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3762360" y="43434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568600" y="434808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867040" y="434808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4363920" y="4344840"/>
                  <a:ext cx="22572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164040" y="49230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462480" y="49230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762360" y="492120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568600" y="492588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867040" y="4925880"/>
                  <a:ext cx="22536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4064040" y="492444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4363920" y="4923000"/>
                  <a:ext cx="22572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4064040" y="4346640"/>
                  <a:ext cx="225360" cy="225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3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7" name=""/>
            <p:cNvGrpSpPr/>
            <p:nvPr/>
          </p:nvGrpSpPr>
          <p:grpSpPr>
            <a:xfrm>
              <a:off x="1028880" y="2197080"/>
              <a:ext cx="3904560" cy="2793600"/>
              <a:chOff x="1028880" y="2197080"/>
              <a:chExt cx="3904560" cy="2793600"/>
            </a:xfrm>
          </p:grpSpPr>
          <p:sp>
            <p:nvSpPr>
              <p:cNvPr id="1218" name=""/>
              <p:cNvSpPr/>
              <p:nvPr/>
            </p:nvSpPr>
            <p:spPr>
              <a:xfrm rot="21013800">
                <a:off x="1212840" y="2398680"/>
                <a:ext cx="2579040" cy="239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63153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631538"/>
                  </a:path>
                </a:pathLst>
              </a:custGeom>
              <a:noFill/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 flipV="1" rot="21013800">
                <a:off x="3809880" y="2387520"/>
                <a:ext cx="956160" cy="205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647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647776"/>
                  </a:path>
                </a:pathLst>
              </a:custGeom>
              <a:noFill/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4478400" y="3419640"/>
              <a:ext cx="46080" cy="1020600"/>
            </a:xfrm>
            <a:custGeom>
              <a:avLst/>
              <a:gdLst/>
              <a:ahLst/>
              <a:rect l="l" t="t" r="r" b="b"/>
              <a:pathLst>
                <a:path w="29" h="643">
                  <a:moveTo>
                    <a:pt x="0" y="643"/>
                  </a:moveTo>
                  <a:cubicBezTo>
                    <a:pt x="29" y="429"/>
                    <a:pt x="22" y="217"/>
                    <a:pt x="22" y="0"/>
                  </a:cubicBezTo>
                </a:path>
              </a:pathLst>
            </a:custGeom>
            <a:noFill/>
            <a:ln w="572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4459320" y="550440"/>
              <a:ext cx="4057200" cy="3917160"/>
              <a:chOff x="4459320" y="550440"/>
              <a:chExt cx="4057200" cy="3917160"/>
            </a:xfrm>
          </p:grpSpPr>
          <p:grpSp>
            <p:nvGrpSpPr>
              <p:cNvPr id="1222" name=""/>
              <p:cNvGrpSpPr/>
              <p:nvPr/>
            </p:nvGrpSpPr>
            <p:grpSpPr>
              <a:xfrm>
                <a:off x="6045480" y="550440"/>
                <a:ext cx="2471040" cy="2691720"/>
                <a:chOff x="6045480" y="550440"/>
                <a:chExt cx="2471040" cy="2691720"/>
              </a:xfrm>
            </p:grpSpPr>
            <p:sp>
              <p:nvSpPr>
                <p:cNvPr id="1223" name=""/>
                <p:cNvSpPr/>
                <p:nvPr/>
              </p:nvSpPr>
              <p:spPr>
                <a:xfrm rot="18445200">
                  <a:off x="6309720" y="1374840"/>
                  <a:ext cx="1677600" cy="149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 flipV="1" rot="18445200">
                  <a:off x="7506360" y="545400"/>
                  <a:ext cx="622080" cy="128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763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4459320" y="1627560"/>
                <a:ext cx="2145240" cy="2840040"/>
                <a:chOff x="4459320" y="1627560"/>
                <a:chExt cx="2145240" cy="2840040"/>
              </a:xfrm>
            </p:grpSpPr>
            <p:sp>
              <p:nvSpPr>
                <p:cNvPr id="1226" name=""/>
                <p:cNvSpPr/>
                <p:nvPr/>
              </p:nvSpPr>
              <p:spPr>
                <a:xfrm rot="2202000">
                  <a:off x="5764680" y="1871640"/>
                  <a:ext cx="309600" cy="1281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63300"/>
                    </a:gs>
                    <a:gs pos="100000">
                      <a:srgbClr val="e2d9d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flipV="1" rot="2201400">
                  <a:off x="6177960" y="1923840"/>
                  <a:ext cx="302400" cy="81360"/>
                </a:xfrm>
                <a:custGeom>
                  <a:avLst/>
                  <a:gdLst>
                    <a:gd name="textAreaLeft" fmla="*/ 66240 w 302400"/>
                    <a:gd name="textAreaRight" fmla="*/ 236160 w 302400"/>
                    <a:gd name="textAreaTop" fmla="*/ 17640 h 81360"/>
                    <a:gd name="textAreaBottom" fmla="*/ 63720 h 81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rot="2202000">
                  <a:off x="5299560" y="3015000"/>
                  <a:ext cx="400320" cy="12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2f00"/>
                    </a:gs>
                    <a:gs pos="100000">
                      <a:srgbClr val="9966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rot="2202000">
                  <a:off x="5239800" y="3124800"/>
                  <a:ext cx="400320" cy="7524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rot="2202000">
                  <a:off x="5320440" y="3190320"/>
                  <a:ext cx="172800" cy="41760"/>
                </a:xfrm>
                <a:prstGeom prst="rect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rot="2202000">
                  <a:off x="5206320" y="3184920"/>
                  <a:ext cx="97920" cy="4687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rot="2202000">
                  <a:off x="4866840" y="3546360"/>
                  <a:ext cx="128160" cy="619920"/>
                </a:xfrm>
                <a:prstGeom prst="rect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rot="2202000">
                  <a:off x="4575600" y="4066560"/>
                  <a:ext cx="83520" cy="417240"/>
                </a:xfrm>
                <a:custGeom>
                  <a:avLst/>
                  <a:gdLst>
                    <a:gd name="textAreaLeft" fmla="*/ 24120 w 83520"/>
                    <a:gd name="textAreaRight" fmla="*/ 59400 w 83520"/>
                    <a:gd name="textAreaTop" fmla="*/ 121680 h 417240"/>
                    <a:gd name="textAreaBottom" fmla="*/ 295560 h 417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3407" y="21600"/>
                      </a:lnTo>
                      <a:lnTo>
                        <a:pt x="8193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rot="2202000">
                  <a:off x="6386040" y="1633320"/>
                  <a:ext cx="131040" cy="335520"/>
                </a:xfrm>
                <a:prstGeom prst="rect">
                  <a:avLst/>
                </a:prstGeom>
                <a:solidFill>
                  <a:srgbClr val="96969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6508440" y="168084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476400" y="171900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449040" y="176076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427440" y="1789560"/>
                  <a:ext cx="6948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400080" y="1826280"/>
                  <a:ext cx="6948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377760" y="186372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350400" y="1892880"/>
                  <a:ext cx="6948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333480" y="185544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6361920" y="181944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6385680" y="178776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6406920" y="1754280"/>
                  <a:ext cx="6948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6462000" y="1680840"/>
                  <a:ext cx="69120" cy="51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436800" y="1719000"/>
                  <a:ext cx="69120" cy="51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rot="2202000">
                  <a:off x="5464440" y="3010680"/>
                  <a:ext cx="64800" cy="12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4600"/>
                    </a:gs>
                    <a:gs pos="100000">
                      <a:srgbClr val="cc9900"/>
                    </a:gs>
                  </a:gsLst>
                  <a:lin ang="13500000"/>
                </a:gra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5332680" y="2978640"/>
                  <a:ext cx="12132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5347080" y="2954880"/>
                  <a:ext cx="12132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5363640" y="2932560"/>
                  <a:ext cx="12132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5318640" y="299772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5534280" y="309636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5550840" y="307440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5519880" y="3115800"/>
                  <a:ext cx="120960" cy="9036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5501880" y="3132360"/>
                  <a:ext cx="129600" cy="9612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7" name=""/>
          <p:cNvSpPr/>
          <p:nvPr/>
        </p:nvSpPr>
        <p:spPr>
          <a:xfrm>
            <a:off x="6769080" y="3809880"/>
            <a:ext cx="2032200" cy="2400480"/>
          </a:xfrm>
          <a:prstGeom prst="wedgeRoundRectCallout">
            <a:avLst>
              <a:gd name="adj1" fmla="val -152111"/>
              <a:gd name="adj2" fmla="val -22620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从右上角开始，排列整齐焊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列空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357800" y="435780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344840" y="4940280"/>
            <a:ext cx="227160" cy="2271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762360" y="4346640"/>
            <a:ext cx="22716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762360" y="4916520"/>
            <a:ext cx="227160" cy="2271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168720" y="433404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168720" y="4927680"/>
            <a:ext cx="226800" cy="226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1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6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71400" y="38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练习板上焊接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977760" y="1901880"/>
            <a:ext cx="7107480" cy="581400"/>
          </a:xfrm>
          <a:prstGeom prst="rect">
            <a:avLst/>
          </a:prstGeom>
          <a:noFill/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练习时注意不断总结，把握加热时间、送锡多少，不可在一个点加热较长时间，否则会使印刷电路的焊盘烫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952560" y="4195800"/>
            <a:ext cx="7107120" cy="581400"/>
          </a:xfrm>
          <a:prstGeom prst="rect">
            <a:avLst/>
          </a:prstGeom>
          <a:noFill/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尽量排列整齐，才可以看出练习后的进步，改进不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-549360" y="31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 意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3284640" y="745920"/>
            <a:ext cx="3385440" cy="2199240"/>
            <a:chOff x="3284640" y="745920"/>
            <a:chExt cx="3385440" cy="2199240"/>
          </a:xfrm>
        </p:grpSpPr>
        <p:grpSp>
          <p:nvGrpSpPr>
            <p:cNvPr id="1269" name=""/>
            <p:cNvGrpSpPr/>
            <p:nvPr/>
          </p:nvGrpSpPr>
          <p:grpSpPr>
            <a:xfrm>
              <a:off x="4756680" y="745920"/>
              <a:ext cx="1913400" cy="1812600"/>
              <a:chOff x="4756680" y="745920"/>
              <a:chExt cx="1913400" cy="1812600"/>
            </a:xfrm>
          </p:grpSpPr>
          <p:sp>
            <p:nvSpPr>
              <p:cNvPr id="1270" name=""/>
              <p:cNvSpPr/>
              <p:nvPr/>
            </p:nvSpPr>
            <p:spPr>
              <a:xfrm rot="19363200">
                <a:off x="4945680" y="1250640"/>
                <a:ext cx="1231920" cy="104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 flipV="1" rot="19363200">
                <a:off x="5988960" y="792360"/>
                <a:ext cx="456480" cy="89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3284640" y="1319040"/>
              <a:ext cx="2043000" cy="1626120"/>
              <a:chOff x="3284640" y="1319040"/>
              <a:chExt cx="2043000" cy="1626120"/>
            </a:xfrm>
          </p:grpSpPr>
          <p:sp>
            <p:nvSpPr>
              <p:cNvPr id="1273" name=""/>
              <p:cNvSpPr/>
              <p:nvPr/>
            </p:nvSpPr>
            <p:spPr>
              <a:xfrm rot="3119400">
                <a:off x="4579560" y="1360800"/>
                <a:ext cx="215640" cy="9417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 rot="3119400">
                <a:off x="4978080" y="1492200"/>
                <a:ext cx="210600" cy="59760"/>
              </a:xfrm>
              <a:custGeom>
                <a:avLst/>
                <a:gdLst>
                  <a:gd name="textAreaLeft" fmla="*/ 46080 w 210600"/>
                  <a:gd name="textAreaRight" fmla="*/ 164520 w 210600"/>
                  <a:gd name="textAreaTop" fmla="*/ 12960 h 59760"/>
                  <a:gd name="textAreaBottom" fmla="*/ 46800 h 5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3119400">
                <a:off x="4140720" y="2104560"/>
                <a:ext cx="278640" cy="9468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3119400">
                <a:off x="4081680" y="2171160"/>
                <a:ext cx="278640" cy="554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3119400">
                <a:off x="4128840" y="2211840"/>
                <a:ext cx="120240" cy="3060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3119400">
                <a:off x="4006800" y="2172600"/>
                <a:ext cx="68040" cy="3445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3119400">
                <a:off x="3681360" y="2364120"/>
                <a:ext cx="89280" cy="45540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3119400">
                <a:off x="3394080" y="2674440"/>
                <a:ext cx="57960" cy="306360"/>
              </a:xfrm>
              <a:custGeom>
                <a:avLst/>
                <a:gdLst>
                  <a:gd name="textAreaLeft" fmla="*/ 16920 w 57960"/>
                  <a:gd name="textAreaRight" fmla="*/ 41040 w 57960"/>
                  <a:gd name="textAreaTop" fmla="*/ 89280 h 306360"/>
                  <a:gd name="textAreaBottom" fmla="*/ 217080 h 30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3119400">
                <a:off x="5156640" y="1307520"/>
                <a:ext cx="91080" cy="24660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266440" y="135684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236200" y="13777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209200" y="1401840"/>
                <a:ext cx="3672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188320" y="141804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161680" y="14389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138280" y="146088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113440" y="14767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109480" y="1447920"/>
                <a:ext cx="37080" cy="4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136480" y="1428120"/>
                <a:ext cx="37080" cy="4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159520" y="1410120"/>
                <a:ext cx="37080" cy="47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181120" y="139032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234400" y="1348920"/>
                <a:ext cx="3672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209200" y="1371240"/>
                <a:ext cx="37080" cy="4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3119400">
                <a:off x="4257000" y="2100960"/>
                <a:ext cx="45000" cy="9468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185720" y="20541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200480" y="20397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216680" y="20271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172040" y="2064960"/>
                <a:ext cx="6444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4300200" y="21693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316400" y="2156760"/>
                <a:ext cx="64800" cy="82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286160" y="2180160"/>
                <a:ext cx="64800" cy="83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270680" y="2188800"/>
                <a:ext cx="69480" cy="885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4" name=""/>
          <p:cNvSpPr/>
          <p:nvPr/>
        </p:nvSpPr>
        <p:spPr>
          <a:xfrm>
            <a:off x="3697200" y="4105440"/>
            <a:ext cx="649440" cy="374400"/>
          </a:xfrm>
          <a:custGeom>
            <a:avLst/>
            <a:gdLst/>
            <a:ahLst/>
            <a:rect l="l" t="t" r="r" b="b"/>
            <a:pathLst>
              <a:path w="409" h="236">
                <a:moveTo>
                  <a:pt x="40" y="234"/>
                </a:moveTo>
                <a:cubicBezTo>
                  <a:pt x="0" y="214"/>
                  <a:pt x="98" y="158"/>
                  <a:pt x="126" y="116"/>
                </a:cubicBezTo>
                <a:cubicBezTo>
                  <a:pt x="153" y="75"/>
                  <a:pt x="173" y="3"/>
                  <a:pt x="206" y="0"/>
                </a:cubicBezTo>
                <a:cubicBezTo>
                  <a:pt x="232" y="1"/>
                  <a:pt x="255" y="84"/>
                  <a:pt x="282" y="124"/>
                </a:cubicBezTo>
                <a:cubicBezTo>
                  <a:pt x="307" y="162"/>
                  <a:pt x="409" y="216"/>
                  <a:pt x="369" y="236"/>
                </a:cubicBezTo>
                <a:lnTo>
                  <a:pt x="40" y="234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dfdfdf"/>
              </a:gs>
              <a:gs pos="100000">
                <a:srgbClr val="808080"/>
              </a:gs>
            </a:gsLst>
            <a:lin ang="10800000"/>
          </a:gra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3079800" y="4178160"/>
            <a:ext cx="1285920" cy="1916640"/>
            <a:chOff x="3079800" y="4178160"/>
            <a:chExt cx="1285920" cy="1916640"/>
          </a:xfrm>
        </p:grpSpPr>
        <p:sp>
          <p:nvSpPr>
            <p:cNvPr id="1306" name=""/>
            <p:cNvSpPr/>
            <p:nvPr/>
          </p:nvSpPr>
          <p:spPr>
            <a:xfrm flipV="1">
              <a:off x="3966840" y="4230360"/>
              <a:ext cx="398880" cy="23976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3079800" y="4178160"/>
              <a:ext cx="319680" cy="28440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3428640" y="4453560"/>
              <a:ext cx="549360" cy="15847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3269520" y="4866120"/>
              <a:ext cx="774360" cy="1078560"/>
              <a:chOff x="3269520" y="4866120"/>
              <a:chExt cx="774360" cy="1078560"/>
            </a:xfrm>
          </p:grpSpPr>
          <p:sp>
            <p:nvSpPr>
              <p:cNvPr id="1310" name=""/>
              <p:cNvSpPr/>
              <p:nvPr/>
            </p:nvSpPr>
            <p:spPr>
              <a:xfrm flipH="1" rot="17100000">
                <a:off x="3232800" y="5246640"/>
                <a:ext cx="857160" cy="3333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 rot="17100000">
                <a:off x="3712320" y="4769280"/>
                <a:ext cx="163080" cy="47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 rot="6300000">
                <a:off x="3438360" y="5570640"/>
                <a:ext cx="159120" cy="472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 rot="17100000">
                <a:off x="3491640" y="5541120"/>
                <a:ext cx="97200" cy="51120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 rot="17100000">
                <a:off x="3731400" y="4940640"/>
                <a:ext cx="72720" cy="33336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 rot="17100000">
                <a:off x="3581280" y="5382360"/>
                <a:ext cx="74160" cy="3337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 rot="17100000">
                <a:off x="3656160" y="5162040"/>
                <a:ext cx="72720" cy="33336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7" name=""/>
            <p:cNvSpPr/>
            <p:nvPr/>
          </p:nvSpPr>
          <p:spPr>
            <a:xfrm flipV="1">
              <a:off x="3193200" y="5888880"/>
              <a:ext cx="246600" cy="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" y="8967"/>
                  </a:moveTo>
                  <a:arcTo wR="10800" hR="10800" stAng="-10213724" swAng="10213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" y="8967"/>
                  </a:moveTo>
                  <a:arcTo wR="10800" hR="10800" stAng="-10213724" swAng="10213724"/>
                </a:path>
              </a:pathLst>
            </a:cu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3198600" y="4453560"/>
              <a:ext cx="208080" cy="159192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-720000" y="1416600"/>
            <a:ext cx="5283720" cy="3711240"/>
            <a:chOff x="-720000" y="1416600"/>
            <a:chExt cx="5283720" cy="3711240"/>
          </a:xfrm>
        </p:grpSpPr>
        <p:sp>
          <p:nvSpPr>
            <p:cNvPr id="1320" name=""/>
            <p:cNvSpPr/>
            <p:nvPr/>
          </p:nvSpPr>
          <p:spPr>
            <a:xfrm rot="21013800">
              <a:off x="-476640" y="1689840"/>
              <a:ext cx="3493440" cy="316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 flipV="1" rot="21013800">
              <a:off x="3046680" y="1671120"/>
              <a:ext cx="1296000" cy="271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2" name=""/>
          <p:cNvSpPr/>
          <p:nvPr/>
        </p:nvSpPr>
        <p:spPr>
          <a:xfrm rot="917400">
            <a:off x="4395600" y="2727000"/>
            <a:ext cx="1517400" cy="1847880"/>
          </a:xfrm>
          <a:custGeom>
            <a:avLst/>
            <a:gdLst/>
            <a:ahLst/>
            <a:rect l="l" t="t" r="r" b="b"/>
            <a:pathLst>
              <a:path w="1152" h="1579">
                <a:moveTo>
                  <a:pt x="750" y="0"/>
                </a:moveTo>
                <a:lnTo>
                  <a:pt x="0" y="1262"/>
                </a:lnTo>
                <a:lnTo>
                  <a:pt x="0" y="1579"/>
                </a:lnTo>
                <a:lnTo>
                  <a:pt x="1152" y="300"/>
                </a:lnTo>
                <a:lnTo>
                  <a:pt x="750" y="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rot="3119400">
            <a:off x="6573600" y="880920"/>
            <a:ext cx="726840" cy="2806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03160" y="2630520"/>
            <a:ext cx="1644840" cy="674640"/>
          </a:xfrm>
          <a:prstGeom prst="wedgeEllipseCallout">
            <a:avLst>
              <a:gd name="adj1" fmla="val 84268"/>
              <a:gd name="adj2" fmla="val 3258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339920" y="4484520"/>
            <a:ext cx="5567400" cy="1800"/>
          </a:xfrm>
          <a:prstGeom prst="line">
            <a:avLst/>
          </a:prstGeom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160" y="3351240"/>
            <a:ext cx="1987560" cy="2733480"/>
          </a:xfrm>
          <a:prstGeom prst="wedgeRoundRectCallout">
            <a:avLst>
              <a:gd name="adj1" fmla="val 98240"/>
              <a:gd name="adj2" fmla="val -13180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加热中要把斜面靠在元件脚上使加热面积最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799160" y="4687920"/>
            <a:ext cx="3914640" cy="1955880"/>
          </a:xfrm>
          <a:prstGeom prst="wedgeEllipseCallout">
            <a:avLst>
              <a:gd name="adj1" fmla="val -70152"/>
              <a:gd name="adj2" fmla="val -67856"/>
            </a:avLst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焊点高约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1.5mm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直径与焊盘一致脚高出约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0.5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0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619200" y="444600"/>
            <a:ext cx="7772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焊点的正确形状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539640" y="1011240"/>
            <a:ext cx="7600680" cy="5141160"/>
            <a:chOff x="539640" y="1011240"/>
            <a:chExt cx="7600680" cy="5141160"/>
          </a:xfrm>
        </p:grpSpPr>
        <p:sp>
          <p:nvSpPr>
            <p:cNvPr id="1330" name=""/>
            <p:cNvSpPr/>
            <p:nvPr/>
          </p:nvSpPr>
          <p:spPr>
            <a:xfrm>
              <a:off x="1628640" y="1011240"/>
              <a:ext cx="1401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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452840" y="1271520"/>
              <a:ext cx="936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00"/>
                  </a:solidFill>
                  <a:latin typeface="Wingdings 2"/>
                  <a:ea typeface="Wingdings 2"/>
                </a:rPr>
                <a:t></a:t>
              </a:r>
              <a:r>
                <a:rPr b="1" lang="zh-CN" sz="9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539640" y="1379520"/>
              <a:ext cx="7600680" cy="4772880"/>
              <a:chOff x="539640" y="1379520"/>
              <a:chExt cx="7600680" cy="4772880"/>
            </a:xfrm>
          </p:grpSpPr>
          <p:sp>
            <p:nvSpPr>
              <p:cNvPr id="1333" name=""/>
              <p:cNvSpPr/>
              <p:nvPr/>
            </p:nvSpPr>
            <p:spPr>
              <a:xfrm flipV="1">
                <a:off x="6980040" y="247644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 flipV="1">
                <a:off x="6028560" y="2432160"/>
                <a:ext cx="34308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6403680" y="2664000"/>
                <a:ext cx="588960" cy="13348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 rot="17100000">
                <a:off x="6289200" y="329148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 rot="17100000">
                <a:off x="6675840" y="2846520"/>
                <a:ext cx="13680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 rot="6300000">
                <a:off x="6481440" y="3562920"/>
                <a:ext cx="13464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 rot="17100000">
                <a:off x="6533280" y="354780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 rot="17100000">
                <a:off x="6750720" y="302472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 rot="17100000">
                <a:off x="6568200" y="341208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 rot="17100000">
                <a:off x="6659640" y="3218040"/>
                <a:ext cx="6048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V="1">
                <a:off x="6150960" y="3871440"/>
                <a:ext cx="26352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6156000" y="266400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V="1">
                <a:off x="2279520" y="2449440"/>
                <a:ext cx="42840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 flipV="1">
                <a:off x="1328040" y="2405160"/>
                <a:ext cx="34308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V="1">
                <a:off x="1703160" y="2637000"/>
                <a:ext cx="588960" cy="13348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 rot="17100000">
                <a:off x="1588680" y="326448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 rot="17100000">
                <a:off x="1990080" y="2834280"/>
                <a:ext cx="13716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 rot="6300000">
                <a:off x="1779480" y="3536280"/>
                <a:ext cx="13464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 rot="17100000">
                <a:off x="1833120" y="3506400"/>
                <a:ext cx="81000" cy="54792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 rot="17100000">
                <a:off x="2050200" y="299772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 rot="17100000">
                <a:off x="1867680" y="3385080"/>
                <a:ext cx="61920" cy="3578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 rot="17100000">
                <a:off x="1959120" y="3191040"/>
                <a:ext cx="6048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1450440" y="3844440"/>
                <a:ext cx="26496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1455480" y="263700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4686120" y="246060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 flipV="1">
                <a:off x="3734640" y="2415960"/>
                <a:ext cx="343080" cy="2394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4109760" y="2647440"/>
                <a:ext cx="588960" cy="13352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 rot="17100000">
                <a:off x="3995280" y="327564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 rot="17100000">
                <a:off x="4382640" y="2845080"/>
                <a:ext cx="13716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 rot="6300000">
                <a:off x="4187880" y="3546360"/>
                <a:ext cx="13428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 rot="17100000">
                <a:off x="4253400" y="351756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 rot="17100000">
                <a:off x="4399560" y="300888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 rot="17100000">
                <a:off x="4275000" y="3395520"/>
                <a:ext cx="61560" cy="3571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 rot="17100000">
                <a:off x="4366080" y="3202200"/>
                <a:ext cx="6012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3857040" y="3855600"/>
                <a:ext cx="26352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3862080" y="2647440"/>
                <a:ext cx="223920" cy="13417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539640" y="2652480"/>
                <a:ext cx="7600680" cy="11736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6794280" y="453852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 flipV="1">
                <a:off x="5843520" y="4494240"/>
                <a:ext cx="34272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6217920" y="4726080"/>
                <a:ext cx="588960" cy="13348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 rot="17100000">
                <a:off x="6103440" y="5353560"/>
                <a:ext cx="72216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H="1" rot="17100000">
                <a:off x="6519240" y="4923360"/>
                <a:ext cx="13716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H="1" rot="6300000">
                <a:off x="6280920" y="5625000"/>
                <a:ext cx="13428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 rot="17100000">
                <a:off x="6331680" y="5592600"/>
                <a:ext cx="88560" cy="5619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 rot="17100000">
                <a:off x="6564960" y="508680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 rot="17100000">
                <a:off x="6382440" y="547416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 rot="17100000">
                <a:off x="6473880" y="5280120"/>
                <a:ext cx="6048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5965200" y="5933160"/>
                <a:ext cx="263520" cy="1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5970240" y="4739760"/>
                <a:ext cx="223920" cy="13417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2284200" y="4583160"/>
                <a:ext cx="42696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 flipV="1">
                <a:off x="1332720" y="4538520"/>
                <a:ext cx="34308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1707840" y="4770000"/>
                <a:ext cx="588960" cy="13352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H="1" rot="17100000">
                <a:off x="1593000" y="5398200"/>
                <a:ext cx="722520" cy="35856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H="1" rot="17100000">
                <a:off x="1994760" y="4968000"/>
                <a:ext cx="13716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H="1" rot="6300000">
                <a:off x="1785960" y="5668920"/>
                <a:ext cx="13428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H="1" rot="17100000">
                <a:off x="1837440" y="564012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 rot="17100000">
                <a:off x="1997640" y="513108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H="1" rot="17100000">
                <a:off x="1872360" y="551844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 rot="17100000">
                <a:off x="1935720" y="5324760"/>
                <a:ext cx="6012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1455120" y="5978160"/>
                <a:ext cx="263520" cy="17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1460160" y="477036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4587480" y="4540320"/>
                <a:ext cx="427320" cy="2016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H="1" flipV="1">
                <a:off x="3636720" y="4495680"/>
                <a:ext cx="342720" cy="2397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4011480" y="4727160"/>
                <a:ext cx="588960" cy="133524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H="1" rot="17100000">
                <a:off x="3897000" y="5355000"/>
                <a:ext cx="722520" cy="35892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H="1" rot="17100000">
                <a:off x="4312800" y="4924800"/>
                <a:ext cx="137160" cy="50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 rot="6300000">
                <a:off x="4074120" y="5640840"/>
                <a:ext cx="134280" cy="50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 rot="17100000">
                <a:off x="4097880" y="5597280"/>
                <a:ext cx="81000" cy="54756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 rot="17100000">
                <a:off x="4358160" y="508824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 rot="17100000">
                <a:off x="4175640" y="5475600"/>
                <a:ext cx="61920" cy="3574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 rot="17100000">
                <a:off x="4267800" y="5281920"/>
                <a:ext cx="60120" cy="357120"/>
              </a:xfrm>
              <a:prstGeom prst="rect">
                <a:avLst/>
              </a:prstGeom>
              <a:gradFill rotWithShape="0">
                <a:gsLst>
                  <a:gs pos="0">
                    <a:srgbClr val="434343"/>
                  </a:gs>
                  <a:gs pos="50000">
                    <a:srgbClr val="000000"/>
                  </a:gs>
                  <a:gs pos="100000">
                    <a:srgbClr val="43434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3758760" y="5934600"/>
                <a:ext cx="263520" cy="1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V="1">
                <a:off x="3763800" y="4727520"/>
                <a:ext cx="223920" cy="134136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539640" y="4746960"/>
                <a:ext cx="7600680" cy="11772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7" name=""/>
              <p:cNvGrpSpPr/>
              <p:nvPr/>
            </p:nvGrpSpPr>
            <p:grpSpPr>
              <a:xfrm>
                <a:off x="1180800" y="1379520"/>
                <a:ext cx="6549840" cy="3544560"/>
                <a:chOff x="1180800" y="1379520"/>
                <a:chExt cx="6549840" cy="354456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6860880" y="2503440"/>
                  <a:ext cx="695160" cy="141480"/>
                </a:xfrm>
                <a:prstGeom prst="triangle">
                  <a:avLst>
                    <a:gd name="adj" fmla="val 46824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4417560" y="2293200"/>
                  <a:ext cx="477720" cy="38916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1604520" y="3367080"/>
                  <a:ext cx="108576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4374720" y="4357800"/>
                  <a:ext cx="534960" cy="388800"/>
                </a:xfrm>
                <a:custGeom>
                  <a:avLst/>
                  <a:gdLst/>
                  <a:ahLst/>
                  <a:rect l="l" t="t" r="r" b="b"/>
                  <a:pathLst>
                    <a:path w="471" h="422">
                      <a:moveTo>
                        <a:pt x="86" y="422"/>
                      </a:moveTo>
                      <a:cubicBezTo>
                        <a:pt x="22" y="408"/>
                        <a:pt x="10" y="393"/>
                        <a:pt x="5" y="348"/>
                      </a:cubicBezTo>
                      <a:cubicBezTo>
                        <a:pt x="0" y="304"/>
                        <a:pt x="34" y="198"/>
                        <a:pt x="73" y="139"/>
                      </a:cubicBezTo>
                      <a:cubicBezTo>
                        <a:pt x="112" y="81"/>
                        <a:pt x="184" y="0"/>
                        <a:pt x="238" y="2"/>
                      </a:cubicBezTo>
                      <a:cubicBezTo>
                        <a:pt x="293" y="2"/>
                        <a:pt x="365" y="85"/>
                        <a:pt x="403" y="141"/>
                      </a:cubicBezTo>
                      <a:cubicBezTo>
                        <a:pt x="439" y="196"/>
                        <a:pt x="471" y="294"/>
                        <a:pt x="468" y="336"/>
                      </a:cubicBezTo>
                      <a:cubicBezTo>
                        <a:pt x="466" y="377"/>
                        <a:pt x="457" y="408"/>
                        <a:pt x="393" y="422"/>
                      </a:cubicBezTo>
                      <a:lnTo>
                        <a:pt x="86" y="4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6644880" y="3225960"/>
                  <a:ext cx="108576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6467040" y="1379520"/>
                  <a:ext cx="9367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V="1">
                  <a:off x="5897160" y="2154240"/>
                  <a:ext cx="671400" cy="541440"/>
                </a:xfrm>
                <a:custGeom>
                  <a:avLst/>
                  <a:gdLst>
                    <a:gd name="textAreaLeft" fmla="*/ 157680 w 671400"/>
                    <a:gd name="textAreaRight" fmla="*/ 513360 w 671400"/>
                    <a:gd name="textAreaTop" fmla="*/ 63360 h 541440"/>
                    <a:gd name="textAreaBottom" fmla="*/ 339840 h 541440"/>
                  </a:gdLst>
                  <a:ahLst/>
                  <a:rect l="textAreaLeft" t="textAreaTop" r="textAreaRight" b="textAreaBottom"/>
                  <a:pathLst>
                    <a:path w="21615" h="21602">
                      <a:moveTo>
                        <a:pt x="10800" y="21599"/>
                      </a:moveTo>
                      <a:lnTo>
                        <a:pt x="321" y="6886"/>
                      </a:lnTo>
                      <a:lnTo>
                        <a:pt x="70" y="6036"/>
                      </a:lnTo>
                      <a:cubicBezTo>
                        <a:pt x="-9" y="5766"/>
                        <a:pt x="-1" y="5474"/>
                        <a:pt x="2" y="5192"/>
                      </a:cubicBezTo>
                      <a:cubicBezTo>
                        <a:pt x="6" y="4918"/>
                        <a:pt x="43" y="4641"/>
                        <a:pt x="101" y="4370"/>
                      </a:cubicBezTo>
                      <a:cubicBezTo>
                        <a:pt x="159" y="4103"/>
                        <a:pt x="245" y="3837"/>
                        <a:pt x="353" y="3582"/>
                      </a:cubicBezTo>
                      <a:cubicBezTo>
                        <a:pt x="460" y="3326"/>
                        <a:pt x="591" y="3077"/>
                        <a:pt x="741" y="2839"/>
                      </a:cubicBezTo>
                      <a:cubicBezTo>
                        <a:pt x="892" y="2598"/>
                        <a:pt x="1066" y="2369"/>
                        <a:pt x="1253" y="2155"/>
                      </a:cubicBezTo>
                      <a:cubicBezTo>
                        <a:pt x="1443" y="1938"/>
                        <a:pt x="1651" y="1732"/>
                        <a:pt x="1874" y="1543"/>
                      </a:cubicBezTo>
                      <a:cubicBezTo>
                        <a:pt x="2097" y="1351"/>
                        <a:pt x="2337" y="1174"/>
                        <a:pt x="2587" y="1014"/>
                      </a:cubicBezTo>
                      <a:cubicBezTo>
                        <a:pt x="2839" y="854"/>
                        <a:pt x="3106" y="708"/>
                        <a:pt x="3380" y="584"/>
                      </a:cubicBezTo>
                      <a:cubicBezTo>
                        <a:pt x="3656" y="459"/>
                        <a:pt x="3945" y="350"/>
                        <a:pt x="4237" y="264"/>
                      </a:cubicBezTo>
                      <a:cubicBezTo>
                        <a:pt x="4533" y="176"/>
                        <a:pt x="4838" y="108"/>
                        <a:pt x="5144" y="66"/>
                      </a:cubicBezTo>
                      <a:cubicBezTo>
                        <a:pt x="5454" y="22"/>
                        <a:pt x="5771" y="1"/>
                        <a:pt x="6086" y="3"/>
                      </a:cubicBezTo>
                      <a:cubicBezTo>
                        <a:pt x="6407" y="7"/>
                        <a:pt x="6731" y="35"/>
                        <a:pt x="7048" y="89"/>
                      </a:cubicBezTo>
                      <a:cubicBezTo>
                        <a:pt x="7374" y="144"/>
                        <a:pt x="7700" y="226"/>
                        <a:pt x="8015" y="335"/>
                      </a:cubicBezTo>
                      <a:cubicBezTo>
                        <a:pt x="8344" y="447"/>
                        <a:pt x="8667" y="590"/>
                        <a:pt x="8972" y="756"/>
                      </a:cubicBezTo>
                      <a:cubicBezTo>
                        <a:pt x="9297" y="932"/>
                        <a:pt x="9613" y="1135"/>
                        <a:pt x="9907" y="1363"/>
                      </a:cubicBezTo>
                      <a:cubicBezTo>
                        <a:pt x="10224" y="1609"/>
                        <a:pt x="10504" y="1900"/>
                        <a:pt x="10802" y="2169"/>
                      </a:cubicBezTo>
                      <a:lnTo>
                        <a:pt x="11697" y="1363"/>
                      </a:lnTo>
                      <a:cubicBezTo>
                        <a:pt x="11971" y="1116"/>
                        <a:pt x="12304" y="934"/>
                        <a:pt x="12630" y="756"/>
                      </a:cubicBezTo>
                      <a:cubicBezTo>
                        <a:pt x="12935" y="590"/>
                        <a:pt x="13528" y="450"/>
                        <a:pt x="13589" y="335"/>
                      </a:cubicBezTo>
                      <a:cubicBezTo>
                        <a:pt x="13901" y="226"/>
                        <a:pt x="14227" y="144"/>
                        <a:pt x="14556" y="89"/>
                      </a:cubicBezTo>
                      <a:cubicBezTo>
                        <a:pt x="14872" y="35"/>
                        <a:pt x="15195" y="7"/>
                        <a:pt x="15517" y="3"/>
                      </a:cubicBezTo>
                      <a:cubicBezTo>
                        <a:pt x="15830" y="0"/>
                        <a:pt x="16147" y="22"/>
                        <a:pt x="16458" y="66"/>
                      </a:cubicBezTo>
                      <a:cubicBezTo>
                        <a:pt x="16764" y="109"/>
                        <a:pt x="17068" y="177"/>
                        <a:pt x="17365" y="264"/>
                      </a:cubicBezTo>
                      <a:cubicBezTo>
                        <a:pt x="17658" y="349"/>
                        <a:pt x="17946" y="458"/>
                        <a:pt x="18222" y="584"/>
                      </a:cubicBezTo>
                      <a:cubicBezTo>
                        <a:pt x="18496" y="708"/>
                        <a:pt x="18762" y="854"/>
                        <a:pt x="19015" y="1014"/>
                      </a:cubicBezTo>
                      <a:cubicBezTo>
                        <a:pt x="19264" y="1172"/>
                        <a:pt x="19504" y="1349"/>
                        <a:pt x="19730" y="1543"/>
                      </a:cubicBezTo>
                      <a:cubicBezTo>
                        <a:pt x="19950" y="1731"/>
                        <a:pt x="20158" y="1937"/>
                        <a:pt x="20350" y="2155"/>
                      </a:cubicBezTo>
                      <a:cubicBezTo>
                        <a:pt x="20536" y="2369"/>
                        <a:pt x="20710" y="2598"/>
                        <a:pt x="20861" y="2839"/>
                      </a:cubicBezTo>
                      <a:cubicBezTo>
                        <a:pt x="21010" y="3074"/>
                        <a:pt x="21143" y="3323"/>
                        <a:pt x="21251" y="3582"/>
                      </a:cubicBezTo>
                      <a:cubicBezTo>
                        <a:pt x="21357" y="3835"/>
                        <a:pt x="21443" y="4099"/>
                        <a:pt x="21502" y="4370"/>
                      </a:cubicBezTo>
                      <a:cubicBezTo>
                        <a:pt x="21561" y="4639"/>
                        <a:pt x="21595" y="4916"/>
                        <a:pt x="21600" y="5192"/>
                      </a:cubicBezTo>
                      <a:cubicBezTo>
                        <a:pt x="21606" y="5474"/>
                        <a:pt x="21584" y="5760"/>
                        <a:pt x="21532" y="6036"/>
                      </a:cubicBezTo>
                      <a:cubicBezTo>
                        <a:pt x="21478" y="6326"/>
                        <a:pt x="21366" y="6603"/>
                        <a:pt x="21282" y="6887"/>
                      </a:cubicBezTo>
                      <a:lnTo>
                        <a:pt x="10802" y="2160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180800" y="2264040"/>
                  <a:ext cx="662040" cy="40140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3674520" y="2278080"/>
                  <a:ext cx="540000" cy="378000"/>
                </a:xfrm>
                <a:custGeom>
                  <a:avLst/>
                  <a:gdLst/>
                  <a:ahLst/>
                  <a:rect l="l" t="t" r="r" b="b"/>
                  <a:pathLst>
                    <a:path w="471" h="422">
                      <a:moveTo>
                        <a:pt x="86" y="422"/>
                      </a:moveTo>
                      <a:cubicBezTo>
                        <a:pt x="22" y="408"/>
                        <a:pt x="10" y="393"/>
                        <a:pt x="5" y="348"/>
                      </a:cubicBezTo>
                      <a:cubicBezTo>
                        <a:pt x="0" y="304"/>
                        <a:pt x="34" y="198"/>
                        <a:pt x="73" y="139"/>
                      </a:cubicBezTo>
                      <a:cubicBezTo>
                        <a:pt x="112" y="81"/>
                        <a:pt x="184" y="0"/>
                        <a:pt x="238" y="2"/>
                      </a:cubicBezTo>
                      <a:cubicBezTo>
                        <a:pt x="293" y="2"/>
                        <a:pt x="365" y="85"/>
                        <a:pt x="403" y="141"/>
                      </a:cubicBezTo>
                      <a:cubicBezTo>
                        <a:pt x="439" y="196"/>
                        <a:pt x="471" y="294"/>
                        <a:pt x="468" y="336"/>
                      </a:cubicBezTo>
                      <a:cubicBezTo>
                        <a:pt x="466" y="377"/>
                        <a:pt x="457" y="408"/>
                        <a:pt x="393" y="422"/>
                      </a:cubicBezTo>
                      <a:lnTo>
                        <a:pt x="86" y="42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3526920" y="4299120"/>
                  <a:ext cx="657360" cy="460440"/>
                </a:xfrm>
                <a:custGeom>
                  <a:avLst/>
                  <a:gdLst/>
                  <a:ahLst/>
                  <a:rect l="l" t="t" r="r" b="b"/>
                  <a:pathLst>
                    <a:path w="512" h="456">
                      <a:moveTo>
                        <a:pt x="88" y="456"/>
                      </a:moveTo>
                      <a:cubicBezTo>
                        <a:pt x="31" y="444"/>
                        <a:pt x="9" y="391"/>
                        <a:pt x="4" y="351"/>
                      </a:cubicBezTo>
                      <a:cubicBezTo>
                        <a:pt x="0" y="312"/>
                        <a:pt x="107" y="273"/>
                        <a:pt x="142" y="221"/>
                      </a:cubicBezTo>
                      <a:cubicBezTo>
                        <a:pt x="177" y="169"/>
                        <a:pt x="186" y="108"/>
                        <a:pt x="223" y="82"/>
                      </a:cubicBezTo>
                      <a:cubicBezTo>
                        <a:pt x="257" y="46"/>
                        <a:pt x="322" y="0"/>
                        <a:pt x="349" y="6"/>
                      </a:cubicBezTo>
                      <a:cubicBezTo>
                        <a:pt x="376" y="12"/>
                        <a:pt x="366" y="87"/>
                        <a:pt x="388" y="121"/>
                      </a:cubicBezTo>
                      <a:cubicBezTo>
                        <a:pt x="410" y="155"/>
                        <a:pt x="473" y="170"/>
                        <a:pt x="480" y="213"/>
                      </a:cubicBezTo>
                      <a:cubicBezTo>
                        <a:pt x="512" y="262"/>
                        <a:pt x="431" y="342"/>
                        <a:pt x="428" y="379"/>
                      </a:cubicBezTo>
                      <a:cubicBezTo>
                        <a:pt x="427" y="416"/>
                        <a:pt x="419" y="444"/>
                        <a:pt x="361" y="456"/>
                      </a:cubicBezTo>
                      <a:lnTo>
                        <a:pt x="88" y="456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1333080" y="4318200"/>
                  <a:ext cx="325440" cy="436320"/>
                </a:xfrm>
                <a:prstGeom prst="triangle">
                  <a:avLst>
                    <a:gd name="adj" fmla="val 46824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010960" y="4368960"/>
                  <a:ext cx="679320" cy="404640"/>
                </a:xfrm>
                <a:prstGeom prst="triangle">
                  <a:avLst>
                    <a:gd name="adj" fmla="val 89921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660640" y="4505400"/>
                  <a:ext cx="744480" cy="27792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562440" y="4489560"/>
                  <a:ext cx="492120" cy="2840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4335120" y="3283200"/>
                  <a:ext cx="934920" cy="155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9600" spc="-1" strike="noStrike">
                      <a:solidFill>
                        <a:srgbClr val="ff0000"/>
                      </a:solidFill>
                      <a:latin typeface="Wingdings 2"/>
                      <a:ea typeface="Wingdings 2"/>
                    </a:rPr>
                    <a:t></a:t>
                  </a:r>
                  <a:r>
                    <a:rPr b="1" lang="zh-CN" sz="9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1950480" y="2247840"/>
                  <a:ext cx="663840" cy="403200"/>
                </a:xfrm>
                <a:custGeom>
                  <a:avLst/>
                  <a:gdLst/>
                  <a:ahLst/>
                  <a:rect l="l" t="t" r="r" b="b"/>
                  <a:pathLst>
                    <a:path w="409" h="236">
                      <a:moveTo>
                        <a:pt x="40" y="234"/>
                      </a:moveTo>
                      <a:cubicBezTo>
                        <a:pt x="0" y="214"/>
                        <a:pt x="98" y="158"/>
                        <a:pt x="126" y="116"/>
                      </a:cubicBezTo>
                      <a:cubicBezTo>
                        <a:pt x="153" y="75"/>
                        <a:pt x="173" y="3"/>
                        <a:pt x="206" y="0"/>
                      </a:cubicBezTo>
                      <a:cubicBezTo>
                        <a:pt x="232" y="1"/>
                        <a:pt x="255" y="84"/>
                        <a:pt x="282" y="124"/>
                      </a:cubicBezTo>
                      <a:cubicBezTo>
                        <a:pt x="307" y="162"/>
                        <a:pt x="409" y="216"/>
                        <a:pt x="369" y="236"/>
                      </a:cubicBezTo>
                      <a:lnTo>
                        <a:pt x="40" y="2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50000">
                      <a:srgbClr val="dfdfdf"/>
                    </a:gs>
                    <a:gs pos="100000">
                      <a:srgbClr val="808080"/>
                    </a:gs>
                  </a:gsLst>
                  <a:lin ang="10800000"/>
                </a:gradFill>
                <a:ln w="38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762120" y="38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四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元器件焊接与安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443400" y="1562040"/>
            <a:ext cx="5354640" cy="2521080"/>
          </a:xfrm>
          <a:prstGeom prst="cloudCallout">
            <a:avLst>
              <a:gd name="adj1" fmla="val -52611"/>
              <a:gd name="adj2" fmla="val 64986"/>
            </a:avLst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不仅要位置正确，还要焊接牢固可靠，形状整洁美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076400" y="4116240"/>
            <a:ext cx="2291760" cy="2415960"/>
            <a:chOff x="1076400" y="4116240"/>
            <a:chExt cx="2291760" cy="2415960"/>
          </a:xfrm>
        </p:grpSpPr>
        <p:sp>
          <p:nvSpPr>
            <p:cNvPr id="1427" name=""/>
            <p:cNvSpPr/>
            <p:nvPr/>
          </p:nvSpPr>
          <p:spPr>
            <a:xfrm>
              <a:off x="2985840" y="4676400"/>
              <a:ext cx="172440" cy="289080"/>
            </a:xfrm>
            <a:custGeom>
              <a:avLst/>
              <a:gdLst/>
              <a:ahLst/>
              <a:rect l="l" t="t" r="r" b="b"/>
              <a:pathLst>
                <a:path w="216" h="366">
                  <a:moveTo>
                    <a:pt x="81" y="3"/>
                  </a:moveTo>
                  <a:lnTo>
                    <a:pt x="70" y="0"/>
                  </a:lnTo>
                  <a:lnTo>
                    <a:pt x="57" y="0"/>
                  </a:lnTo>
                  <a:lnTo>
                    <a:pt x="45" y="4"/>
                  </a:lnTo>
                  <a:lnTo>
                    <a:pt x="34" y="10"/>
                  </a:lnTo>
                  <a:lnTo>
                    <a:pt x="25" y="19"/>
                  </a:lnTo>
                  <a:lnTo>
                    <a:pt x="21" y="29"/>
                  </a:lnTo>
                  <a:lnTo>
                    <a:pt x="22" y="43"/>
                  </a:lnTo>
                  <a:lnTo>
                    <a:pt x="30" y="58"/>
                  </a:lnTo>
                  <a:lnTo>
                    <a:pt x="24" y="71"/>
                  </a:lnTo>
                  <a:lnTo>
                    <a:pt x="17" y="92"/>
                  </a:lnTo>
                  <a:lnTo>
                    <a:pt x="9" y="120"/>
                  </a:lnTo>
                  <a:lnTo>
                    <a:pt x="3" y="155"/>
                  </a:lnTo>
                  <a:lnTo>
                    <a:pt x="0" y="194"/>
                  </a:lnTo>
                  <a:lnTo>
                    <a:pt x="2" y="238"/>
                  </a:lnTo>
                  <a:lnTo>
                    <a:pt x="11" y="283"/>
                  </a:lnTo>
                  <a:lnTo>
                    <a:pt x="28" y="329"/>
                  </a:lnTo>
                  <a:lnTo>
                    <a:pt x="59" y="330"/>
                  </a:lnTo>
                  <a:lnTo>
                    <a:pt x="76" y="357"/>
                  </a:lnTo>
                  <a:lnTo>
                    <a:pt x="108" y="340"/>
                  </a:lnTo>
                  <a:lnTo>
                    <a:pt x="148" y="366"/>
                  </a:lnTo>
                  <a:lnTo>
                    <a:pt x="175" y="331"/>
                  </a:lnTo>
                  <a:lnTo>
                    <a:pt x="216" y="332"/>
                  </a:lnTo>
                  <a:lnTo>
                    <a:pt x="203" y="314"/>
                  </a:lnTo>
                  <a:lnTo>
                    <a:pt x="185" y="286"/>
                  </a:lnTo>
                  <a:lnTo>
                    <a:pt x="168" y="252"/>
                  </a:lnTo>
                  <a:lnTo>
                    <a:pt x="150" y="212"/>
                  </a:lnTo>
                  <a:lnTo>
                    <a:pt x="134" y="172"/>
                  </a:lnTo>
                  <a:lnTo>
                    <a:pt x="119" y="133"/>
                  </a:lnTo>
                  <a:lnTo>
                    <a:pt x="107" y="98"/>
                  </a:lnTo>
                  <a:lnTo>
                    <a:pt x="101" y="70"/>
                  </a:lnTo>
                  <a:lnTo>
                    <a:pt x="106" y="62"/>
                  </a:lnTo>
                  <a:lnTo>
                    <a:pt x="108" y="52"/>
                  </a:lnTo>
                  <a:lnTo>
                    <a:pt x="108" y="43"/>
                  </a:lnTo>
                  <a:lnTo>
                    <a:pt x="106" y="33"/>
                  </a:lnTo>
                  <a:lnTo>
                    <a:pt x="101" y="24"/>
                  </a:lnTo>
                  <a:lnTo>
                    <a:pt x="97" y="15"/>
                  </a:lnTo>
                  <a:lnTo>
                    <a:pt x="89" y="9"/>
                  </a:lnTo>
                  <a:lnTo>
                    <a:pt x="81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88880" y="4125600"/>
              <a:ext cx="802800" cy="488880"/>
            </a:xfrm>
            <a:custGeom>
              <a:avLst/>
              <a:gdLst/>
              <a:ahLst/>
              <a:rect l="l" t="t" r="r" b="b"/>
              <a:pathLst>
                <a:path w="1011" h="614">
                  <a:moveTo>
                    <a:pt x="674" y="0"/>
                  </a:moveTo>
                  <a:lnTo>
                    <a:pt x="668" y="1"/>
                  </a:lnTo>
                  <a:lnTo>
                    <a:pt x="650" y="5"/>
                  </a:lnTo>
                  <a:lnTo>
                    <a:pt x="624" y="9"/>
                  </a:lnTo>
                  <a:lnTo>
                    <a:pt x="588" y="15"/>
                  </a:lnTo>
                  <a:lnTo>
                    <a:pt x="546" y="22"/>
                  </a:lnTo>
                  <a:lnTo>
                    <a:pt x="497" y="31"/>
                  </a:lnTo>
                  <a:lnTo>
                    <a:pt x="445" y="39"/>
                  </a:lnTo>
                  <a:lnTo>
                    <a:pt x="390" y="48"/>
                  </a:lnTo>
                  <a:lnTo>
                    <a:pt x="333" y="59"/>
                  </a:lnTo>
                  <a:lnTo>
                    <a:pt x="275" y="68"/>
                  </a:lnTo>
                  <a:lnTo>
                    <a:pt x="218" y="76"/>
                  </a:lnTo>
                  <a:lnTo>
                    <a:pt x="164" y="84"/>
                  </a:lnTo>
                  <a:lnTo>
                    <a:pt x="115" y="92"/>
                  </a:lnTo>
                  <a:lnTo>
                    <a:pt x="69" y="98"/>
                  </a:lnTo>
                  <a:lnTo>
                    <a:pt x="31" y="103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0" y="124"/>
                  </a:lnTo>
                  <a:lnTo>
                    <a:pt x="2" y="145"/>
                  </a:lnTo>
                  <a:lnTo>
                    <a:pt x="9" y="172"/>
                  </a:lnTo>
                  <a:lnTo>
                    <a:pt x="20" y="202"/>
                  </a:lnTo>
                  <a:lnTo>
                    <a:pt x="40" y="232"/>
                  </a:lnTo>
                  <a:lnTo>
                    <a:pt x="66" y="260"/>
                  </a:lnTo>
                  <a:lnTo>
                    <a:pt x="104" y="287"/>
                  </a:lnTo>
                  <a:lnTo>
                    <a:pt x="126" y="274"/>
                  </a:lnTo>
                  <a:lnTo>
                    <a:pt x="106" y="317"/>
                  </a:lnTo>
                  <a:lnTo>
                    <a:pt x="129" y="316"/>
                  </a:lnTo>
                  <a:lnTo>
                    <a:pt x="156" y="315"/>
                  </a:lnTo>
                  <a:lnTo>
                    <a:pt x="186" y="313"/>
                  </a:lnTo>
                  <a:lnTo>
                    <a:pt x="220" y="315"/>
                  </a:lnTo>
                  <a:lnTo>
                    <a:pt x="255" y="316"/>
                  </a:lnTo>
                  <a:lnTo>
                    <a:pt x="292" y="320"/>
                  </a:lnTo>
                  <a:lnTo>
                    <a:pt x="333" y="327"/>
                  </a:lnTo>
                  <a:lnTo>
                    <a:pt x="373" y="336"/>
                  </a:lnTo>
                  <a:lnTo>
                    <a:pt x="414" y="349"/>
                  </a:lnTo>
                  <a:lnTo>
                    <a:pt x="457" y="366"/>
                  </a:lnTo>
                  <a:lnTo>
                    <a:pt x="500" y="388"/>
                  </a:lnTo>
                  <a:lnTo>
                    <a:pt x="542" y="414"/>
                  </a:lnTo>
                  <a:lnTo>
                    <a:pt x="584" y="446"/>
                  </a:lnTo>
                  <a:lnTo>
                    <a:pt x="625" y="483"/>
                  </a:lnTo>
                  <a:lnTo>
                    <a:pt x="664" y="527"/>
                  </a:lnTo>
                  <a:lnTo>
                    <a:pt x="702" y="577"/>
                  </a:lnTo>
                  <a:lnTo>
                    <a:pt x="714" y="582"/>
                  </a:lnTo>
                  <a:lnTo>
                    <a:pt x="727" y="588"/>
                  </a:lnTo>
                  <a:lnTo>
                    <a:pt x="741" y="592"/>
                  </a:lnTo>
                  <a:lnTo>
                    <a:pt x="759" y="597"/>
                  </a:lnTo>
                  <a:lnTo>
                    <a:pt x="777" y="601"/>
                  </a:lnTo>
                  <a:lnTo>
                    <a:pt x="797" y="605"/>
                  </a:lnTo>
                  <a:lnTo>
                    <a:pt x="816" y="608"/>
                  </a:lnTo>
                  <a:lnTo>
                    <a:pt x="838" y="611"/>
                  </a:lnTo>
                  <a:lnTo>
                    <a:pt x="860" y="613"/>
                  </a:lnTo>
                  <a:lnTo>
                    <a:pt x="882" y="614"/>
                  </a:lnTo>
                  <a:lnTo>
                    <a:pt x="905" y="614"/>
                  </a:lnTo>
                  <a:lnTo>
                    <a:pt x="927" y="614"/>
                  </a:lnTo>
                  <a:lnTo>
                    <a:pt x="949" y="612"/>
                  </a:lnTo>
                  <a:lnTo>
                    <a:pt x="971" y="608"/>
                  </a:lnTo>
                  <a:lnTo>
                    <a:pt x="991" y="605"/>
                  </a:lnTo>
                  <a:lnTo>
                    <a:pt x="1011" y="599"/>
                  </a:lnTo>
                  <a:lnTo>
                    <a:pt x="1011" y="576"/>
                  </a:lnTo>
                  <a:lnTo>
                    <a:pt x="991" y="538"/>
                  </a:lnTo>
                  <a:lnTo>
                    <a:pt x="970" y="499"/>
                  </a:lnTo>
                  <a:lnTo>
                    <a:pt x="949" y="460"/>
                  </a:lnTo>
                  <a:lnTo>
                    <a:pt x="927" y="419"/>
                  </a:lnTo>
                  <a:lnTo>
                    <a:pt x="904" y="379"/>
                  </a:lnTo>
                  <a:lnTo>
                    <a:pt x="881" y="338"/>
                  </a:lnTo>
                  <a:lnTo>
                    <a:pt x="859" y="298"/>
                  </a:lnTo>
                  <a:lnTo>
                    <a:pt x="836" y="258"/>
                  </a:lnTo>
                  <a:lnTo>
                    <a:pt x="813" y="220"/>
                  </a:lnTo>
                  <a:lnTo>
                    <a:pt x="791" y="183"/>
                  </a:lnTo>
                  <a:lnTo>
                    <a:pt x="769" y="147"/>
                  </a:lnTo>
                  <a:lnTo>
                    <a:pt x="748" y="113"/>
                  </a:lnTo>
                  <a:lnTo>
                    <a:pt x="728" y="81"/>
                  </a:lnTo>
                  <a:lnTo>
                    <a:pt x="709" y="52"/>
                  </a:lnTo>
                  <a:lnTo>
                    <a:pt x="691" y="24"/>
                  </a:lnTo>
                  <a:lnTo>
                    <a:pt x="67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87080" y="6046560"/>
              <a:ext cx="191880" cy="358920"/>
            </a:xfrm>
            <a:custGeom>
              <a:avLst/>
              <a:gdLst/>
              <a:ahLst/>
              <a:rect l="l" t="t" r="r" b="b"/>
              <a:pathLst>
                <a:path w="243" h="451">
                  <a:moveTo>
                    <a:pt x="95" y="0"/>
                  </a:moveTo>
                  <a:lnTo>
                    <a:pt x="91" y="23"/>
                  </a:lnTo>
                  <a:lnTo>
                    <a:pt x="84" y="64"/>
                  </a:lnTo>
                  <a:lnTo>
                    <a:pt x="73" y="118"/>
                  </a:lnTo>
                  <a:lnTo>
                    <a:pt x="61" y="179"/>
                  </a:lnTo>
                  <a:lnTo>
                    <a:pt x="47" y="243"/>
                  </a:lnTo>
                  <a:lnTo>
                    <a:pt x="31" y="304"/>
                  </a:lnTo>
                  <a:lnTo>
                    <a:pt x="16" y="354"/>
                  </a:lnTo>
                  <a:lnTo>
                    <a:pt x="0" y="391"/>
                  </a:lnTo>
                  <a:lnTo>
                    <a:pt x="2" y="397"/>
                  </a:lnTo>
                  <a:lnTo>
                    <a:pt x="5" y="404"/>
                  </a:lnTo>
                  <a:lnTo>
                    <a:pt x="12" y="411"/>
                  </a:lnTo>
                  <a:lnTo>
                    <a:pt x="20" y="418"/>
                  </a:lnTo>
                  <a:lnTo>
                    <a:pt x="31" y="424"/>
                  </a:lnTo>
                  <a:lnTo>
                    <a:pt x="42" y="431"/>
                  </a:lnTo>
                  <a:lnTo>
                    <a:pt x="56" y="436"/>
                  </a:lnTo>
                  <a:lnTo>
                    <a:pt x="71" y="441"/>
                  </a:lnTo>
                  <a:lnTo>
                    <a:pt x="88" y="445"/>
                  </a:lnTo>
                  <a:lnTo>
                    <a:pt x="106" y="449"/>
                  </a:lnTo>
                  <a:lnTo>
                    <a:pt x="124" y="450"/>
                  </a:lnTo>
                  <a:lnTo>
                    <a:pt x="142" y="451"/>
                  </a:lnTo>
                  <a:lnTo>
                    <a:pt x="163" y="450"/>
                  </a:lnTo>
                  <a:lnTo>
                    <a:pt x="184" y="447"/>
                  </a:lnTo>
                  <a:lnTo>
                    <a:pt x="205" y="442"/>
                  </a:lnTo>
                  <a:lnTo>
                    <a:pt x="225" y="435"/>
                  </a:lnTo>
                  <a:lnTo>
                    <a:pt x="220" y="403"/>
                  </a:lnTo>
                  <a:lnTo>
                    <a:pt x="216" y="360"/>
                  </a:lnTo>
                  <a:lnTo>
                    <a:pt x="215" y="308"/>
                  </a:lnTo>
                  <a:lnTo>
                    <a:pt x="216" y="251"/>
                  </a:lnTo>
                  <a:lnTo>
                    <a:pt x="220" y="192"/>
                  </a:lnTo>
                  <a:lnTo>
                    <a:pt x="224" y="134"/>
                  </a:lnTo>
                  <a:lnTo>
                    <a:pt x="232" y="81"/>
                  </a:lnTo>
                  <a:lnTo>
                    <a:pt x="243" y="35"/>
                  </a:lnTo>
                  <a:lnTo>
                    <a:pt x="225" y="40"/>
                  </a:lnTo>
                  <a:lnTo>
                    <a:pt x="206" y="42"/>
                  </a:lnTo>
                  <a:lnTo>
                    <a:pt x="185" y="42"/>
                  </a:lnTo>
                  <a:lnTo>
                    <a:pt x="164" y="40"/>
                  </a:lnTo>
                  <a:lnTo>
                    <a:pt x="144" y="35"/>
                  </a:lnTo>
                  <a:lnTo>
                    <a:pt x="125" y="26"/>
                  </a:lnTo>
                  <a:lnTo>
                    <a:pt x="108" y="15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4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314080" y="5413320"/>
              <a:ext cx="242640" cy="420480"/>
            </a:xfrm>
            <a:custGeom>
              <a:avLst/>
              <a:gdLst/>
              <a:ahLst/>
              <a:rect l="l" t="t" r="r" b="b"/>
              <a:pathLst>
                <a:path w="308" h="529">
                  <a:moveTo>
                    <a:pt x="159" y="0"/>
                  </a:moveTo>
                  <a:lnTo>
                    <a:pt x="139" y="3"/>
                  </a:lnTo>
                  <a:lnTo>
                    <a:pt x="115" y="7"/>
                  </a:lnTo>
                  <a:lnTo>
                    <a:pt x="88" y="14"/>
                  </a:lnTo>
                  <a:lnTo>
                    <a:pt x="61" y="24"/>
                  </a:lnTo>
                  <a:lnTo>
                    <a:pt x="39" y="38"/>
                  </a:lnTo>
                  <a:lnTo>
                    <a:pt x="23" y="57"/>
                  </a:lnTo>
                  <a:lnTo>
                    <a:pt x="17" y="79"/>
                  </a:lnTo>
                  <a:lnTo>
                    <a:pt x="25" y="106"/>
                  </a:lnTo>
                  <a:lnTo>
                    <a:pt x="0" y="99"/>
                  </a:lnTo>
                  <a:lnTo>
                    <a:pt x="8" y="126"/>
                  </a:lnTo>
                  <a:lnTo>
                    <a:pt x="17" y="156"/>
                  </a:lnTo>
                  <a:lnTo>
                    <a:pt x="29" y="187"/>
                  </a:lnTo>
                  <a:lnTo>
                    <a:pt x="40" y="219"/>
                  </a:lnTo>
                  <a:lnTo>
                    <a:pt x="51" y="250"/>
                  </a:lnTo>
                  <a:lnTo>
                    <a:pt x="61" y="280"/>
                  </a:lnTo>
                  <a:lnTo>
                    <a:pt x="68" y="307"/>
                  </a:lnTo>
                  <a:lnTo>
                    <a:pt x="71" y="330"/>
                  </a:lnTo>
                  <a:lnTo>
                    <a:pt x="76" y="375"/>
                  </a:lnTo>
                  <a:lnTo>
                    <a:pt x="81" y="424"/>
                  </a:lnTo>
                  <a:lnTo>
                    <a:pt x="83" y="468"/>
                  </a:lnTo>
                  <a:lnTo>
                    <a:pt x="82" y="496"/>
                  </a:lnTo>
                  <a:lnTo>
                    <a:pt x="92" y="500"/>
                  </a:lnTo>
                  <a:lnTo>
                    <a:pt x="105" y="505"/>
                  </a:lnTo>
                  <a:lnTo>
                    <a:pt x="119" y="508"/>
                  </a:lnTo>
                  <a:lnTo>
                    <a:pt x="135" y="512"/>
                  </a:lnTo>
                  <a:lnTo>
                    <a:pt x="151" y="516"/>
                  </a:lnTo>
                  <a:lnTo>
                    <a:pt x="168" y="520"/>
                  </a:lnTo>
                  <a:lnTo>
                    <a:pt x="185" y="524"/>
                  </a:lnTo>
                  <a:lnTo>
                    <a:pt x="203" y="529"/>
                  </a:lnTo>
                  <a:lnTo>
                    <a:pt x="206" y="478"/>
                  </a:lnTo>
                  <a:lnTo>
                    <a:pt x="213" y="408"/>
                  </a:lnTo>
                  <a:lnTo>
                    <a:pt x="222" y="337"/>
                  </a:lnTo>
                  <a:lnTo>
                    <a:pt x="233" y="278"/>
                  </a:lnTo>
                  <a:lnTo>
                    <a:pt x="238" y="254"/>
                  </a:lnTo>
                  <a:lnTo>
                    <a:pt x="245" y="228"/>
                  </a:lnTo>
                  <a:lnTo>
                    <a:pt x="253" y="203"/>
                  </a:lnTo>
                  <a:lnTo>
                    <a:pt x="263" y="176"/>
                  </a:lnTo>
                  <a:lnTo>
                    <a:pt x="273" y="150"/>
                  </a:lnTo>
                  <a:lnTo>
                    <a:pt x="283" y="126"/>
                  </a:lnTo>
                  <a:lnTo>
                    <a:pt x="295" y="103"/>
                  </a:lnTo>
                  <a:lnTo>
                    <a:pt x="308" y="83"/>
                  </a:lnTo>
                  <a:lnTo>
                    <a:pt x="298" y="72"/>
                  </a:lnTo>
                  <a:lnTo>
                    <a:pt x="283" y="58"/>
                  </a:lnTo>
                  <a:lnTo>
                    <a:pt x="265" y="45"/>
                  </a:lnTo>
                  <a:lnTo>
                    <a:pt x="244" y="32"/>
                  </a:lnTo>
                  <a:lnTo>
                    <a:pt x="221" y="21"/>
                  </a:lnTo>
                  <a:lnTo>
                    <a:pt x="199" y="11"/>
                  </a:lnTo>
                  <a:lnTo>
                    <a:pt x="177" y="4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4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053800" y="5130720"/>
              <a:ext cx="1284120" cy="1326960"/>
            </a:xfrm>
            <a:custGeom>
              <a:avLst/>
              <a:gdLst/>
              <a:ahLst/>
              <a:rect l="l" t="t" r="r" b="b"/>
              <a:pathLst>
                <a:path w="1618" h="1672">
                  <a:moveTo>
                    <a:pt x="629" y="1172"/>
                  </a:moveTo>
                  <a:lnTo>
                    <a:pt x="624" y="1189"/>
                  </a:lnTo>
                  <a:lnTo>
                    <a:pt x="617" y="1212"/>
                  </a:lnTo>
                  <a:lnTo>
                    <a:pt x="609" y="1241"/>
                  </a:lnTo>
                  <a:lnTo>
                    <a:pt x="601" y="1273"/>
                  </a:lnTo>
                  <a:lnTo>
                    <a:pt x="594" y="1310"/>
                  </a:lnTo>
                  <a:lnTo>
                    <a:pt x="589" y="1348"/>
                  </a:lnTo>
                  <a:lnTo>
                    <a:pt x="584" y="1389"/>
                  </a:lnTo>
                  <a:lnTo>
                    <a:pt x="584" y="1428"/>
                  </a:lnTo>
                  <a:lnTo>
                    <a:pt x="586" y="1468"/>
                  </a:lnTo>
                  <a:lnTo>
                    <a:pt x="593" y="1506"/>
                  </a:lnTo>
                  <a:lnTo>
                    <a:pt x="606" y="1541"/>
                  </a:lnTo>
                  <a:lnTo>
                    <a:pt x="625" y="1573"/>
                  </a:lnTo>
                  <a:lnTo>
                    <a:pt x="651" y="1599"/>
                  </a:lnTo>
                  <a:lnTo>
                    <a:pt x="684" y="1621"/>
                  </a:lnTo>
                  <a:lnTo>
                    <a:pt x="727" y="1636"/>
                  </a:lnTo>
                  <a:lnTo>
                    <a:pt x="777" y="1643"/>
                  </a:lnTo>
                  <a:lnTo>
                    <a:pt x="818" y="1648"/>
                  </a:lnTo>
                  <a:lnTo>
                    <a:pt x="856" y="1652"/>
                  </a:lnTo>
                  <a:lnTo>
                    <a:pt x="894" y="1658"/>
                  </a:lnTo>
                  <a:lnTo>
                    <a:pt x="932" y="1663"/>
                  </a:lnTo>
                  <a:lnTo>
                    <a:pt x="968" y="1667"/>
                  </a:lnTo>
                  <a:lnTo>
                    <a:pt x="1003" y="1670"/>
                  </a:lnTo>
                  <a:lnTo>
                    <a:pt x="1038" y="1672"/>
                  </a:lnTo>
                  <a:lnTo>
                    <a:pt x="1072" y="1672"/>
                  </a:lnTo>
                  <a:lnTo>
                    <a:pt x="1106" y="1671"/>
                  </a:lnTo>
                  <a:lnTo>
                    <a:pt x="1139" y="1667"/>
                  </a:lnTo>
                  <a:lnTo>
                    <a:pt x="1173" y="1662"/>
                  </a:lnTo>
                  <a:lnTo>
                    <a:pt x="1205" y="1652"/>
                  </a:lnTo>
                  <a:lnTo>
                    <a:pt x="1236" y="1640"/>
                  </a:lnTo>
                  <a:lnTo>
                    <a:pt x="1268" y="1625"/>
                  </a:lnTo>
                  <a:lnTo>
                    <a:pt x="1299" y="1605"/>
                  </a:lnTo>
                  <a:lnTo>
                    <a:pt x="1330" y="1581"/>
                  </a:lnTo>
                  <a:lnTo>
                    <a:pt x="1362" y="1553"/>
                  </a:lnTo>
                  <a:lnTo>
                    <a:pt x="1393" y="1522"/>
                  </a:lnTo>
                  <a:lnTo>
                    <a:pt x="1423" y="1489"/>
                  </a:lnTo>
                  <a:lnTo>
                    <a:pt x="1453" y="1452"/>
                  </a:lnTo>
                  <a:lnTo>
                    <a:pt x="1480" y="1413"/>
                  </a:lnTo>
                  <a:lnTo>
                    <a:pt x="1507" y="1371"/>
                  </a:lnTo>
                  <a:lnTo>
                    <a:pt x="1531" y="1326"/>
                  </a:lnTo>
                  <a:lnTo>
                    <a:pt x="1553" y="1280"/>
                  </a:lnTo>
                  <a:lnTo>
                    <a:pt x="1572" y="1233"/>
                  </a:lnTo>
                  <a:lnTo>
                    <a:pt x="1588" y="1184"/>
                  </a:lnTo>
                  <a:lnTo>
                    <a:pt x="1601" y="1133"/>
                  </a:lnTo>
                  <a:lnTo>
                    <a:pt x="1611" y="1081"/>
                  </a:lnTo>
                  <a:lnTo>
                    <a:pt x="1616" y="1029"/>
                  </a:lnTo>
                  <a:lnTo>
                    <a:pt x="1618" y="975"/>
                  </a:lnTo>
                  <a:lnTo>
                    <a:pt x="1615" y="921"/>
                  </a:lnTo>
                  <a:lnTo>
                    <a:pt x="1607" y="867"/>
                  </a:lnTo>
                  <a:lnTo>
                    <a:pt x="1597" y="812"/>
                  </a:lnTo>
                  <a:lnTo>
                    <a:pt x="1585" y="757"/>
                  </a:lnTo>
                  <a:lnTo>
                    <a:pt x="1573" y="701"/>
                  </a:lnTo>
                  <a:lnTo>
                    <a:pt x="1563" y="645"/>
                  </a:lnTo>
                  <a:lnTo>
                    <a:pt x="1550" y="591"/>
                  </a:lnTo>
                  <a:lnTo>
                    <a:pt x="1539" y="537"/>
                  </a:lnTo>
                  <a:lnTo>
                    <a:pt x="1526" y="484"/>
                  </a:lnTo>
                  <a:lnTo>
                    <a:pt x="1514" y="433"/>
                  </a:lnTo>
                  <a:lnTo>
                    <a:pt x="1501" y="385"/>
                  </a:lnTo>
                  <a:lnTo>
                    <a:pt x="1488" y="339"/>
                  </a:lnTo>
                  <a:lnTo>
                    <a:pt x="1474" y="296"/>
                  </a:lnTo>
                  <a:lnTo>
                    <a:pt x="1461" y="257"/>
                  </a:lnTo>
                  <a:lnTo>
                    <a:pt x="1447" y="221"/>
                  </a:lnTo>
                  <a:lnTo>
                    <a:pt x="1433" y="189"/>
                  </a:lnTo>
                  <a:lnTo>
                    <a:pt x="1418" y="163"/>
                  </a:lnTo>
                  <a:lnTo>
                    <a:pt x="1403" y="141"/>
                  </a:lnTo>
                  <a:lnTo>
                    <a:pt x="1388" y="126"/>
                  </a:lnTo>
                  <a:lnTo>
                    <a:pt x="1367" y="111"/>
                  </a:lnTo>
                  <a:lnTo>
                    <a:pt x="1343" y="96"/>
                  </a:lnTo>
                  <a:lnTo>
                    <a:pt x="1314" y="81"/>
                  </a:lnTo>
                  <a:lnTo>
                    <a:pt x="1283" y="68"/>
                  </a:lnTo>
                  <a:lnTo>
                    <a:pt x="1249" y="54"/>
                  </a:lnTo>
                  <a:lnTo>
                    <a:pt x="1212" y="43"/>
                  </a:lnTo>
                  <a:lnTo>
                    <a:pt x="1174" y="32"/>
                  </a:lnTo>
                  <a:lnTo>
                    <a:pt x="1135" y="23"/>
                  </a:lnTo>
                  <a:lnTo>
                    <a:pt x="1095" y="15"/>
                  </a:lnTo>
                  <a:lnTo>
                    <a:pt x="1056" y="8"/>
                  </a:lnTo>
                  <a:lnTo>
                    <a:pt x="1017" y="4"/>
                  </a:lnTo>
                  <a:lnTo>
                    <a:pt x="980" y="1"/>
                  </a:lnTo>
                  <a:lnTo>
                    <a:pt x="946" y="0"/>
                  </a:lnTo>
                  <a:lnTo>
                    <a:pt x="913" y="2"/>
                  </a:lnTo>
                  <a:lnTo>
                    <a:pt x="885" y="6"/>
                  </a:lnTo>
                  <a:lnTo>
                    <a:pt x="895" y="35"/>
                  </a:lnTo>
                  <a:lnTo>
                    <a:pt x="904" y="62"/>
                  </a:lnTo>
                  <a:lnTo>
                    <a:pt x="911" y="89"/>
                  </a:lnTo>
                  <a:lnTo>
                    <a:pt x="917" y="114"/>
                  </a:lnTo>
                  <a:lnTo>
                    <a:pt x="919" y="138"/>
                  </a:lnTo>
                  <a:lnTo>
                    <a:pt x="919" y="161"/>
                  </a:lnTo>
                  <a:lnTo>
                    <a:pt x="916" y="182"/>
                  </a:lnTo>
                  <a:lnTo>
                    <a:pt x="909" y="203"/>
                  </a:lnTo>
                  <a:lnTo>
                    <a:pt x="897" y="223"/>
                  </a:lnTo>
                  <a:lnTo>
                    <a:pt x="881" y="240"/>
                  </a:lnTo>
                  <a:lnTo>
                    <a:pt x="862" y="256"/>
                  </a:lnTo>
                  <a:lnTo>
                    <a:pt x="835" y="271"/>
                  </a:lnTo>
                  <a:lnTo>
                    <a:pt x="804" y="285"/>
                  </a:lnTo>
                  <a:lnTo>
                    <a:pt x="767" y="297"/>
                  </a:lnTo>
                  <a:lnTo>
                    <a:pt x="723" y="309"/>
                  </a:lnTo>
                  <a:lnTo>
                    <a:pt x="673" y="318"/>
                  </a:lnTo>
                  <a:lnTo>
                    <a:pt x="659" y="319"/>
                  </a:lnTo>
                  <a:lnTo>
                    <a:pt x="645" y="320"/>
                  </a:lnTo>
                  <a:lnTo>
                    <a:pt x="631" y="319"/>
                  </a:lnTo>
                  <a:lnTo>
                    <a:pt x="616" y="318"/>
                  </a:lnTo>
                  <a:lnTo>
                    <a:pt x="601" y="315"/>
                  </a:lnTo>
                  <a:lnTo>
                    <a:pt x="586" y="311"/>
                  </a:lnTo>
                  <a:lnTo>
                    <a:pt x="571" y="306"/>
                  </a:lnTo>
                  <a:lnTo>
                    <a:pt x="557" y="300"/>
                  </a:lnTo>
                  <a:lnTo>
                    <a:pt x="544" y="293"/>
                  </a:lnTo>
                  <a:lnTo>
                    <a:pt x="532" y="284"/>
                  </a:lnTo>
                  <a:lnTo>
                    <a:pt x="521" y="274"/>
                  </a:lnTo>
                  <a:lnTo>
                    <a:pt x="510" y="263"/>
                  </a:lnTo>
                  <a:lnTo>
                    <a:pt x="502" y="251"/>
                  </a:lnTo>
                  <a:lnTo>
                    <a:pt x="495" y="239"/>
                  </a:lnTo>
                  <a:lnTo>
                    <a:pt x="489" y="224"/>
                  </a:lnTo>
                  <a:lnTo>
                    <a:pt x="487" y="209"/>
                  </a:lnTo>
                  <a:lnTo>
                    <a:pt x="495" y="190"/>
                  </a:lnTo>
                  <a:lnTo>
                    <a:pt x="503" y="173"/>
                  </a:lnTo>
                  <a:lnTo>
                    <a:pt x="512" y="156"/>
                  </a:lnTo>
                  <a:lnTo>
                    <a:pt x="523" y="136"/>
                  </a:lnTo>
                  <a:lnTo>
                    <a:pt x="532" y="113"/>
                  </a:lnTo>
                  <a:lnTo>
                    <a:pt x="541" y="85"/>
                  </a:lnTo>
                  <a:lnTo>
                    <a:pt x="551" y="53"/>
                  </a:lnTo>
                  <a:lnTo>
                    <a:pt x="557" y="13"/>
                  </a:lnTo>
                  <a:lnTo>
                    <a:pt x="540" y="12"/>
                  </a:lnTo>
                  <a:lnTo>
                    <a:pt x="522" y="11"/>
                  </a:lnTo>
                  <a:lnTo>
                    <a:pt x="502" y="11"/>
                  </a:lnTo>
                  <a:lnTo>
                    <a:pt x="481" y="11"/>
                  </a:lnTo>
                  <a:lnTo>
                    <a:pt x="458" y="11"/>
                  </a:lnTo>
                  <a:lnTo>
                    <a:pt x="435" y="11"/>
                  </a:lnTo>
                  <a:lnTo>
                    <a:pt x="411" y="12"/>
                  </a:lnTo>
                  <a:lnTo>
                    <a:pt x="386" y="14"/>
                  </a:lnTo>
                  <a:lnTo>
                    <a:pt x="360" y="16"/>
                  </a:lnTo>
                  <a:lnTo>
                    <a:pt x="335" y="21"/>
                  </a:lnTo>
                  <a:lnTo>
                    <a:pt x="310" y="26"/>
                  </a:lnTo>
                  <a:lnTo>
                    <a:pt x="284" y="31"/>
                  </a:lnTo>
                  <a:lnTo>
                    <a:pt x="260" y="39"/>
                  </a:lnTo>
                  <a:lnTo>
                    <a:pt x="236" y="49"/>
                  </a:lnTo>
                  <a:lnTo>
                    <a:pt x="212" y="59"/>
                  </a:lnTo>
                  <a:lnTo>
                    <a:pt x="190" y="72"/>
                  </a:lnTo>
                  <a:lnTo>
                    <a:pt x="168" y="85"/>
                  </a:lnTo>
                  <a:lnTo>
                    <a:pt x="148" y="100"/>
                  </a:lnTo>
                  <a:lnTo>
                    <a:pt x="130" y="115"/>
                  </a:lnTo>
                  <a:lnTo>
                    <a:pt x="112" y="132"/>
                  </a:lnTo>
                  <a:lnTo>
                    <a:pt x="95" y="148"/>
                  </a:lnTo>
                  <a:lnTo>
                    <a:pt x="80" y="165"/>
                  </a:lnTo>
                  <a:lnTo>
                    <a:pt x="67" y="182"/>
                  </a:lnTo>
                  <a:lnTo>
                    <a:pt x="54" y="199"/>
                  </a:lnTo>
                  <a:lnTo>
                    <a:pt x="42" y="218"/>
                  </a:lnTo>
                  <a:lnTo>
                    <a:pt x="33" y="236"/>
                  </a:lnTo>
                  <a:lnTo>
                    <a:pt x="24" y="256"/>
                  </a:lnTo>
                  <a:lnTo>
                    <a:pt x="17" y="276"/>
                  </a:lnTo>
                  <a:lnTo>
                    <a:pt x="11" y="295"/>
                  </a:lnTo>
                  <a:lnTo>
                    <a:pt x="7" y="315"/>
                  </a:lnTo>
                  <a:lnTo>
                    <a:pt x="3" y="335"/>
                  </a:lnTo>
                  <a:lnTo>
                    <a:pt x="1" y="356"/>
                  </a:lnTo>
                  <a:lnTo>
                    <a:pt x="0" y="406"/>
                  </a:lnTo>
                  <a:lnTo>
                    <a:pt x="1" y="470"/>
                  </a:lnTo>
                  <a:lnTo>
                    <a:pt x="6" y="543"/>
                  </a:lnTo>
                  <a:lnTo>
                    <a:pt x="14" y="620"/>
                  </a:lnTo>
                  <a:lnTo>
                    <a:pt x="25" y="696"/>
                  </a:lnTo>
                  <a:lnTo>
                    <a:pt x="40" y="765"/>
                  </a:lnTo>
                  <a:lnTo>
                    <a:pt x="59" y="824"/>
                  </a:lnTo>
                  <a:lnTo>
                    <a:pt x="80" y="867"/>
                  </a:lnTo>
                  <a:lnTo>
                    <a:pt x="91" y="886"/>
                  </a:lnTo>
                  <a:lnTo>
                    <a:pt x="100" y="913"/>
                  </a:lnTo>
                  <a:lnTo>
                    <a:pt x="108" y="944"/>
                  </a:lnTo>
                  <a:lnTo>
                    <a:pt x="114" y="980"/>
                  </a:lnTo>
                  <a:lnTo>
                    <a:pt x="121" y="1019"/>
                  </a:lnTo>
                  <a:lnTo>
                    <a:pt x="128" y="1060"/>
                  </a:lnTo>
                  <a:lnTo>
                    <a:pt x="135" y="1105"/>
                  </a:lnTo>
                  <a:lnTo>
                    <a:pt x="143" y="1150"/>
                  </a:lnTo>
                  <a:lnTo>
                    <a:pt x="153" y="1196"/>
                  </a:lnTo>
                  <a:lnTo>
                    <a:pt x="167" y="1241"/>
                  </a:lnTo>
                  <a:lnTo>
                    <a:pt x="182" y="1286"/>
                  </a:lnTo>
                  <a:lnTo>
                    <a:pt x="201" y="1328"/>
                  </a:lnTo>
                  <a:lnTo>
                    <a:pt x="224" y="1367"/>
                  </a:lnTo>
                  <a:lnTo>
                    <a:pt x="252" y="1402"/>
                  </a:lnTo>
                  <a:lnTo>
                    <a:pt x="284" y="1434"/>
                  </a:lnTo>
                  <a:lnTo>
                    <a:pt x="322" y="1459"/>
                  </a:lnTo>
                  <a:lnTo>
                    <a:pt x="332" y="1431"/>
                  </a:lnTo>
                  <a:lnTo>
                    <a:pt x="342" y="1394"/>
                  </a:lnTo>
                  <a:lnTo>
                    <a:pt x="354" y="1351"/>
                  </a:lnTo>
                  <a:lnTo>
                    <a:pt x="364" y="1306"/>
                  </a:lnTo>
                  <a:lnTo>
                    <a:pt x="374" y="1261"/>
                  </a:lnTo>
                  <a:lnTo>
                    <a:pt x="383" y="1220"/>
                  </a:lnTo>
                  <a:lnTo>
                    <a:pt x="390" y="1188"/>
                  </a:lnTo>
                  <a:lnTo>
                    <a:pt x="396" y="1166"/>
                  </a:lnTo>
                  <a:lnTo>
                    <a:pt x="403" y="1122"/>
                  </a:lnTo>
                  <a:lnTo>
                    <a:pt x="409" y="1051"/>
                  </a:lnTo>
                  <a:lnTo>
                    <a:pt x="412" y="959"/>
                  </a:lnTo>
                  <a:lnTo>
                    <a:pt x="411" y="855"/>
                  </a:lnTo>
                  <a:lnTo>
                    <a:pt x="403" y="747"/>
                  </a:lnTo>
                  <a:lnTo>
                    <a:pt x="387" y="640"/>
                  </a:lnTo>
                  <a:lnTo>
                    <a:pt x="360" y="544"/>
                  </a:lnTo>
                  <a:lnTo>
                    <a:pt x="322" y="466"/>
                  </a:lnTo>
                  <a:lnTo>
                    <a:pt x="318" y="436"/>
                  </a:lnTo>
                  <a:lnTo>
                    <a:pt x="321" y="410"/>
                  </a:lnTo>
                  <a:lnTo>
                    <a:pt x="332" y="390"/>
                  </a:lnTo>
                  <a:lnTo>
                    <a:pt x="349" y="372"/>
                  </a:lnTo>
                  <a:lnTo>
                    <a:pt x="371" y="361"/>
                  </a:lnTo>
                  <a:lnTo>
                    <a:pt x="398" y="354"/>
                  </a:lnTo>
                  <a:lnTo>
                    <a:pt x="432" y="352"/>
                  </a:lnTo>
                  <a:lnTo>
                    <a:pt x="468" y="356"/>
                  </a:lnTo>
                  <a:lnTo>
                    <a:pt x="502" y="363"/>
                  </a:lnTo>
                  <a:lnTo>
                    <a:pt x="531" y="371"/>
                  </a:lnTo>
                  <a:lnTo>
                    <a:pt x="554" y="379"/>
                  </a:lnTo>
                  <a:lnTo>
                    <a:pt x="574" y="387"/>
                  </a:lnTo>
                  <a:lnTo>
                    <a:pt x="591" y="398"/>
                  </a:lnTo>
                  <a:lnTo>
                    <a:pt x="606" y="410"/>
                  </a:lnTo>
                  <a:lnTo>
                    <a:pt x="620" y="423"/>
                  </a:lnTo>
                  <a:lnTo>
                    <a:pt x="635" y="439"/>
                  </a:lnTo>
                  <a:lnTo>
                    <a:pt x="615" y="468"/>
                  </a:lnTo>
                  <a:lnTo>
                    <a:pt x="594" y="513"/>
                  </a:lnTo>
                  <a:lnTo>
                    <a:pt x="575" y="569"/>
                  </a:lnTo>
                  <a:lnTo>
                    <a:pt x="556" y="634"/>
                  </a:lnTo>
                  <a:lnTo>
                    <a:pt x="542" y="702"/>
                  </a:lnTo>
                  <a:lnTo>
                    <a:pt x="532" y="769"/>
                  </a:lnTo>
                  <a:lnTo>
                    <a:pt x="527" y="831"/>
                  </a:lnTo>
                  <a:lnTo>
                    <a:pt x="530" y="885"/>
                  </a:lnTo>
                  <a:lnTo>
                    <a:pt x="629" y="117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512800" y="5972040"/>
              <a:ext cx="232920" cy="450720"/>
            </a:xfrm>
            <a:custGeom>
              <a:avLst/>
              <a:gdLst/>
              <a:ahLst/>
              <a:rect l="l" t="t" r="r" b="b"/>
              <a:pathLst>
                <a:path w="295" h="568">
                  <a:moveTo>
                    <a:pt x="73" y="67"/>
                  </a:moveTo>
                  <a:lnTo>
                    <a:pt x="53" y="100"/>
                  </a:lnTo>
                  <a:lnTo>
                    <a:pt x="33" y="152"/>
                  </a:lnTo>
                  <a:lnTo>
                    <a:pt x="15" y="217"/>
                  </a:lnTo>
                  <a:lnTo>
                    <a:pt x="3" y="288"/>
                  </a:lnTo>
                  <a:lnTo>
                    <a:pt x="0" y="362"/>
                  </a:lnTo>
                  <a:lnTo>
                    <a:pt x="9" y="431"/>
                  </a:lnTo>
                  <a:lnTo>
                    <a:pt x="36" y="490"/>
                  </a:lnTo>
                  <a:lnTo>
                    <a:pt x="81" y="534"/>
                  </a:lnTo>
                  <a:lnTo>
                    <a:pt x="100" y="550"/>
                  </a:lnTo>
                  <a:lnTo>
                    <a:pt x="121" y="561"/>
                  </a:lnTo>
                  <a:lnTo>
                    <a:pt x="143" y="567"/>
                  </a:lnTo>
                  <a:lnTo>
                    <a:pt x="166" y="568"/>
                  </a:lnTo>
                  <a:lnTo>
                    <a:pt x="188" y="564"/>
                  </a:lnTo>
                  <a:lnTo>
                    <a:pt x="211" y="552"/>
                  </a:lnTo>
                  <a:lnTo>
                    <a:pt x="233" y="534"/>
                  </a:lnTo>
                  <a:lnTo>
                    <a:pt x="253" y="507"/>
                  </a:lnTo>
                  <a:lnTo>
                    <a:pt x="272" y="467"/>
                  </a:lnTo>
                  <a:lnTo>
                    <a:pt x="285" y="410"/>
                  </a:lnTo>
                  <a:lnTo>
                    <a:pt x="293" y="342"/>
                  </a:lnTo>
                  <a:lnTo>
                    <a:pt x="295" y="269"/>
                  </a:lnTo>
                  <a:lnTo>
                    <a:pt x="291" y="193"/>
                  </a:lnTo>
                  <a:lnTo>
                    <a:pt x="283" y="120"/>
                  </a:lnTo>
                  <a:lnTo>
                    <a:pt x="271" y="54"/>
                  </a:lnTo>
                  <a:lnTo>
                    <a:pt x="253" y="0"/>
                  </a:lnTo>
                  <a:lnTo>
                    <a:pt x="237" y="5"/>
                  </a:lnTo>
                  <a:lnTo>
                    <a:pt x="217" y="12"/>
                  </a:lnTo>
                  <a:lnTo>
                    <a:pt x="192" y="21"/>
                  </a:lnTo>
                  <a:lnTo>
                    <a:pt x="166" y="31"/>
                  </a:lnTo>
                  <a:lnTo>
                    <a:pt x="139" y="42"/>
                  </a:lnTo>
                  <a:lnTo>
                    <a:pt x="114" y="52"/>
                  </a:lnTo>
                  <a:lnTo>
                    <a:pt x="91" y="60"/>
                  </a:lnTo>
                  <a:lnTo>
                    <a:pt x="73" y="67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298240" y="4533840"/>
              <a:ext cx="552240" cy="852480"/>
            </a:xfrm>
            <a:custGeom>
              <a:avLst/>
              <a:gdLst/>
              <a:ahLst/>
              <a:rect l="l" t="t" r="r" b="b"/>
              <a:pathLst>
                <a:path w="697" h="1073">
                  <a:moveTo>
                    <a:pt x="181" y="969"/>
                  </a:moveTo>
                  <a:lnTo>
                    <a:pt x="195" y="955"/>
                  </a:lnTo>
                  <a:lnTo>
                    <a:pt x="212" y="937"/>
                  </a:lnTo>
                  <a:lnTo>
                    <a:pt x="230" y="915"/>
                  </a:lnTo>
                  <a:lnTo>
                    <a:pt x="246" y="886"/>
                  </a:lnTo>
                  <a:lnTo>
                    <a:pt x="256" y="850"/>
                  </a:lnTo>
                  <a:lnTo>
                    <a:pt x="257" y="805"/>
                  </a:lnTo>
                  <a:lnTo>
                    <a:pt x="248" y="752"/>
                  </a:lnTo>
                  <a:lnTo>
                    <a:pt x="225" y="688"/>
                  </a:lnTo>
                  <a:lnTo>
                    <a:pt x="208" y="680"/>
                  </a:lnTo>
                  <a:lnTo>
                    <a:pt x="191" y="669"/>
                  </a:lnTo>
                  <a:lnTo>
                    <a:pt x="172" y="658"/>
                  </a:lnTo>
                  <a:lnTo>
                    <a:pt x="154" y="643"/>
                  </a:lnTo>
                  <a:lnTo>
                    <a:pt x="136" y="628"/>
                  </a:lnTo>
                  <a:lnTo>
                    <a:pt x="119" y="609"/>
                  </a:lnTo>
                  <a:lnTo>
                    <a:pt x="102" y="589"/>
                  </a:lnTo>
                  <a:lnTo>
                    <a:pt x="85" y="567"/>
                  </a:lnTo>
                  <a:lnTo>
                    <a:pt x="70" y="543"/>
                  </a:lnTo>
                  <a:lnTo>
                    <a:pt x="55" y="516"/>
                  </a:lnTo>
                  <a:lnTo>
                    <a:pt x="42" y="487"/>
                  </a:lnTo>
                  <a:lnTo>
                    <a:pt x="30" y="456"/>
                  </a:lnTo>
                  <a:lnTo>
                    <a:pt x="20" y="423"/>
                  </a:lnTo>
                  <a:lnTo>
                    <a:pt x="12" y="387"/>
                  </a:lnTo>
                  <a:lnTo>
                    <a:pt x="6" y="349"/>
                  </a:lnTo>
                  <a:lnTo>
                    <a:pt x="3" y="309"/>
                  </a:lnTo>
                  <a:lnTo>
                    <a:pt x="0" y="231"/>
                  </a:lnTo>
                  <a:lnTo>
                    <a:pt x="2" y="169"/>
                  </a:lnTo>
                  <a:lnTo>
                    <a:pt x="9" y="119"/>
                  </a:lnTo>
                  <a:lnTo>
                    <a:pt x="20" y="78"/>
                  </a:lnTo>
                  <a:lnTo>
                    <a:pt x="36" y="48"/>
                  </a:lnTo>
                  <a:lnTo>
                    <a:pt x="59" y="28"/>
                  </a:lnTo>
                  <a:lnTo>
                    <a:pt x="87" y="14"/>
                  </a:lnTo>
                  <a:lnTo>
                    <a:pt x="120" y="6"/>
                  </a:lnTo>
                  <a:lnTo>
                    <a:pt x="139" y="3"/>
                  </a:lnTo>
                  <a:lnTo>
                    <a:pt x="159" y="2"/>
                  </a:lnTo>
                  <a:lnTo>
                    <a:pt x="180" y="1"/>
                  </a:lnTo>
                  <a:lnTo>
                    <a:pt x="201" y="0"/>
                  </a:lnTo>
                  <a:lnTo>
                    <a:pt x="224" y="0"/>
                  </a:lnTo>
                  <a:lnTo>
                    <a:pt x="246" y="0"/>
                  </a:lnTo>
                  <a:lnTo>
                    <a:pt x="268" y="1"/>
                  </a:lnTo>
                  <a:lnTo>
                    <a:pt x="290" y="2"/>
                  </a:lnTo>
                  <a:lnTo>
                    <a:pt x="310" y="4"/>
                  </a:lnTo>
                  <a:lnTo>
                    <a:pt x="331" y="8"/>
                  </a:lnTo>
                  <a:lnTo>
                    <a:pt x="351" y="11"/>
                  </a:lnTo>
                  <a:lnTo>
                    <a:pt x="368" y="15"/>
                  </a:lnTo>
                  <a:lnTo>
                    <a:pt x="384" y="19"/>
                  </a:lnTo>
                  <a:lnTo>
                    <a:pt x="399" y="25"/>
                  </a:lnTo>
                  <a:lnTo>
                    <a:pt x="412" y="32"/>
                  </a:lnTo>
                  <a:lnTo>
                    <a:pt x="422" y="39"/>
                  </a:lnTo>
                  <a:lnTo>
                    <a:pt x="434" y="46"/>
                  </a:lnTo>
                  <a:lnTo>
                    <a:pt x="451" y="53"/>
                  </a:lnTo>
                  <a:lnTo>
                    <a:pt x="470" y="60"/>
                  </a:lnTo>
                  <a:lnTo>
                    <a:pt x="495" y="67"/>
                  </a:lnTo>
                  <a:lnTo>
                    <a:pt x="520" y="74"/>
                  </a:lnTo>
                  <a:lnTo>
                    <a:pt x="546" y="82"/>
                  </a:lnTo>
                  <a:lnTo>
                    <a:pt x="574" y="91"/>
                  </a:lnTo>
                  <a:lnTo>
                    <a:pt x="601" y="101"/>
                  </a:lnTo>
                  <a:lnTo>
                    <a:pt x="626" y="114"/>
                  </a:lnTo>
                  <a:lnTo>
                    <a:pt x="649" y="128"/>
                  </a:lnTo>
                  <a:lnTo>
                    <a:pt x="667" y="145"/>
                  </a:lnTo>
                  <a:lnTo>
                    <a:pt x="684" y="165"/>
                  </a:lnTo>
                  <a:lnTo>
                    <a:pt x="693" y="188"/>
                  </a:lnTo>
                  <a:lnTo>
                    <a:pt x="697" y="214"/>
                  </a:lnTo>
                  <a:lnTo>
                    <a:pt x="694" y="245"/>
                  </a:lnTo>
                  <a:lnTo>
                    <a:pt x="684" y="280"/>
                  </a:lnTo>
                  <a:lnTo>
                    <a:pt x="655" y="354"/>
                  </a:lnTo>
                  <a:lnTo>
                    <a:pt x="629" y="427"/>
                  </a:lnTo>
                  <a:lnTo>
                    <a:pt x="609" y="499"/>
                  </a:lnTo>
                  <a:lnTo>
                    <a:pt x="594" y="567"/>
                  </a:lnTo>
                  <a:lnTo>
                    <a:pt x="587" y="629"/>
                  </a:lnTo>
                  <a:lnTo>
                    <a:pt x="588" y="685"/>
                  </a:lnTo>
                  <a:lnTo>
                    <a:pt x="599" y="735"/>
                  </a:lnTo>
                  <a:lnTo>
                    <a:pt x="621" y="774"/>
                  </a:lnTo>
                  <a:lnTo>
                    <a:pt x="623" y="804"/>
                  </a:lnTo>
                  <a:lnTo>
                    <a:pt x="627" y="847"/>
                  </a:lnTo>
                  <a:lnTo>
                    <a:pt x="631" y="885"/>
                  </a:lnTo>
                  <a:lnTo>
                    <a:pt x="632" y="902"/>
                  </a:lnTo>
                  <a:lnTo>
                    <a:pt x="604" y="932"/>
                  </a:lnTo>
                  <a:lnTo>
                    <a:pt x="575" y="959"/>
                  </a:lnTo>
                  <a:lnTo>
                    <a:pt x="545" y="984"/>
                  </a:lnTo>
                  <a:lnTo>
                    <a:pt x="514" y="1007"/>
                  </a:lnTo>
                  <a:lnTo>
                    <a:pt x="482" y="1027"/>
                  </a:lnTo>
                  <a:lnTo>
                    <a:pt x="450" y="1044"/>
                  </a:lnTo>
                  <a:lnTo>
                    <a:pt x="417" y="1057"/>
                  </a:lnTo>
                  <a:lnTo>
                    <a:pt x="386" y="1067"/>
                  </a:lnTo>
                  <a:lnTo>
                    <a:pt x="354" y="1071"/>
                  </a:lnTo>
                  <a:lnTo>
                    <a:pt x="324" y="1073"/>
                  </a:lnTo>
                  <a:lnTo>
                    <a:pt x="295" y="1069"/>
                  </a:lnTo>
                  <a:lnTo>
                    <a:pt x="268" y="1060"/>
                  </a:lnTo>
                  <a:lnTo>
                    <a:pt x="242" y="1046"/>
                  </a:lnTo>
                  <a:lnTo>
                    <a:pt x="219" y="1027"/>
                  </a:lnTo>
                  <a:lnTo>
                    <a:pt x="199" y="1001"/>
                  </a:lnTo>
                  <a:lnTo>
                    <a:pt x="181" y="969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268360" y="4370040"/>
              <a:ext cx="831240" cy="1052640"/>
            </a:xfrm>
            <a:custGeom>
              <a:avLst/>
              <a:gdLst/>
              <a:ahLst/>
              <a:rect l="l" t="t" r="r" b="b"/>
              <a:pathLst>
                <a:path w="1049" h="1328">
                  <a:moveTo>
                    <a:pt x="583" y="716"/>
                  </a:moveTo>
                  <a:lnTo>
                    <a:pt x="583" y="741"/>
                  </a:lnTo>
                  <a:lnTo>
                    <a:pt x="586" y="772"/>
                  </a:lnTo>
                  <a:lnTo>
                    <a:pt x="589" y="808"/>
                  </a:lnTo>
                  <a:lnTo>
                    <a:pt x="595" y="845"/>
                  </a:lnTo>
                  <a:lnTo>
                    <a:pt x="601" y="881"/>
                  </a:lnTo>
                  <a:lnTo>
                    <a:pt x="609" y="912"/>
                  </a:lnTo>
                  <a:lnTo>
                    <a:pt x="618" y="937"/>
                  </a:lnTo>
                  <a:lnTo>
                    <a:pt x="627" y="955"/>
                  </a:lnTo>
                  <a:lnTo>
                    <a:pt x="628" y="982"/>
                  </a:lnTo>
                  <a:lnTo>
                    <a:pt x="632" y="1024"/>
                  </a:lnTo>
                  <a:lnTo>
                    <a:pt x="636" y="1077"/>
                  </a:lnTo>
                  <a:lnTo>
                    <a:pt x="643" y="1133"/>
                  </a:lnTo>
                  <a:lnTo>
                    <a:pt x="650" y="1192"/>
                  </a:lnTo>
                  <a:lnTo>
                    <a:pt x="658" y="1246"/>
                  </a:lnTo>
                  <a:lnTo>
                    <a:pt x="667" y="1293"/>
                  </a:lnTo>
                  <a:lnTo>
                    <a:pt x="678" y="1328"/>
                  </a:lnTo>
                  <a:lnTo>
                    <a:pt x="684" y="1250"/>
                  </a:lnTo>
                  <a:lnTo>
                    <a:pt x="687" y="1099"/>
                  </a:lnTo>
                  <a:lnTo>
                    <a:pt x="688" y="953"/>
                  </a:lnTo>
                  <a:lnTo>
                    <a:pt x="688" y="888"/>
                  </a:lnTo>
                  <a:lnTo>
                    <a:pt x="690" y="900"/>
                  </a:lnTo>
                  <a:lnTo>
                    <a:pt x="696" y="935"/>
                  </a:lnTo>
                  <a:lnTo>
                    <a:pt x="707" y="985"/>
                  </a:lnTo>
                  <a:lnTo>
                    <a:pt x="720" y="1043"/>
                  </a:lnTo>
                  <a:lnTo>
                    <a:pt x="737" y="1105"/>
                  </a:lnTo>
                  <a:lnTo>
                    <a:pt x="755" y="1163"/>
                  </a:lnTo>
                  <a:lnTo>
                    <a:pt x="776" y="1211"/>
                  </a:lnTo>
                  <a:lnTo>
                    <a:pt x="798" y="1244"/>
                  </a:lnTo>
                  <a:lnTo>
                    <a:pt x="801" y="1217"/>
                  </a:lnTo>
                  <a:lnTo>
                    <a:pt x="802" y="1176"/>
                  </a:lnTo>
                  <a:lnTo>
                    <a:pt x="800" y="1124"/>
                  </a:lnTo>
                  <a:lnTo>
                    <a:pt x="796" y="1064"/>
                  </a:lnTo>
                  <a:lnTo>
                    <a:pt x="792" y="1001"/>
                  </a:lnTo>
                  <a:lnTo>
                    <a:pt x="785" y="938"/>
                  </a:lnTo>
                  <a:lnTo>
                    <a:pt x="778" y="880"/>
                  </a:lnTo>
                  <a:lnTo>
                    <a:pt x="770" y="829"/>
                  </a:lnTo>
                  <a:lnTo>
                    <a:pt x="777" y="843"/>
                  </a:lnTo>
                  <a:lnTo>
                    <a:pt x="786" y="858"/>
                  </a:lnTo>
                  <a:lnTo>
                    <a:pt x="796" y="874"/>
                  </a:lnTo>
                  <a:lnTo>
                    <a:pt x="809" y="889"/>
                  </a:lnTo>
                  <a:lnTo>
                    <a:pt x="821" y="904"/>
                  </a:lnTo>
                  <a:lnTo>
                    <a:pt x="832" y="918"/>
                  </a:lnTo>
                  <a:lnTo>
                    <a:pt x="843" y="930"/>
                  </a:lnTo>
                  <a:lnTo>
                    <a:pt x="852" y="942"/>
                  </a:lnTo>
                  <a:lnTo>
                    <a:pt x="927" y="957"/>
                  </a:lnTo>
                  <a:lnTo>
                    <a:pt x="912" y="915"/>
                  </a:lnTo>
                  <a:lnTo>
                    <a:pt x="899" y="875"/>
                  </a:lnTo>
                  <a:lnTo>
                    <a:pt x="885" y="836"/>
                  </a:lnTo>
                  <a:lnTo>
                    <a:pt x="875" y="801"/>
                  </a:lnTo>
                  <a:lnTo>
                    <a:pt x="866" y="771"/>
                  </a:lnTo>
                  <a:lnTo>
                    <a:pt x="858" y="748"/>
                  </a:lnTo>
                  <a:lnTo>
                    <a:pt x="853" y="734"/>
                  </a:lnTo>
                  <a:lnTo>
                    <a:pt x="852" y="729"/>
                  </a:lnTo>
                  <a:lnTo>
                    <a:pt x="861" y="740"/>
                  </a:lnTo>
                  <a:lnTo>
                    <a:pt x="872" y="754"/>
                  </a:lnTo>
                  <a:lnTo>
                    <a:pt x="884" y="771"/>
                  </a:lnTo>
                  <a:lnTo>
                    <a:pt x="897" y="790"/>
                  </a:lnTo>
                  <a:lnTo>
                    <a:pt x="910" y="809"/>
                  </a:lnTo>
                  <a:lnTo>
                    <a:pt x="924" y="830"/>
                  </a:lnTo>
                  <a:lnTo>
                    <a:pt x="938" y="851"/>
                  </a:lnTo>
                  <a:lnTo>
                    <a:pt x="952" y="873"/>
                  </a:lnTo>
                  <a:lnTo>
                    <a:pt x="966" y="895"/>
                  </a:lnTo>
                  <a:lnTo>
                    <a:pt x="980" y="917"/>
                  </a:lnTo>
                  <a:lnTo>
                    <a:pt x="993" y="937"/>
                  </a:lnTo>
                  <a:lnTo>
                    <a:pt x="1006" y="956"/>
                  </a:lnTo>
                  <a:lnTo>
                    <a:pt x="1019" y="974"/>
                  </a:lnTo>
                  <a:lnTo>
                    <a:pt x="1029" y="989"/>
                  </a:lnTo>
                  <a:lnTo>
                    <a:pt x="1040" y="1003"/>
                  </a:lnTo>
                  <a:lnTo>
                    <a:pt x="1049" y="1013"/>
                  </a:lnTo>
                  <a:lnTo>
                    <a:pt x="1042" y="987"/>
                  </a:lnTo>
                  <a:lnTo>
                    <a:pt x="1028" y="949"/>
                  </a:lnTo>
                  <a:lnTo>
                    <a:pt x="1007" y="903"/>
                  </a:lnTo>
                  <a:lnTo>
                    <a:pt x="983" y="853"/>
                  </a:lnTo>
                  <a:lnTo>
                    <a:pt x="958" y="802"/>
                  </a:lnTo>
                  <a:lnTo>
                    <a:pt x="932" y="755"/>
                  </a:lnTo>
                  <a:lnTo>
                    <a:pt x="912" y="715"/>
                  </a:lnTo>
                  <a:lnTo>
                    <a:pt x="896" y="685"/>
                  </a:lnTo>
                  <a:lnTo>
                    <a:pt x="882" y="657"/>
                  </a:lnTo>
                  <a:lnTo>
                    <a:pt x="866" y="623"/>
                  </a:lnTo>
                  <a:lnTo>
                    <a:pt x="847" y="584"/>
                  </a:lnTo>
                  <a:lnTo>
                    <a:pt x="829" y="540"/>
                  </a:lnTo>
                  <a:lnTo>
                    <a:pt x="810" y="497"/>
                  </a:lnTo>
                  <a:lnTo>
                    <a:pt x="794" y="456"/>
                  </a:lnTo>
                  <a:lnTo>
                    <a:pt x="779" y="418"/>
                  </a:lnTo>
                  <a:lnTo>
                    <a:pt x="768" y="385"/>
                  </a:lnTo>
                  <a:lnTo>
                    <a:pt x="758" y="359"/>
                  </a:lnTo>
                  <a:lnTo>
                    <a:pt x="749" y="332"/>
                  </a:lnTo>
                  <a:lnTo>
                    <a:pt x="741" y="308"/>
                  </a:lnTo>
                  <a:lnTo>
                    <a:pt x="732" y="284"/>
                  </a:lnTo>
                  <a:lnTo>
                    <a:pt x="720" y="262"/>
                  </a:lnTo>
                  <a:lnTo>
                    <a:pt x="709" y="241"/>
                  </a:lnTo>
                  <a:lnTo>
                    <a:pt x="695" y="223"/>
                  </a:lnTo>
                  <a:lnTo>
                    <a:pt x="678" y="204"/>
                  </a:lnTo>
                  <a:lnTo>
                    <a:pt x="662" y="188"/>
                  </a:lnTo>
                  <a:lnTo>
                    <a:pt x="650" y="174"/>
                  </a:lnTo>
                  <a:lnTo>
                    <a:pt x="640" y="163"/>
                  </a:lnTo>
                  <a:lnTo>
                    <a:pt x="631" y="151"/>
                  </a:lnTo>
                  <a:lnTo>
                    <a:pt x="621" y="140"/>
                  </a:lnTo>
                  <a:lnTo>
                    <a:pt x="610" y="130"/>
                  </a:lnTo>
                  <a:lnTo>
                    <a:pt x="594" y="118"/>
                  </a:lnTo>
                  <a:lnTo>
                    <a:pt x="573" y="104"/>
                  </a:lnTo>
                  <a:lnTo>
                    <a:pt x="559" y="96"/>
                  </a:lnTo>
                  <a:lnTo>
                    <a:pt x="543" y="88"/>
                  </a:lnTo>
                  <a:lnTo>
                    <a:pt x="525" y="80"/>
                  </a:lnTo>
                  <a:lnTo>
                    <a:pt x="504" y="71"/>
                  </a:lnTo>
                  <a:lnTo>
                    <a:pt x="481" y="62"/>
                  </a:lnTo>
                  <a:lnTo>
                    <a:pt x="458" y="52"/>
                  </a:lnTo>
                  <a:lnTo>
                    <a:pt x="434" y="44"/>
                  </a:lnTo>
                  <a:lnTo>
                    <a:pt x="408" y="35"/>
                  </a:lnTo>
                  <a:lnTo>
                    <a:pt x="383" y="28"/>
                  </a:lnTo>
                  <a:lnTo>
                    <a:pt x="358" y="20"/>
                  </a:lnTo>
                  <a:lnTo>
                    <a:pt x="333" y="14"/>
                  </a:lnTo>
                  <a:lnTo>
                    <a:pt x="309" y="9"/>
                  </a:lnTo>
                  <a:lnTo>
                    <a:pt x="287" y="5"/>
                  </a:lnTo>
                  <a:lnTo>
                    <a:pt x="267" y="2"/>
                  </a:lnTo>
                  <a:lnTo>
                    <a:pt x="248" y="0"/>
                  </a:lnTo>
                  <a:lnTo>
                    <a:pt x="232" y="2"/>
                  </a:lnTo>
                  <a:lnTo>
                    <a:pt x="217" y="3"/>
                  </a:lnTo>
                  <a:lnTo>
                    <a:pt x="201" y="5"/>
                  </a:lnTo>
                  <a:lnTo>
                    <a:pt x="186" y="7"/>
                  </a:lnTo>
                  <a:lnTo>
                    <a:pt x="170" y="10"/>
                  </a:lnTo>
                  <a:lnTo>
                    <a:pt x="154" y="13"/>
                  </a:lnTo>
                  <a:lnTo>
                    <a:pt x="139" y="17"/>
                  </a:lnTo>
                  <a:lnTo>
                    <a:pt x="123" y="21"/>
                  </a:lnTo>
                  <a:lnTo>
                    <a:pt x="108" y="26"/>
                  </a:lnTo>
                  <a:lnTo>
                    <a:pt x="94" y="32"/>
                  </a:lnTo>
                  <a:lnTo>
                    <a:pt x="80" y="39"/>
                  </a:lnTo>
                  <a:lnTo>
                    <a:pt x="67" y="47"/>
                  </a:lnTo>
                  <a:lnTo>
                    <a:pt x="55" y="56"/>
                  </a:lnTo>
                  <a:lnTo>
                    <a:pt x="44" y="66"/>
                  </a:lnTo>
                  <a:lnTo>
                    <a:pt x="35" y="78"/>
                  </a:lnTo>
                  <a:lnTo>
                    <a:pt x="27" y="90"/>
                  </a:lnTo>
                  <a:lnTo>
                    <a:pt x="20" y="104"/>
                  </a:lnTo>
                  <a:lnTo>
                    <a:pt x="10" y="133"/>
                  </a:lnTo>
                  <a:lnTo>
                    <a:pt x="4" y="158"/>
                  </a:lnTo>
                  <a:lnTo>
                    <a:pt x="0" y="183"/>
                  </a:lnTo>
                  <a:lnTo>
                    <a:pt x="0" y="204"/>
                  </a:lnTo>
                  <a:lnTo>
                    <a:pt x="4" y="226"/>
                  </a:lnTo>
                  <a:lnTo>
                    <a:pt x="10" y="248"/>
                  </a:lnTo>
                  <a:lnTo>
                    <a:pt x="18" y="270"/>
                  </a:lnTo>
                  <a:lnTo>
                    <a:pt x="28" y="293"/>
                  </a:lnTo>
                  <a:lnTo>
                    <a:pt x="35" y="275"/>
                  </a:lnTo>
                  <a:lnTo>
                    <a:pt x="43" y="259"/>
                  </a:lnTo>
                  <a:lnTo>
                    <a:pt x="53" y="247"/>
                  </a:lnTo>
                  <a:lnTo>
                    <a:pt x="65" y="237"/>
                  </a:lnTo>
                  <a:lnTo>
                    <a:pt x="78" y="230"/>
                  </a:lnTo>
                  <a:lnTo>
                    <a:pt x="91" y="225"/>
                  </a:lnTo>
                  <a:lnTo>
                    <a:pt x="105" y="222"/>
                  </a:lnTo>
                  <a:lnTo>
                    <a:pt x="120" y="221"/>
                  </a:lnTo>
                  <a:lnTo>
                    <a:pt x="136" y="221"/>
                  </a:lnTo>
                  <a:lnTo>
                    <a:pt x="151" y="221"/>
                  </a:lnTo>
                  <a:lnTo>
                    <a:pt x="166" y="222"/>
                  </a:lnTo>
                  <a:lnTo>
                    <a:pt x="182" y="224"/>
                  </a:lnTo>
                  <a:lnTo>
                    <a:pt x="196" y="225"/>
                  </a:lnTo>
                  <a:lnTo>
                    <a:pt x="210" y="226"/>
                  </a:lnTo>
                  <a:lnTo>
                    <a:pt x="224" y="227"/>
                  </a:lnTo>
                  <a:lnTo>
                    <a:pt x="235" y="227"/>
                  </a:lnTo>
                  <a:lnTo>
                    <a:pt x="287" y="225"/>
                  </a:lnTo>
                  <a:lnTo>
                    <a:pt x="333" y="229"/>
                  </a:lnTo>
                  <a:lnTo>
                    <a:pt x="373" y="236"/>
                  </a:lnTo>
                  <a:lnTo>
                    <a:pt x="405" y="246"/>
                  </a:lnTo>
                  <a:lnTo>
                    <a:pt x="434" y="260"/>
                  </a:lnTo>
                  <a:lnTo>
                    <a:pt x="458" y="275"/>
                  </a:lnTo>
                  <a:lnTo>
                    <a:pt x="477" y="291"/>
                  </a:lnTo>
                  <a:lnTo>
                    <a:pt x="495" y="308"/>
                  </a:lnTo>
                  <a:lnTo>
                    <a:pt x="510" y="324"/>
                  </a:lnTo>
                  <a:lnTo>
                    <a:pt x="523" y="340"/>
                  </a:lnTo>
                  <a:lnTo>
                    <a:pt x="535" y="355"/>
                  </a:lnTo>
                  <a:lnTo>
                    <a:pt x="548" y="368"/>
                  </a:lnTo>
                  <a:lnTo>
                    <a:pt x="560" y="378"/>
                  </a:lnTo>
                  <a:lnTo>
                    <a:pt x="573" y="385"/>
                  </a:lnTo>
                  <a:lnTo>
                    <a:pt x="589" y="388"/>
                  </a:lnTo>
                  <a:lnTo>
                    <a:pt x="606" y="385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3" y="376"/>
                  </a:lnTo>
                  <a:lnTo>
                    <a:pt x="621" y="370"/>
                  </a:lnTo>
                  <a:lnTo>
                    <a:pt x="632" y="366"/>
                  </a:lnTo>
                  <a:lnTo>
                    <a:pt x="643" y="363"/>
                  </a:lnTo>
                  <a:lnTo>
                    <a:pt x="655" y="366"/>
                  </a:lnTo>
                  <a:lnTo>
                    <a:pt x="667" y="373"/>
                  </a:lnTo>
                  <a:lnTo>
                    <a:pt x="679" y="386"/>
                  </a:lnTo>
                  <a:lnTo>
                    <a:pt x="687" y="407"/>
                  </a:lnTo>
                  <a:lnTo>
                    <a:pt x="692" y="433"/>
                  </a:lnTo>
                  <a:lnTo>
                    <a:pt x="689" y="463"/>
                  </a:lnTo>
                  <a:lnTo>
                    <a:pt x="680" y="497"/>
                  </a:lnTo>
                  <a:lnTo>
                    <a:pt x="663" y="535"/>
                  </a:lnTo>
                  <a:lnTo>
                    <a:pt x="635" y="574"/>
                  </a:lnTo>
                  <a:lnTo>
                    <a:pt x="596" y="616"/>
                  </a:lnTo>
                  <a:lnTo>
                    <a:pt x="590" y="632"/>
                  </a:lnTo>
                  <a:lnTo>
                    <a:pt x="586" y="654"/>
                  </a:lnTo>
                  <a:lnTo>
                    <a:pt x="583" y="680"/>
                  </a:lnTo>
                  <a:lnTo>
                    <a:pt x="583" y="708"/>
                  </a:lnTo>
                  <a:lnTo>
                    <a:pt x="583" y="716"/>
                  </a:lnTo>
                  <a:close/>
                </a:path>
              </a:pathLst>
            </a:custGeom>
            <a:solidFill>
              <a:srgbClr val="771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346120" y="4986000"/>
              <a:ext cx="47160" cy="424080"/>
            </a:xfrm>
            <a:custGeom>
              <a:avLst/>
              <a:gdLst/>
              <a:ahLst/>
              <a:rect l="l" t="t" r="r" b="b"/>
              <a:pathLst>
                <a:path w="59" h="534">
                  <a:moveTo>
                    <a:pt x="13" y="0"/>
                  </a:moveTo>
                  <a:lnTo>
                    <a:pt x="11" y="91"/>
                  </a:lnTo>
                  <a:lnTo>
                    <a:pt x="6" y="259"/>
                  </a:lnTo>
                  <a:lnTo>
                    <a:pt x="2" y="430"/>
                  </a:lnTo>
                  <a:lnTo>
                    <a:pt x="0" y="534"/>
                  </a:lnTo>
                  <a:lnTo>
                    <a:pt x="30" y="528"/>
                  </a:lnTo>
                  <a:lnTo>
                    <a:pt x="40" y="432"/>
                  </a:lnTo>
                  <a:lnTo>
                    <a:pt x="50" y="296"/>
                  </a:lnTo>
                  <a:lnTo>
                    <a:pt x="57" y="159"/>
                  </a:lnTo>
                  <a:lnTo>
                    <a:pt x="59" y="5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71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258640" y="4862160"/>
              <a:ext cx="72720" cy="492120"/>
            </a:xfrm>
            <a:custGeom>
              <a:avLst/>
              <a:gdLst/>
              <a:ahLst/>
              <a:rect l="l" t="t" r="r" b="b"/>
              <a:pathLst>
                <a:path w="92" h="619">
                  <a:moveTo>
                    <a:pt x="64" y="0"/>
                  </a:moveTo>
                  <a:lnTo>
                    <a:pt x="60" y="38"/>
                  </a:lnTo>
                  <a:lnTo>
                    <a:pt x="52" y="107"/>
                  </a:lnTo>
                  <a:lnTo>
                    <a:pt x="41" y="199"/>
                  </a:lnTo>
                  <a:lnTo>
                    <a:pt x="31" y="303"/>
                  </a:lnTo>
                  <a:lnTo>
                    <a:pt x="19" y="406"/>
                  </a:lnTo>
                  <a:lnTo>
                    <a:pt x="10" y="501"/>
                  </a:lnTo>
                  <a:lnTo>
                    <a:pt x="3" y="576"/>
                  </a:lnTo>
                  <a:lnTo>
                    <a:pt x="0" y="619"/>
                  </a:lnTo>
                  <a:lnTo>
                    <a:pt x="18" y="572"/>
                  </a:lnTo>
                  <a:lnTo>
                    <a:pt x="37" y="504"/>
                  </a:lnTo>
                  <a:lnTo>
                    <a:pt x="54" y="424"/>
                  </a:lnTo>
                  <a:lnTo>
                    <a:pt x="70" y="337"/>
                  </a:lnTo>
                  <a:lnTo>
                    <a:pt x="82" y="250"/>
                  </a:lnTo>
                  <a:lnTo>
                    <a:pt x="90" y="167"/>
                  </a:lnTo>
                  <a:lnTo>
                    <a:pt x="92" y="97"/>
                  </a:lnTo>
                  <a:lnTo>
                    <a:pt x="87" y="46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771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409400" y="5109840"/>
              <a:ext cx="791640" cy="833400"/>
            </a:xfrm>
            <a:custGeom>
              <a:avLst/>
              <a:gdLst/>
              <a:ahLst/>
              <a:rect l="l" t="t" r="r" b="b"/>
              <a:pathLst>
                <a:path w="998" h="1050">
                  <a:moveTo>
                    <a:pt x="0" y="468"/>
                  </a:moveTo>
                  <a:lnTo>
                    <a:pt x="1" y="517"/>
                  </a:lnTo>
                  <a:lnTo>
                    <a:pt x="9" y="587"/>
                  </a:lnTo>
                  <a:lnTo>
                    <a:pt x="24" y="673"/>
                  </a:lnTo>
                  <a:lnTo>
                    <a:pt x="45" y="764"/>
                  </a:lnTo>
                  <a:lnTo>
                    <a:pt x="70" y="855"/>
                  </a:lnTo>
                  <a:lnTo>
                    <a:pt x="99" y="938"/>
                  </a:lnTo>
                  <a:lnTo>
                    <a:pt x="132" y="1005"/>
                  </a:lnTo>
                  <a:lnTo>
                    <a:pt x="169" y="1047"/>
                  </a:lnTo>
                  <a:lnTo>
                    <a:pt x="190" y="1050"/>
                  </a:lnTo>
                  <a:lnTo>
                    <a:pt x="215" y="1050"/>
                  </a:lnTo>
                  <a:lnTo>
                    <a:pt x="243" y="1048"/>
                  </a:lnTo>
                  <a:lnTo>
                    <a:pt x="273" y="1047"/>
                  </a:lnTo>
                  <a:lnTo>
                    <a:pt x="304" y="1044"/>
                  </a:lnTo>
                  <a:lnTo>
                    <a:pt x="337" y="1040"/>
                  </a:lnTo>
                  <a:lnTo>
                    <a:pt x="372" y="1037"/>
                  </a:lnTo>
                  <a:lnTo>
                    <a:pt x="406" y="1032"/>
                  </a:lnTo>
                  <a:lnTo>
                    <a:pt x="441" y="1028"/>
                  </a:lnTo>
                  <a:lnTo>
                    <a:pt x="475" y="1024"/>
                  </a:lnTo>
                  <a:lnTo>
                    <a:pt x="508" y="1020"/>
                  </a:lnTo>
                  <a:lnTo>
                    <a:pt x="540" y="1017"/>
                  </a:lnTo>
                  <a:lnTo>
                    <a:pt x="570" y="1014"/>
                  </a:lnTo>
                  <a:lnTo>
                    <a:pt x="596" y="1013"/>
                  </a:lnTo>
                  <a:lnTo>
                    <a:pt x="621" y="1011"/>
                  </a:lnTo>
                  <a:lnTo>
                    <a:pt x="641" y="1013"/>
                  </a:lnTo>
                  <a:lnTo>
                    <a:pt x="651" y="999"/>
                  </a:lnTo>
                  <a:lnTo>
                    <a:pt x="661" y="977"/>
                  </a:lnTo>
                  <a:lnTo>
                    <a:pt x="671" y="952"/>
                  </a:lnTo>
                  <a:lnTo>
                    <a:pt x="685" y="925"/>
                  </a:lnTo>
                  <a:lnTo>
                    <a:pt x="701" y="901"/>
                  </a:lnTo>
                  <a:lnTo>
                    <a:pt x="721" y="880"/>
                  </a:lnTo>
                  <a:lnTo>
                    <a:pt x="747" y="866"/>
                  </a:lnTo>
                  <a:lnTo>
                    <a:pt x="780" y="862"/>
                  </a:lnTo>
                  <a:lnTo>
                    <a:pt x="772" y="844"/>
                  </a:lnTo>
                  <a:lnTo>
                    <a:pt x="763" y="825"/>
                  </a:lnTo>
                  <a:lnTo>
                    <a:pt x="755" y="805"/>
                  </a:lnTo>
                  <a:lnTo>
                    <a:pt x="745" y="783"/>
                  </a:lnTo>
                  <a:lnTo>
                    <a:pt x="735" y="760"/>
                  </a:lnTo>
                  <a:lnTo>
                    <a:pt x="724" y="737"/>
                  </a:lnTo>
                  <a:lnTo>
                    <a:pt x="712" y="713"/>
                  </a:lnTo>
                  <a:lnTo>
                    <a:pt x="700" y="690"/>
                  </a:lnTo>
                  <a:lnTo>
                    <a:pt x="686" y="666"/>
                  </a:lnTo>
                  <a:lnTo>
                    <a:pt x="672" y="643"/>
                  </a:lnTo>
                  <a:lnTo>
                    <a:pt x="659" y="621"/>
                  </a:lnTo>
                  <a:lnTo>
                    <a:pt x="643" y="599"/>
                  </a:lnTo>
                  <a:lnTo>
                    <a:pt x="628" y="579"/>
                  </a:lnTo>
                  <a:lnTo>
                    <a:pt x="610" y="560"/>
                  </a:lnTo>
                  <a:lnTo>
                    <a:pt x="593" y="544"/>
                  </a:lnTo>
                  <a:lnTo>
                    <a:pt x="576" y="529"/>
                  </a:lnTo>
                  <a:lnTo>
                    <a:pt x="560" y="514"/>
                  </a:lnTo>
                  <a:lnTo>
                    <a:pt x="548" y="499"/>
                  </a:lnTo>
                  <a:lnTo>
                    <a:pt x="542" y="485"/>
                  </a:lnTo>
                  <a:lnTo>
                    <a:pt x="542" y="471"/>
                  </a:lnTo>
                  <a:lnTo>
                    <a:pt x="548" y="457"/>
                  </a:lnTo>
                  <a:lnTo>
                    <a:pt x="560" y="442"/>
                  </a:lnTo>
                  <a:lnTo>
                    <a:pt x="578" y="427"/>
                  </a:lnTo>
                  <a:lnTo>
                    <a:pt x="603" y="411"/>
                  </a:lnTo>
                  <a:lnTo>
                    <a:pt x="630" y="396"/>
                  </a:lnTo>
                  <a:lnTo>
                    <a:pt x="653" y="384"/>
                  </a:lnTo>
                  <a:lnTo>
                    <a:pt x="674" y="374"/>
                  </a:lnTo>
                  <a:lnTo>
                    <a:pt x="692" y="367"/>
                  </a:lnTo>
                  <a:lnTo>
                    <a:pt x="712" y="363"/>
                  </a:lnTo>
                  <a:lnTo>
                    <a:pt x="731" y="360"/>
                  </a:lnTo>
                  <a:lnTo>
                    <a:pt x="752" y="359"/>
                  </a:lnTo>
                  <a:lnTo>
                    <a:pt x="776" y="360"/>
                  </a:lnTo>
                  <a:lnTo>
                    <a:pt x="780" y="341"/>
                  </a:lnTo>
                  <a:lnTo>
                    <a:pt x="785" y="321"/>
                  </a:lnTo>
                  <a:lnTo>
                    <a:pt x="791" y="302"/>
                  </a:lnTo>
                  <a:lnTo>
                    <a:pt x="800" y="282"/>
                  </a:lnTo>
                  <a:lnTo>
                    <a:pt x="810" y="263"/>
                  </a:lnTo>
                  <a:lnTo>
                    <a:pt x="821" y="243"/>
                  </a:lnTo>
                  <a:lnTo>
                    <a:pt x="833" y="223"/>
                  </a:lnTo>
                  <a:lnTo>
                    <a:pt x="846" y="205"/>
                  </a:lnTo>
                  <a:lnTo>
                    <a:pt x="861" y="188"/>
                  </a:lnTo>
                  <a:lnTo>
                    <a:pt x="878" y="170"/>
                  </a:lnTo>
                  <a:lnTo>
                    <a:pt x="895" y="154"/>
                  </a:lnTo>
                  <a:lnTo>
                    <a:pt x="914" y="139"/>
                  </a:lnTo>
                  <a:lnTo>
                    <a:pt x="934" y="124"/>
                  </a:lnTo>
                  <a:lnTo>
                    <a:pt x="955" y="112"/>
                  </a:lnTo>
                  <a:lnTo>
                    <a:pt x="975" y="99"/>
                  </a:lnTo>
                  <a:lnTo>
                    <a:pt x="998" y="89"/>
                  </a:lnTo>
                  <a:lnTo>
                    <a:pt x="995" y="78"/>
                  </a:lnTo>
                  <a:lnTo>
                    <a:pt x="989" y="68"/>
                  </a:lnTo>
                  <a:lnTo>
                    <a:pt x="981" y="59"/>
                  </a:lnTo>
                  <a:lnTo>
                    <a:pt x="972" y="51"/>
                  </a:lnTo>
                  <a:lnTo>
                    <a:pt x="960" y="42"/>
                  </a:lnTo>
                  <a:lnTo>
                    <a:pt x="947" y="36"/>
                  </a:lnTo>
                  <a:lnTo>
                    <a:pt x="933" y="29"/>
                  </a:lnTo>
                  <a:lnTo>
                    <a:pt x="917" y="23"/>
                  </a:lnTo>
                  <a:lnTo>
                    <a:pt x="898" y="17"/>
                  </a:lnTo>
                  <a:lnTo>
                    <a:pt x="880" y="12"/>
                  </a:lnTo>
                  <a:lnTo>
                    <a:pt x="859" y="9"/>
                  </a:lnTo>
                  <a:lnTo>
                    <a:pt x="838" y="6"/>
                  </a:lnTo>
                  <a:lnTo>
                    <a:pt x="815" y="3"/>
                  </a:lnTo>
                  <a:lnTo>
                    <a:pt x="792" y="1"/>
                  </a:lnTo>
                  <a:lnTo>
                    <a:pt x="767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4" y="1"/>
                  </a:lnTo>
                  <a:lnTo>
                    <a:pt x="675" y="2"/>
                  </a:lnTo>
                  <a:lnTo>
                    <a:pt x="656" y="4"/>
                  </a:lnTo>
                  <a:lnTo>
                    <a:pt x="640" y="6"/>
                  </a:lnTo>
                  <a:lnTo>
                    <a:pt x="625" y="9"/>
                  </a:lnTo>
                  <a:lnTo>
                    <a:pt x="613" y="11"/>
                  </a:lnTo>
                  <a:lnTo>
                    <a:pt x="600" y="15"/>
                  </a:lnTo>
                  <a:lnTo>
                    <a:pt x="590" y="19"/>
                  </a:lnTo>
                  <a:lnTo>
                    <a:pt x="580" y="23"/>
                  </a:lnTo>
                  <a:lnTo>
                    <a:pt x="571" y="27"/>
                  </a:lnTo>
                  <a:lnTo>
                    <a:pt x="563" y="32"/>
                  </a:lnTo>
                  <a:lnTo>
                    <a:pt x="556" y="38"/>
                  </a:lnTo>
                  <a:lnTo>
                    <a:pt x="548" y="42"/>
                  </a:lnTo>
                  <a:lnTo>
                    <a:pt x="541" y="48"/>
                  </a:lnTo>
                  <a:lnTo>
                    <a:pt x="534" y="54"/>
                  </a:lnTo>
                  <a:lnTo>
                    <a:pt x="534" y="57"/>
                  </a:lnTo>
                  <a:lnTo>
                    <a:pt x="534" y="67"/>
                  </a:lnTo>
                  <a:lnTo>
                    <a:pt x="535" y="82"/>
                  </a:lnTo>
                  <a:lnTo>
                    <a:pt x="540" y="99"/>
                  </a:lnTo>
                  <a:lnTo>
                    <a:pt x="548" y="120"/>
                  </a:lnTo>
                  <a:lnTo>
                    <a:pt x="560" y="139"/>
                  </a:lnTo>
                  <a:lnTo>
                    <a:pt x="578" y="159"/>
                  </a:lnTo>
                  <a:lnTo>
                    <a:pt x="603" y="176"/>
                  </a:lnTo>
                  <a:lnTo>
                    <a:pt x="592" y="182"/>
                  </a:lnTo>
                  <a:lnTo>
                    <a:pt x="579" y="189"/>
                  </a:lnTo>
                  <a:lnTo>
                    <a:pt x="566" y="193"/>
                  </a:lnTo>
                  <a:lnTo>
                    <a:pt x="553" y="199"/>
                  </a:lnTo>
                  <a:lnTo>
                    <a:pt x="538" y="203"/>
                  </a:lnTo>
                  <a:lnTo>
                    <a:pt x="522" y="206"/>
                  </a:lnTo>
                  <a:lnTo>
                    <a:pt x="505" y="210"/>
                  </a:lnTo>
                  <a:lnTo>
                    <a:pt x="488" y="211"/>
                  </a:lnTo>
                  <a:lnTo>
                    <a:pt x="471" y="211"/>
                  </a:lnTo>
                  <a:lnTo>
                    <a:pt x="454" y="211"/>
                  </a:lnTo>
                  <a:lnTo>
                    <a:pt x="435" y="208"/>
                  </a:lnTo>
                  <a:lnTo>
                    <a:pt x="417" y="205"/>
                  </a:lnTo>
                  <a:lnTo>
                    <a:pt x="398" y="200"/>
                  </a:lnTo>
                  <a:lnTo>
                    <a:pt x="380" y="195"/>
                  </a:lnTo>
                  <a:lnTo>
                    <a:pt x="360" y="186"/>
                  </a:lnTo>
                  <a:lnTo>
                    <a:pt x="342" y="176"/>
                  </a:lnTo>
                  <a:lnTo>
                    <a:pt x="307" y="154"/>
                  </a:lnTo>
                  <a:lnTo>
                    <a:pt x="280" y="132"/>
                  </a:lnTo>
                  <a:lnTo>
                    <a:pt x="257" y="110"/>
                  </a:lnTo>
                  <a:lnTo>
                    <a:pt x="239" y="91"/>
                  </a:lnTo>
                  <a:lnTo>
                    <a:pt x="227" y="74"/>
                  </a:lnTo>
                  <a:lnTo>
                    <a:pt x="217" y="60"/>
                  </a:lnTo>
                  <a:lnTo>
                    <a:pt x="213" y="52"/>
                  </a:lnTo>
                  <a:lnTo>
                    <a:pt x="212" y="48"/>
                  </a:lnTo>
                  <a:lnTo>
                    <a:pt x="0" y="46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842840" y="5395680"/>
              <a:ext cx="461520" cy="961920"/>
            </a:xfrm>
            <a:custGeom>
              <a:avLst/>
              <a:gdLst/>
              <a:ahLst/>
              <a:rect l="l" t="t" r="r" b="b"/>
              <a:pathLst>
                <a:path w="582" h="1212">
                  <a:moveTo>
                    <a:pt x="329" y="835"/>
                  </a:moveTo>
                  <a:lnTo>
                    <a:pt x="335" y="856"/>
                  </a:lnTo>
                  <a:lnTo>
                    <a:pt x="345" y="892"/>
                  </a:lnTo>
                  <a:lnTo>
                    <a:pt x="356" y="938"/>
                  </a:lnTo>
                  <a:lnTo>
                    <a:pt x="368" y="991"/>
                  </a:lnTo>
                  <a:lnTo>
                    <a:pt x="379" y="1049"/>
                  </a:lnTo>
                  <a:lnTo>
                    <a:pt x="387" y="1106"/>
                  </a:lnTo>
                  <a:lnTo>
                    <a:pt x="393" y="1162"/>
                  </a:lnTo>
                  <a:lnTo>
                    <a:pt x="393" y="1211"/>
                  </a:lnTo>
                  <a:lnTo>
                    <a:pt x="405" y="1212"/>
                  </a:lnTo>
                  <a:lnTo>
                    <a:pt x="417" y="1212"/>
                  </a:lnTo>
                  <a:lnTo>
                    <a:pt x="429" y="1211"/>
                  </a:lnTo>
                  <a:lnTo>
                    <a:pt x="440" y="1210"/>
                  </a:lnTo>
                  <a:lnTo>
                    <a:pt x="451" y="1208"/>
                  </a:lnTo>
                  <a:lnTo>
                    <a:pt x="462" y="1206"/>
                  </a:lnTo>
                  <a:lnTo>
                    <a:pt x="472" y="1202"/>
                  </a:lnTo>
                  <a:lnTo>
                    <a:pt x="484" y="1198"/>
                  </a:lnTo>
                  <a:lnTo>
                    <a:pt x="494" y="1192"/>
                  </a:lnTo>
                  <a:lnTo>
                    <a:pt x="505" y="1185"/>
                  </a:lnTo>
                  <a:lnTo>
                    <a:pt x="516" y="1177"/>
                  </a:lnTo>
                  <a:lnTo>
                    <a:pt x="529" y="1169"/>
                  </a:lnTo>
                  <a:lnTo>
                    <a:pt x="540" y="1158"/>
                  </a:lnTo>
                  <a:lnTo>
                    <a:pt x="554" y="1147"/>
                  </a:lnTo>
                  <a:lnTo>
                    <a:pt x="567" y="1133"/>
                  </a:lnTo>
                  <a:lnTo>
                    <a:pt x="582" y="1119"/>
                  </a:lnTo>
                  <a:lnTo>
                    <a:pt x="571" y="1083"/>
                  </a:lnTo>
                  <a:lnTo>
                    <a:pt x="556" y="1045"/>
                  </a:lnTo>
                  <a:lnTo>
                    <a:pt x="537" y="1005"/>
                  </a:lnTo>
                  <a:lnTo>
                    <a:pt x="515" y="964"/>
                  </a:lnTo>
                  <a:lnTo>
                    <a:pt x="490" y="923"/>
                  </a:lnTo>
                  <a:lnTo>
                    <a:pt x="466" y="885"/>
                  </a:lnTo>
                  <a:lnTo>
                    <a:pt x="443" y="850"/>
                  </a:lnTo>
                  <a:lnTo>
                    <a:pt x="423" y="818"/>
                  </a:lnTo>
                  <a:lnTo>
                    <a:pt x="405" y="787"/>
                  </a:lnTo>
                  <a:lnTo>
                    <a:pt x="391" y="750"/>
                  </a:lnTo>
                  <a:lnTo>
                    <a:pt x="381" y="710"/>
                  </a:lnTo>
                  <a:lnTo>
                    <a:pt x="372" y="666"/>
                  </a:lnTo>
                  <a:lnTo>
                    <a:pt x="365" y="620"/>
                  </a:lnTo>
                  <a:lnTo>
                    <a:pt x="359" y="574"/>
                  </a:lnTo>
                  <a:lnTo>
                    <a:pt x="355" y="528"/>
                  </a:lnTo>
                  <a:lnTo>
                    <a:pt x="349" y="484"/>
                  </a:lnTo>
                  <a:lnTo>
                    <a:pt x="338" y="386"/>
                  </a:lnTo>
                  <a:lnTo>
                    <a:pt x="329" y="275"/>
                  </a:lnTo>
                  <a:lnTo>
                    <a:pt x="322" y="169"/>
                  </a:lnTo>
                  <a:lnTo>
                    <a:pt x="318" y="83"/>
                  </a:lnTo>
                  <a:lnTo>
                    <a:pt x="313" y="53"/>
                  </a:lnTo>
                  <a:lnTo>
                    <a:pt x="302" y="31"/>
                  </a:lnTo>
                  <a:lnTo>
                    <a:pt x="284" y="15"/>
                  </a:lnTo>
                  <a:lnTo>
                    <a:pt x="264" y="6"/>
                  </a:lnTo>
                  <a:lnTo>
                    <a:pt x="238" y="0"/>
                  </a:lnTo>
                  <a:lnTo>
                    <a:pt x="211" y="0"/>
                  </a:lnTo>
                  <a:lnTo>
                    <a:pt x="182" y="4"/>
                  </a:lnTo>
                  <a:lnTo>
                    <a:pt x="153" y="10"/>
                  </a:lnTo>
                  <a:lnTo>
                    <a:pt x="138" y="13"/>
                  </a:lnTo>
                  <a:lnTo>
                    <a:pt x="122" y="18"/>
                  </a:lnTo>
                  <a:lnTo>
                    <a:pt x="105" y="21"/>
                  </a:lnTo>
                  <a:lnTo>
                    <a:pt x="87" y="26"/>
                  </a:lnTo>
                  <a:lnTo>
                    <a:pt x="71" y="31"/>
                  </a:lnTo>
                  <a:lnTo>
                    <a:pt x="55" y="37"/>
                  </a:lnTo>
                  <a:lnTo>
                    <a:pt x="40" y="44"/>
                  </a:lnTo>
                  <a:lnTo>
                    <a:pt x="27" y="51"/>
                  </a:lnTo>
                  <a:lnTo>
                    <a:pt x="16" y="60"/>
                  </a:lnTo>
                  <a:lnTo>
                    <a:pt x="8" y="69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1" y="106"/>
                  </a:lnTo>
                  <a:lnTo>
                    <a:pt x="8" y="122"/>
                  </a:lnTo>
                  <a:lnTo>
                    <a:pt x="18" y="140"/>
                  </a:lnTo>
                  <a:lnTo>
                    <a:pt x="34" y="158"/>
                  </a:lnTo>
                  <a:lnTo>
                    <a:pt x="54" y="181"/>
                  </a:lnTo>
                  <a:lnTo>
                    <a:pt x="73" y="211"/>
                  </a:lnTo>
                  <a:lnTo>
                    <a:pt x="94" y="246"/>
                  </a:lnTo>
                  <a:lnTo>
                    <a:pt x="116" y="285"/>
                  </a:lnTo>
                  <a:lnTo>
                    <a:pt x="137" y="328"/>
                  </a:lnTo>
                  <a:lnTo>
                    <a:pt x="159" y="374"/>
                  </a:lnTo>
                  <a:lnTo>
                    <a:pt x="181" y="422"/>
                  </a:lnTo>
                  <a:lnTo>
                    <a:pt x="201" y="472"/>
                  </a:lnTo>
                  <a:lnTo>
                    <a:pt x="222" y="522"/>
                  </a:lnTo>
                  <a:lnTo>
                    <a:pt x="242" y="573"/>
                  </a:lnTo>
                  <a:lnTo>
                    <a:pt x="260" y="623"/>
                  </a:lnTo>
                  <a:lnTo>
                    <a:pt x="277" y="671"/>
                  </a:lnTo>
                  <a:lnTo>
                    <a:pt x="294" y="717"/>
                  </a:lnTo>
                  <a:lnTo>
                    <a:pt x="307" y="761"/>
                  </a:lnTo>
                  <a:lnTo>
                    <a:pt x="319" y="800"/>
                  </a:lnTo>
                  <a:lnTo>
                    <a:pt x="329" y="835"/>
                  </a:lnTo>
                  <a:close/>
                </a:path>
              </a:pathLst>
            </a:custGeom>
            <a:solidFill>
              <a:srgbClr val="f4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820520" y="5324400"/>
              <a:ext cx="80640" cy="498240"/>
            </a:xfrm>
            <a:custGeom>
              <a:avLst/>
              <a:gdLst/>
              <a:ahLst/>
              <a:rect l="l" t="t" r="r" b="b"/>
              <a:pathLst>
                <a:path w="103" h="629">
                  <a:moveTo>
                    <a:pt x="0" y="0"/>
                  </a:moveTo>
                  <a:lnTo>
                    <a:pt x="6" y="35"/>
                  </a:lnTo>
                  <a:lnTo>
                    <a:pt x="15" y="95"/>
                  </a:lnTo>
                  <a:lnTo>
                    <a:pt x="27" y="173"/>
                  </a:lnTo>
                  <a:lnTo>
                    <a:pt x="42" y="264"/>
                  </a:lnTo>
                  <a:lnTo>
                    <a:pt x="57" y="362"/>
                  </a:lnTo>
                  <a:lnTo>
                    <a:pt x="72" y="459"/>
                  </a:lnTo>
                  <a:lnTo>
                    <a:pt x="85" y="550"/>
                  </a:lnTo>
                  <a:lnTo>
                    <a:pt x="97" y="629"/>
                  </a:lnTo>
                  <a:lnTo>
                    <a:pt x="103" y="575"/>
                  </a:lnTo>
                  <a:lnTo>
                    <a:pt x="99" y="500"/>
                  </a:lnTo>
                  <a:lnTo>
                    <a:pt x="90" y="413"/>
                  </a:lnTo>
                  <a:lnTo>
                    <a:pt x="76" y="318"/>
                  </a:lnTo>
                  <a:lnTo>
                    <a:pt x="58" y="223"/>
                  </a:lnTo>
                  <a:lnTo>
                    <a:pt x="38" y="134"/>
                  </a:lnTo>
                  <a:lnTo>
                    <a:pt x="19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821960" y="6057720"/>
              <a:ext cx="204480" cy="471600"/>
            </a:xfrm>
            <a:custGeom>
              <a:avLst/>
              <a:gdLst/>
              <a:ahLst/>
              <a:rect l="l" t="t" r="r" b="b"/>
              <a:pathLst>
                <a:path w="257" h="593">
                  <a:moveTo>
                    <a:pt x="72" y="18"/>
                  </a:moveTo>
                  <a:lnTo>
                    <a:pt x="60" y="46"/>
                  </a:lnTo>
                  <a:lnTo>
                    <a:pt x="46" y="94"/>
                  </a:lnTo>
                  <a:lnTo>
                    <a:pt x="30" y="157"/>
                  </a:lnTo>
                  <a:lnTo>
                    <a:pt x="15" y="228"/>
                  </a:lnTo>
                  <a:lnTo>
                    <a:pt x="5" y="303"/>
                  </a:lnTo>
                  <a:lnTo>
                    <a:pt x="0" y="374"/>
                  </a:lnTo>
                  <a:lnTo>
                    <a:pt x="4" y="437"/>
                  </a:lnTo>
                  <a:lnTo>
                    <a:pt x="18" y="487"/>
                  </a:lnTo>
                  <a:lnTo>
                    <a:pt x="38" y="524"/>
                  </a:lnTo>
                  <a:lnTo>
                    <a:pt x="61" y="553"/>
                  </a:lnTo>
                  <a:lnTo>
                    <a:pt x="85" y="575"/>
                  </a:lnTo>
                  <a:lnTo>
                    <a:pt x="108" y="588"/>
                  </a:lnTo>
                  <a:lnTo>
                    <a:pt x="131" y="593"/>
                  </a:lnTo>
                  <a:lnTo>
                    <a:pt x="151" y="589"/>
                  </a:lnTo>
                  <a:lnTo>
                    <a:pt x="171" y="576"/>
                  </a:lnTo>
                  <a:lnTo>
                    <a:pt x="187" y="553"/>
                  </a:lnTo>
                  <a:lnTo>
                    <a:pt x="202" y="523"/>
                  </a:lnTo>
                  <a:lnTo>
                    <a:pt x="217" y="489"/>
                  </a:lnTo>
                  <a:lnTo>
                    <a:pt x="231" y="447"/>
                  </a:lnTo>
                  <a:lnTo>
                    <a:pt x="243" y="394"/>
                  </a:lnTo>
                  <a:lnTo>
                    <a:pt x="253" y="327"/>
                  </a:lnTo>
                  <a:lnTo>
                    <a:pt x="257" y="240"/>
                  </a:lnTo>
                  <a:lnTo>
                    <a:pt x="256" y="132"/>
                  </a:lnTo>
                  <a:lnTo>
                    <a:pt x="248" y="0"/>
                  </a:lnTo>
                  <a:lnTo>
                    <a:pt x="72" y="1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079280" y="5149800"/>
              <a:ext cx="809280" cy="1382400"/>
            </a:xfrm>
            <a:custGeom>
              <a:avLst/>
              <a:gdLst/>
              <a:ahLst/>
              <a:rect l="l" t="t" r="r" b="b"/>
              <a:pathLst>
                <a:path w="1020" h="1744">
                  <a:moveTo>
                    <a:pt x="627" y="0"/>
                  </a:moveTo>
                  <a:lnTo>
                    <a:pt x="607" y="4"/>
                  </a:lnTo>
                  <a:lnTo>
                    <a:pt x="582" y="8"/>
                  </a:lnTo>
                  <a:lnTo>
                    <a:pt x="551" y="16"/>
                  </a:lnTo>
                  <a:lnTo>
                    <a:pt x="516" y="27"/>
                  </a:lnTo>
                  <a:lnTo>
                    <a:pt x="477" y="39"/>
                  </a:lnTo>
                  <a:lnTo>
                    <a:pt x="437" y="54"/>
                  </a:lnTo>
                  <a:lnTo>
                    <a:pt x="394" y="72"/>
                  </a:lnTo>
                  <a:lnTo>
                    <a:pt x="350" y="94"/>
                  </a:lnTo>
                  <a:lnTo>
                    <a:pt x="308" y="117"/>
                  </a:lnTo>
                  <a:lnTo>
                    <a:pt x="265" y="144"/>
                  </a:lnTo>
                  <a:lnTo>
                    <a:pt x="226" y="174"/>
                  </a:lnTo>
                  <a:lnTo>
                    <a:pt x="189" y="209"/>
                  </a:lnTo>
                  <a:lnTo>
                    <a:pt x="156" y="246"/>
                  </a:lnTo>
                  <a:lnTo>
                    <a:pt x="127" y="287"/>
                  </a:lnTo>
                  <a:lnTo>
                    <a:pt x="105" y="332"/>
                  </a:lnTo>
                  <a:lnTo>
                    <a:pt x="89" y="380"/>
                  </a:lnTo>
                  <a:lnTo>
                    <a:pt x="65" y="491"/>
                  </a:lnTo>
                  <a:lnTo>
                    <a:pt x="40" y="613"/>
                  </a:lnTo>
                  <a:lnTo>
                    <a:pt x="21" y="743"/>
                  </a:lnTo>
                  <a:lnTo>
                    <a:pt x="6" y="876"/>
                  </a:lnTo>
                  <a:lnTo>
                    <a:pt x="0" y="1005"/>
                  </a:lnTo>
                  <a:lnTo>
                    <a:pt x="3" y="1126"/>
                  </a:lnTo>
                  <a:lnTo>
                    <a:pt x="20" y="1233"/>
                  </a:lnTo>
                  <a:lnTo>
                    <a:pt x="51" y="1322"/>
                  </a:lnTo>
                  <a:lnTo>
                    <a:pt x="61" y="1341"/>
                  </a:lnTo>
                  <a:lnTo>
                    <a:pt x="71" y="1361"/>
                  </a:lnTo>
                  <a:lnTo>
                    <a:pt x="83" y="1382"/>
                  </a:lnTo>
                  <a:lnTo>
                    <a:pt x="96" y="1401"/>
                  </a:lnTo>
                  <a:lnTo>
                    <a:pt x="109" y="1422"/>
                  </a:lnTo>
                  <a:lnTo>
                    <a:pt x="124" y="1442"/>
                  </a:lnTo>
                  <a:lnTo>
                    <a:pt x="139" y="1462"/>
                  </a:lnTo>
                  <a:lnTo>
                    <a:pt x="156" y="1482"/>
                  </a:lnTo>
                  <a:lnTo>
                    <a:pt x="174" y="1502"/>
                  </a:lnTo>
                  <a:lnTo>
                    <a:pt x="192" y="1521"/>
                  </a:lnTo>
                  <a:lnTo>
                    <a:pt x="213" y="1540"/>
                  </a:lnTo>
                  <a:lnTo>
                    <a:pt x="235" y="1559"/>
                  </a:lnTo>
                  <a:lnTo>
                    <a:pt x="257" y="1576"/>
                  </a:lnTo>
                  <a:lnTo>
                    <a:pt x="281" y="1595"/>
                  </a:lnTo>
                  <a:lnTo>
                    <a:pt x="308" y="1611"/>
                  </a:lnTo>
                  <a:lnTo>
                    <a:pt x="334" y="1627"/>
                  </a:lnTo>
                  <a:lnTo>
                    <a:pt x="363" y="1643"/>
                  </a:lnTo>
                  <a:lnTo>
                    <a:pt x="394" y="1657"/>
                  </a:lnTo>
                  <a:lnTo>
                    <a:pt x="426" y="1671"/>
                  </a:lnTo>
                  <a:lnTo>
                    <a:pt x="460" y="1684"/>
                  </a:lnTo>
                  <a:lnTo>
                    <a:pt x="495" y="1696"/>
                  </a:lnTo>
                  <a:lnTo>
                    <a:pt x="532" y="1707"/>
                  </a:lnTo>
                  <a:lnTo>
                    <a:pt x="571" y="1716"/>
                  </a:lnTo>
                  <a:lnTo>
                    <a:pt x="613" y="1724"/>
                  </a:lnTo>
                  <a:lnTo>
                    <a:pt x="657" y="1731"/>
                  </a:lnTo>
                  <a:lnTo>
                    <a:pt x="702" y="1735"/>
                  </a:lnTo>
                  <a:lnTo>
                    <a:pt x="749" y="1740"/>
                  </a:lnTo>
                  <a:lnTo>
                    <a:pt x="798" y="1742"/>
                  </a:lnTo>
                  <a:lnTo>
                    <a:pt x="850" y="1744"/>
                  </a:lnTo>
                  <a:lnTo>
                    <a:pt x="903" y="1742"/>
                  </a:lnTo>
                  <a:lnTo>
                    <a:pt x="960" y="1740"/>
                  </a:lnTo>
                  <a:lnTo>
                    <a:pt x="1018" y="1735"/>
                  </a:lnTo>
                  <a:lnTo>
                    <a:pt x="991" y="1701"/>
                  </a:lnTo>
                  <a:lnTo>
                    <a:pt x="968" y="1665"/>
                  </a:lnTo>
                  <a:lnTo>
                    <a:pt x="948" y="1628"/>
                  </a:lnTo>
                  <a:lnTo>
                    <a:pt x="933" y="1587"/>
                  </a:lnTo>
                  <a:lnTo>
                    <a:pt x="923" y="1542"/>
                  </a:lnTo>
                  <a:lnTo>
                    <a:pt x="918" y="1490"/>
                  </a:lnTo>
                  <a:lnTo>
                    <a:pt x="919" y="1430"/>
                  </a:lnTo>
                  <a:lnTo>
                    <a:pt x="926" y="1360"/>
                  </a:lnTo>
                  <a:lnTo>
                    <a:pt x="935" y="1288"/>
                  </a:lnTo>
                  <a:lnTo>
                    <a:pt x="945" y="1222"/>
                  </a:lnTo>
                  <a:lnTo>
                    <a:pt x="954" y="1162"/>
                  </a:lnTo>
                  <a:lnTo>
                    <a:pt x="963" y="1108"/>
                  </a:lnTo>
                  <a:lnTo>
                    <a:pt x="972" y="1060"/>
                  </a:lnTo>
                  <a:lnTo>
                    <a:pt x="984" y="1019"/>
                  </a:lnTo>
                  <a:lnTo>
                    <a:pt x="998" y="984"/>
                  </a:lnTo>
                  <a:lnTo>
                    <a:pt x="1014" y="957"/>
                  </a:lnTo>
                  <a:lnTo>
                    <a:pt x="1017" y="940"/>
                  </a:lnTo>
                  <a:lnTo>
                    <a:pt x="1020" y="928"/>
                  </a:lnTo>
                  <a:lnTo>
                    <a:pt x="1020" y="919"/>
                  </a:lnTo>
                  <a:lnTo>
                    <a:pt x="1016" y="912"/>
                  </a:lnTo>
                  <a:lnTo>
                    <a:pt x="1010" y="907"/>
                  </a:lnTo>
                  <a:lnTo>
                    <a:pt x="999" y="905"/>
                  </a:lnTo>
                  <a:lnTo>
                    <a:pt x="984" y="905"/>
                  </a:lnTo>
                  <a:lnTo>
                    <a:pt x="964" y="907"/>
                  </a:lnTo>
                  <a:lnTo>
                    <a:pt x="953" y="909"/>
                  </a:lnTo>
                  <a:lnTo>
                    <a:pt x="940" y="913"/>
                  </a:lnTo>
                  <a:lnTo>
                    <a:pt x="928" y="916"/>
                  </a:lnTo>
                  <a:lnTo>
                    <a:pt x="915" y="922"/>
                  </a:lnTo>
                  <a:lnTo>
                    <a:pt x="902" y="927"/>
                  </a:lnTo>
                  <a:lnTo>
                    <a:pt x="888" y="934"/>
                  </a:lnTo>
                  <a:lnTo>
                    <a:pt x="873" y="939"/>
                  </a:lnTo>
                  <a:lnTo>
                    <a:pt x="858" y="946"/>
                  </a:lnTo>
                  <a:lnTo>
                    <a:pt x="842" y="953"/>
                  </a:lnTo>
                  <a:lnTo>
                    <a:pt x="826" y="960"/>
                  </a:lnTo>
                  <a:lnTo>
                    <a:pt x="810" y="967"/>
                  </a:lnTo>
                  <a:lnTo>
                    <a:pt x="791" y="973"/>
                  </a:lnTo>
                  <a:lnTo>
                    <a:pt x="774" y="978"/>
                  </a:lnTo>
                  <a:lnTo>
                    <a:pt x="755" y="983"/>
                  </a:lnTo>
                  <a:lnTo>
                    <a:pt x="735" y="988"/>
                  </a:lnTo>
                  <a:lnTo>
                    <a:pt x="714" y="991"/>
                  </a:lnTo>
                  <a:lnTo>
                    <a:pt x="695" y="995"/>
                  </a:lnTo>
                  <a:lnTo>
                    <a:pt x="676" y="997"/>
                  </a:lnTo>
                  <a:lnTo>
                    <a:pt x="660" y="999"/>
                  </a:lnTo>
                  <a:lnTo>
                    <a:pt x="646" y="1002"/>
                  </a:lnTo>
                  <a:lnTo>
                    <a:pt x="632" y="1003"/>
                  </a:lnTo>
                  <a:lnTo>
                    <a:pt x="620" y="1004"/>
                  </a:lnTo>
                  <a:lnTo>
                    <a:pt x="609" y="1005"/>
                  </a:lnTo>
                  <a:lnTo>
                    <a:pt x="599" y="1006"/>
                  </a:lnTo>
                  <a:lnTo>
                    <a:pt x="589" y="1006"/>
                  </a:lnTo>
                  <a:lnTo>
                    <a:pt x="579" y="1005"/>
                  </a:lnTo>
                  <a:lnTo>
                    <a:pt x="570" y="1005"/>
                  </a:lnTo>
                  <a:lnTo>
                    <a:pt x="562" y="1003"/>
                  </a:lnTo>
                  <a:lnTo>
                    <a:pt x="553" y="1002"/>
                  </a:lnTo>
                  <a:lnTo>
                    <a:pt x="544" y="998"/>
                  </a:lnTo>
                  <a:lnTo>
                    <a:pt x="533" y="995"/>
                  </a:lnTo>
                  <a:lnTo>
                    <a:pt x="523" y="991"/>
                  </a:lnTo>
                  <a:lnTo>
                    <a:pt x="496" y="945"/>
                  </a:lnTo>
                  <a:lnTo>
                    <a:pt x="470" y="884"/>
                  </a:lnTo>
                  <a:lnTo>
                    <a:pt x="446" y="811"/>
                  </a:lnTo>
                  <a:lnTo>
                    <a:pt x="426" y="731"/>
                  </a:lnTo>
                  <a:lnTo>
                    <a:pt x="410" y="648"/>
                  </a:lnTo>
                  <a:lnTo>
                    <a:pt x="402" y="566"/>
                  </a:lnTo>
                  <a:lnTo>
                    <a:pt x="403" y="489"/>
                  </a:lnTo>
                  <a:lnTo>
                    <a:pt x="415" y="420"/>
                  </a:lnTo>
                  <a:lnTo>
                    <a:pt x="627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825200" y="5792400"/>
              <a:ext cx="417240" cy="325440"/>
            </a:xfrm>
            <a:custGeom>
              <a:avLst/>
              <a:gdLst/>
              <a:ahLst/>
              <a:rect l="l" t="t" r="r" b="b"/>
              <a:pathLst>
                <a:path w="526" h="409">
                  <a:moveTo>
                    <a:pt x="256" y="3"/>
                  </a:moveTo>
                  <a:lnTo>
                    <a:pt x="241" y="4"/>
                  </a:lnTo>
                  <a:lnTo>
                    <a:pt x="227" y="7"/>
                  </a:lnTo>
                  <a:lnTo>
                    <a:pt x="214" y="12"/>
                  </a:lnTo>
                  <a:lnTo>
                    <a:pt x="203" y="20"/>
                  </a:lnTo>
                  <a:lnTo>
                    <a:pt x="192" y="30"/>
                  </a:lnTo>
                  <a:lnTo>
                    <a:pt x="181" y="45"/>
                  </a:lnTo>
                  <a:lnTo>
                    <a:pt x="169" y="64"/>
                  </a:lnTo>
                  <a:lnTo>
                    <a:pt x="158" y="87"/>
                  </a:lnTo>
                  <a:lnTo>
                    <a:pt x="146" y="110"/>
                  </a:lnTo>
                  <a:lnTo>
                    <a:pt x="137" y="126"/>
                  </a:lnTo>
                  <a:lnTo>
                    <a:pt x="129" y="138"/>
                  </a:lnTo>
                  <a:lnTo>
                    <a:pt x="120" y="146"/>
                  </a:lnTo>
                  <a:lnTo>
                    <a:pt x="109" y="150"/>
                  </a:lnTo>
                  <a:lnTo>
                    <a:pt x="97" y="152"/>
                  </a:lnTo>
                  <a:lnTo>
                    <a:pt x="81" y="152"/>
                  </a:lnTo>
                  <a:lnTo>
                    <a:pt x="61" y="154"/>
                  </a:lnTo>
                  <a:lnTo>
                    <a:pt x="49" y="184"/>
                  </a:lnTo>
                  <a:lnTo>
                    <a:pt x="39" y="214"/>
                  </a:lnTo>
                  <a:lnTo>
                    <a:pt x="30" y="244"/>
                  </a:lnTo>
                  <a:lnTo>
                    <a:pt x="22" y="273"/>
                  </a:lnTo>
                  <a:lnTo>
                    <a:pt x="15" y="306"/>
                  </a:lnTo>
                  <a:lnTo>
                    <a:pt x="9" y="338"/>
                  </a:lnTo>
                  <a:lnTo>
                    <a:pt x="4" y="373"/>
                  </a:lnTo>
                  <a:lnTo>
                    <a:pt x="0" y="409"/>
                  </a:lnTo>
                  <a:lnTo>
                    <a:pt x="9" y="403"/>
                  </a:lnTo>
                  <a:lnTo>
                    <a:pt x="19" y="396"/>
                  </a:lnTo>
                  <a:lnTo>
                    <a:pt x="31" y="389"/>
                  </a:lnTo>
                  <a:lnTo>
                    <a:pt x="45" y="383"/>
                  </a:lnTo>
                  <a:lnTo>
                    <a:pt x="59" y="376"/>
                  </a:lnTo>
                  <a:lnTo>
                    <a:pt x="74" y="370"/>
                  </a:lnTo>
                  <a:lnTo>
                    <a:pt x="90" y="364"/>
                  </a:lnTo>
                  <a:lnTo>
                    <a:pt x="106" y="359"/>
                  </a:lnTo>
                  <a:lnTo>
                    <a:pt x="122" y="354"/>
                  </a:lnTo>
                  <a:lnTo>
                    <a:pt x="138" y="350"/>
                  </a:lnTo>
                  <a:lnTo>
                    <a:pt x="154" y="346"/>
                  </a:lnTo>
                  <a:lnTo>
                    <a:pt x="170" y="344"/>
                  </a:lnTo>
                  <a:lnTo>
                    <a:pt x="186" y="341"/>
                  </a:lnTo>
                  <a:lnTo>
                    <a:pt x="200" y="341"/>
                  </a:lnTo>
                  <a:lnTo>
                    <a:pt x="214" y="341"/>
                  </a:lnTo>
                  <a:lnTo>
                    <a:pt x="227" y="343"/>
                  </a:lnTo>
                  <a:lnTo>
                    <a:pt x="239" y="345"/>
                  </a:lnTo>
                  <a:lnTo>
                    <a:pt x="253" y="346"/>
                  </a:lnTo>
                  <a:lnTo>
                    <a:pt x="268" y="347"/>
                  </a:lnTo>
                  <a:lnTo>
                    <a:pt x="284" y="348"/>
                  </a:lnTo>
                  <a:lnTo>
                    <a:pt x="301" y="348"/>
                  </a:lnTo>
                  <a:lnTo>
                    <a:pt x="317" y="348"/>
                  </a:lnTo>
                  <a:lnTo>
                    <a:pt x="333" y="348"/>
                  </a:lnTo>
                  <a:lnTo>
                    <a:pt x="349" y="348"/>
                  </a:lnTo>
                  <a:lnTo>
                    <a:pt x="365" y="347"/>
                  </a:lnTo>
                  <a:lnTo>
                    <a:pt x="379" y="346"/>
                  </a:lnTo>
                  <a:lnTo>
                    <a:pt x="394" y="345"/>
                  </a:lnTo>
                  <a:lnTo>
                    <a:pt x="407" y="343"/>
                  </a:lnTo>
                  <a:lnTo>
                    <a:pt x="417" y="341"/>
                  </a:lnTo>
                  <a:lnTo>
                    <a:pt x="427" y="338"/>
                  </a:lnTo>
                  <a:lnTo>
                    <a:pt x="434" y="336"/>
                  </a:lnTo>
                  <a:lnTo>
                    <a:pt x="440" y="332"/>
                  </a:lnTo>
                  <a:lnTo>
                    <a:pt x="451" y="324"/>
                  </a:lnTo>
                  <a:lnTo>
                    <a:pt x="468" y="314"/>
                  </a:lnTo>
                  <a:lnTo>
                    <a:pt x="485" y="301"/>
                  </a:lnTo>
                  <a:lnTo>
                    <a:pt x="503" y="285"/>
                  </a:lnTo>
                  <a:lnTo>
                    <a:pt x="517" y="269"/>
                  </a:lnTo>
                  <a:lnTo>
                    <a:pt x="526" y="249"/>
                  </a:lnTo>
                  <a:lnTo>
                    <a:pt x="526" y="230"/>
                  </a:lnTo>
                  <a:lnTo>
                    <a:pt x="517" y="208"/>
                  </a:lnTo>
                  <a:lnTo>
                    <a:pt x="521" y="197"/>
                  </a:lnTo>
                  <a:lnTo>
                    <a:pt x="523" y="187"/>
                  </a:lnTo>
                  <a:lnTo>
                    <a:pt x="523" y="178"/>
                  </a:lnTo>
                  <a:lnTo>
                    <a:pt x="521" y="169"/>
                  </a:lnTo>
                  <a:lnTo>
                    <a:pt x="516" y="161"/>
                  </a:lnTo>
                  <a:lnTo>
                    <a:pt x="509" y="154"/>
                  </a:lnTo>
                  <a:lnTo>
                    <a:pt x="500" y="149"/>
                  </a:lnTo>
                  <a:lnTo>
                    <a:pt x="488" y="146"/>
                  </a:lnTo>
                  <a:lnTo>
                    <a:pt x="503" y="129"/>
                  </a:lnTo>
                  <a:lnTo>
                    <a:pt x="515" y="113"/>
                  </a:lnTo>
                  <a:lnTo>
                    <a:pt x="522" y="95"/>
                  </a:lnTo>
                  <a:lnTo>
                    <a:pt x="523" y="79"/>
                  </a:lnTo>
                  <a:lnTo>
                    <a:pt x="518" y="66"/>
                  </a:lnTo>
                  <a:lnTo>
                    <a:pt x="507" y="57"/>
                  </a:lnTo>
                  <a:lnTo>
                    <a:pt x="487" y="53"/>
                  </a:lnTo>
                  <a:lnTo>
                    <a:pt x="461" y="57"/>
                  </a:lnTo>
                  <a:lnTo>
                    <a:pt x="464" y="38"/>
                  </a:lnTo>
                  <a:lnTo>
                    <a:pt x="464" y="25"/>
                  </a:lnTo>
                  <a:lnTo>
                    <a:pt x="461" y="13"/>
                  </a:lnTo>
                  <a:lnTo>
                    <a:pt x="454" y="5"/>
                  </a:lnTo>
                  <a:lnTo>
                    <a:pt x="442" y="0"/>
                  </a:lnTo>
                  <a:lnTo>
                    <a:pt x="430" y="0"/>
                  </a:lnTo>
                  <a:lnTo>
                    <a:pt x="413" y="3"/>
                  </a:lnTo>
                  <a:lnTo>
                    <a:pt x="394" y="10"/>
                  </a:lnTo>
                  <a:lnTo>
                    <a:pt x="374" y="18"/>
                  </a:lnTo>
                  <a:lnTo>
                    <a:pt x="356" y="27"/>
                  </a:lnTo>
                  <a:lnTo>
                    <a:pt x="340" y="34"/>
                  </a:lnTo>
                  <a:lnTo>
                    <a:pt x="324" y="41"/>
                  </a:lnTo>
                  <a:lnTo>
                    <a:pt x="309" y="46"/>
                  </a:lnTo>
                  <a:lnTo>
                    <a:pt x="296" y="50"/>
                  </a:lnTo>
                  <a:lnTo>
                    <a:pt x="282" y="52"/>
                  </a:lnTo>
                  <a:lnTo>
                    <a:pt x="271" y="53"/>
                  </a:lnTo>
                  <a:lnTo>
                    <a:pt x="256" y="3"/>
                  </a:lnTo>
                  <a:close/>
                </a:path>
              </a:pathLst>
            </a:custGeom>
            <a:solidFill>
              <a:srgbClr val="e5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300040" y="5786280"/>
              <a:ext cx="435960" cy="285840"/>
            </a:xfrm>
            <a:custGeom>
              <a:avLst/>
              <a:gdLst/>
              <a:ahLst/>
              <a:rect l="l" t="t" r="r" b="b"/>
              <a:pathLst>
                <a:path w="548" h="361">
                  <a:moveTo>
                    <a:pt x="208" y="3"/>
                  </a:moveTo>
                  <a:lnTo>
                    <a:pt x="226" y="1"/>
                  </a:lnTo>
                  <a:lnTo>
                    <a:pt x="243" y="0"/>
                  </a:lnTo>
                  <a:lnTo>
                    <a:pt x="263" y="3"/>
                  </a:lnTo>
                  <a:lnTo>
                    <a:pt x="282" y="7"/>
                  </a:lnTo>
                  <a:lnTo>
                    <a:pt x="303" y="14"/>
                  </a:lnTo>
                  <a:lnTo>
                    <a:pt x="322" y="26"/>
                  </a:lnTo>
                  <a:lnTo>
                    <a:pt x="341" y="42"/>
                  </a:lnTo>
                  <a:lnTo>
                    <a:pt x="359" y="63"/>
                  </a:lnTo>
                  <a:lnTo>
                    <a:pt x="374" y="82"/>
                  </a:lnTo>
                  <a:lnTo>
                    <a:pt x="387" y="97"/>
                  </a:lnTo>
                  <a:lnTo>
                    <a:pt x="398" y="106"/>
                  </a:lnTo>
                  <a:lnTo>
                    <a:pt x="409" y="112"/>
                  </a:lnTo>
                  <a:lnTo>
                    <a:pt x="419" y="114"/>
                  </a:lnTo>
                  <a:lnTo>
                    <a:pt x="432" y="114"/>
                  </a:lnTo>
                  <a:lnTo>
                    <a:pt x="448" y="112"/>
                  </a:lnTo>
                  <a:lnTo>
                    <a:pt x="468" y="109"/>
                  </a:lnTo>
                  <a:lnTo>
                    <a:pt x="484" y="135"/>
                  </a:lnTo>
                  <a:lnTo>
                    <a:pt x="496" y="162"/>
                  </a:lnTo>
                  <a:lnTo>
                    <a:pt x="507" y="187"/>
                  </a:lnTo>
                  <a:lnTo>
                    <a:pt x="515" y="213"/>
                  </a:lnTo>
                  <a:lnTo>
                    <a:pt x="523" y="241"/>
                  </a:lnTo>
                  <a:lnTo>
                    <a:pt x="530" y="270"/>
                  </a:lnTo>
                  <a:lnTo>
                    <a:pt x="538" y="301"/>
                  </a:lnTo>
                  <a:lnTo>
                    <a:pt x="548" y="336"/>
                  </a:lnTo>
                  <a:lnTo>
                    <a:pt x="538" y="331"/>
                  </a:lnTo>
                  <a:lnTo>
                    <a:pt x="528" y="326"/>
                  </a:lnTo>
                  <a:lnTo>
                    <a:pt x="516" y="323"/>
                  </a:lnTo>
                  <a:lnTo>
                    <a:pt x="503" y="319"/>
                  </a:lnTo>
                  <a:lnTo>
                    <a:pt x="491" y="317"/>
                  </a:lnTo>
                  <a:lnTo>
                    <a:pt x="477" y="315"/>
                  </a:lnTo>
                  <a:lnTo>
                    <a:pt x="463" y="314"/>
                  </a:lnTo>
                  <a:lnTo>
                    <a:pt x="448" y="313"/>
                  </a:lnTo>
                  <a:lnTo>
                    <a:pt x="434" y="313"/>
                  </a:lnTo>
                  <a:lnTo>
                    <a:pt x="419" y="313"/>
                  </a:lnTo>
                  <a:lnTo>
                    <a:pt x="405" y="314"/>
                  </a:lnTo>
                  <a:lnTo>
                    <a:pt x="392" y="315"/>
                  </a:lnTo>
                  <a:lnTo>
                    <a:pt x="378" y="317"/>
                  </a:lnTo>
                  <a:lnTo>
                    <a:pt x="364" y="319"/>
                  </a:lnTo>
                  <a:lnTo>
                    <a:pt x="351" y="323"/>
                  </a:lnTo>
                  <a:lnTo>
                    <a:pt x="340" y="326"/>
                  </a:lnTo>
                  <a:lnTo>
                    <a:pt x="327" y="331"/>
                  </a:lnTo>
                  <a:lnTo>
                    <a:pt x="314" y="334"/>
                  </a:lnTo>
                  <a:lnTo>
                    <a:pt x="299" y="339"/>
                  </a:lnTo>
                  <a:lnTo>
                    <a:pt x="284" y="343"/>
                  </a:lnTo>
                  <a:lnTo>
                    <a:pt x="269" y="346"/>
                  </a:lnTo>
                  <a:lnTo>
                    <a:pt x="253" y="349"/>
                  </a:lnTo>
                  <a:lnTo>
                    <a:pt x="237" y="353"/>
                  </a:lnTo>
                  <a:lnTo>
                    <a:pt x="221" y="355"/>
                  </a:lnTo>
                  <a:lnTo>
                    <a:pt x="206" y="358"/>
                  </a:lnTo>
                  <a:lnTo>
                    <a:pt x="191" y="360"/>
                  </a:lnTo>
                  <a:lnTo>
                    <a:pt x="177" y="361"/>
                  </a:lnTo>
                  <a:lnTo>
                    <a:pt x="165" y="361"/>
                  </a:lnTo>
                  <a:lnTo>
                    <a:pt x="153" y="361"/>
                  </a:lnTo>
                  <a:lnTo>
                    <a:pt x="143" y="361"/>
                  </a:lnTo>
                  <a:lnTo>
                    <a:pt x="135" y="360"/>
                  </a:lnTo>
                  <a:lnTo>
                    <a:pt x="129" y="358"/>
                  </a:lnTo>
                  <a:lnTo>
                    <a:pt x="116" y="352"/>
                  </a:lnTo>
                  <a:lnTo>
                    <a:pt x="98" y="344"/>
                  </a:lnTo>
                  <a:lnTo>
                    <a:pt x="78" y="334"/>
                  </a:lnTo>
                  <a:lnTo>
                    <a:pt x="59" y="323"/>
                  </a:lnTo>
                  <a:lnTo>
                    <a:pt x="41" y="308"/>
                  </a:lnTo>
                  <a:lnTo>
                    <a:pt x="29" y="292"/>
                  </a:lnTo>
                  <a:lnTo>
                    <a:pt x="24" y="271"/>
                  </a:lnTo>
                  <a:lnTo>
                    <a:pt x="30" y="248"/>
                  </a:lnTo>
                  <a:lnTo>
                    <a:pt x="24" y="239"/>
                  </a:lnTo>
                  <a:lnTo>
                    <a:pt x="21" y="230"/>
                  </a:lnTo>
                  <a:lnTo>
                    <a:pt x="18" y="220"/>
                  </a:lnTo>
                  <a:lnTo>
                    <a:pt x="19" y="211"/>
                  </a:lnTo>
                  <a:lnTo>
                    <a:pt x="22" y="202"/>
                  </a:lnTo>
                  <a:lnTo>
                    <a:pt x="28" y="194"/>
                  </a:lnTo>
                  <a:lnTo>
                    <a:pt x="36" y="187"/>
                  </a:lnTo>
                  <a:lnTo>
                    <a:pt x="46" y="182"/>
                  </a:lnTo>
                  <a:lnTo>
                    <a:pt x="28" y="170"/>
                  </a:lnTo>
                  <a:lnTo>
                    <a:pt x="14" y="155"/>
                  </a:lnTo>
                  <a:lnTo>
                    <a:pt x="3" y="140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11" y="98"/>
                  </a:lnTo>
                  <a:lnTo>
                    <a:pt x="29" y="91"/>
                  </a:lnTo>
                  <a:lnTo>
                    <a:pt x="56" y="90"/>
                  </a:lnTo>
                  <a:lnTo>
                    <a:pt x="49" y="73"/>
                  </a:lnTo>
                  <a:lnTo>
                    <a:pt x="47" y="59"/>
                  </a:lnTo>
                  <a:lnTo>
                    <a:pt x="48" y="48"/>
                  </a:lnTo>
                  <a:lnTo>
                    <a:pt x="54" y="38"/>
                  </a:lnTo>
                  <a:lnTo>
                    <a:pt x="63" y="31"/>
                  </a:lnTo>
                  <a:lnTo>
                    <a:pt x="77" y="28"/>
                  </a:lnTo>
                  <a:lnTo>
                    <a:pt x="93" y="28"/>
                  </a:lnTo>
                  <a:lnTo>
                    <a:pt x="113" y="31"/>
                  </a:lnTo>
                  <a:lnTo>
                    <a:pt x="132" y="36"/>
                  </a:lnTo>
                  <a:lnTo>
                    <a:pt x="149" y="41"/>
                  </a:lnTo>
                  <a:lnTo>
                    <a:pt x="162" y="45"/>
                  </a:lnTo>
                  <a:lnTo>
                    <a:pt x="174" y="49"/>
                  </a:lnTo>
                  <a:lnTo>
                    <a:pt x="183" y="52"/>
                  </a:lnTo>
                  <a:lnTo>
                    <a:pt x="192" y="53"/>
                  </a:lnTo>
                  <a:lnTo>
                    <a:pt x="203" y="53"/>
                  </a:lnTo>
                  <a:lnTo>
                    <a:pt x="213" y="51"/>
                  </a:lnTo>
                  <a:lnTo>
                    <a:pt x="208" y="3"/>
                  </a:lnTo>
                  <a:close/>
                </a:path>
              </a:pathLst>
            </a:custGeom>
            <a:solidFill>
              <a:srgbClr val="af7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193400" y="4651200"/>
              <a:ext cx="161640" cy="290520"/>
            </a:xfrm>
            <a:custGeom>
              <a:avLst/>
              <a:gdLst/>
              <a:ahLst/>
              <a:rect l="l" t="t" r="r" b="b"/>
              <a:pathLst>
                <a:path w="205" h="367">
                  <a:moveTo>
                    <a:pt x="147" y="0"/>
                  </a:moveTo>
                  <a:lnTo>
                    <a:pt x="137" y="1"/>
                  </a:lnTo>
                  <a:lnTo>
                    <a:pt x="128" y="7"/>
                  </a:lnTo>
                  <a:lnTo>
                    <a:pt x="118" y="18"/>
                  </a:lnTo>
                  <a:lnTo>
                    <a:pt x="110" y="29"/>
                  </a:lnTo>
                  <a:lnTo>
                    <a:pt x="106" y="42"/>
                  </a:lnTo>
                  <a:lnTo>
                    <a:pt x="104" y="53"/>
                  </a:lnTo>
                  <a:lnTo>
                    <a:pt x="105" y="64"/>
                  </a:lnTo>
                  <a:lnTo>
                    <a:pt x="110" y="71"/>
                  </a:lnTo>
                  <a:lnTo>
                    <a:pt x="99" y="69"/>
                  </a:lnTo>
                  <a:lnTo>
                    <a:pt x="95" y="85"/>
                  </a:lnTo>
                  <a:lnTo>
                    <a:pt x="90" y="112"/>
                  </a:lnTo>
                  <a:lnTo>
                    <a:pt x="82" y="145"/>
                  </a:lnTo>
                  <a:lnTo>
                    <a:pt x="70" y="183"/>
                  </a:lnTo>
                  <a:lnTo>
                    <a:pt x="57" y="225"/>
                  </a:lnTo>
                  <a:lnTo>
                    <a:pt x="41" y="264"/>
                  </a:lnTo>
                  <a:lnTo>
                    <a:pt x="22" y="301"/>
                  </a:lnTo>
                  <a:lnTo>
                    <a:pt x="0" y="332"/>
                  </a:lnTo>
                  <a:lnTo>
                    <a:pt x="40" y="321"/>
                  </a:lnTo>
                  <a:lnTo>
                    <a:pt x="61" y="367"/>
                  </a:lnTo>
                  <a:lnTo>
                    <a:pt x="98" y="340"/>
                  </a:lnTo>
                  <a:lnTo>
                    <a:pt x="132" y="361"/>
                  </a:lnTo>
                  <a:lnTo>
                    <a:pt x="157" y="336"/>
                  </a:lnTo>
                  <a:lnTo>
                    <a:pt x="188" y="344"/>
                  </a:lnTo>
                  <a:lnTo>
                    <a:pt x="195" y="317"/>
                  </a:lnTo>
                  <a:lnTo>
                    <a:pt x="200" y="285"/>
                  </a:lnTo>
                  <a:lnTo>
                    <a:pt x="204" y="248"/>
                  </a:lnTo>
                  <a:lnTo>
                    <a:pt x="205" y="209"/>
                  </a:lnTo>
                  <a:lnTo>
                    <a:pt x="201" y="168"/>
                  </a:lnTo>
                  <a:lnTo>
                    <a:pt x="196" y="132"/>
                  </a:lnTo>
                  <a:lnTo>
                    <a:pt x="184" y="98"/>
                  </a:lnTo>
                  <a:lnTo>
                    <a:pt x="167" y="71"/>
                  </a:lnTo>
                  <a:lnTo>
                    <a:pt x="173" y="57"/>
                  </a:lnTo>
                  <a:lnTo>
                    <a:pt x="176" y="44"/>
                  </a:lnTo>
                  <a:lnTo>
                    <a:pt x="177" y="34"/>
                  </a:lnTo>
                  <a:lnTo>
                    <a:pt x="176" y="23"/>
                  </a:lnTo>
                  <a:lnTo>
                    <a:pt x="171" y="15"/>
                  </a:lnTo>
                  <a:lnTo>
                    <a:pt x="166" y="8"/>
                  </a:lnTo>
                  <a:lnTo>
                    <a:pt x="158" y="4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493640" y="4547880"/>
              <a:ext cx="516960" cy="708120"/>
            </a:xfrm>
            <a:custGeom>
              <a:avLst/>
              <a:gdLst/>
              <a:ahLst/>
              <a:rect l="l" t="t" r="r" b="b"/>
              <a:pathLst>
                <a:path w="651" h="893">
                  <a:moveTo>
                    <a:pt x="71" y="211"/>
                  </a:moveTo>
                  <a:lnTo>
                    <a:pt x="60" y="210"/>
                  </a:lnTo>
                  <a:lnTo>
                    <a:pt x="44" y="213"/>
                  </a:lnTo>
                  <a:lnTo>
                    <a:pt x="27" y="222"/>
                  </a:lnTo>
                  <a:lnTo>
                    <a:pt x="13" y="239"/>
                  </a:lnTo>
                  <a:lnTo>
                    <a:pt x="2" y="259"/>
                  </a:lnTo>
                  <a:lnTo>
                    <a:pt x="0" y="288"/>
                  </a:lnTo>
                  <a:lnTo>
                    <a:pt x="8" y="323"/>
                  </a:lnTo>
                  <a:lnTo>
                    <a:pt x="30" y="364"/>
                  </a:lnTo>
                  <a:lnTo>
                    <a:pt x="94" y="438"/>
                  </a:lnTo>
                  <a:lnTo>
                    <a:pt x="99" y="474"/>
                  </a:lnTo>
                  <a:lnTo>
                    <a:pt x="110" y="553"/>
                  </a:lnTo>
                  <a:lnTo>
                    <a:pt x="120" y="637"/>
                  </a:lnTo>
                  <a:lnTo>
                    <a:pt x="120" y="687"/>
                  </a:lnTo>
                  <a:lnTo>
                    <a:pt x="114" y="709"/>
                  </a:lnTo>
                  <a:lnTo>
                    <a:pt x="109" y="732"/>
                  </a:lnTo>
                  <a:lnTo>
                    <a:pt x="106" y="750"/>
                  </a:lnTo>
                  <a:lnTo>
                    <a:pt x="105" y="758"/>
                  </a:lnTo>
                  <a:lnTo>
                    <a:pt x="118" y="781"/>
                  </a:lnTo>
                  <a:lnTo>
                    <a:pt x="132" y="802"/>
                  </a:lnTo>
                  <a:lnTo>
                    <a:pt x="147" y="822"/>
                  </a:lnTo>
                  <a:lnTo>
                    <a:pt x="163" y="838"/>
                  </a:lnTo>
                  <a:lnTo>
                    <a:pt x="181" y="853"/>
                  </a:lnTo>
                  <a:lnTo>
                    <a:pt x="198" y="865"/>
                  </a:lnTo>
                  <a:lnTo>
                    <a:pt x="218" y="876"/>
                  </a:lnTo>
                  <a:lnTo>
                    <a:pt x="237" y="884"/>
                  </a:lnTo>
                  <a:lnTo>
                    <a:pt x="259" y="890"/>
                  </a:lnTo>
                  <a:lnTo>
                    <a:pt x="282" y="892"/>
                  </a:lnTo>
                  <a:lnTo>
                    <a:pt x="306" y="893"/>
                  </a:lnTo>
                  <a:lnTo>
                    <a:pt x="333" y="892"/>
                  </a:lnTo>
                  <a:lnTo>
                    <a:pt x="360" y="888"/>
                  </a:lnTo>
                  <a:lnTo>
                    <a:pt x="390" y="881"/>
                  </a:lnTo>
                  <a:lnTo>
                    <a:pt x="421" y="872"/>
                  </a:lnTo>
                  <a:lnTo>
                    <a:pt x="455" y="861"/>
                  </a:lnTo>
                  <a:lnTo>
                    <a:pt x="450" y="847"/>
                  </a:lnTo>
                  <a:lnTo>
                    <a:pt x="443" y="831"/>
                  </a:lnTo>
                  <a:lnTo>
                    <a:pt x="435" y="814"/>
                  </a:lnTo>
                  <a:lnTo>
                    <a:pt x="427" y="793"/>
                  </a:lnTo>
                  <a:lnTo>
                    <a:pt x="421" y="771"/>
                  </a:lnTo>
                  <a:lnTo>
                    <a:pt x="420" y="747"/>
                  </a:lnTo>
                  <a:lnTo>
                    <a:pt x="424" y="720"/>
                  </a:lnTo>
                  <a:lnTo>
                    <a:pt x="434" y="691"/>
                  </a:lnTo>
                  <a:lnTo>
                    <a:pt x="455" y="686"/>
                  </a:lnTo>
                  <a:lnTo>
                    <a:pt x="474" y="680"/>
                  </a:lnTo>
                  <a:lnTo>
                    <a:pt x="492" y="674"/>
                  </a:lnTo>
                  <a:lnTo>
                    <a:pt x="508" y="667"/>
                  </a:lnTo>
                  <a:lnTo>
                    <a:pt x="523" y="659"/>
                  </a:lnTo>
                  <a:lnTo>
                    <a:pt x="536" y="651"/>
                  </a:lnTo>
                  <a:lnTo>
                    <a:pt x="546" y="641"/>
                  </a:lnTo>
                  <a:lnTo>
                    <a:pt x="555" y="630"/>
                  </a:lnTo>
                  <a:lnTo>
                    <a:pt x="568" y="587"/>
                  </a:lnTo>
                  <a:lnTo>
                    <a:pt x="584" y="525"/>
                  </a:lnTo>
                  <a:lnTo>
                    <a:pt x="603" y="455"/>
                  </a:lnTo>
                  <a:lnTo>
                    <a:pt x="622" y="378"/>
                  </a:lnTo>
                  <a:lnTo>
                    <a:pt x="637" y="302"/>
                  </a:lnTo>
                  <a:lnTo>
                    <a:pt x="647" y="229"/>
                  </a:lnTo>
                  <a:lnTo>
                    <a:pt x="651" y="167"/>
                  </a:lnTo>
                  <a:lnTo>
                    <a:pt x="644" y="121"/>
                  </a:lnTo>
                  <a:lnTo>
                    <a:pt x="637" y="103"/>
                  </a:lnTo>
                  <a:lnTo>
                    <a:pt x="630" y="86"/>
                  </a:lnTo>
                  <a:lnTo>
                    <a:pt x="622" y="70"/>
                  </a:lnTo>
                  <a:lnTo>
                    <a:pt x="613" y="56"/>
                  </a:lnTo>
                  <a:lnTo>
                    <a:pt x="602" y="44"/>
                  </a:lnTo>
                  <a:lnTo>
                    <a:pt x="591" y="32"/>
                  </a:lnTo>
                  <a:lnTo>
                    <a:pt x="578" y="23"/>
                  </a:lnTo>
                  <a:lnTo>
                    <a:pt x="563" y="15"/>
                  </a:lnTo>
                  <a:lnTo>
                    <a:pt x="547" y="8"/>
                  </a:lnTo>
                  <a:lnTo>
                    <a:pt x="529" y="3"/>
                  </a:lnTo>
                  <a:lnTo>
                    <a:pt x="509" y="1"/>
                  </a:lnTo>
                  <a:lnTo>
                    <a:pt x="487" y="0"/>
                  </a:lnTo>
                  <a:lnTo>
                    <a:pt x="463" y="0"/>
                  </a:lnTo>
                  <a:lnTo>
                    <a:pt x="438" y="2"/>
                  </a:lnTo>
                  <a:lnTo>
                    <a:pt x="409" y="7"/>
                  </a:lnTo>
                  <a:lnTo>
                    <a:pt x="378" y="13"/>
                  </a:lnTo>
                  <a:lnTo>
                    <a:pt x="345" y="20"/>
                  </a:lnTo>
                  <a:lnTo>
                    <a:pt x="314" y="27"/>
                  </a:lnTo>
                  <a:lnTo>
                    <a:pt x="284" y="35"/>
                  </a:lnTo>
                  <a:lnTo>
                    <a:pt x="256" y="41"/>
                  </a:lnTo>
                  <a:lnTo>
                    <a:pt x="227" y="50"/>
                  </a:lnTo>
                  <a:lnTo>
                    <a:pt x="201" y="58"/>
                  </a:lnTo>
                  <a:lnTo>
                    <a:pt x="176" y="67"/>
                  </a:lnTo>
                  <a:lnTo>
                    <a:pt x="154" y="77"/>
                  </a:lnTo>
                  <a:lnTo>
                    <a:pt x="133" y="89"/>
                  </a:lnTo>
                  <a:lnTo>
                    <a:pt x="116" y="100"/>
                  </a:lnTo>
                  <a:lnTo>
                    <a:pt x="100" y="114"/>
                  </a:lnTo>
                  <a:lnTo>
                    <a:pt x="89" y="130"/>
                  </a:lnTo>
                  <a:lnTo>
                    <a:pt x="79" y="148"/>
                  </a:lnTo>
                  <a:lnTo>
                    <a:pt x="72" y="166"/>
                  </a:lnTo>
                  <a:lnTo>
                    <a:pt x="70" y="188"/>
                  </a:lnTo>
                  <a:lnTo>
                    <a:pt x="71" y="211"/>
                  </a:lnTo>
                  <a:close/>
                </a:path>
              </a:pathLst>
            </a:custGeom>
            <a:solidFill>
              <a:srgbClr val="e5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382400" y="4400280"/>
              <a:ext cx="739440" cy="712800"/>
            </a:xfrm>
            <a:custGeom>
              <a:avLst/>
              <a:gdLst/>
              <a:ahLst/>
              <a:rect l="l" t="t" r="r" b="b"/>
              <a:pathLst>
                <a:path w="932" h="897">
                  <a:moveTo>
                    <a:pt x="108" y="216"/>
                  </a:moveTo>
                  <a:lnTo>
                    <a:pt x="95" y="233"/>
                  </a:lnTo>
                  <a:lnTo>
                    <a:pt x="80" y="261"/>
                  </a:lnTo>
                  <a:lnTo>
                    <a:pt x="67" y="296"/>
                  </a:lnTo>
                  <a:lnTo>
                    <a:pt x="55" y="335"/>
                  </a:lnTo>
                  <a:lnTo>
                    <a:pt x="46" y="379"/>
                  </a:lnTo>
                  <a:lnTo>
                    <a:pt x="42" y="424"/>
                  </a:lnTo>
                  <a:lnTo>
                    <a:pt x="40" y="470"/>
                  </a:lnTo>
                  <a:lnTo>
                    <a:pt x="46" y="513"/>
                  </a:lnTo>
                  <a:lnTo>
                    <a:pt x="52" y="558"/>
                  </a:lnTo>
                  <a:lnTo>
                    <a:pt x="53" y="609"/>
                  </a:lnTo>
                  <a:lnTo>
                    <a:pt x="50" y="661"/>
                  </a:lnTo>
                  <a:lnTo>
                    <a:pt x="44" y="713"/>
                  </a:lnTo>
                  <a:lnTo>
                    <a:pt x="35" y="762"/>
                  </a:lnTo>
                  <a:lnTo>
                    <a:pt x="23" y="807"/>
                  </a:lnTo>
                  <a:lnTo>
                    <a:pt x="12" y="845"/>
                  </a:lnTo>
                  <a:lnTo>
                    <a:pt x="0" y="874"/>
                  </a:lnTo>
                  <a:lnTo>
                    <a:pt x="57" y="864"/>
                  </a:lnTo>
                  <a:lnTo>
                    <a:pt x="141" y="897"/>
                  </a:lnTo>
                  <a:lnTo>
                    <a:pt x="182" y="872"/>
                  </a:lnTo>
                  <a:lnTo>
                    <a:pt x="254" y="897"/>
                  </a:lnTo>
                  <a:lnTo>
                    <a:pt x="295" y="866"/>
                  </a:lnTo>
                  <a:lnTo>
                    <a:pt x="402" y="882"/>
                  </a:lnTo>
                  <a:lnTo>
                    <a:pt x="385" y="861"/>
                  </a:lnTo>
                  <a:lnTo>
                    <a:pt x="363" y="834"/>
                  </a:lnTo>
                  <a:lnTo>
                    <a:pt x="340" y="801"/>
                  </a:lnTo>
                  <a:lnTo>
                    <a:pt x="315" y="765"/>
                  </a:lnTo>
                  <a:lnTo>
                    <a:pt x="290" y="727"/>
                  </a:lnTo>
                  <a:lnTo>
                    <a:pt x="270" y="687"/>
                  </a:lnTo>
                  <a:lnTo>
                    <a:pt x="254" y="651"/>
                  </a:lnTo>
                  <a:lnTo>
                    <a:pt x="243" y="616"/>
                  </a:lnTo>
                  <a:lnTo>
                    <a:pt x="228" y="604"/>
                  </a:lnTo>
                  <a:lnTo>
                    <a:pt x="211" y="592"/>
                  </a:lnTo>
                  <a:lnTo>
                    <a:pt x="190" y="577"/>
                  </a:lnTo>
                  <a:lnTo>
                    <a:pt x="171" y="559"/>
                  </a:lnTo>
                  <a:lnTo>
                    <a:pt x="152" y="539"/>
                  </a:lnTo>
                  <a:lnTo>
                    <a:pt x="137" y="515"/>
                  </a:lnTo>
                  <a:lnTo>
                    <a:pt x="127" y="487"/>
                  </a:lnTo>
                  <a:lnTo>
                    <a:pt x="123" y="455"/>
                  </a:lnTo>
                  <a:lnTo>
                    <a:pt x="125" y="434"/>
                  </a:lnTo>
                  <a:lnTo>
                    <a:pt x="130" y="417"/>
                  </a:lnTo>
                  <a:lnTo>
                    <a:pt x="137" y="403"/>
                  </a:lnTo>
                  <a:lnTo>
                    <a:pt x="148" y="392"/>
                  </a:lnTo>
                  <a:lnTo>
                    <a:pt x="161" y="387"/>
                  </a:lnTo>
                  <a:lnTo>
                    <a:pt x="176" y="384"/>
                  </a:lnTo>
                  <a:lnTo>
                    <a:pt x="194" y="388"/>
                  </a:lnTo>
                  <a:lnTo>
                    <a:pt x="213" y="396"/>
                  </a:lnTo>
                  <a:lnTo>
                    <a:pt x="239" y="357"/>
                  </a:lnTo>
                  <a:lnTo>
                    <a:pt x="310" y="321"/>
                  </a:lnTo>
                  <a:lnTo>
                    <a:pt x="377" y="331"/>
                  </a:lnTo>
                  <a:lnTo>
                    <a:pt x="425" y="273"/>
                  </a:lnTo>
                  <a:lnTo>
                    <a:pt x="471" y="323"/>
                  </a:lnTo>
                  <a:lnTo>
                    <a:pt x="540" y="275"/>
                  </a:lnTo>
                  <a:lnTo>
                    <a:pt x="595" y="308"/>
                  </a:lnTo>
                  <a:lnTo>
                    <a:pt x="648" y="265"/>
                  </a:lnTo>
                  <a:lnTo>
                    <a:pt x="697" y="306"/>
                  </a:lnTo>
                  <a:lnTo>
                    <a:pt x="750" y="267"/>
                  </a:lnTo>
                  <a:lnTo>
                    <a:pt x="794" y="331"/>
                  </a:lnTo>
                  <a:lnTo>
                    <a:pt x="796" y="358"/>
                  </a:lnTo>
                  <a:lnTo>
                    <a:pt x="797" y="409"/>
                  </a:lnTo>
                  <a:lnTo>
                    <a:pt x="797" y="477"/>
                  </a:lnTo>
                  <a:lnTo>
                    <a:pt x="792" y="555"/>
                  </a:lnTo>
                  <a:lnTo>
                    <a:pt x="779" y="637"/>
                  </a:lnTo>
                  <a:lnTo>
                    <a:pt x="759" y="715"/>
                  </a:lnTo>
                  <a:lnTo>
                    <a:pt x="729" y="783"/>
                  </a:lnTo>
                  <a:lnTo>
                    <a:pt x="687" y="834"/>
                  </a:lnTo>
                  <a:lnTo>
                    <a:pt x="807" y="866"/>
                  </a:lnTo>
                  <a:lnTo>
                    <a:pt x="842" y="843"/>
                  </a:lnTo>
                  <a:lnTo>
                    <a:pt x="932" y="866"/>
                  </a:lnTo>
                  <a:lnTo>
                    <a:pt x="917" y="826"/>
                  </a:lnTo>
                  <a:lnTo>
                    <a:pt x="901" y="774"/>
                  </a:lnTo>
                  <a:lnTo>
                    <a:pt x="886" y="713"/>
                  </a:lnTo>
                  <a:lnTo>
                    <a:pt x="872" y="647"/>
                  </a:lnTo>
                  <a:lnTo>
                    <a:pt x="862" y="579"/>
                  </a:lnTo>
                  <a:lnTo>
                    <a:pt x="856" y="512"/>
                  </a:lnTo>
                  <a:lnTo>
                    <a:pt x="857" y="450"/>
                  </a:lnTo>
                  <a:lnTo>
                    <a:pt x="865" y="396"/>
                  </a:lnTo>
                  <a:lnTo>
                    <a:pt x="876" y="349"/>
                  </a:lnTo>
                  <a:lnTo>
                    <a:pt x="880" y="306"/>
                  </a:lnTo>
                  <a:lnTo>
                    <a:pt x="880" y="268"/>
                  </a:lnTo>
                  <a:lnTo>
                    <a:pt x="878" y="235"/>
                  </a:lnTo>
                  <a:lnTo>
                    <a:pt x="871" y="205"/>
                  </a:lnTo>
                  <a:lnTo>
                    <a:pt x="863" y="179"/>
                  </a:lnTo>
                  <a:lnTo>
                    <a:pt x="851" y="156"/>
                  </a:lnTo>
                  <a:lnTo>
                    <a:pt x="840" y="137"/>
                  </a:lnTo>
                  <a:lnTo>
                    <a:pt x="833" y="126"/>
                  </a:lnTo>
                  <a:lnTo>
                    <a:pt x="826" y="115"/>
                  </a:lnTo>
                  <a:lnTo>
                    <a:pt x="819" y="102"/>
                  </a:lnTo>
                  <a:lnTo>
                    <a:pt x="810" y="89"/>
                  </a:lnTo>
                  <a:lnTo>
                    <a:pt x="798" y="76"/>
                  </a:lnTo>
                  <a:lnTo>
                    <a:pt x="786" y="62"/>
                  </a:lnTo>
                  <a:lnTo>
                    <a:pt x="770" y="48"/>
                  </a:lnTo>
                  <a:lnTo>
                    <a:pt x="751" y="35"/>
                  </a:lnTo>
                  <a:lnTo>
                    <a:pt x="729" y="24"/>
                  </a:lnTo>
                  <a:lnTo>
                    <a:pt x="704" y="14"/>
                  </a:lnTo>
                  <a:lnTo>
                    <a:pt x="674" y="6"/>
                  </a:lnTo>
                  <a:lnTo>
                    <a:pt x="640" y="2"/>
                  </a:lnTo>
                  <a:lnTo>
                    <a:pt x="600" y="0"/>
                  </a:lnTo>
                  <a:lnTo>
                    <a:pt x="555" y="1"/>
                  </a:lnTo>
                  <a:lnTo>
                    <a:pt x="505" y="5"/>
                  </a:lnTo>
                  <a:lnTo>
                    <a:pt x="448" y="13"/>
                  </a:lnTo>
                  <a:lnTo>
                    <a:pt x="423" y="19"/>
                  </a:lnTo>
                  <a:lnTo>
                    <a:pt x="398" y="25"/>
                  </a:lnTo>
                  <a:lnTo>
                    <a:pt x="375" y="31"/>
                  </a:lnTo>
                  <a:lnTo>
                    <a:pt x="352" y="39"/>
                  </a:lnTo>
                  <a:lnTo>
                    <a:pt x="330" y="47"/>
                  </a:lnTo>
                  <a:lnTo>
                    <a:pt x="309" y="56"/>
                  </a:lnTo>
                  <a:lnTo>
                    <a:pt x="288" y="66"/>
                  </a:lnTo>
                  <a:lnTo>
                    <a:pt x="267" y="78"/>
                  </a:lnTo>
                  <a:lnTo>
                    <a:pt x="248" y="91"/>
                  </a:lnTo>
                  <a:lnTo>
                    <a:pt x="228" y="103"/>
                  </a:lnTo>
                  <a:lnTo>
                    <a:pt x="209" y="119"/>
                  </a:lnTo>
                  <a:lnTo>
                    <a:pt x="189" y="135"/>
                  </a:lnTo>
                  <a:lnTo>
                    <a:pt x="169" y="153"/>
                  </a:lnTo>
                  <a:lnTo>
                    <a:pt x="150" y="172"/>
                  </a:lnTo>
                  <a:lnTo>
                    <a:pt x="129" y="193"/>
                  </a:lnTo>
                  <a:lnTo>
                    <a:pt x="108" y="216"/>
                  </a:lnTo>
                  <a:close/>
                </a:path>
              </a:pathLst>
            </a:custGeom>
            <a:solidFill>
              <a:srgbClr val="51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30120" y="4128840"/>
              <a:ext cx="880560" cy="450720"/>
            </a:xfrm>
            <a:custGeom>
              <a:avLst/>
              <a:gdLst/>
              <a:ahLst/>
              <a:rect l="l" t="t" r="r" b="b"/>
              <a:pathLst>
                <a:path w="1109" h="568">
                  <a:moveTo>
                    <a:pt x="410" y="0"/>
                  </a:moveTo>
                  <a:lnTo>
                    <a:pt x="402" y="12"/>
                  </a:lnTo>
                  <a:lnTo>
                    <a:pt x="387" y="29"/>
                  </a:lnTo>
                  <a:lnTo>
                    <a:pt x="367" y="53"/>
                  </a:lnTo>
                  <a:lnTo>
                    <a:pt x="343" y="83"/>
                  </a:lnTo>
                  <a:lnTo>
                    <a:pt x="316" y="117"/>
                  </a:lnTo>
                  <a:lnTo>
                    <a:pt x="284" y="154"/>
                  </a:lnTo>
                  <a:lnTo>
                    <a:pt x="252" y="193"/>
                  </a:lnTo>
                  <a:lnTo>
                    <a:pt x="218" y="234"/>
                  </a:lnTo>
                  <a:lnTo>
                    <a:pt x="183" y="276"/>
                  </a:lnTo>
                  <a:lnTo>
                    <a:pt x="150" y="317"/>
                  </a:lnTo>
                  <a:lnTo>
                    <a:pt x="116" y="356"/>
                  </a:lnTo>
                  <a:lnTo>
                    <a:pt x="86" y="395"/>
                  </a:lnTo>
                  <a:lnTo>
                    <a:pt x="59" y="428"/>
                  </a:lnTo>
                  <a:lnTo>
                    <a:pt x="34" y="459"/>
                  </a:lnTo>
                  <a:lnTo>
                    <a:pt x="14" y="483"/>
                  </a:lnTo>
                  <a:lnTo>
                    <a:pt x="0" y="503"/>
                  </a:lnTo>
                  <a:lnTo>
                    <a:pt x="6" y="506"/>
                  </a:lnTo>
                  <a:lnTo>
                    <a:pt x="11" y="511"/>
                  </a:lnTo>
                  <a:lnTo>
                    <a:pt x="20" y="514"/>
                  </a:lnTo>
                  <a:lnTo>
                    <a:pt x="29" y="519"/>
                  </a:lnTo>
                  <a:lnTo>
                    <a:pt x="38" y="524"/>
                  </a:lnTo>
                  <a:lnTo>
                    <a:pt x="49" y="528"/>
                  </a:lnTo>
                  <a:lnTo>
                    <a:pt x="61" y="533"/>
                  </a:lnTo>
                  <a:lnTo>
                    <a:pt x="75" y="537"/>
                  </a:lnTo>
                  <a:lnTo>
                    <a:pt x="90" y="542"/>
                  </a:lnTo>
                  <a:lnTo>
                    <a:pt x="106" y="547"/>
                  </a:lnTo>
                  <a:lnTo>
                    <a:pt x="123" y="550"/>
                  </a:lnTo>
                  <a:lnTo>
                    <a:pt x="143" y="555"/>
                  </a:lnTo>
                  <a:lnTo>
                    <a:pt x="163" y="558"/>
                  </a:lnTo>
                  <a:lnTo>
                    <a:pt x="185" y="563"/>
                  </a:lnTo>
                  <a:lnTo>
                    <a:pt x="208" y="565"/>
                  </a:lnTo>
                  <a:lnTo>
                    <a:pt x="234" y="568"/>
                  </a:lnTo>
                  <a:lnTo>
                    <a:pt x="235" y="567"/>
                  </a:lnTo>
                  <a:lnTo>
                    <a:pt x="237" y="566"/>
                  </a:lnTo>
                  <a:lnTo>
                    <a:pt x="242" y="564"/>
                  </a:lnTo>
                  <a:lnTo>
                    <a:pt x="250" y="560"/>
                  </a:lnTo>
                  <a:lnTo>
                    <a:pt x="258" y="558"/>
                  </a:lnTo>
                  <a:lnTo>
                    <a:pt x="269" y="557"/>
                  </a:lnTo>
                  <a:lnTo>
                    <a:pt x="283" y="557"/>
                  </a:lnTo>
                  <a:lnTo>
                    <a:pt x="299" y="558"/>
                  </a:lnTo>
                  <a:lnTo>
                    <a:pt x="317" y="540"/>
                  </a:lnTo>
                  <a:lnTo>
                    <a:pt x="336" y="518"/>
                  </a:lnTo>
                  <a:lnTo>
                    <a:pt x="359" y="494"/>
                  </a:lnTo>
                  <a:lnTo>
                    <a:pt x="385" y="468"/>
                  </a:lnTo>
                  <a:lnTo>
                    <a:pt x="413" y="443"/>
                  </a:lnTo>
                  <a:lnTo>
                    <a:pt x="446" y="418"/>
                  </a:lnTo>
                  <a:lnTo>
                    <a:pt x="480" y="392"/>
                  </a:lnTo>
                  <a:lnTo>
                    <a:pt x="517" y="369"/>
                  </a:lnTo>
                  <a:lnTo>
                    <a:pt x="559" y="350"/>
                  </a:lnTo>
                  <a:lnTo>
                    <a:pt x="601" y="332"/>
                  </a:lnTo>
                  <a:lnTo>
                    <a:pt x="648" y="320"/>
                  </a:lnTo>
                  <a:lnTo>
                    <a:pt x="698" y="313"/>
                  </a:lnTo>
                  <a:lnTo>
                    <a:pt x="751" y="312"/>
                  </a:lnTo>
                  <a:lnTo>
                    <a:pt x="807" y="316"/>
                  </a:lnTo>
                  <a:lnTo>
                    <a:pt x="866" y="329"/>
                  </a:lnTo>
                  <a:lnTo>
                    <a:pt x="928" y="350"/>
                  </a:lnTo>
                  <a:lnTo>
                    <a:pt x="953" y="331"/>
                  </a:lnTo>
                  <a:lnTo>
                    <a:pt x="979" y="309"/>
                  </a:lnTo>
                  <a:lnTo>
                    <a:pt x="1006" y="284"/>
                  </a:lnTo>
                  <a:lnTo>
                    <a:pt x="1032" y="256"/>
                  </a:lnTo>
                  <a:lnTo>
                    <a:pt x="1056" y="227"/>
                  </a:lnTo>
                  <a:lnTo>
                    <a:pt x="1078" y="197"/>
                  </a:lnTo>
                  <a:lnTo>
                    <a:pt x="1097" y="168"/>
                  </a:lnTo>
                  <a:lnTo>
                    <a:pt x="1109" y="139"/>
                  </a:lnTo>
                  <a:lnTo>
                    <a:pt x="1093" y="134"/>
                  </a:lnTo>
                  <a:lnTo>
                    <a:pt x="1068" y="128"/>
                  </a:lnTo>
                  <a:lnTo>
                    <a:pt x="1032" y="121"/>
                  </a:lnTo>
                  <a:lnTo>
                    <a:pt x="991" y="112"/>
                  </a:lnTo>
                  <a:lnTo>
                    <a:pt x="942" y="102"/>
                  </a:lnTo>
                  <a:lnTo>
                    <a:pt x="888" y="91"/>
                  </a:lnTo>
                  <a:lnTo>
                    <a:pt x="832" y="80"/>
                  </a:lnTo>
                  <a:lnTo>
                    <a:pt x="774" y="67"/>
                  </a:lnTo>
                  <a:lnTo>
                    <a:pt x="715" y="56"/>
                  </a:lnTo>
                  <a:lnTo>
                    <a:pt x="658" y="45"/>
                  </a:lnTo>
                  <a:lnTo>
                    <a:pt x="602" y="34"/>
                  </a:lnTo>
                  <a:lnTo>
                    <a:pt x="551" y="25"/>
                  </a:lnTo>
                  <a:lnTo>
                    <a:pt x="504" y="17"/>
                  </a:lnTo>
                  <a:lnTo>
                    <a:pt x="464" y="9"/>
                  </a:lnTo>
                  <a:lnTo>
                    <a:pt x="432" y="4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596680" y="4711320"/>
              <a:ext cx="21960" cy="5400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14" y="0"/>
                  </a:moveTo>
                  <a:lnTo>
                    <a:pt x="24" y="11"/>
                  </a:lnTo>
                  <a:lnTo>
                    <a:pt x="29" y="34"/>
                  </a:lnTo>
                  <a:lnTo>
                    <a:pt x="27" y="58"/>
                  </a:lnTo>
                  <a:lnTo>
                    <a:pt x="16" y="68"/>
                  </a:lnTo>
                  <a:lnTo>
                    <a:pt x="5" y="57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82480" y="4700520"/>
              <a:ext cx="23400" cy="54000"/>
            </a:xfrm>
            <a:custGeom>
              <a:avLst/>
              <a:gdLst/>
              <a:ahLst/>
              <a:rect l="l" t="t" r="r" b="b"/>
              <a:pathLst>
                <a:path w="28" h="68">
                  <a:moveTo>
                    <a:pt x="13" y="0"/>
                  </a:moveTo>
                  <a:lnTo>
                    <a:pt x="24" y="10"/>
                  </a:lnTo>
                  <a:lnTo>
                    <a:pt x="28" y="33"/>
                  </a:lnTo>
                  <a:lnTo>
                    <a:pt x="27" y="57"/>
                  </a:lnTo>
                  <a:lnTo>
                    <a:pt x="16" y="68"/>
                  </a:lnTo>
                  <a:lnTo>
                    <a:pt x="4" y="56"/>
                  </a:lnTo>
                  <a:lnTo>
                    <a:pt x="0" y="33"/>
                  </a:lnTo>
                  <a:lnTo>
                    <a:pt x="3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942920" y="4708440"/>
              <a:ext cx="23400" cy="5400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15" y="0"/>
                  </a:moveTo>
                  <a:lnTo>
                    <a:pt x="25" y="10"/>
                  </a:lnTo>
                  <a:lnTo>
                    <a:pt x="30" y="33"/>
                  </a:lnTo>
                  <a:lnTo>
                    <a:pt x="28" y="57"/>
                  </a:lnTo>
                  <a:lnTo>
                    <a:pt x="17" y="68"/>
                  </a:lnTo>
                  <a:lnTo>
                    <a:pt x="5" y="56"/>
                  </a:lnTo>
                  <a:lnTo>
                    <a:pt x="0" y="33"/>
                  </a:lnTo>
                  <a:lnTo>
                    <a:pt x="4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731600" y="4725720"/>
              <a:ext cx="23400" cy="5400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15" y="0"/>
                  </a:moveTo>
                  <a:lnTo>
                    <a:pt x="26" y="10"/>
                  </a:lnTo>
                  <a:lnTo>
                    <a:pt x="30" y="33"/>
                  </a:lnTo>
                  <a:lnTo>
                    <a:pt x="28" y="57"/>
                  </a:lnTo>
                  <a:lnTo>
                    <a:pt x="16" y="68"/>
                  </a:lnTo>
                  <a:lnTo>
                    <a:pt x="5" y="56"/>
                  </a:lnTo>
                  <a:lnTo>
                    <a:pt x="0" y="33"/>
                  </a:lnTo>
                  <a:lnTo>
                    <a:pt x="4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336400" y="4651200"/>
              <a:ext cx="112320" cy="41400"/>
            </a:xfrm>
            <a:custGeom>
              <a:avLst/>
              <a:gdLst/>
              <a:ahLst/>
              <a:rect l="l" t="t" r="r" b="b"/>
              <a:pathLst>
                <a:path w="142" h="51">
                  <a:moveTo>
                    <a:pt x="0" y="45"/>
                  </a:moveTo>
                  <a:lnTo>
                    <a:pt x="8" y="36"/>
                  </a:lnTo>
                  <a:lnTo>
                    <a:pt x="24" y="29"/>
                  </a:lnTo>
                  <a:lnTo>
                    <a:pt x="44" y="25"/>
                  </a:lnTo>
                  <a:lnTo>
                    <a:pt x="68" y="22"/>
                  </a:lnTo>
                  <a:lnTo>
                    <a:pt x="91" y="23"/>
                  </a:lnTo>
                  <a:lnTo>
                    <a:pt x="113" y="29"/>
                  </a:lnTo>
                  <a:lnTo>
                    <a:pt x="130" y="37"/>
                  </a:lnTo>
                  <a:lnTo>
                    <a:pt x="142" y="51"/>
                  </a:lnTo>
                  <a:lnTo>
                    <a:pt x="129" y="29"/>
                  </a:lnTo>
                  <a:lnTo>
                    <a:pt x="112" y="13"/>
                  </a:lnTo>
                  <a:lnTo>
                    <a:pt x="91" y="4"/>
                  </a:lnTo>
                  <a:lnTo>
                    <a:pt x="69" y="0"/>
                  </a:lnTo>
                  <a:lnTo>
                    <a:pt x="47" y="4"/>
                  </a:lnTo>
                  <a:lnTo>
                    <a:pt x="28" y="12"/>
                  </a:lnTo>
                  <a:lnTo>
                    <a:pt x="11" y="26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565000" y="4654440"/>
              <a:ext cx="109080" cy="47520"/>
            </a:xfrm>
            <a:custGeom>
              <a:avLst/>
              <a:gdLst/>
              <a:ahLst/>
              <a:rect l="l" t="t" r="r" b="b"/>
              <a:pathLst>
                <a:path w="138" h="60">
                  <a:moveTo>
                    <a:pt x="0" y="41"/>
                  </a:moveTo>
                  <a:lnTo>
                    <a:pt x="8" y="33"/>
                  </a:lnTo>
                  <a:lnTo>
                    <a:pt x="23" y="28"/>
                  </a:lnTo>
                  <a:lnTo>
                    <a:pt x="42" y="25"/>
                  </a:lnTo>
                  <a:lnTo>
                    <a:pt x="65" y="25"/>
                  </a:lnTo>
                  <a:lnTo>
                    <a:pt x="89" y="29"/>
                  </a:lnTo>
                  <a:lnTo>
                    <a:pt x="109" y="36"/>
                  </a:lnTo>
                  <a:lnTo>
                    <a:pt x="127" y="46"/>
                  </a:lnTo>
                  <a:lnTo>
                    <a:pt x="138" y="60"/>
                  </a:lnTo>
                  <a:lnTo>
                    <a:pt x="128" y="35"/>
                  </a:lnTo>
                  <a:lnTo>
                    <a:pt x="112" y="17"/>
                  </a:lnTo>
                  <a:lnTo>
                    <a:pt x="91" y="6"/>
                  </a:lnTo>
                  <a:lnTo>
                    <a:pt x="69" y="0"/>
                  </a:lnTo>
                  <a:lnTo>
                    <a:pt x="47" y="2"/>
                  </a:lnTo>
                  <a:lnTo>
                    <a:pt x="27" y="9"/>
                  </a:lnTo>
                  <a:lnTo>
                    <a:pt x="11" y="2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282400" y="4581360"/>
              <a:ext cx="398160" cy="504720"/>
            </a:xfrm>
            <a:custGeom>
              <a:avLst/>
              <a:gdLst/>
              <a:ahLst/>
              <a:rect l="l" t="t" r="r" b="b"/>
              <a:pathLst>
                <a:path w="502" h="637">
                  <a:moveTo>
                    <a:pt x="502" y="500"/>
                  </a:moveTo>
                  <a:lnTo>
                    <a:pt x="499" y="507"/>
                  </a:lnTo>
                  <a:lnTo>
                    <a:pt x="492" y="516"/>
                  </a:lnTo>
                  <a:lnTo>
                    <a:pt x="481" y="529"/>
                  </a:lnTo>
                  <a:lnTo>
                    <a:pt x="469" y="542"/>
                  </a:lnTo>
                  <a:lnTo>
                    <a:pt x="453" y="557"/>
                  </a:lnTo>
                  <a:lnTo>
                    <a:pt x="434" y="572"/>
                  </a:lnTo>
                  <a:lnTo>
                    <a:pt x="413" y="588"/>
                  </a:lnTo>
                  <a:lnTo>
                    <a:pt x="390" y="602"/>
                  </a:lnTo>
                  <a:lnTo>
                    <a:pt x="366" y="615"/>
                  </a:lnTo>
                  <a:lnTo>
                    <a:pt x="341" y="625"/>
                  </a:lnTo>
                  <a:lnTo>
                    <a:pt x="313" y="633"/>
                  </a:lnTo>
                  <a:lnTo>
                    <a:pt x="286" y="637"/>
                  </a:lnTo>
                  <a:lnTo>
                    <a:pt x="256" y="637"/>
                  </a:lnTo>
                  <a:lnTo>
                    <a:pt x="227" y="631"/>
                  </a:lnTo>
                  <a:lnTo>
                    <a:pt x="197" y="620"/>
                  </a:lnTo>
                  <a:lnTo>
                    <a:pt x="167" y="602"/>
                  </a:lnTo>
                  <a:lnTo>
                    <a:pt x="140" y="579"/>
                  </a:lnTo>
                  <a:lnTo>
                    <a:pt x="116" y="552"/>
                  </a:lnTo>
                  <a:lnTo>
                    <a:pt x="94" y="519"/>
                  </a:lnTo>
                  <a:lnTo>
                    <a:pt x="75" y="482"/>
                  </a:lnTo>
                  <a:lnTo>
                    <a:pt x="57" y="442"/>
                  </a:lnTo>
                  <a:lnTo>
                    <a:pt x="44" y="399"/>
                  </a:lnTo>
                  <a:lnTo>
                    <a:pt x="31" y="356"/>
                  </a:lnTo>
                  <a:lnTo>
                    <a:pt x="21" y="310"/>
                  </a:lnTo>
                  <a:lnTo>
                    <a:pt x="13" y="265"/>
                  </a:lnTo>
                  <a:lnTo>
                    <a:pt x="7" y="220"/>
                  </a:lnTo>
                  <a:lnTo>
                    <a:pt x="2" y="176"/>
                  </a:lnTo>
                  <a:lnTo>
                    <a:pt x="1" y="133"/>
                  </a:lnTo>
                  <a:lnTo>
                    <a:pt x="0" y="94"/>
                  </a:lnTo>
                  <a:lnTo>
                    <a:pt x="2" y="58"/>
                  </a:lnTo>
                  <a:lnTo>
                    <a:pt x="6" y="26"/>
                  </a:lnTo>
                  <a:lnTo>
                    <a:pt x="10" y="0"/>
                  </a:lnTo>
                  <a:lnTo>
                    <a:pt x="11" y="35"/>
                  </a:lnTo>
                  <a:lnTo>
                    <a:pt x="16" y="100"/>
                  </a:lnTo>
                  <a:lnTo>
                    <a:pt x="23" y="183"/>
                  </a:lnTo>
                  <a:lnTo>
                    <a:pt x="37" y="277"/>
                  </a:lnTo>
                  <a:lnTo>
                    <a:pt x="57" y="374"/>
                  </a:lnTo>
                  <a:lnTo>
                    <a:pt x="87" y="463"/>
                  </a:lnTo>
                  <a:lnTo>
                    <a:pt x="128" y="537"/>
                  </a:lnTo>
                  <a:lnTo>
                    <a:pt x="181" y="585"/>
                  </a:lnTo>
                  <a:lnTo>
                    <a:pt x="211" y="599"/>
                  </a:lnTo>
                  <a:lnTo>
                    <a:pt x="238" y="608"/>
                  </a:lnTo>
                  <a:lnTo>
                    <a:pt x="266" y="614"/>
                  </a:lnTo>
                  <a:lnTo>
                    <a:pt x="294" y="615"/>
                  </a:lnTo>
                  <a:lnTo>
                    <a:pt x="319" y="613"/>
                  </a:lnTo>
                  <a:lnTo>
                    <a:pt x="343" y="608"/>
                  </a:lnTo>
                  <a:lnTo>
                    <a:pt x="366" y="601"/>
                  </a:lnTo>
                  <a:lnTo>
                    <a:pt x="388" y="592"/>
                  </a:lnTo>
                  <a:lnTo>
                    <a:pt x="409" y="580"/>
                  </a:lnTo>
                  <a:lnTo>
                    <a:pt x="427" y="569"/>
                  </a:lnTo>
                  <a:lnTo>
                    <a:pt x="445" y="556"/>
                  </a:lnTo>
                  <a:lnTo>
                    <a:pt x="459" y="544"/>
                  </a:lnTo>
                  <a:lnTo>
                    <a:pt x="473" y="531"/>
                  </a:lnTo>
                  <a:lnTo>
                    <a:pt x="485" y="519"/>
                  </a:lnTo>
                  <a:lnTo>
                    <a:pt x="494" y="509"/>
                  </a:lnTo>
                  <a:lnTo>
                    <a:pt x="502" y="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68240" y="4620960"/>
              <a:ext cx="353520" cy="482760"/>
            </a:xfrm>
            <a:custGeom>
              <a:avLst/>
              <a:gdLst/>
              <a:ahLst/>
              <a:rect l="l" t="t" r="r" b="b"/>
              <a:pathLst>
                <a:path w="446" h="610">
                  <a:moveTo>
                    <a:pt x="0" y="496"/>
                  </a:moveTo>
                  <a:lnTo>
                    <a:pt x="3" y="501"/>
                  </a:lnTo>
                  <a:lnTo>
                    <a:pt x="10" y="511"/>
                  </a:lnTo>
                  <a:lnTo>
                    <a:pt x="20" y="521"/>
                  </a:lnTo>
                  <a:lnTo>
                    <a:pt x="34" y="533"/>
                  </a:lnTo>
                  <a:lnTo>
                    <a:pt x="49" y="546"/>
                  </a:lnTo>
                  <a:lnTo>
                    <a:pt x="68" y="559"/>
                  </a:lnTo>
                  <a:lnTo>
                    <a:pt x="88" y="572"/>
                  </a:lnTo>
                  <a:lnTo>
                    <a:pt x="110" y="584"/>
                  </a:lnTo>
                  <a:lnTo>
                    <a:pt x="133" y="595"/>
                  </a:lnTo>
                  <a:lnTo>
                    <a:pt x="159" y="603"/>
                  </a:lnTo>
                  <a:lnTo>
                    <a:pt x="184" y="607"/>
                  </a:lnTo>
                  <a:lnTo>
                    <a:pt x="211" y="610"/>
                  </a:lnTo>
                  <a:lnTo>
                    <a:pt x="238" y="607"/>
                  </a:lnTo>
                  <a:lnTo>
                    <a:pt x="265" y="601"/>
                  </a:lnTo>
                  <a:lnTo>
                    <a:pt x="292" y="589"/>
                  </a:lnTo>
                  <a:lnTo>
                    <a:pt x="319" y="571"/>
                  </a:lnTo>
                  <a:lnTo>
                    <a:pt x="364" y="520"/>
                  </a:lnTo>
                  <a:lnTo>
                    <a:pt x="397" y="453"/>
                  </a:lnTo>
                  <a:lnTo>
                    <a:pt x="421" y="375"/>
                  </a:lnTo>
                  <a:lnTo>
                    <a:pt x="437" y="289"/>
                  </a:lnTo>
                  <a:lnTo>
                    <a:pt x="446" y="204"/>
                  </a:lnTo>
                  <a:lnTo>
                    <a:pt x="446" y="123"/>
                  </a:lnTo>
                  <a:lnTo>
                    <a:pt x="440" y="54"/>
                  </a:lnTo>
                  <a:lnTo>
                    <a:pt x="428" y="0"/>
                  </a:lnTo>
                  <a:lnTo>
                    <a:pt x="429" y="34"/>
                  </a:lnTo>
                  <a:lnTo>
                    <a:pt x="429" y="94"/>
                  </a:lnTo>
                  <a:lnTo>
                    <a:pt x="427" y="172"/>
                  </a:lnTo>
                  <a:lnTo>
                    <a:pt x="420" y="261"/>
                  </a:lnTo>
                  <a:lnTo>
                    <a:pt x="408" y="352"/>
                  </a:lnTo>
                  <a:lnTo>
                    <a:pt x="384" y="437"/>
                  </a:lnTo>
                  <a:lnTo>
                    <a:pt x="351" y="507"/>
                  </a:lnTo>
                  <a:lnTo>
                    <a:pt x="305" y="556"/>
                  </a:lnTo>
                  <a:lnTo>
                    <a:pt x="279" y="571"/>
                  </a:lnTo>
                  <a:lnTo>
                    <a:pt x="252" y="581"/>
                  </a:lnTo>
                  <a:lnTo>
                    <a:pt x="227" y="588"/>
                  </a:lnTo>
                  <a:lnTo>
                    <a:pt x="202" y="590"/>
                  </a:lnTo>
                  <a:lnTo>
                    <a:pt x="178" y="590"/>
                  </a:lnTo>
                  <a:lnTo>
                    <a:pt x="155" y="587"/>
                  </a:lnTo>
                  <a:lnTo>
                    <a:pt x="133" y="582"/>
                  </a:lnTo>
                  <a:lnTo>
                    <a:pt x="113" y="574"/>
                  </a:lnTo>
                  <a:lnTo>
                    <a:pt x="93" y="566"/>
                  </a:lnTo>
                  <a:lnTo>
                    <a:pt x="75" y="556"/>
                  </a:lnTo>
                  <a:lnTo>
                    <a:pt x="57" y="545"/>
                  </a:lnTo>
                  <a:lnTo>
                    <a:pt x="42" y="534"/>
                  </a:lnTo>
                  <a:lnTo>
                    <a:pt x="29" y="523"/>
                  </a:lnTo>
                  <a:lnTo>
                    <a:pt x="17" y="513"/>
                  </a:lnTo>
                  <a:lnTo>
                    <a:pt x="8" y="504"/>
                  </a:lnTo>
                  <a:lnTo>
                    <a:pt x="0" y="4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96840" y="4659120"/>
              <a:ext cx="105840" cy="49320"/>
            </a:xfrm>
            <a:custGeom>
              <a:avLst/>
              <a:gdLst/>
              <a:ahLst/>
              <a:rect l="l" t="t" r="r" b="b"/>
              <a:pathLst>
                <a:path w="133" h="63">
                  <a:moveTo>
                    <a:pt x="133" y="36"/>
                  </a:moveTo>
                  <a:lnTo>
                    <a:pt x="120" y="28"/>
                  </a:lnTo>
                  <a:lnTo>
                    <a:pt x="105" y="21"/>
                  </a:lnTo>
                  <a:lnTo>
                    <a:pt x="90" y="18"/>
                  </a:lnTo>
                  <a:lnTo>
                    <a:pt x="72" y="18"/>
                  </a:lnTo>
                  <a:lnTo>
                    <a:pt x="55" y="21"/>
                  </a:lnTo>
                  <a:lnTo>
                    <a:pt x="37" y="30"/>
                  </a:lnTo>
                  <a:lnTo>
                    <a:pt x="18" y="43"/>
                  </a:lnTo>
                  <a:lnTo>
                    <a:pt x="0" y="63"/>
                  </a:lnTo>
                  <a:lnTo>
                    <a:pt x="9" y="35"/>
                  </a:lnTo>
                  <a:lnTo>
                    <a:pt x="25" y="17"/>
                  </a:lnTo>
                  <a:lnTo>
                    <a:pt x="47" y="5"/>
                  </a:lnTo>
                  <a:lnTo>
                    <a:pt x="71" y="0"/>
                  </a:lnTo>
                  <a:lnTo>
                    <a:pt x="94" y="2"/>
                  </a:lnTo>
                  <a:lnTo>
                    <a:pt x="114" y="9"/>
                  </a:lnTo>
                  <a:lnTo>
                    <a:pt x="128" y="20"/>
                  </a:lnTo>
                  <a:lnTo>
                    <a:pt x="13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684080" y="4674960"/>
              <a:ext cx="118800" cy="49320"/>
            </a:xfrm>
            <a:custGeom>
              <a:avLst/>
              <a:gdLst/>
              <a:ahLst/>
              <a:rect l="l" t="t" r="r" b="b"/>
              <a:pathLst>
                <a:path w="151" h="62">
                  <a:moveTo>
                    <a:pt x="151" y="36"/>
                  </a:moveTo>
                  <a:lnTo>
                    <a:pt x="136" y="28"/>
                  </a:lnTo>
                  <a:lnTo>
                    <a:pt x="119" y="21"/>
                  </a:lnTo>
                  <a:lnTo>
                    <a:pt x="102" y="17"/>
                  </a:lnTo>
                  <a:lnTo>
                    <a:pt x="83" y="17"/>
                  </a:lnTo>
                  <a:lnTo>
                    <a:pt x="63" y="21"/>
                  </a:lnTo>
                  <a:lnTo>
                    <a:pt x="43" y="30"/>
                  </a:lnTo>
                  <a:lnTo>
                    <a:pt x="22" y="43"/>
                  </a:lnTo>
                  <a:lnTo>
                    <a:pt x="0" y="62"/>
                  </a:lnTo>
                  <a:lnTo>
                    <a:pt x="11" y="36"/>
                  </a:lnTo>
                  <a:lnTo>
                    <a:pt x="29" y="16"/>
                  </a:lnTo>
                  <a:lnTo>
                    <a:pt x="53" y="5"/>
                  </a:lnTo>
                  <a:lnTo>
                    <a:pt x="80" y="0"/>
                  </a:lnTo>
                  <a:lnTo>
                    <a:pt x="106" y="1"/>
                  </a:lnTo>
                  <a:lnTo>
                    <a:pt x="129" y="8"/>
                  </a:lnTo>
                  <a:lnTo>
                    <a:pt x="145" y="20"/>
                  </a:lnTo>
                  <a:lnTo>
                    <a:pt x="15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792080" y="4917960"/>
              <a:ext cx="128160" cy="23760"/>
            </a:xfrm>
            <a:custGeom>
              <a:avLst/>
              <a:gdLst/>
              <a:ahLst/>
              <a:rect l="l" t="t" r="r" b="b"/>
              <a:pathLst>
                <a:path w="163" h="30">
                  <a:moveTo>
                    <a:pt x="0" y="15"/>
                  </a:moveTo>
                  <a:lnTo>
                    <a:pt x="8" y="16"/>
                  </a:lnTo>
                  <a:lnTo>
                    <a:pt x="18" y="16"/>
                  </a:lnTo>
                  <a:lnTo>
                    <a:pt x="29" y="16"/>
                  </a:lnTo>
                  <a:lnTo>
                    <a:pt x="41" y="15"/>
                  </a:lnTo>
                  <a:lnTo>
                    <a:pt x="51" y="14"/>
                  </a:lnTo>
                  <a:lnTo>
                    <a:pt x="61" y="11"/>
                  </a:lnTo>
                  <a:lnTo>
                    <a:pt x="68" y="9"/>
                  </a:lnTo>
                  <a:lnTo>
                    <a:pt x="73" y="7"/>
                  </a:lnTo>
                  <a:lnTo>
                    <a:pt x="76" y="4"/>
                  </a:lnTo>
                  <a:lnTo>
                    <a:pt x="82" y="2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1" y="1"/>
                  </a:lnTo>
                  <a:lnTo>
                    <a:pt x="106" y="2"/>
                  </a:lnTo>
                  <a:lnTo>
                    <a:pt x="112" y="6"/>
                  </a:lnTo>
                  <a:lnTo>
                    <a:pt x="117" y="9"/>
                  </a:lnTo>
                  <a:lnTo>
                    <a:pt x="123" y="4"/>
                  </a:lnTo>
                  <a:lnTo>
                    <a:pt x="128" y="1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8" y="2"/>
                  </a:lnTo>
                  <a:lnTo>
                    <a:pt x="154" y="4"/>
                  </a:lnTo>
                  <a:lnTo>
                    <a:pt x="159" y="8"/>
                  </a:lnTo>
                  <a:lnTo>
                    <a:pt x="163" y="11"/>
                  </a:lnTo>
                  <a:lnTo>
                    <a:pt x="163" y="17"/>
                  </a:lnTo>
                  <a:lnTo>
                    <a:pt x="152" y="22"/>
                  </a:lnTo>
                  <a:lnTo>
                    <a:pt x="135" y="26"/>
                  </a:lnTo>
                  <a:lnTo>
                    <a:pt x="112" y="29"/>
                  </a:lnTo>
                  <a:lnTo>
                    <a:pt x="84" y="30"/>
                  </a:lnTo>
                  <a:lnTo>
                    <a:pt x="56" y="27"/>
                  </a:lnTo>
                  <a:lnTo>
                    <a:pt x="27" y="2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809360" y="4946400"/>
              <a:ext cx="95040" cy="42840"/>
            </a:xfrm>
            <a:custGeom>
              <a:avLst/>
              <a:gdLst/>
              <a:ahLst/>
              <a:rect l="l" t="t" r="r" b="b"/>
              <a:pathLst>
                <a:path w="121" h="53">
                  <a:moveTo>
                    <a:pt x="0" y="0"/>
                  </a:moveTo>
                  <a:lnTo>
                    <a:pt x="23" y="17"/>
                  </a:lnTo>
                  <a:lnTo>
                    <a:pt x="44" y="26"/>
                  </a:lnTo>
                  <a:lnTo>
                    <a:pt x="63" y="31"/>
                  </a:lnTo>
                  <a:lnTo>
                    <a:pt x="82" y="31"/>
                  </a:lnTo>
                  <a:lnTo>
                    <a:pt x="97" y="28"/>
                  </a:lnTo>
                  <a:lnTo>
                    <a:pt x="108" y="26"/>
                  </a:lnTo>
                  <a:lnTo>
                    <a:pt x="116" y="27"/>
                  </a:lnTo>
                  <a:lnTo>
                    <a:pt x="121" y="31"/>
                  </a:lnTo>
                  <a:lnTo>
                    <a:pt x="120" y="42"/>
                  </a:lnTo>
                  <a:lnTo>
                    <a:pt x="111" y="49"/>
                  </a:lnTo>
                  <a:lnTo>
                    <a:pt x="95" y="53"/>
                  </a:lnTo>
                  <a:lnTo>
                    <a:pt x="76" y="53"/>
                  </a:lnTo>
                  <a:lnTo>
                    <a:pt x="54" y="48"/>
                  </a:lnTo>
                  <a:lnTo>
                    <a:pt x="34" y="38"/>
                  </a:lnTo>
                  <a:lnTo>
                    <a:pt x="15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848960" y="4711320"/>
              <a:ext cx="74520" cy="173160"/>
            </a:xfrm>
            <a:custGeom>
              <a:avLst/>
              <a:gdLst/>
              <a:ahLst/>
              <a:rect l="l" t="t" r="r" b="b"/>
              <a:pathLst>
                <a:path w="93" h="217">
                  <a:moveTo>
                    <a:pt x="16" y="0"/>
                  </a:moveTo>
                  <a:lnTo>
                    <a:pt x="16" y="17"/>
                  </a:lnTo>
                  <a:lnTo>
                    <a:pt x="18" y="38"/>
                  </a:lnTo>
                  <a:lnTo>
                    <a:pt x="24" y="63"/>
                  </a:lnTo>
                  <a:lnTo>
                    <a:pt x="31" y="89"/>
                  </a:lnTo>
                  <a:lnTo>
                    <a:pt x="39" y="116"/>
                  </a:lnTo>
                  <a:lnTo>
                    <a:pt x="49" y="140"/>
                  </a:lnTo>
                  <a:lnTo>
                    <a:pt x="61" y="162"/>
                  </a:lnTo>
                  <a:lnTo>
                    <a:pt x="74" y="179"/>
                  </a:lnTo>
                  <a:lnTo>
                    <a:pt x="76" y="187"/>
                  </a:lnTo>
                  <a:lnTo>
                    <a:pt x="72" y="194"/>
                  </a:lnTo>
                  <a:lnTo>
                    <a:pt x="64" y="200"/>
                  </a:lnTo>
                  <a:lnTo>
                    <a:pt x="53" y="203"/>
                  </a:lnTo>
                  <a:lnTo>
                    <a:pt x="39" y="206"/>
                  </a:lnTo>
                  <a:lnTo>
                    <a:pt x="25" y="207"/>
                  </a:lnTo>
                  <a:lnTo>
                    <a:pt x="11" y="206"/>
                  </a:lnTo>
                  <a:lnTo>
                    <a:pt x="0" y="202"/>
                  </a:lnTo>
                  <a:lnTo>
                    <a:pt x="10" y="210"/>
                  </a:lnTo>
                  <a:lnTo>
                    <a:pt x="24" y="215"/>
                  </a:lnTo>
                  <a:lnTo>
                    <a:pt x="41" y="217"/>
                  </a:lnTo>
                  <a:lnTo>
                    <a:pt x="57" y="216"/>
                  </a:lnTo>
                  <a:lnTo>
                    <a:pt x="74" y="211"/>
                  </a:lnTo>
                  <a:lnTo>
                    <a:pt x="85" y="204"/>
                  </a:lnTo>
                  <a:lnTo>
                    <a:pt x="93" y="195"/>
                  </a:lnTo>
                  <a:lnTo>
                    <a:pt x="93" y="184"/>
                  </a:lnTo>
                  <a:lnTo>
                    <a:pt x="89" y="173"/>
                  </a:lnTo>
                  <a:lnTo>
                    <a:pt x="80" y="158"/>
                  </a:lnTo>
                  <a:lnTo>
                    <a:pt x="69" y="139"/>
                  </a:lnTo>
                  <a:lnTo>
                    <a:pt x="56" y="116"/>
                  </a:lnTo>
                  <a:lnTo>
                    <a:pt x="44" y="90"/>
                  </a:lnTo>
                  <a:lnTo>
                    <a:pt x="32" y="61"/>
                  </a:lnTo>
                  <a:lnTo>
                    <a:pt x="22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968120" y="4427280"/>
              <a:ext cx="112320" cy="206280"/>
            </a:xfrm>
            <a:custGeom>
              <a:avLst/>
              <a:gdLst/>
              <a:ahLst/>
              <a:rect l="l" t="t" r="r" b="b"/>
              <a:pathLst>
                <a:path w="140" h="259">
                  <a:moveTo>
                    <a:pt x="0" y="0"/>
                  </a:moveTo>
                  <a:lnTo>
                    <a:pt x="30" y="16"/>
                  </a:lnTo>
                  <a:lnTo>
                    <a:pt x="57" y="38"/>
                  </a:lnTo>
                  <a:lnTo>
                    <a:pt x="84" y="67"/>
                  </a:lnTo>
                  <a:lnTo>
                    <a:pt x="106" y="100"/>
                  </a:lnTo>
                  <a:lnTo>
                    <a:pt x="124" y="138"/>
                  </a:lnTo>
                  <a:lnTo>
                    <a:pt x="136" y="178"/>
                  </a:lnTo>
                  <a:lnTo>
                    <a:pt x="140" y="218"/>
                  </a:lnTo>
                  <a:lnTo>
                    <a:pt x="136" y="259"/>
                  </a:lnTo>
                  <a:lnTo>
                    <a:pt x="129" y="220"/>
                  </a:lnTo>
                  <a:lnTo>
                    <a:pt x="120" y="182"/>
                  </a:lnTo>
                  <a:lnTo>
                    <a:pt x="107" y="146"/>
                  </a:lnTo>
                  <a:lnTo>
                    <a:pt x="92" y="113"/>
                  </a:lnTo>
                  <a:lnTo>
                    <a:pt x="73" y="82"/>
                  </a:lnTo>
                  <a:lnTo>
                    <a:pt x="52" y="53"/>
                  </a:lnTo>
                  <a:lnTo>
                    <a:pt x="27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922040" y="4437000"/>
              <a:ext cx="87120" cy="174600"/>
            </a:xfrm>
            <a:custGeom>
              <a:avLst/>
              <a:gdLst/>
              <a:ahLst/>
              <a:rect l="l" t="t" r="r" b="b"/>
              <a:pathLst>
                <a:path w="111" h="220">
                  <a:moveTo>
                    <a:pt x="0" y="0"/>
                  </a:moveTo>
                  <a:lnTo>
                    <a:pt x="18" y="10"/>
                  </a:lnTo>
                  <a:lnTo>
                    <a:pt x="38" y="27"/>
                  </a:lnTo>
                  <a:lnTo>
                    <a:pt x="59" y="50"/>
                  </a:lnTo>
                  <a:lnTo>
                    <a:pt x="78" y="79"/>
                  </a:lnTo>
                  <a:lnTo>
                    <a:pt x="94" y="112"/>
                  </a:lnTo>
                  <a:lnTo>
                    <a:pt x="106" y="147"/>
                  </a:lnTo>
                  <a:lnTo>
                    <a:pt x="111" y="183"/>
                  </a:lnTo>
                  <a:lnTo>
                    <a:pt x="107" y="220"/>
                  </a:lnTo>
                  <a:lnTo>
                    <a:pt x="104" y="192"/>
                  </a:lnTo>
                  <a:lnTo>
                    <a:pt x="96" y="163"/>
                  </a:lnTo>
                  <a:lnTo>
                    <a:pt x="84" y="133"/>
                  </a:lnTo>
                  <a:lnTo>
                    <a:pt x="70" y="102"/>
                  </a:lnTo>
                  <a:lnTo>
                    <a:pt x="53" y="73"/>
                  </a:lnTo>
                  <a:lnTo>
                    <a:pt x="36" y="46"/>
                  </a:lnTo>
                  <a:lnTo>
                    <a:pt x="17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848960" y="4449600"/>
              <a:ext cx="77400" cy="179280"/>
            </a:xfrm>
            <a:custGeom>
              <a:avLst/>
              <a:gdLst/>
              <a:ahLst/>
              <a:rect l="l" t="t" r="r" b="b"/>
              <a:pathLst>
                <a:path w="99" h="225">
                  <a:moveTo>
                    <a:pt x="0" y="0"/>
                  </a:moveTo>
                  <a:lnTo>
                    <a:pt x="21" y="14"/>
                  </a:lnTo>
                  <a:lnTo>
                    <a:pt x="40" y="36"/>
                  </a:lnTo>
                  <a:lnTo>
                    <a:pt x="56" y="64"/>
                  </a:lnTo>
                  <a:lnTo>
                    <a:pt x="71" y="96"/>
                  </a:lnTo>
                  <a:lnTo>
                    <a:pt x="82" y="130"/>
                  </a:lnTo>
                  <a:lnTo>
                    <a:pt x="89" y="163"/>
                  </a:lnTo>
                  <a:lnTo>
                    <a:pt x="90" y="196"/>
                  </a:lnTo>
                  <a:lnTo>
                    <a:pt x="85" y="225"/>
                  </a:lnTo>
                  <a:lnTo>
                    <a:pt x="94" y="205"/>
                  </a:lnTo>
                  <a:lnTo>
                    <a:pt x="99" y="178"/>
                  </a:lnTo>
                  <a:lnTo>
                    <a:pt x="99" y="146"/>
                  </a:lnTo>
                  <a:lnTo>
                    <a:pt x="94" y="112"/>
                  </a:lnTo>
                  <a:lnTo>
                    <a:pt x="82" y="78"/>
                  </a:lnTo>
                  <a:lnTo>
                    <a:pt x="63" y="46"/>
                  </a:lnTo>
                  <a:lnTo>
                    <a:pt x="36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769760" y="4468680"/>
              <a:ext cx="113760" cy="139680"/>
            </a:xfrm>
            <a:custGeom>
              <a:avLst/>
              <a:gdLst/>
              <a:ahLst/>
              <a:rect l="l" t="t" r="r" b="b"/>
              <a:pathLst>
                <a:path w="143" h="175">
                  <a:moveTo>
                    <a:pt x="0" y="0"/>
                  </a:moveTo>
                  <a:lnTo>
                    <a:pt x="14" y="8"/>
                  </a:lnTo>
                  <a:lnTo>
                    <a:pt x="33" y="18"/>
                  </a:lnTo>
                  <a:lnTo>
                    <a:pt x="56" y="33"/>
                  </a:lnTo>
                  <a:lnTo>
                    <a:pt x="80" y="51"/>
                  </a:lnTo>
                  <a:lnTo>
                    <a:pt x="105" y="74"/>
                  </a:lnTo>
                  <a:lnTo>
                    <a:pt x="124" y="102"/>
                  </a:lnTo>
                  <a:lnTo>
                    <a:pt x="138" y="136"/>
                  </a:lnTo>
                  <a:lnTo>
                    <a:pt x="143" y="175"/>
                  </a:lnTo>
                  <a:lnTo>
                    <a:pt x="130" y="143"/>
                  </a:lnTo>
                  <a:lnTo>
                    <a:pt x="114" y="114"/>
                  </a:lnTo>
                  <a:lnTo>
                    <a:pt x="95" y="89"/>
                  </a:lnTo>
                  <a:lnTo>
                    <a:pt x="75" y="67"/>
                  </a:lnTo>
                  <a:lnTo>
                    <a:pt x="54" y="47"/>
                  </a:lnTo>
                  <a:lnTo>
                    <a:pt x="34" y="30"/>
                  </a:lnTo>
                  <a:lnTo>
                    <a:pt x="16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741320" y="4479840"/>
              <a:ext cx="12240" cy="164880"/>
            </a:xfrm>
            <a:custGeom>
              <a:avLst/>
              <a:gdLst/>
              <a:ahLst/>
              <a:rect l="l" t="t" r="r" b="b"/>
              <a:pathLst>
                <a:path w="16" h="207">
                  <a:moveTo>
                    <a:pt x="16" y="0"/>
                  </a:moveTo>
                  <a:lnTo>
                    <a:pt x="15" y="41"/>
                  </a:lnTo>
                  <a:lnTo>
                    <a:pt x="16" y="101"/>
                  </a:lnTo>
                  <a:lnTo>
                    <a:pt x="16" y="164"/>
                  </a:lnTo>
                  <a:lnTo>
                    <a:pt x="10" y="207"/>
                  </a:lnTo>
                  <a:lnTo>
                    <a:pt x="2" y="166"/>
                  </a:lnTo>
                  <a:lnTo>
                    <a:pt x="0" y="109"/>
                  </a:lnTo>
                  <a:lnTo>
                    <a:pt x="4" y="4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655280" y="4471920"/>
              <a:ext cx="45720" cy="169560"/>
            </a:xfrm>
            <a:custGeom>
              <a:avLst/>
              <a:gdLst/>
              <a:ahLst/>
              <a:rect l="l" t="t" r="r" b="b"/>
              <a:pathLst>
                <a:path w="56" h="213">
                  <a:moveTo>
                    <a:pt x="56" y="0"/>
                  </a:moveTo>
                  <a:lnTo>
                    <a:pt x="47" y="16"/>
                  </a:lnTo>
                  <a:lnTo>
                    <a:pt x="39" y="40"/>
                  </a:lnTo>
                  <a:lnTo>
                    <a:pt x="31" y="68"/>
                  </a:lnTo>
                  <a:lnTo>
                    <a:pt x="25" y="99"/>
                  </a:lnTo>
                  <a:lnTo>
                    <a:pt x="20" y="131"/>
                  </a:lnTo>
                  <a:lnTo>
                    <a:pt x="18" y="162"/>
                  </a:lnTo>
                  <a:lnTo>
                    <a:pt x="19" y="190"/>
                  </a:lnTo>
                  <a:lnTo>
                    <a:pt x="25" y="213"/>
                  </a:lnTo>
                  <a:lnTo>
                    <a:pt x="14" y="203"/>
                  </a:lnTo>
                  <a:lnTo>
                    <a:pt x="4" y="184"/>
                  </a:lnTo>
                  <a:lnTo>
                    <a:pt x="0" y="157"/>
                  </a:lnTo>
                  <a:lnTo>
                    <a:pt x="0" y="126"/>
                  </a:lnTo>
                  <a:lnTo>
                    <a:pt x="4" y="93"/>
                  </a:lnTo>
                  <a:lnTo>
                    <a:pt x="15" y="58"/>
                  </a:lnTo>
                  <a:lnTo>
                    <a:pt x="32" y="27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557000" y="4516200"/>
              <a:ext cx="77400" cy="184320"/>
            </a:xfrm>
            <a:custGeom>
              <a:avLst/>
              <a:gdLst/>
              <a:ahLst/>
              <a:rect l="l" t="t" r="r" b="b"/>
              <a:pathLst>
                <a:path w="98" h="230">
                  <a:moveTo>
                    <a:pt x="98" y="0"/>
                  </a:moveTo>
                  <a:lnTo>
                    <a:pt x="96" y="24"/>
                  </a:lnTo>
                  <a:lnTo>
                    <a:pt x="91" y="54"/>
                  </a:lnTo>
                  <a:lnTo>
                    <a:pt x="84" y="86"/>
                  </a:lnTo>
                  <a:lnTo>
                    <a:pt x="74" y="120"/>
                  </a:lnTo>
                  <a:lnTo>
                    <a:pt x="61" y="153"/>
                  </a:lnTo>
                  <a:lnTo>
                    <a:pt x="44" y="184"/>
                  </a:lnTo>
                  <a:lnTo>
                    <a:pt x="24" y="211"/>
                  </a:lnTo>
                  <a:lnTo>
                    <a:pt x="0" y="230"/>
                  </a:lnTo>
                  <a:lnTo>
                    <a:pt x="9" y="207"/>
                  </a:lnTo>
                  <a:lnTo>
                    <a:pt x="22" y="180"/>
                  </a:lnTo>
                  <a:lnTo>
                    <a:pt x="37" y="149"/>
                  </a:lnTo>
                  <a:lnTo>
                    <a:pt x="52" y="116"/>
                  </a:lnTo>
                  <a:lnTo>
                    <a:pt x="67" y="84"/>
                  </a:lnTo>
                  <a:lnTo>
                    <a:pt x="81" y="53"/>
                  </a:lnTo>
                  <a:lnTo>
                    <a:pt x="91" y="24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468080" y="4698720"/>
              <a:ext cx="96480" cy="16848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123" y="36"/>
                  </a:moveTo>
                  <a:lnTo>
                    <a:pt x="114" y="24"/>
                  </a:lnTo>
                  <a:lnTo>
                    <a:pt x="104" y="15"/>
                  </a:lnTo>
                  <a:lnTo>
                    <a:pt x="91" y="7"/>
                  </a:lnTo>
                  <a:lnTo>
                    <a:pt x="76" y="2"/>
                  </a:lnTo>
                  <a:lnTo>
                    <a:pt x="61" y="0"/>
                  </a:lnTo>
                  <a:lnTo>
                    <a:pt x="45" y="2"/>
                  </a:lnTo>
                  <a:lnTo>
                    <a:pt x="30" y="9"/>
                  </a:lnTo>
                  <a:lnTo>
                    <a:pt x="15" y="21"/>
                  </a:lnTo>
                  <a:lnTo>
                    <a:pt x="5" y="38"/>
                  </a:lnTo>
                  <a:lnTo>
                    <a:pt x="0" y="61"/>
                  </a:lnTo>
                  <a:lnTo>
                    <a:pt x="3" y="88"/>
                  </a:lnTo>
                  <a:lnTo>
                    <a:pt x="12" y="115"/>
                  </a:lnTo>
                  <a:lnTo>
                    <a:pt x="27" y="144"/>
                  </a:lnTo>
                  <a:lnTo>
                    <a:pt x="47" y="171"/>
                  </a:lnTo>
                  <a:lnTo>
                    <a:pt x="72" y="194"/>
                  </a:lnTo>
                  <a:lnTo>
                    <a:pt x="102" y="212"/>
                  </a:lnTo>
                  <a:lnTo>
                    <a:pt x="83" y="195"/>
                  </a:lnTo>
                  <a:lnTo>
                    <a:pt x="65" y="175"/>
                  </a:lnTo>
                  <a:lnTo>
                    <a:pt x="49" y="153"/>
                  </a:lnTo>
                  <a:lnTo>
                    <a:pt x="35" y="129"/>
                  </a:lnTo>
                  <a:lnTo>
                    <a:pt x="26" y="105"/>
                  </a:lnTo>
                  <a:lnTo>
                    <a:pt x="22" y="82"/>
                  </a:lnTo>
                  <a:lnTo>
                    <a:pt x="25" y="59"/>
                  </a:lnTo>
                  <a:lnTo>
                    <a:pt x="36" y="38"/>
                  </a:lnTo>
                  <a:lnTo>
                    <a:pt x="45" y="29"/>
                  </a:lnTo>
                  <a:lnTo>
                    <a:pt x="56" y="22"/>
                  </a:lnTo>
                  <a:lnTo>
                    <a:pt x="67" y="20"/>
                  </a:lnTo>
                  <a:lnTo>
                    <a:pt x="79" y="20"/>
                  </a:lnTo>
                  <a:lnTo>
                    <a:pt x="90" y="22"/>
                  </a:lnTo>
                  <a:lnTo>
                    <a:pt x="102" y="25"/>
                  </a:lnTo>
                  <a:lnTo>
                    <a:pt x="112" y="30"/>
                  </a:lnTo>
                  <a:lnTo>
                    <a:pt x="12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574640" y="4889160"/>
              <a:ext cx="99360" cy="195480"/>
            </a:xfrm>
            <a:custGeom>
              <a:avLst/>
              <a:gdLst/>
              <a:ahLst/>
              <a:rect l="l" t="t" r="r" b="b"/>
              <a:pathLst>
                <a:path w="126" h="247">
                  <a:moveTo>
                    <a:pt x="0" y="0"/>
                  </a:moveTo>
                  <a:lnTo>
                    <a:pt x="11" y="30"/>
                  </a:lnTo>
                  <a:lnTo>
                    <a:pt x="23" y="64"/>
                  </a:lnTo>
                  <a:lnTo>
                    <a:pt x="39" y="100"/>
                  </a:lnTo>
                  <a:lnTo>
                    <a:pt x="57" y="137"/>
                  </a:lnTo>
                  <a:lnTo>
                    <a:pt x="74" y="172"/>
                  </a:lnTo>
                  <a:lnTo>
                    <a:pt x="92" y="203"/>
                  </a:lnTo>
                  <a:lnTo>
                    <a:pt x="110" y="228"/>
                  </a:lnTo>
                  <a:lnTo>
                    <a:pt x="126" y="247"/>
                  </a:lnTo>
                  <a:lnTo>
                    <a:pt x="109" y="240"/>
                  </a:lnTo>
                  <a:lnTo>
                    <a:pt x="88" y="221"/>
                  </a:lnTo>
                  <a:lnTo>
                    <a:pt x="68" y="195"/>
                  </a:lnTo>
                  <a:lnTo>
                    <a:pt x="47" y="160"/>
                  </a:lnTo>
                  <a:lnTo>
                    <a:pt x="30" y="121"/>
                  </a:lnTo>
                  <a:lnTo>
                    <a:pt x="15" y="81"/>
                  </a:lnTo>
                  <a:lnTo>
                    <a:pt x="5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515600" y="4876560"/>
              <a:ext cx="60120" cy="220680"/>
            </a:xfrm>
            <a:custGeom>
              <a:avLst/>
              <a:gdLst/>
              <a:ahLst/>
              <a:rect l="l" t="t" r="r" b="b"/>
              <a:pathLst>
                <a:path w="77" h="278">
                  <a:moveTo>
                    <a:pt x="0" y="0"/>
                  </a:moveTo>
                  <a:lnTo>
                    <a:pt x="3" y="17"/>
                  </a:lnTo>
                  <a:lnTo>
                    <a:pt x="9" y="47"/>
                  </a:lnTo>
                  <a:lnTo>
                    <a:pt x="15" y="85"/>
                  </a:lnTo>
                  <a:lnTo>
                    <a:pt x="25" y="128"/>
                  </a:lnTo>
                  <a:lnTo>
                    <a:pt x="36" y="172"/>
                  </a:lnTo>
                  <a:lnTo>
                    <a:pt x="49" y="213"/>
                  </a:lnTo>
                  <a:lnTo>
                    <a:pt x="63" y="250"/>
                  </a:lnTo>
                  <a:lnTo>
                    <a:pt x="77" y="278"/>
                  </a:lnTo>
                  <a:lnTo>
                    <a:pt x="75" y="255"/>
                  </a:lnTo>
                  <a:lnTo>
                    <a:pt x="70" y="224"/>
                  </a:lnTo>
                  <a:lnTo>
                    <a:pt x="62" y="187"/>
                  </a:lnTo>
                  <a:lnTo>
                    <a:pt x="51" y="146"/>
                  </a:lnTo>
                  <a:lnTo>
                    <a:pt x="39" y="105"/>
                  </a:lnTo>
                  <a:lnTo>
                    <a:pt x="26" y="66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453680" y="4795560"/>
              <a:ext cx="33120" cy="306360"/>
            </a:xfrm>
            <a:custGeom>
              <a:avLst/>
              <a:gdLst/>
              <a:ahLst/>
              <a:rect l="l" t="t" r="r" b="b"/>
              <a:pathLst>
                <a:path w="44" h="387">
                  <a:moveTo>
                    <a:pt x="2" y="0"/>
                  </a:moveTo>
                  <a:lnTo>
                    <a:pt x="1" y="26"/>
                  </a:lnTo>
                  <a:lnTo>
                    <a:pt x="0" y="67"/>
                  </a:lnTo>
                  <a:lnTo>
                    <a:pt x="2" y="118"/>
                  </a:lnTo>
                  <a:lnTo>
                    <a:pt x="6" y="177"/>
                  </a:lnTo>
                  <a:lnTo>
                    <a:pt x="10" y="236"/>
                  </a:lnTo>
                  <a:lnTo>
                    <a:pt x="18" y="295"/>
                  </a:lnTo>
                  <a:lnTo>
                    <a:pt x="29" y="347"/>
                  </a:lnTo>
                  <a:lnTo>
                    <a:pt x="43" y="387"/>
                  </a:lnTo>
                  <a:lnTo>
                    <a:pt x="44" y="356"/>
                  </a:lnTo>
                  <a:lnTo>
                    <a:pt x="43" y="313"/>
                  </a:lnTo>
                  <a:lnTo>
                    <a:pt x="38" y="258"/>
                  </a:lnTo>
                  <a:lnTo>
                    <a:pt x="33" y="201"/>
                  </a:lnTo>
                  <a:lnTo>
                    <a:pt x="25" y="141"/>
                  </a:lnTo>
                  <a:lnTo>
                    <a:pt x="18" y="86"/>
                  </a:lnTo>
                  <a:lnTo>
                    <a:pt x="10" y="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377720" y="4611600"/>
              <a:ext cx="58320" cy="487080"/>
            </a:xfrm>
            <a:custGeom>
              <a:avLst/>
              <a:gdLst/>
              <a:ahLst/>
              <a:rect l="l" t="t" r="r" b="b"/>
              <a:pathLst>
                <a:path w="73" h="614">
                  <a:moveTo>
                    <a:pt x="73" y="0"/>
                  </a:moveTo>
                  <a:lnTo>
                    <a:pt x="63" y="24"/>
                  </a:lnTo>
                  <a:lnTo>
                    <a:pt x="53" y="52"/>
                  </a:lnTo>
                  <a:lnTo>
                    <a:pt x="42" y="84"/>
                  </a:lnTo>
                  <a:lnTo>
                    <a:pt x="34" y="120"/>
                  </a:lnTo>
                  <a:lnTo>
                    <a:pt x="27" y="159"/>
                  </a:lnTo>
                  <a:lnTo>
                    <a:pt x="25" y="200"/>
                  </a:lnTo>
                  <a:lnTo>
                    <a:pt x="26" y="244"/>
                  </a:lnTo>
                  <a:lnTo>
                    <a:pt x="33" y="290"/>
                  </a:lnTo>
                  <a:lnTo>
                    <a:pt x="41" y="337"/>
                  </a:lnTo>
                  <a:lnTo>
                    <a:pt x="46" y="385"/>
                  </a:lnTo>
                  <a:lnTo>
                    <a:pt x="48" y="432"/>
                  </a:lnTo>
                  <a:lnTo>
                    <a:pt x="46" y="477"/>
                  </a:lnTo>
                  <a:lnTo>
                    <a:pt x="41" y="519"/>
                  </a:lnTo>
                  <a:lnTo>
                    <a:pt x="32" y="558"/>
                  </a:lnTo>
                  <a:lnTo>
                    <a:pt x="19" y="589"/>
                  </a:lnTo>
                  <a:lnTo>
                    <a:pt x="3" y="614"/>
                  </a:lnTo>
                  <a:lnTo>
                    <a:pt x="17" y="552"/>
                  </a:lnTo>
                  <a:lnTo>
                    <a:pt x="23" y="471"/>
                  </a:lnTo>
                  <a:lnTo>
                    <a:pt x="20" y="385"/>
                  </a:lnTo>
                  <a:lnTo>
                    <a:pt x="6" y="305"/>
                  </a:lnTo>
                  <a:lnTo>
                    <a:pt x="1" y="272"/>
                  </a:lnTo>
                  <a:lnTo>
                    <a:pt x="0" y="233"/>
                  </a:lnTo>
                  <a:lnTo>
                    <a:pt x="2" y="189"/>
                  </a:lnTo>
                  <a:lnTo>
                    <a:pt x="8" y="144"/>
                  </a:lnTo>
                  <a:lnTo>
                    <a:pt x="18" y="99"/>
                  </a:lnTo>
                  <a:lnTo>
                    <a:pt x="32" y="59"/>
                  </a:lnTo>
                  <a:lnTo>
                    <a:pt x="50" y="25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37960" y="4856040"/>
              <a:ext cx="55080" cy="220680"/>
            </a:xfrm>
            <a:custGeom>
              <a:avLst/>
              <a:gdLst/>
              <a:ahLst/>
              <a:rect l="l" t="t" r="r" b="b"/>
              <a:pathLst>
                <a:path w="69" h="277">
                  <a:moveTo>
                    <a:pt x="5" y="0"/>
                  </a:moveTo>
                  <a:lnTo>
                    <a:pt x="5" y="22"/>
                  </a:lnTo>
                  <a:lnTo>
                    <a:pt x="9" y="55"/>
                  </a:lnTo>
                  <a:lnTo>
                    <a:pt x="16" y="95"/>
                  </a:lnTo>
                  <a:lnTo>
                    <a:pt x="26" y="139"/>
                  </a:lnTo>
                  <a:lnTo>
                    <a:pt x="36" y="181"/>
                  </a:lnTo>
                  <a:lnTo>
                    <a:pt x="48" y="222"/>
                  </a:lnTo>
                  <a:lnTo>
                    <a:pt x="59" y="255"/>
                  </a:lnTo>
                  <a:lnTo>
                    <a:pt x="69" y="277"/>
                  </a:lnTo>
                  <a:lnTo>
                    <a:pt x="57" y="269"/>
                  </a:lnTo>
                  <a:lnTo>
                    <a:pt x="43" y="247"/>
                  </a:lnTo>
                  <a:lnTo>
                    <a:pt x="29" y="215"/>
                  </a:lnTo>
                  <a:lnTo>
                    <a:pt x="18" y="174"/>
                  </a:lnTo>
                  <a:lnTo>
                    <a:pt x="8" y="131"/>
                  </a:lnTo>
                  <a:lnTo>
                    <a:pt x="3" y="85"/>
                  </a:lnTo>
                  <a:lnTo>
                    <a:pt x="0" y="4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995120" y="4993920"/>
              <a:ext cx="18720" cy="82800"/>
            </a:xfrm>
            <a:custGeom>
              <a:avLst/>
              <a:gdLst/>
              <a:ahLst/>
              <a:rect l="l" t="t" r="r" b="b"/>
              <a:pathLst>
                <a:path w="23" h="103">
                  <a:moveTo>
                    <a:pt x="4" y="0"/>
                  </a:moveTo>
                  <a:lnTo>
                    <a:pt x="7" y="21"/>
                  </a:lnTo>
                  <a:lnTo>
                    <a:pt x="12" y="51"/>
                  </a:lnTo>
                  <a:lnTo>
                    <a:pt x="17" y="81"/>
                  </a:lnTo>
                  <a:lnTo>
                    <a:pt x="23" y="103"/>
                  </a:lnTo>
                  <a:lnTo>
                    <a:pt x="6" y="93"/>
                  </a:lnTo>
                  <a:lnTo>
                    <a:pt x="0" y="72"/>
                  </a:lnTo>
                  <a:lnTo>
                    <a:pt x="0" y="4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468080" y="4395600"/>
              <a:ext cx="491760" cy="176040"/>
            </a:xfrm>
            <a:custGeom>
              <a:avLst/>
              <a:gdLst/>
              <a:ahLst/>
              <a:rect l="l" t="t" r="r" b="b"/>
              <a:pathLst>
                <a:path w="620" h="222">
                  <a:moveTo>
                    <a:pt x="620" y="27"/>
                  </a:moveTo>
                  <a:lnTo>
                    <a:pt x="603" y="22"/>
                  </a:lnTo>
                  <a:lnTo>
                    <a:pt x="581" y="16"/>
                  </a:lnTo>
                  <a:lnTo>
                    <a:pt x="552" y="10"/>
                  </a:lnTo>
                  <a:lnTo>
                    <a:pt x="520" y="6"/>
                  </a:lnTo>
                  <a:lnTo>
                    <a:pt x="483" y="1"/>
                  </a:lnTo>
                  <a:lnTo>
                    <a:pt x="444" y="0"/>
                  </a:lnTo>
                  <a:lnTo>
                    <a:pt x="401" y="0"/>
                  </a:lnTo>
                  <a:lnTo>
                    <a:pt x="356" y="3"/>
                  </a:lnTo>
                  <a:lnTo>
                    <a:pt x="310" y="11"/>
                  </a:lnTo>
                  <a:lnTo>
                    <a:pt x="263" y="23"/>
                  </a:lnTo>
                  <a:lnTo>
                    <a:pt x="217" y="40"/>
                  </a:lnTo>
                  <a:lnTo>
                    <a:pt x="170" y="63"/>
                  </a:lnTo>
                  <a:lnTo>
                    <a:pt x="125" y="92"/>
                  </a:lnTo>
                  <a:lnTo>
                    <a:pt x="81" y="128"/>
                  </a:lnTo>
                  <a:lnTo>
                    <a:pt x="40" y="170"/>
                  </a:lnTo>
                  <a:lnTo>
                    <a:pt x="0" y="222"/>
                  </a:lnTo>
                  <a:lnTo>
                    <a:pt x="19" y="207"/>
                  </a:lnTo>
                  <a:lnTo>
                    <a:pt x="38" y="190"/>
                  </a:lnTo>
                  <a:lnTo>
                    <a:pt x="59" y="171"/>
                  </a:lnTo>
                  <a:lnTo>
                    <a:pt x="81" y="152"/>
                  </a:lnTo>
                  <a:lnTo>
                    <a:pt x="106" y="132"/>
                  </a:lnTo>
                  <a:lnTo>
                    <a:pt x="133" y="113"/>
                  </a:lnTo>
                  <a:lnTo>
                    <a:pt x="163" y="94"/>
                  </a:lnTo>
                  <a:lnTo>
                    <a:pt x="195" y="76"/>
                  </a:lnTo>
                  <a:lnTo>
                    <a:pt x="232" y="60"/>
                  </a:lnTo>
                  <a:lnTo>
                    <a:pt x="272" y="45"/>
                  </a:lnTo>
                  <a:lnTo>
                    <a:pt x="317" y="33"/>
                  </a:lnTo>
                  <a:lnTo>
                    <a:pt x="367" y="24"/>
                  </a:lnTo>
                  <a:lnTo>
                    <a:pt x="422" y="18"/>
                  </a:lnTo>
                  <a:lnTo>
                    <a:pt x="482" y="17"/>
                  </a:lnTo>
                  <a:lnTo>
                    <a:pt x="548" y="19"/>
                  </a:lnTo>
                  <a:lnTo>
                    <a:pt x="62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453680" y="4279680"/>
              <a:ext cx="493560" cy="222120"/>
            </a:xfrm>
            <a:custGeom>
              <a:avLst/>
              <a:gdLst/>
              <a:ahLst/>
              <a:rect l="l" t="t" r="r" b="b"/>
              <a:pathLst>
                <a:path w="623" h="280">
                  <a:moveTo>
                    <a:pt x="623" y="127"/>
                  </a:moveTo>
                  <a:lnTo>
                    <a:pt x="619" y="106"/>
                  </a:lnTo>
                  <a:lnTo>
                    <a:pt x="608" y="85"/>
                  </a:lnTo>
                  <a:lnTo>
                    <a:pt x="591" y="65"/>
                  </a:lnTo>
                  <a:lnTo>
                    <a:pt x="568" y="46"/>
                  </a:lnTo>
                  <a:lnTo>
                    <a:pt x="541" y="30"/>
                  </a:lnTo>
                  <a:lnTo>
                    <a:pt x="510" y="16"/>
                  </a:lnTo>
                  <a:lnTo>
                    <a:pt x="477" y="6"/>
                  </a:lnTo>
                  <a:lnTo>
                    <a:pt x="440" y="1"/>
                  </a:lnTo>
                  <a:lnTo>
                    <a:pt x="419" y="0"/>
                  </a:lnTo>
                  <a:lnTo>
                    <a:pt x="396" y="0"/>
                  </a:lnTo>
                  <a:lnTo>
                    <a:pt x="370" y="1"/>
                  </a:lnTo>
                  <a:lnTo>
                    <a:pt x="340" y="4"/>
                  </a:lnTo>
                  <a:lnTo>
                    <a:pt x="310" y="9"/>
                  </a:lnTo>
                  <a:lnTo>
                    <a:pt x="278" y="16"/>
                  </a:lnTo>
                  <a:lnTo>
                    <a:pt x="245" y="25"/>
                  </a:lnTo>
                  <a:lnTo>
                    <a:pt x="212" y="38"/>
                  </a:lnTo>
                  <a:lnTo>
                    <a:pt x="179" y="54"/>
                  </a:lnTo>
                  <a:lnTo>
                    <a:pt x="147" y="72"/>
                  </a:lnTo>
                  <a:lnTo>
                    <a:pt x="116" y="95"/>
                  </a:lnTo>
                  <a:lnTo>
                    <a:pt x="88" y="123"/>
                  </a:lnTo>
                  <a:lnTo>
                    <a:pt x="61" y="154"/>
                  </a:lnTo>
                  <a:lnTo>
                    <a:pt x="37" y="191"/>
                  </a:lnTo>
                  <a:lnTo>
                    <a:pt x="16" y="232"/>
                  </a:lnTo>
                  <a:lnTo>
                    <a:pt x="0" y="280"/>
                  </a:lnTo>
                  <a:lnTo>
                    <a:pt x="12" y="258"/>
                  </a:lnTo>
                  <a:lnTo>
                    <a:pt x="25" y="235"/>
                  </a:lnTo>
                  <a:lnTo>
                    <a:pt x="40" y="212"/>
                  </a:lnTo>
                  <a:lnTo>
                    <a:pt x="58" y="187"/>
                  </a:lnTo>
                  <a:lnTo>
                    <a:pt x="76" y="164"/>
                  </a:lnTo>
                  <a:lnTo>
                    <a:pt x="98" y="142"/>
                  </a:lnTo>
                  <a:lnTo>
                    <a:pt x="121" y="121"/>
                  </a:lnTo>
                  <a:lnTo>
                    <a:pt x="145" y="100"/>
                  </a:lnTo>
                  <a:lnTo>
                    <a:pt x="173" y="81"/>
                  </a:lnTo>
                  <a:lnTo>
                    <a:pt x="203" y="64"/>
                  </a:lnTo>
                  <a:lnTo>
                    <a:pt x="235" y="49"/>
                  </a:lnTo>
                  <a:lnTo>
                    <a:pt x="270" y="38"/>
                  </a:lnTo>
                  <a:lnTo>
                    <a:pt x="308" y="28"/>
                  </a:lnTo>
                  <a:lnTo>
                    <a:pt x="347" y="24"/>
                  </a:lnTo>
                  <a:lnTo>
                    <a:pt x="389" y="21"/>
                  </a:lnTo>
                  <a:lnTo>
                    <a:pt x="435" y="24"/>
                  </a:lnTo>
                  <a:lnTo>
                    <a:pt x="448" y="25"/>
                  </a:lnTo>
                  <a:lnTo>
                    <a:pt x="462" y="27"/>
                  </a:lnTo>
                  <a:lnTo>
                    <a:pt x="476" y="31"/>
                  </a:lnTo>
                  <a:lnTo>
                    <a:pt x="490" y="34"/>
                  </a:lnTo>
                  <a:lnTo>
                    <a:pt x="503" y="39"/>
                  </a:lnTo>
                  <a:lnTo>
                    <a:pt x="517" y="44"/>
                  </a:lnTo>
                  <a:lnTo>
                    <a:pt x="530" y="50"/>
                  </a:lnTo>
                  <a:lnTo>
                    <a:pt x="544" y="56"/>
                  </a:lnTo>
                  <a:lnTo>
                    <a:pt x="556" y="63"/>
                  </a:lnTo>
                  <a:lnTo>
                    <a:pt x="568" y="71"/>
                  </a:lnTo>
                  <a:lnTo>
                    <a:pt x="579" y="79"/>
                  </a:lnTo>
                  <a:lnTo>
                    <a:pt x="591" y="87"/>
                  </a:lnTo>
                  <a:lnTo>
                    <a:pt x="600" y="96"/>
                  </a:lnTo>
                  <a:lnTo>
                    <a:pt x="609" y="107"/>
                  </a:lnTo>
                  <a:lnTo>
                    <a:pt x="616" y="117"/>
                  </a:lnTo>
                  <a:lnTo>
                    <a:pt x="62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526760" y="4116240"/>
              <a:ext cx="598320" cy="263520"/>
            </a:xfrm>
            <a:custGeom>
              <a:avLst/>
              <a:gdLst/>
              <a:ahLst/>
              <a:rect l="l" t="t" r="r" b="b"/>
              <a:pathLst>
                <a:path w="756" h="331">
                  <a:moveTo>
                    <a:pt x="589" y="331"/>
                  </a:moveTo>
                  <a:lnTo>
                    <a:pt x="600" y="318"/>
                  </a:lnTo>
                  <a:lnTo>
                    <a:pt x="614" y="302"/>
                  </a:lnTo>
                  <a:lnTo>
                    <a:pt x="630" y="283"/>
                  </a:lnTo>
                  <a:lnTo>
                    <a:pt x="648" y="261"/>
                  </a:lnTo>
                  <a:lnTo>
                    <a:pt x="666" y="237"/>
                  </a:lnTo>
                  <a:lnTo>
                    <a:pt x="683" y="211"/>
                  </a:lnTo>
                  <a:lnTo>
                    <a:pt x="699" y="186"/>
                  </a:lnTo>
                  <a:lnTo>
                    <a:pt x="714" y="159"/>
                  </a:lnTo>
                  <a:lnTo>
                    <a:pt x="695" y="158"/>
                  </a:lnTo>
                  <a:lnTo>
                    <a:pt x="666" y="154"/>
                  </a:lnTo>
                  <a:lnTo>
                    <a:pt x="629" y="148"/>
                  </a:lnTo>
                  <a:lnTo>
                    <a:pt x="585" y="140"/>
                  </a:lnTo>
                  <a:lnTo>
                    <a:pt x="537" y="129"/>
                  </a:lnTo>
                  <a:lnTo>
                    <a:pt x="484" y="118"/>
                  </a:lnTo>
                  <a:lnTo>
                    <a:pt x="428" y="105"/>
                  </a:lnTo>
                  <a:lnTo>
                    <a:pt x="371" y="92"/>
                  </a:lnTo>
                  <a:lnTo>
                    <a:pt x="312" y="79"/>
                  </a:lnTo>
                  <a:lnTo>
                    <a:pt x="256" y="65"/>
                  </a:lnTo>
                  <a:lnTo>
                    <a:pt x="201" y="52"/>
                  </a:lnTo>
                  <a:lnTo>
                    <a:pt x="149" y="39"/>
                  </a:lnTo>
                  <a:lnTo>
                    <a:pt x="102" y="28"/>
                  </a:lnTo>
                  <a:lnTo>
                    <a:pt x="61" y="16"/>
                  </a:lnTo>
                  <a:lnTo>
                    <a:pt x="27" y="7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3" y="1"/>
                  </a:lnTo>
                  <a:lnTo>
                    <a:pt x="37" y="3"/>
                  </a:lnTo>
                  <a:lnTo>
                    <a:pt x="54" y="5"/>
                  </a:lnTo>
                  <a:lnTo>
                    <a:pt x="73" y="8"/>
                  </a:lnTo>
                  <a:lnTo>
                    <a:pt x="93" y="12"/>
                  </a:lnTo>
                  <a:lnTo>
                    <a:pt x="115" y="15"/>
                  </a:lnTo>
                  <a:lnTo>
                    <a:pt x="138" y="20"/>
                  </a:lnTo>
                  <a:lnTo>
                    <a:pt x="164" y="25"/>
                  </a:lnTo>
                  <a:lnTo>
                    <a:pt x="189" y="30"/>
                  </a:lnTo>
                  <a:lnTo>
                    <a:pt x="217" y="35"/>
                  </a:lnTo>
                  <a:lnTo>
                    <a:pt x="244" y="41"/>
                  </a:lnTo>
                  <a:lnTo>
                    <a:pt x="273" y="46"/>
                  </a:lnTo>
                  <a:lnTo>
                    <a:pt x="302" y="53"/>
                  </a:lnTo>
                  <a:lnTo>
                    <a:pt x="332" y="59"/>
                  </a:lnTo>
                  <a:lnTo>
                    <a:pt x="362" y="65"/>
                  </a:lnTo>
                  <a:lnTo>
                    <a:pt x="392" y="72"/>
                  </a:lnTo>
                  <a:lnTo>
                    <a:pt x="422" y="78"/>
                  </a:lnTo>
                  <a:lnTo>
                    <a:pt x="452" y="83"/>
                  </a:lnTo>
                  <a:lnTo>
                    <a:pt x="481" y="89"/>
                  </a:lnTo>
                  <a:lnTo>
                    <a:pt x="510" y="95"/>
                  </a:lnTo>
                  <a:lnTo>
                    <a:pt x="538" y="101"/>
                  </a:lnTo>
                  <a:lnTo>
                    <a:pt x="566" y="106"/>
                  </a:lnTo>
                  <a:lnTo>
                    <a:pt x="592" y="111"/>
                  </a:lnTo>
                  <a:lnTo>
                    <a:pt x="619" y="116"/>
                  </a:lnTo>
                  <a:lnTo>
                    <a:pt x="643" y="119"/>
                  </a:lnTo>
                  <a:lnTo>
                    <a:pt x="666" y="122"/>
                  </a:lnTo>
                  <a:lnTo>
                    <a:pt x="688" y="126"/>
                  </a:lnTo>
                  <a:lnTo>
                    <a:pt x="707" y="128"/>
                  </a:lnTo>
                  <a:lnTo>
                    <a:pt x="726" y="131"/>
                  </a:lnTo>
                  <a:lnTo>
                    <a:pt x="742" y="132"/>
                  </a:lnTo>
                  <a:lnTo>
                    <a:pt x="756" y="132"/>
                  </a:lnTo>
                  <a:lnTo>
                    <a:pt x="750" y="151"/>
                  </a:lnTo>
                  <a:lnTo>
                    <a:pt x="739" y="174"/>
                  </a:lnTo>
                  <a:lnTo>
                    <a:pt x="722" y="198"/>
                  </a:lnTo>
                  <a:lnTo>
                    <a:pt x="702" y="225"/>
                  </a:lnTo>
                  <a:lnTo>
                    <a:pt x="678" y="253"/>
                  </a:lnTo>
                  <a:lnTo>
                    <a:pt x="651" y="279"/>
                  </a:lnTo>
                  <a:lnTo>
                    <a:pt x="621" y="306"/>
                  </a:lnTo>
                  <a:lnTo>
                    <a:pt x="589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204560" y="4140000"/>
              <a:ext cx="317160" cy="457200"/>
            </a:xfrm>
            <a:custGeom>
              <a:avLst/>
              <a:gdLst/>
              <a:ahLst/>
              <a:rect l="l" t="t" r="r" b="b"/>
              <a:pathLst>
                <a:path w="400" h="576">
                  <a:moveTo>
                    <a:pt x="400" y="0"/>
                  </a:moveTo>
                  <a:lnTo>
                    <a:pt x="389" y="12"/>
                  </a:lnTo>
                  <a:lnTo>
                    <a:pt x="375" y="30"/>
                  </a:lnTo>
                  <a:lnTo>
                    <a:pt x="356" y="54"/>
                  </a:lnTo>
                  <a:lnTo>
                    <a:pt x="334" y="83"/>
                  </a:lnTo>
                  <a:lnTo>
                    <a:pt x="309" y="118"/>
                  </a:lnTo>
                  <a:lnTo>
                    <a:pt x="281" y="155"/>
                  </a:lnTo>
                  <a:lnTo>
                    <a:pt x="252" y="195"/>
                  </a:lnTo>
                  <a:lnTo>
                    <a:pt x="222" y="236"/>
                  </a:lnTo>
                  <a:lnTo>
                    <a:pt x="192" y="279"/>
                  </a:lnTo>
                  <a:lnTo>
                    <a:pt x="162" y="322"/>
                  </a:lnTo>
                  <a:lnTo>
                    <a:pt x="133" y="362"/>
                  </a:lnTo>
                  <a:lnTo>
                    <a:pt x="107" y="402"/>
                  </a:lnTo>
                  <a:lnTo>
                    <a:pt x="82" y="439"/>
                  </a:lnTo>
                  <a:lnTo>
                    <a:pt x="61" y="473"/>
                  </a:lnTo>
                  <a:lnTo>
                    <a:pt x="42" y="501"/>
                  </a:lnTo>
                  <a:lnTo>
                    <a:pt x="29" y="524"/>
                  </a:lnTo>
                  <a:lnTo>
                    <a:pt x="36" y="528"/>
                  </a:lnTo>
                  <a:lnTo>
                    <a:pt x="46" y="531"/>
                  </a:lnTo>
                  <a:lnTo>
                    <a:pt x="57" y="535"/>
                  </a:lnTo>
                  <a:lnTo>
                    <a:pt x="72" y="538"/>
                  </a:lnTo>
                  <a:lnTo>
                    <a:pt x="87" y="541"/>
                  </a:lnTo>
                  <a:lnTo>
                    <a:pt x="105" y="543"/>
                  </a:lnTo>
                  <a:lnTo>
                    <a:pt x="122" y="545"/>
                  </a:lnTo>
                  <a:lnTo>
                    <a:pt x="140" y="547"/>
                  </a:lnTo>
                  <a:lnTo>
                    <a:pt x="159" y="550"/>
                  </a:lnTo>
                  <a:lnTo>
                    <a:pt x="178" y="551"/>
                  </a:lnTo>
                  <a:lnTo>
                    <a:pt x="197" y="552"/>
                  </a:lnTo>
                  <a:lnTo>
                    <a:pt x="215" y="553"/>
                  </a:lnTo>
                  <a:lnTo>
                    <a:pt x="233" y="554"/>
                  </a:lnTo>
                  <a:lnTo>
                    <a:pt x="249" y="555"/>
                  </a:lnTo>
                  <a:lnTo>
                    <a:pt x="264" y="555"/>
                  </a:lnTo>
                  <a:lnTo>
                    <a:pt x="276" y="555"/>
                  </a:lnTo>
                  <a:lnTo>
                    <a:pt x="266" y="560"/>
                  </a:lnTo>
                  <a:lnTo>
                    <a:pt x="253" y="565"/>
                  </a:lnTo>
                  <a:lnTo>
                    <a:pt x="239" y="568"/>
                  </a:lnTo>
                  <a:lnTo>
                    <a:pt x="223" y="572"/>
                  </a:lnTo>
                  <a:lnTo>
                    <a:pt x="206" y="574"/>
                  </a:lnTo>
                  <a:lnTo>
                    <a:pt x="188" y="575"/>
                  </a:lnTo>
                  <a:lnTo>
                    <a:pt x="169" y="576"/>
                  </a:lnTo>
                  <a:lnTo>
                    <a:pt x="148" y="576"/>
                  </a:lnTo>
                  <a:lnTo>
                    <a:pt x="129" y="575"/>
                  </a:lnTo>
                  <a:lnTo>
                    <a:pt x="108" y="573"/>
                  </a:lnTo>
                  <a:lnTo>
                    <a:pt x="89" y="569"/>
                  </a:lnTo>
                  <a:lnTo>
                    <a:pt x="69" y="565"/>
                  </a:lnTo>
                  <a:lnTo>
                    <a:pt x="49" y="559"/>
                  </a:lnTo>
                  <a:lnTo>
                    <a:pt x="32" y="552"/>
                  </a:lnTo>
                  <a:lnTo>
                    <a:pt x="15" y="544"/>
                  </a:lnTo>
                  <a:lnTo>
                    <a:pt x="0" y="535"/>
                  </a:lnTo>
                  <a:lnTo>
                    <a:pt x="7" y="517"/>
                  </a:lnTo>
                  <a:lnTo>
                    <a:pt x="18" y="494"/>
                  </a:lnTo>
                  <a:lnTo>
                    <a:pt x="34" y="466"/>
                  </a:lnTo>
                  <a:lnTo>
                    <a:pt x="54" y="433"/>
                  </a:lnTo>
                  <a:lnTo>
                    <a:pt x="77" y="398"/>
                  </a:lnTo>
                  <a:lnTo>
                    <a:pt x="102" y="360"/>
                  </a:lnTo>
                  <a:lnTo>
                    <a:pt x="130" y="319"/>
                  </a:lnTo>
                  <a:lnTo>
                    <a:pt x="159" y="278"/>
                  </a:lnTo>
                  <a:lnTo>
                    <a:pt x="190" y="236"/>
                  </a:lnTo>
                  <a:lnTo>
                    <a:pt x="221" y="195"/>
                  </a:lnTo>
                  <a:lnTo>
                    <a:pt x="253" y="155"/>
                  </a:lnTo>
                  <a:lnTo>
                    <a:pt x="284" y="116"/>
                  </a:lnTo>
                  <a:lnTo>
                    <a:pt x="315" y="82"/>
                  </a:lnTo>
                  <a:lnTo>
                    <a:pt x="345" y="50"/>
                  </a:lnTo>
                  <a:lnTo>
                    <a:pt x="373" y="22"/>
                  </a:lnTo>
                  <a:lnTo>
                    <a:pt x="4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288800" y="4322520"/>
              <a:ext cx="50400" cy="328680"/>
            </a:xfrm>
            <a:custGeom>
              <a:avLst/>
              <a:gdLst/>
              <a:ahLst/>
              <a:rect l="l" t="t" r="r" b="b"/>
              <a:pathLst>
                <a:path w="62" h="413">
                  <a:moveTo>
                    <a:pt x="62" y="0"/>
                  </a:moveTo>
                  <a:lnTo>
                    <a:pt x="60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34" y="1"/>
                  </a:lnTo>
                  <a:lnTo>
                    <a:pt x="24" y="2"/>
                  </a:lnTo>
                  <a:lnTo>
                    <a:pt x="15" y="5"/>
                  </a:lnTo>
                  <a:lnTo>
                    <a:pt x="8" y="9"/>
                  </a:lnTo>
                  <a:lnTo>
                    <a:pt x="3" y="15"/>
                  </a:lnTo>
                  <a:lnTo>
                    <a:pt x="0" y="75"/>
                  </a:lnTo>
                  <a:lnTo>
                    <a:pt x="0" y="193"/>
                  </a:lnTo>
                  <a:lnTo>
                    <a:pt x="4" y="322"/>
                  </a:lnTo>
                  <a:lnTo>
                    <a:pt x="17" y="413"/>
                  </a:lnTo>
                  <a:lnTo>
                    <a:pt x="26" y="362"/>
                  </a:lnTo>
                  <a:lnTo>
                    <a:pt x="29" y="303"/>
                  </a:lnTo>
                  <a:lnTo>
                    <a:pt x="30" y="241"/>
                  </a:lnTo>
                  <a:lnTo>
                    <a:pt x="29" y="177"/>
                  </a:lnTo>
                  <a:lnTo>
                    <a:pt x="30" y="118"/>
                  </a:lnTo>
                  <a:lnTo>
                    <a:pt x="33" y="67"/>
                  </a:lnTo>
                  <a:lnTo>
                    <a:pt x="44" y="26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258560" y="4651200"/>
              <a:ext cx="75960" cy="6660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56" y="1"/>
                  </a:moveTo>
                  <a:lnTo>
                    <a:pt x="36" y="0"/>
                  </a:lnTo>
                  <a:lnTo>
                    <a:pt x="20" y="7"/>
                  </a:lnTo>
                  <a:lnTo>
                    <a:pt x="8" y="19"/>
                  </a:lnTo>
                  <a:lnTo>
                    <a:pt x="1" y="35"/>
                  </a:lnTo>
                  <a:lnTo>
                    <a:pt x="0" y="51"/>
                  </a:lnTo>
                  <a:lnTo>
                    <a:pt x="8" y="66"/>
                  </a:lnTo>
                  <a:lnTo>
                    <a:pt x="24" y="79"/>
                  </a:lnTo>
                  <a:lnTo>
                    <a:pt x="51" y="84"/>
                  </a:lnTo>
                  <a:lnTo>
                    <a:pt x="61" y="84"/>
                  </a:lnTo>
                  <a:lnTo>
                    <a:pt x="70" y="82"/>
                  </a:lnTo>
                  <a:lnTo>
                    <a:pt x="79" y="79"/>
                  </a:lnTo>
                  <a:lnTo>
                    <a:pt x="87" y="73"/>
                  </a:lnTo>
                  <a:lnTo>
                    <a:pt x="93" y="65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1" y="27"/>
                  </a:lnTo>
                  <a:lnTo>
                    <a:pt x="88" y="38"/>
                  </a:lnTo>
                  <a:lnTo>
                    <a:pt x="85" y="49"/>
                  </a:lnTo>
                  <a:lnTo>
                    <a:pt x="80" y="57"/>
                  </a:lnTo>
                  <a:lnTo>
                    <a:pt x="76" y="62"/>
                  </a:lnTo>
                  <a:lnTo>
                    <a:pt x="69" y="67"/>
                  </a:lnTo>
                  <a:lnTo>
                    <a:pt x="62" y="71"/>
                  </a:lnTo>
                  <a:lnTo>
                    <a:pt x="55" y="71"/>
                  </a:lnTo>
                  <a:lnTo>
                    <a:pt x="47" y="71"/>
                  </a:lnTo>
                  <a:lnTo>
                    <a:pt x="33" y="66"/>
                  </a:lnTo>
                  <a:lnTo>
                    <a:pt x="24" y="58"/>
                  </a:lnTo>
                  <a:lnTo>
                    <a:pt x="19" y="46"/>
                  </a:lnTo>
                  <a:lnTo>
                    <a:pt x="20" y="34"/>
                  </a:lnTo>
                  <a:lnTo>
                    <a:pt x="24" y="22"/>
                  </a:lnTo>
                  <a:lnTo>
                    <a:pt x="32" y="12"/>
                  </a:lnTo>
                  <a:lnTo>
                    <a:pt x="42" y="4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198080" y="4725720"/>
              <a:ext cx="68040" cy="18108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86" y="0"/>
                  </a:moveTo>
                  <a:lnTo>
                    <a:pt x="80" y="14"/>
                  </a:lnTo>
                  <a:lnTo>
                    <a:pt x="72" y="38"/>
                  </a:lnTo>
                  <a:lnTo>
                    <a:pt x="60" y="70"/>
                  </a:lnTo>
                  <a:lnTo>
                    <a:pt x="47" y="106"/>
                  </a:lnTo>
                  <a:lnTo>
                    <a:pt x="33" y="143"/>
                  </a:lnTo>
                  <a:lnTo>
                    <a:pt x="19" y="177"/>
                  </a:lnTo>
                  <a:lnTo>
                    <a:pt x="9" y="206"/>
                  </a:lnTo>
                  <a:lnTo>
                    <a:pt x="0" y="227"/>
                  </a:lnTo>
                  <a:lnTo>
                    <a:pt x="16" y="214"/>
                  </a:lnTo>
                  <a:lnTo>
                    <a:pt x="31" y="192"/>
                  </a:lnTo>
                  <a:lnTo>
                    <a:pt x="45" y="163"/>
                  </a:lnTo>
                  <a:lnTo>
                    <a:pt x="57" y="131"/>
                  </a:lnTo>
                  <a:lnTo>
                    <a:pt x="68" y="95"/>
                  </a:lnTo>
                  <a:lnTo>
                    <a:pt x="77" y="61"/>
                  </a:lnTo>
                  <a:lnTo>
                    <a:pt x="83" y="2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239480" y="4735440"/>
              <a:ext cx="39240" cy="195120"/>
            </a:xfrm>
            <a:custGeom>
              <a:avLst/>
              <a:gdLst/>
              <a:ahLst/>
              <a:rect l="l" t="t" r="r" b="b"/>
              <a:pathLst>
                <a:path w="49" h="246">
                  <a:moveTo>
                    <a:pt x="48" y="0"/>
                  </a:moveTo>
                  <a:lnTo>
                    <a:pt x="47" y="14"/>
                  </a:lnTo>
                  <a:lnTo>
                    <a:pt x="43" y="40"/>
                  </a:lnTo>
                  <a:lnTo>
                    <a:pt x="38" y="73"/>
                  </a:lnTo>
                  <a:lnTo>
                    <a:pt x="32" y="111"/>
                  </a:lnTo>
                  <a:lnTo>
                    <a:pt x="24" y="150"/>
                  </a:lnTo>
                  <a:lnTo>
                    <a:pt x="16" y="188"/>
                  </a:lnTo>
                  <a:lnTo>
                    <a:pt x="8" y="220"/>
                  </a:lnTo>
                  <a:lnTo>
                    <a:pt x="0" y="246"/>
                  </a:lnTo>
                  <a:lnTo>
                    <a:pt x="11" y="225"/>
                  </a:lnTo>
                  <a:lnTo>
                    <a:pt x="21" y="197"/>
                  </a:lnTo>
                  <a:lnTo>
                    <a:pt x="31" y="166"/>
                  </a:lnTo>
                  <a:lnTo>
                    <a:pt x="38" y="132"/>
                  </a:lnTo>
                  <a:lnTo>
                    <a:pt x="43" y="96"/>
                  </a:lnTo>
                  <a:lnTo>
                    <a:pt x="48" y="60"/>
                  </a:lnTo>
                  <a:lnTo>
                    <a:pt x="49" y="2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293480" y="4736880"/>
              <a:ext cx="12240" cy="185760"/>
            </a:xfrm>
            <a:custGeom>
              <a:avLst/>
              <a:gdLst/>
              <a:ahLst/>
              <a:rect l="l" t="t" r="r" b="b"/>
              <a:pathLst>
                <a:path w="18" h="234">
                  <a:moveTo>
                    <a:pt x="14" y="0"/>
                  </a:moveTo>
                  <a:lnTo>
                    <a:pt x="8" y="41"/>
                  </a:lnTo>
                  <a:lnTo>
                    <a:pt x="3" y="108"/>
                  </a:lnTo>
                  <a:lnTo>
                    <a:pt x="0" y="181"/>
                  </a:lnTo>
                  <a:lnTo>
                    <a:pt x="5" y="234"/>
                  </a:lnTo>
                  <a:lnTo>
                    <a:pt x="13" y="179"/>
                  </a:lnTo>
                  <a:lnTo>
                    <a:pt x="18" y="116"/>
                  </a:lnTo>
                  <a:lnTo>
                    <a:pt x="18" y="5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328400" y="4730400"/>
              <a:ext cx="14040" cy="177840"/>
            </a:xfrm>
            <a:custGeom>
              <a:avLst/>
              <a:gdLst/>
              <a:ahLst/>
              <a:rect l="l" t="t" r="r" b="b"/>
              <a:pathLst>
                <a:path w="19" h="222">
                  <a:moveTo>
                    <a:pt x="3" y="0"/>
                  </a:moveTo>
                  <a:lnTo>
                    <a:pt x="14" y="42"/>
                  </a:lnTo>
                  <a:lnTo>
                    <a:pt x="19" y="103"/>
                  </a:lnTo>
                  <a:lnTo>
                    <a:pt x="15" y="167"/>
                  </a:lnTo>
                  <a:lnTo>
                    <a:pt x="0" y="222"/>
                  </a:lnTo>
                  <a:lnTo>
                    <a:pt x="4" y="174"/>
                  </a:lnTo>
                  <a:lnTo>
                    <a:pt x="6" y="114"/>
                  </a:lnTo>
                  <a:lnTo>
                    <a:pt x="6" y="5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371320" y="4368600"/>
              <a:ext cx="472680" cy="216000"/>
            </a:xfrm>
            <a:custGeom>
              <a:avLst/>
              <a:gdLst/>
              <a:ahLst/>
              <a:rect l="l" t="t" r="r" b="b"/>
              <a:pathLst>
                <a:path w="596" h="272">
                  <a:moveTo>
                    <a:pt x="0" y="12"/>
                  </a:moveTo>
                  <a:lnTo>
                    <a:pt x="17" y="8"/>
                  </a:lnTo>
                  <a:lnTo>
                    <a:pt x="41" y="5"/>
                  </a:lnTo>
                  <a:lnTo>
                    <a:pt x="69" y="3"/>
                  </a:lnTo>
                  <a:lnTo>
                    <a:pt x="102" y="0"/>
                  </a:lnTo>
                  <a:lnTo>
                    <a:pt x="139" y="0"/>
                  </a:lnTo>
                  <a:lnTo>
                    <a:pt x="179" y="3"/>
                  </a:lnTo>
                  <a:lnTo>
                    <a:pt x="221" y="8"/>
                  </a:lnTo>
                  <a:lnTo>
                    <a:pt x="266" y="16"/>
                  </a:lnTo>
                  <a:lnTo>
                    <a:pt x="311" y="29"/>
                  </a:lnTo>
                  <a:lnTo>
                    <a:pt x="356" y="46"/>
                  </a:lnTo>
                  <a:lnTo>
                    <a:pt x="400" y="68"/>
                  </a:lnTo>
                  <a:lnTo>
                    <a:pt x="444" y="96"/>
                  </a:lnTo>
                  <a:lnTo>
                    <a:pt x="487" y="129"/>
                  </a:lnTo>
                  <a:lnTo>
                    <a:pt x="526" y="170"/>
                  </a:lnTo>
                  <a:lnTo>
                    <a:pt x="563" y="217"/>
                  </a:lnTo>
                  <a:lnTo>
                    <a:pt x="596" y="272"/>
                  </a:lnTo>
                  <a:lnTo>
                    <a:pt x="579" y="255"/>
                  </a:lnTo>
                  <a:lnTo>
                    <a:pt x="562" y="237"/>
                  </a:lnTo>
                  <a:lnTo>
                    <a:pt x="543" y="216"/>
                  </a:lnTo>
                  <a:lnTo>
                    <a:pt x="523" y="194"/>
                  </a:lnTo>
                  <a:lnTo>
                    <a:pt x="501" y="172"/>
                  </a:lnTo>
                  <a:lnTo>
                    <a:pt x="477" y="150"/>
                  </a:lnTo>
                  <a:lnTo>
                    <a:pt x="449" y="128"/>
                  </a:lnTo>
                  <a:lnTo>
                    <a:pt x="418" y="106"/>
                  </a:lnTo>
                  <a:lnTo>
                    <a:pt x="383" y="87"/>
                  </a:lnTo>
                  <a:lnTo>
                    <a:pt x="344" y="67"/>
                  </a:lnTo>
                  <a:lnTo>
                    <a:pt x="300" y="51"/>
                  </a:lnTo>
                  <a:lnTo>
                    <a:pt x="252" y="37"/>
                  </a:lnTo>
                  <a:lnTo>
                    <a:pt x="199" y="26"/>
                  </a:lnTo>
                  <a:lnTo>
                    <a:pt x="139" y="16"/>
                  </a:lnTo>
                  <a:lnTo>
                    <a:pt x="72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387160" y="4260600"/>
              <a:ext cx="477720" cy="257040"/>
            </a:xfrm>
            <a:custGeom>
              <a:avLst/>
              <a:gdLst/>
              <a:ahLst/>
              <a:rect l="l" t="t" r="r" b="b"/>
              <a:pathLst>
                <a:path w="603" h="325">
                  <a:moveTo>
                    <a:pt x="0" y="106"/>
                  </a:moveTo>
                  <a:lnTo>
                    <a:pt x="3" y="96"/>
                  </a:lnTo>
                  <a:lnTo>
                    <a:pt x="7" y="85"/>
                  </a:lnTo>
                  <a:lnTo>
                    <a:pt x="13" y="75"/>
                  </a:lnTo>
                  <a:lnTo>
                    <a:pt x="20" y="66"/>
                  </a:lnTo>
                  <a:lnTo>
                    <a:pt x="29" y="57"/>
                  </a:lnTo>
                  <a:lnTo>
                    <a:pt x="40" y="47"/>
                  </a:lnTo>
                  <a:lnTo>
                    <a:pt x="51" y="39"/>
                  </a:lnTo>
                  <a:lnTo>
                    <a:pt x="64" y="31"/>
                  </a:lnTo>
                  <a:lnTo>
                    <a:pt x="76" y="24"/>
                  </a:lnTo>
                  <a:lnTo>
                    <a:pt x="91" y="17"/>
                  </a:lnTo>
                  <a:lnTo>
                    <a:pt x="107" y="12"/>
                  </a:lnTo>
                  <a:lnTo>
                    <a:pt x="124" y="7"/>
                  </a:lnTo>
                  <a:lnTo>
                    <a:pt x="141" y="4"/>
                  </a:lnTo>
                  <a:lnTo>
                    <a:pt x="158" y="1"/>
                  </a:lnTo>
                  <a:lnTo>
                    <a:pt x="177" y="0"/>
                  </a:lnTo>
                  <a:lnTo>
                    <a:pt x="195" y="0"/>
                  </a:lnTo>
                  <a:lnTo>
                    <a:pt x="216" y="1"/>
                  </a:lnTo>
                  <a:lnTo>
                    <a:pt x="240" y="4"/>
                  </a:lnTo>
                  <a:lnTo>
                    <a:pt x="265" y="7"/>
                  </a:lnTo>
                  <a:lnTo>
                    <a:pt x="294" y="14"/>
                  </a:lnTo>
                  <a:lnTo>
                    <a:pt x="324" y="22"/>
                  </a:lnTo>
                  <a:lnTo>
                    <a:pt x="355" y="32"/>
                  </a:lnTo>
                  <a:lnTo>
                    <a:pt x="387" y="45"/>
                  </a:lnTo>
                  <a:lnTo>
                    <a:pt x="419" y="61"/>
                  </a:lnTo>
                  <a:lnTo>
                    <a:pt x="450" y="81"/>
                  </a:lnTo>
                  <a:lnTo>
                    <a:pt x="480" y="103"/>
                  </a:lnTo>
                  <a:lnTo>
                    <a:pt x="507" y="129"/>
                  </a:lnTo>
                  <a:lnTo>
                    <a:pt x="534" y="159"/>
                  </a:lnTo>
                  <a:lnTo>
                    <a:pt x="557" y="194"/>
                  </a:lnTo>
                  <a:lnTo>
                    <a:pt x="576" y="233"/>
                  </a:lnTo>
                  <a:lnTo>
                    <a:pt x="591" y="277"/>
                  </a:lnTo>
                  <a:lnTo>
                    <a:pt x="603" y="325"/>
                  </a:lnTo>
                  <a:lnTo>
                    <a:pt x="594" y="302"/>
                  </a:lnTo>
                  <a:lnTo>
                    <a:pt x="582" y="278"/>
                  </a:lnTo>
                  <a:lnTo>
                    <a:pt x="569" y="253"/>
                  </a:lnTo>
                  <a:lnTo>
                    <a:pt x="556" y="227"/>
                  </a:lnTo>
                  <a:lnTo>
                    <a:pt x="539" y="203"/>
                  </a:lnTo>
                  <a:lnTo>
                    <a:pt x="521" y="178"/>
                  </a:lnTo>
                  <a:lnTo>
                    <a:pt x="500" y="153"/>
                  </a:lnTo>
                  <a:lnTo>
                    <a:pt x="477" y="130"/>
                  </a:lnTo>
                  <a:lnTo>
                    <a:pt x="452" y="109"/>
                  </a:lnTo>
                  <a:lnTo>
                    <a:pt x="424" y="89"/>
                  </a:lnTo>
                  <a:lnTo>
                    <a:pt x="394" y="70"/>
                  </a:lnTo>
                  <a:lnTo>
                    <a:pt x="361" y="56"/>
                  </a:lnTo>
                  <a:lnTo>
                    <a:pt x="324" y="43"/>
                  </a:lnTo>
                  <a:lnTo>
                    <a:pt x="285" y="32"/>
                  </a:lnTo>
                  <a:lnTo>
                    <a:pt x="243" y="26"/>
                  </a:lnTo>
                  <a:lnTo>
                    <a:pt x="197" y="23"/>
                  </a:lnTo>
                  <a:lnTo>
                    <a:pt x="185" y="23"/>
                  </a:lnTo>
                  <a:lnTo>
                    <a:pt x="171" y="24"/>
                  </a:lnTo>
                  <a:lnTo>
                    <a:pt x="157" y="26"/>
                  </a:lnTo>
                  <a:lnTo>
                    <a:pt x="142" y="28"/>
                  </a:lnTo>
                  <a:lnTo>
                    <a:pt x="128" y="31"/>
                  </a:lnTo>
                  <a:lnTo>
                    <a:pt x="114" y="35"/>
                  </a:lnTo>
                  <a:lnTo>
                    <a:pt x="101" y="38"/>
                  </a:lnTo>
                  <a:lnTo>
                    <a:pt x="87" y="44"/>
                  </a:lnTo>
                  <a:lnTo>
                    <a:pt x="73" y="49"/>
                  </a:lnTo>
                  <a:lnTo>
                    <a:pt x="60" y="56"/>
                  </a:lnTo>
                  <a:lnTo>
                    <a:pt x="48" y="62"/>
                  </a:lnTo>
                  <a:lnTo>
                    <a:pt x="36" y="69"/>
                  </a:lnTo>
                  <a:lnTo>
                    <a:pt x="26" y="77"/>
                  </a:lnTo>
                  <a:lnTo>
                    <a:pt x="16" y="87"/>
                  </a:lnTo>
                  <a:lnTo>
                    <a:pt x="7" y="9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228400" y="4124160"/>
              <a:ext cx="606240" cy="210960"/>
            </a:xfrm>
            <a:custGeom>
              <a:avLst/>
              <a:gdLst/>
              <a:ahLst/>
              <a:rect l="l" t="t" r="r" b="b"/>
              <a:pathLst>
                <a:path w="764" h="266">
                  <a:moveTo>
                    <a:pt x="143" y="266"/>
                  </a:moveTo>
                  <a:lnTo>
                    <a:pt x="134" y="252"/>
                  </a:lnTo>
                  <a:lnTo>
                    <a:pt x="121" y="235"/>
                  </a:lnTo>
                  <a:lnTo>
                    <a:pt x="107" y="214"/>
                  </a:lnTo>
                  <a:lnTo>
                    <a:pt x="92" y="190"/>
                  </a:lnTo>
                  <a:lnTo>
                    <a:pt x="77" y="164"/>
                  </a:lnTo>
                  <a:lnTo>
                    <a:pt x="62" y="138"/>
                  </a:lnTo>
                  <a:lnTo>
                    <a:pt x="49" y="110"/>
                  </a:lnTo>
                  <a:lnTo>
                    <a:pt x="38" y="83"/>
                  </a:lnTo>
                  <a:lnTo>
                    <a:pt x="57" y="84"/>
                  </a:lnTo>
                  <a:lnTo>
                    <a:pt x="86" y="83"/>
                  </a:lnTo>
                  <a:lnTo>
                    <a:pt x="123" y="80"/>
                  </a:lnTo>
                  <a:lnTo>
                    <a:pt x="167" y="76"/>
                  </a:lnTo>
                  <a:lnTo>
                    <a:pt x="216" y="71"/>
                  </a:lnTo>
                  <a:lnTo>
                    <a:pt x="271" y="65"/>
                  </a:lnTo>
                  <a:lnTo>
                    <a:pt x="327" y="60"/>
                  </a:lnTo>
                  <a:lnTo>
                    <a:pt x="386" y="53"/>
                  </a:lnTo>
                  <a:lnTo>
                    <a:pt x="445" y="46"/>
                  </a:lnTo>
                  <a:lnTo>
                    <a:pt x="502" y="38"/>
                  </a:lnTo>
                  <a:lnTo>
                    <a:pt x="559" y="31"/>
                  </a:lnTo>
                  <a:lnTo>
                    <a:pt x="612" y="24"/>
                  </a:lnTo>
                  <a:lnTo>
                    <a:pt x="659" y="17"/>
                  </a:lnTo>
                  <a:lnTo>
                    <a:pt x="701" y="11"/>
                  </a:lnTo>
                  <a:lnTo>
                    <a:pt x="737" y="5"/>
                  </a:lnTo>
                  <a:lnTo>
                    <a:pt x="764" y="1"/>
                  </a:lnTo>
                  <a:lnTo>
                    <a:pt x="753" y="0"/>
                  </a:lnTo>
                  <a:lnTo>
                    <a:pt x="741" y="0"/>
                  </a:lnTo>
                  <a:lnTo>
                    <a:pt x="726" y="0"/>
                  </a:lnTo>
                  <a:lnTo>
                    <a:pt x="710" y="0"/>
                  </a:lnTo>
                  <a:lnTo>
                    <a:pt x="690" y="1"/>
                  </a:lnTo>
                  <a:lnTo>
                    <a:pt x="669" y="2"/>
                  </a:lnTo>
                  <a:lnTo>
                    <a:pt x="647" y="3"/>
                  </a:lnTo>
                  <a:lnTo>
                    <a:pt x="623" y="5"/>
                  </a:lnTo>
                  <a:lnTo>
                    <a:pt x="599" y="8"/>
                  </a:lnTo>
                  <a:lnTo>
                    <a:pt x="572" y="10"/>
                  </a:lnTo>
                  <a:lnTo>
                    <a:pt x="545" y="12"/>
                  </a:lnTo>
                  <a:lnTo>
                    <a:pt x="516" y="15"/>
                  </a:lnTo>
                  <a:lnTo>
                    <a:pt x="487" y="18"/>
                  </a:lnTo>
                  <a:lnTo>
                    <a:pt x="457" y="20"/>
                  </a:lnTo>
                  <a:lnTo>
                    <a:pt x="427" y="24"/>
                  </a:lnTo>
                  <a:lnTo>
                    <a:pt x="397" y="26"/>
                  </a:lnTo>
                  <a:lnTo>
                    <a:pt x="367" y="30"/>
                  </a:lnTo>
                  <a:lnTo>
                    <a:pt x="336" y="32"/>
                  </a:lnTo>
                  <a:lnTo>
                    <a:pt x="306" y="35"/>
                  </a:lnTo>
                  <a:lnTo>
                    <a:pt x="276" y="38"/>
                  </a:lnTo>
                  <a:lnTo>
                    <a:pt x="246" y="40"/>
                  </a:lnTo>
                  <a:lnTo>
                    <a:pt x="219" y="43"/>
                  </a:lnTo>
                  <a:lnTo>
                    <a:pt x="190" y="45"/>
                  </a:lnTo>
                  <a:lnTo>
                    <a:pt x="163" y="47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90" y="52"/>
                  </a:lnTo>
                  <a:lnTo>
                    <a:pt x="68" y="52"/>
                  </a:lnTo>
                  <a:lnTo>
                    <a:pt x="48" y="53"/>
                  </a:lnTo>
                  <a:lnTo>
                    <a:pt x="30" y="53"/>
                  </a:lnTo>
                  <a:lnTo>
                    <a:pt x="14" y="52"/>
                  </a:lnTo>
                  <a:lnTo>
                    <a:pt x="0" y="50"/>
                  </a:lnTo>
                  <a:lnTo>
                    <a:pt x="3" y="71"/>
                  </a:lnTo>
                  <a:lnTo>
                    <a:pt x="13" y="94"/>
                  </a:lnTo>
                  <a:lnTo>
                    <a:pt x="25" y="121"/>
                  </a:lnTo>
                  <a:lnTo>
                    <a:pt x="43" y="149"/>
                  </a:lnTo>
                  <a:lnTo>
                    <a:pt x="63" y="178"/>
                  </a:lnTo>
                  <a:lnTo>
                    <a:pt x="87" y="208"/>
                  </a:lnTo>
                  <a:lnTo>
                    <a:pt x="114" y="238"/>
                  </a:lnTo>
                  <a:lnTo>
                    <a:pt x="143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836440" y="4147920"/>
              <a:ext cx="269640" cy="476280"/>
            </a:xfrm>
            <a:custGeom>
              <a:avLst/>
              <a:gdLst/>
              <a:ahLst/>
              <a:rect l="l" t="t" r="r" b="b"/>
              <a:pathLst>
                <a:path w="340" h="600">
                  <a:moveTo>
                    <a:pt x="0" y="0"/>
                  </a:moveTo>
                  <a:lnTo>
                    <a:pt x="8" y="12"/>
                  </a:lnTo>
                  <a:lnTo>
                    <a:pt x="21" y="32"/>
                  </a:lnTo>
                  <a:lnTo>
                    <a:pt x="37" y="58"/>
                  </a:lnTo>
                  <a:lnTo>
                    <a:pt x="56" y="90"/>
                  </a:lnTo>
                  <a:lnTo>
                    <a:pt x="77" y="126"/>
                  </a:lnTo>
                  <a:lnTo>
                    <a:pt x="100" y="167"/>
                  </a:lnTo>
                  <a:lnTo>
                    <a:pt x="124" y="209"/>
                  </a:lnTo>
                  <a:lnTo>
                    <a:pt x="150" y="254"/>
                  </a:lnTo>
                  <a:lnTo>
                    <a:pt x="175" y="299"/>
                  </a:lnTo>
                  <a:lnTo>
                    <a:pt x="200" y="344"/>
                  </a:lnTo>
                  <a:lnTo>
                    <a:pt x="225" y="389"/>
                  </a:lnTo>
                  <a:lnTo>
                    <a:pt x="248" y="431"/>
                  </a:lnTo>
                  <a:lnTo>
                    <a:pt x="268" y="470"/>
                  </a:lnTo>
                  <a:lnTo>
                    <a:pt x="286" y="505"/>
                  </a:lnTo>
                  <a:lnTo>
                    <a:pt x="301" y="535"/>
                  </a:lnTo>
                  <a:lnTo>
                    <a:pt x="312" y="561"/>
                  </a:lnTo>
                  <a:lnTo>
                    <a:pt x="304" y="564"/>
                  </a:lnTo>
                  <a:lnTo>
                    <a:pt x="294" y="567"/>
                  </a:lnTo>
                  <a:lnTo>
                    <a:pt x="282" y="568"/>
                  </a:lnTo>
                  <a:lnTo>
                    <a:pt x="267" y="570"/>
                  </a:lnTo>
                  <a:lnTo>
                    <a:pt x="251" y="571"/>
                  </a:lnTo>
                  <a:lnTo>
                    <a:pt x="235" y="571"/>
                  </a:lnTo>
                  <a:lnTo>
                    <a:pt x="217" y="572"/>
                  </a:lnTo>
                  <a:lnTo>
                    <a:pt x="198" y="572"/>
                  </a:lnTo>
                  <a:lnTo>
                    <a:pt x="179" y="572"/>
                  </a:lnTo>
                  <a:lnTo>
                    <a:pt x="160" y="571"/>
                  </a:lnTo>
                  <a:lnTo>
                    <a:pt x="142" y="571"/>
                  </a:lnTo>
                  <a:lnTo>
                    <a:pt x="123" y="570"/>
                  </a:lnTo>
                  <a:lnTo>
                    <a:pt x="106" y="569"/>
                  </a:lnTo>
                  <a:lnTo>
                    <a:pt x="90" y="568"/>
                  </a:lnTo>
                  <a:lnTo>
                    <a:pt x="75" y="567"/>
                  </a:lnTo>
                  <a:lnTo>
                    <a:pt x="62" y="565"/>
                  </a:lnTo>
                  <a:lnTo>
                    <a:pt x="71" y="571"/>
                  </a:lnTo>
                  <a:lnTo>
                    <a:pt x="84" y="577"/>
                  </a:lnTo>
                  <a:lnTo>
                    <a:pt x="98" y="583"/>
                  </a:lnTo>
                  <a:lnTo>
                    <a:pt x="113" y="587"/>
                  </a:lnTo>
                  <a:lnTo>
                    <a:pt x="130" y="592"/>
                  </a:lnTo>
                  <a:lnTo>
                    <a:pt x="147" y="595"/>
                  </a:lnTo>
                  <a:lnTo>
                    <a:pt x="167" y="598"/>
                  </a:lnTo>
                  <a:lnTo>
                    <a:pt x="187" y="599"/>
                  </a:lnTo>
                  <a:lnTo>
                    <a:pt x="207" y="600"/>
                  </a:lnTo>
                  <a:lnTo>
                    <a:pt x="227" y="600"/>
                  </a:lnTo>
                  <a:lnTo>
                    <a:pt x="248" y="599"/>
                  </a:lnTo>
                  <a:lnTo>
                    <a:pt x="267" y="597"/>
                  </a:lnTo>
                  <a:lnTo>
                    <a:pt x="287" y="593"/>
                  </a:lnTo>
                  <a:lnTo>
                    <a:pt x="306" y="588"/>
                  </a:lnTo>
                  <a:lnTo>
                    <a:pt x="324" y="583"/>
                  </a:lnTo>
                  <a:lnTo>
                    <a:pt x="340" y="575"/>
                  </a:lnTo>
                  <a:lnTo>
                    <a:pt x="334" y="556"/>
                  </a:lnTo>
                  <a:lnTo>
                    <a:pt x="325" y="532"/>
                  </a:lnTo>
                  <a:lnTo>
                    <a:pt x="312" y="502"/>
                  </a:lnTo>
                  <a:lnTo>
                    <a:pt x="296" y="467"/>
                  </a:lnTo>
                  <a:lnTo>
                    <a:pt x="278" y="429"/>
                  </a:lnTo>
                  <a:lnTo>
                    <a:pt x="257" y="389"/>
                  </a:lnTo>
                  <a:lnTo>
                    <a:pt x="234" y="346"/>
                  </a:lnTo>
                  <a:lnTo>
                    <a:pt x="208" y="302"/>
                  </a:lnTo>
                  <a:lnTo>
                    <a:pt x="183" y="257"/>
                  </a:lnTo>
                  <a:lnTo>
                    <a:pt x="157" y="213"/>
                  </a:lnTo>
                  <a:lnTo>
                    <a:pt x="129" y="169"/>
                  </a:lnTo>
                  <a:lnTo>
                    <a:pt x="101" y="129"/>
                  </a:lnTo>
                  <a:lnTo>
                    <a:pt x="75" y="90"/>
                  </a:lnTo>
                  <a:lnTo>
                    <a:pt x="48" y="55"/>
                  </a:lnTo>
                  <a:lnTo>
                    <a:pt x="23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985840" y="4346280"/>
              <a:ext cx="55080" cy="328680"/>
            </a:xfrm>
            <a:custGeom>
              <a:avLst/>
              <a:gdLst/>
              <a:ahLst/>
              <a:rect l="l" t="t" r="r" b="b"/>
              <a:pathLst>
                <a:path w="69" h="412">
                  <a:moveTo>
                    <a:pt x="0" y="0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8" y="4"/>
                  </a:lnTo>
                  <a:lnTo>
                    <a:pt x="55" y="8"/>
                  </a:lnTo>
                  <a:lnTo>
                    <a:pt x="60" y="13"/>
                  </a:lnTo>
                  <a:lnTo>
                    <a:pt x="64" y="73"/>
                  </a:lnTo>
                  <a:lnTo>
                    <a:pt x="69" y="192"/>
                  </a:lnTo>
                  <a:lnTo>
                    <a:pt x="68" y="321"/>
                  </a:lnTo>
                  <a:lnTo>
                    <a:pt x="57" y="412"/>
                  </a:lnTo>
                  <a:lnTo>
                    <a:pt x="47" y="361"/>
                  </a:lnTo>
                  <a:lnTo>
                    <a:pt x="41" y="303"/>
                  </a:lnTo>
                  <a:lnTo>
                    <a:pt x="40" y="239"/>
                  </a:lnTo>
                  <a:lnTo>
                    <a:pt x="39" y="177"/>
                  </a:lnTo>
                  <a:lnTo>
                    <a:pt x="37" y="117"/>
                  </a:lnTo>
                  <a:lnTo>
                    <a:pt x="31" y="65"/>
                  </a:lnTo>
                  <a:lnTo>
                    <a:pt x="19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001680" y="4673520"/>
              <a:ext cx="74160" cy="6660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39" y="1"/>
                  </a:moveTo>
                  <a:lnTo>
                    <a:pt x="59" y="0"/>
                  </a:lnTo>
                  <a:lnTo>
                    <a:pt x="75" y="6"/>
                  </a:lnTo>
                  <a:lnTo>
                    <a:pt x="88" y="18"/>
                  </a:lnTo>
                  <a:lnTo>
                    <a:pt x="96" y="33"/>
                  </a:lnTo>
                  <a:lnTo>
                    <a:pt x="96" y="50"/>
                  </a:lnTo>
                  <a:lnTo>
                    <a:pt x="89" y="65"/>
                  </a:lnTo>
                  <a:lnTo>
                    <a:pt x="73" y="77"/>
                  </a:lnTo>
                  <a:lnTo>
                    <a:pt x="45" y="84"/>
                  </a:lnTo>
                  <a:lnTo>
                    <a:pt x="36" y="84"/>
                  </a:lnTo>
                  <a:lnTo>
                    <a:pt x="27" y="82"/>
                  </a:lnTo>
                  <a:lnTo>
                    <a:pt x="18" y="78"/>
                  </a:lnTo>
                  <a:lnTo>
                    <a:pt x="10" y="73"/>
                  </a:lnTo>
                  <a:lnTo>
                    <a:pt x="4" y="65"/>
                  </a:lnTo>
                  <a:lnTo>
                    <a:pt x="0" y="55"/>
                  </a:lnTo>
                  <a:lnTo>
                    <a:pt x="0" y="43"/>
                  </a:lnTo>
                  <a:lnTo>
                    <a:pt x="5" y="28"/>
                  </a:lnTo>
                  <a:lnTo>
                    <a:pt x="7" y="39"/>
                  </a:lnTo>
                  <a:lnTo>
                    <a:pt x="11" y="50"/>
                  </a:lnTo>
                  <a:lnTo>
                    <a:pt x="15" y="58"/>
                  </a:lnTo>
                  <a:lnTo>
                    <a:pt x="21" y="63"/>
                  </a:lnTo>
                  <a:lnTo>
                    <a:pt x="27" y="68"/>
                  </a:lnTo>
                  <a:lnTo>
                    <a:pt x="34" y="70"/>
                  </a:lnTo>
                  <a:lnTo>
                    <a:pt x="41" y="71"/>
                  </a:lnTo>
                  <a:lnTo>
                    <a:pt x="49" y="70"/>
                  </a:lnTo>
                  <a:lnTo>
                    <a:pt x="63" y="66"/>
                  </a:lnTo>
                  <a:lnTo>
                    <a:pt x="72" y="56"/>
                  </a:lnTo>
                  <a:lnTo>
                    <a:pt x="76" y="45"/>
                  </a:lnTo>
                  <a:lnTo>
                    <a:pt x="75" y="33"/>
                  </a:lnTo>
                  <a:lnTo>
                    <a:pt x="72" y="21"/>
                  </a:lnTo>
                  <a:lnTo>
                    <a:pt x="64" y="12"/>
                  </a:lnTo>
                  <a:lnTo>
                    <a:pt x="52" y="3"/>
                  </a:lnTo>
                  <a:lnTo>
                    <a:pt x="3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069720" y="4748040"/>
              <a:ext cx="74520" cy="179280"/>
            </a:xfrm>
            <a:custGeom>
              <a:avLst/>
              <a:gdLst/>
              <a:ahLst/>
              <a:rect l="l" t="t" r="r" b="b"/>
              <a:pathLst>
                <a:path w="92" h="224">
                  <a:moveTo>
                    <a:pt x="0" y="0"/>
                  </a:moveTo>
                  <a:lnTo>
                    <a:pt x="6" y="13"/>
                  </a:lnTo>
                  <a:lnTo>
                    <a:pt x="15" y="38"/>
                  </a:lnTo>
                  <a:lnTo>
                    <a:pt x="28" y="69"/>
                  </a:lnTo>
                  <a:lnTo>
                    <a:pt x="41" y="104"/>
                  </a:lnTo>
                  <a:lnTo>
                    <a:pt x="56" y="140"/>
                  </a:lnTo>
                  <a:lnTo>
                    <a:pt x="70" y="175"/>
                  </a:lnTo>
                  <a:lnTo>
                    <a:pt x="83" y="203"/>
                  </a:lnTo>
                  <a:lnTo>
                    <a:pt x="92" y="224"/>
                  </a:lnTo>
                  <a:lnTo>
                    <a:pt x="76" y="212"/>
                  </a:lnTo>
                  <a:lnTo>
                    <a:pt x="60" y="191"/>
                  </a:lnTo>
                  <a:lnTo>
                    <a:pt x="45" y="163"/>
                  </a:lnTo>
                  <a:lnTo>
                    <a:pt x="32" y="130"/>
                  </a:lnTo>
                  <a:lnTo>
                    <a:pt x="21" y="95"/>
                  </a:lnTo>
                  <a:lnTo>
                    <a:pt x="11" y="61"/>
                  </a:lnTo>
                  <a:lnTo>
                    <a:pt x="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057120" y="4757400"/>
              <a:ext cx="44280" cy="195480"/>
            </a:xfrm>
            <a:custGeom>
              <a:avLst/>
              <a:gdLst/>
              <a:ahLst/>
              <a:rect l="l" t="t" r="r" b="b"/>
              <a:pathLst>
                <a:path w="55" h="245">
                  <a:moveTo>
                    <a:pt x="0" y="0"/>
                  </a:moveTo>
                  <a:lnTo>
                    <a:pt x="2" y="15"/>
                  </a:lnTo>
                  <a:lnTo>
                    <a:pt x="7" y="40"/>
                  </a:lnTo>
                  <a:lnTo>
                    <a:pt x="12" y="73"/>
                  </a:lnTo>
                  <a:lnTo>
                    <a:pt x="20" y="111"/>
                  </a:lnTo>
                  <a:lnTo>
                    <a:pt x="29" y="150"/>
                  </a:lnTo>
                  <a:lnTo>
                    <a:pt x="38" y="188"/>
                  </a:lnTo>
                  <a:lnTo>
                    <a:pt x="47" y="220"/>
                  </a:lnTo>
                  <a:lnTo>
                    <a:pt x="55" y="245"/>
                  </a:lnTo>
                  <a:lnTo>
                    <a:pt x="44" y="225"/>
                  </a:lnTo>
                  <a:lnTo>
                    <a:pt x="32" y="198"/>
                  </a:lnTo>
                  <a:lnTo>
                    <a:pt x="23" y="166"/>
                  </a:lnTo>
                  <a:lnTo>
                    <a:pt x="14" y="131"/>
                  </a:lnTo>
                  <a:lnTo>
                    <a:pt x="7" y="96"/>
                  </a:lnTo>
                  <a:lnTo>
                    <a:pt x="2" y="61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031920" y="4760640"/>
              <a:ext cx="13680" cy="185760"/>
            </a:xfrm>
            <a:custGeom>
              <a:avLst/>
              <a:gdLst/>
              <a:ahLst/>
              <a:rect l="l" t="t" r="r" b="b"/>
              <a:pathLst>
                <a:path w="20" h="234">
                  <a:moveTo>
                    <a:pt x="3" y="0"/>
                  </a:moveTo>
                  <a:lnTo>
                    <a:pt x="8" y="42"/>
                  </a:lnTo>
                  <a:lnTo>
                    <a:pt x="16" y="109"/>
                  </a:lnTo>
                  <a:lnTo>
                    <a:pt x="20" y="181"/>
                  </a:lnTo>
                  <a:lnTo>
                    <a:pt x="18" y="234"/>
                  </a:lnTo>
                  <a:lnTo>
                    <a:pt x="8" y="180"/>
                  </a:lnTo>
                  <a:lnTo>
                    <a:pt x="1" y="117"/>
                  </a:lnTo>
                  <a:lnTo>
                    <a:pt x="0" y="5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995200" y="4754520"/>
              <a:ext cx="17280" cy="176040"/>
            </a:xfrm>
            <a:custGeom>
              <a:avLst/>
              <a:gdLst/>
              <a:ahLst/>
              <a:rect l="l" t="t" r="r" b="b"/>
              <a:pathLst>
                <a:path w="22" h="222">
                  <a:moveTo>
                    <a:pt x="14" y="0"/>
                  </a:moveTo>
                  <a:lnTo>
                    <a:pt x="4" y="42"/>
                  </a:lnTo>
                  <a:lnTo>
                    <a:pt x="0" y="103"/>
                  </a:lnTo>
                  <a:lnTo>
                    <a:pt x="6" y="167"/>
                  </a:lnTo>
                  <a:lnTo>
                    <a:pt x="22" y="222"/>
                  </a:lnTo>
                  <a:lnTo>
                    <a:pt x="18" y="174"/>
                  </a:lnTo>
                  <a:lnTo>
                    <a:pt x="13" y="114"/>
                  </a:lnTo>
                  <a:lnTo>
                    <a:pt x="12" y="5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568160" y="5128920"/>
              <a:ext cx="339480" cy="155520"/>
            </a:xfrm>
            <a:custGeom>
              <a:avLst/>
              <a:gdLst/>
              <a:ahLst/>
              <a:rect l="l" t="t" r="r" b="b"/>
              <a:pathLst>
                <a:path w="429" h="196">
                  <a:moveTo>
                    <a:pt x="0" y="0"/>
                  </a:moveTo>
                  <a:lnTo>
                    <a:pt x="16" y="37"/>
                  </a:lnTo>
                  <a:lnTo>
                    <a:pt x="38" y="69"/>
                  </a:lnTo>
                  <a:lnTo>
                    <a:pt x="64" y="95"/>
                  </a:lnTo>
                  <a:lnTo>
                    <a:pt x="92" y="120"/>
                  </a:lnTo>
                  <a:lnTo>
                    <a:pt x="123" y="138"/>
                  </a:lnTo>
                  <a:lnTo>
                    <a:pt x="157" y="153"/>
                  </a:lnTo>
                  <a:lnTo>
                    <a:pt x="191" y="165"/>
                  </a:lnTo>
                  <a:lnTo>
                    <a:pt x="226" y="172"/>
                  </a:lnTo>
                  <a:lnTo>
                    <a:pt x="259" y="176"/>
                  </a:lnTo>
                  <a:lnTo>
                    <a:pt x="293" y="176"/>
                  </a:lnTo>
                  <a:lnTo>
                    <a:pt x="324" y="173"/>
                  </a:lnTo>
                  <a:lnTo>
                    <a:pt x="353" y="166"/>
                  </a:lnTo>
                  <a:lnTo>
                    <a:pt x="378" y="157"/>
                  </a:lnTo>
                  <a:lnTo>
                    <a:pt x="399" y="144"/>
                  </a:lnTo>
                  <a:lnTo>
                    <a:pt x="415" y="128"/>
                  </a:lnTo>
                  <a:lnTo>
                    <a:pt x="426" y="109"/>
                  </a:lnTo>
                  <a:lnTo>
                    <a:pt x="429" y="132"/>
                  </a:lnTo>
                  <a:lnTo>
                    <a:pt x="422" y="152"/>
                  </a:lnTo>
                  <a:lnTo>
                    <a:pt x="405" y="168"/>
                  </a:lnTo>
                  <a:lnTo>
                    <a:pt x="381" y="181"/>
                  </a:lnTo>
                  <a:lnTo>
                    <a:pt x="352" y="189"/>
                  </a:lnTo>
                  <a:lnTo>
                    <a:pt x="318" y="195"/>
                  </a:lnTo>
                  <a:lnTo>
                    <a:pt x="280" y="196"/>
                  </a:lnTo>
                  <a:lnTo>
                    <a:pt x="240" y="192"/>
                  </a:lnTo>
                  <a:lnTo>
                    <a:pt x="199" y="185"/>
                  </a:lnTo>
                  <a:lnTo>
                    <a:pt x="159" y="174"/>
                  </a:lnTo>
                  <a:lnTo>
                    <a:pt x="121" y="157"/>
                  </a:lnTo>
                  <a:lnTo>
                    <a:pt x="85" y="136"/>
                  </a:lnTo>
                  <a:lnTo>
                    <a:pt x="54" y="109"/>
                  </a:lnTo>
                  <a:lnTo>
                    <a:pt x="29" y="78"/>
                  </a:lnTo>
                  <a:lnTo>
                    <a:pt x="11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827000" y="5121000"/>
              <a:ext cx="39240" cy="115920"/>
            </a:xfrm>
            <a:custGeom>
              <a:avLst/>
              <a:gdLst/>
              <a:ahLst/>
              <a:rect l="l" t="t" r="r" b="b"/>
              <a:pathLst>
                <a:path w="52" h="147">
                  <a:moveTo>
                    <a:pt x="6" y="0"/>
                  </a:moveTo>
                  <a:lnTo>
                    <a:pt x="1" y="22"/>
                  </a:lnTo>
                  <a:lnTo>
                    <a:pt x="0" y="44"/>
                  </a:lnTo>
                  <a:lnTo>
                    <a:pt x="1" y="64"/>
                  </a:lnTo>
                  <a:lnTo>
                    <a:pt x="6" y="83"/>
                  </a:lnTo>
                  <a:lnTo>
                    <a:pt x="14" y="102"/>
                  </a:lnTo>
                  <a:lnTo>
                    <a:pt x="24" y="119"/>
                  </a:lnTo>
                  <a:lnTo>
                    <a:pt x="37" y="134"/>
                  </a:lnTo>
                  <a:lnTo>
                    <a:pt x="52" y="147"/>
                  </a:lnTo>
                  <a:lnTo>
                    <a:pt x="47" y="134"/>
                  </a:lnTo>
                  <a:lnTo>
                    <a:pt x="41" y="119"/>
                  </a:lnTo>
                  <a:lnTo>
                    <a:pt x="35" y="101"/>
                  </a:lnTo>
                  <a:lnTo>
                    <a:pt x="27" y="80"/>
                  </a:lnTo>
                  <a:lnTo>
                    <a:pt x="20" y="59"/>
                  </a:lnTo>
                  <a:lnTo>
                    <a:pt x="13" y="39"/>
                  </a:lnTo>
                  <a:lnTo>
                    <a:pt x="8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873080" y="5103720"/>
              <a:ext cx="258120" cy="27000"/>
            </a:xfrm>
            <a:custGeom>
              <a:avLst/>
              <a:gdLst/>
              <a:ahLst/>
              <a:rect l="l" t="t" r="r" b="b"/>
              <a:pathLst>
                <a:path w="325" h="33">
                  <a:moveTo>
                    <a:pt x="0" y="21"/>
                  </a:moveTo>
                  <a:lnTo>
                    <a:pt x="9" y="21"/>
                  </a:lnTo>
                  <a:lnTo>
                    <a:pt x="22" y="20"/>
                  </a:lnTo>
                  <a:lnTo>
                    <a:pt x="37" y="18"/>
                  </a:lnTo>
                  <a:lnTo>
                    <a:pt x="53" y="15"/>
                  </a:lnTo>
                  <a:lnTo>
                    <a:pt x="72" y="11"/>
                  </a:lnTo>
                  <a:lnTo>
                    <a:pt x="93" y="8"/>
                  </a:lnTo>
                  <a:lnTo>
                    <a:pt x="115" y="5"/>
                  </a:lnTo>
                  <a:lnTo>
                    <a:pt x="138" y="2"/>
                  </a:lnTo>
                  <a:lnTo>
                    <a:pt x="162" y="1"/>
                  </a:lnTo>
                  <a:lnTo>
                    <a:pt x="187" y="0"/>
                  </a:lnTo>
                  <a:lnTo>
                    <a:pt x="212" y="0"/>
                  </a:lnTo>
                  <a:lnTo>
                    <a:pt x="236" y="2"/>
                  </a:lnTo>
                  <a:lnTo>
                    <a:pt x="259" y="5"/>
                  </a:lnTo>
                  <a:lnTo>
                    <a:pt x="282" y="11"/>
                  </a:lnTo>
                  <a:lnTo>
                    <a:pt x="304" y="19"/>
                  </a:lnTo>
                  <a:lnTo>
                    <a:pt x="325" y="30"/>
                  </a:lnTo>
                  <a:lnTo>
                    <a:pt x="287" y="24"/>
                  </a:lnTo>
                  <a:lnTo>
                    <a:pt x="253" y="20"/>
                  </a:lnTo>
                  <a:lnTo>
                    <a:pt x="223" y="18"/>
                  </a:lnTo>
                  <a:lnTo>
                    <a:pt x="196" y="18"/>
                  </a:lnTo>
                  <a:lnTo>
                    <a:pt x="172" y="19"/>
                  </a:lnTo>
                  <a:lnTo>
                    <a:pt x="151" y="20"/>
                  </a:lnTo>
                  <a:lnTo>
                    <a:pt x="131" y="23"/>
                  </a:lnTo>
                  <a:lnTo>
                    <a:pt x="113" y="25"/>
                  </a:lnTo>
                  <a:lnTo>
                    <a:pt x="97" y="28"/>
                  </a:lnTo>
                  <a:lnTo>
                    <a:pt x="82" y="31"/>
                  </a:lnTo>
                  <a:lnTo>
                    <a:pt x="68" y="32"/>
                  </a:lnTo>
                  <a:lnTo>
                    <a:pt x="54" y="33"/>
                  </a:lnTo>
                  <a:lnTo>
                    <a:pt x="41" y="33"/>
                  </a:lnTo>
                  <a:lnTo>
                    <a:pt x="28" y="31"/>
                  </a:lnTo>
                  <a:lnTo>
                    <a:pt x="15" y="27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076400" y="5135400"/>
              <a:ext cx="431280" cy="920520"/>
            </a:xfrm>
            <a:custGeom>
              <a:avLst/>
              <a:gdLst/>
              <a:ahLst/>
              <a:rect l="l" t="t" r="r" b="b"/>
              <a:pathLst>
                <a:path w="544" h="1160">
                  <a:moveTo>
                    <a:pt x="544" y="0"/>
                  </a:moveTo>
                  <a:lnTo>
                    <a:pt x="533" y="5"/>
                  </a:lnTo>
                  <a:lnTo>
                    <a:pt x="518" y="9"/>
                  </a:lnTo>
                  <a:lnTo>
                    <a:pt x="497" y="14"/>
                  </a:lnTo>
                  <a:lnTo>
                    <a:pt x="474" y="18"/>
                  </a:lnTo>
                  <a:lnTo>
                    <a:pt x="447" y="25"/>
                  </a:lnTo>
                  <a:lnTo>
                    <a:pt x="420" y="33"/>
                  </a:lnTo>
                  <a:lnTo>
                    <a:pt x="389" y="43"/>
                  </a:lnTo>
                  <a:lnTo>
                    <a:pt x="356" y="55"/>
                  </a:lnTo>
                  <a:lnTo>
                    <a:pt x="324" y="70"/>
                  </a:lnTo>
                  <a:lnTo>
                    <a:pt x="291" y="89"/>
                  </a:lnTo>
                  <a:lnTo>
                    <a:pt x="258" y="111"/>
                  </a:lnTo>
                  <a:lnTo>
                    <a:pt x="226" y="137"/>
                  </a:lnTo>
                  <a:lnTo>
                    <a:pt x="196" y="168"/>
                  </a:lnTo>
                  <a:lnTo>
                    <a:pt x="167" y="204"/>
                  </a:lnTo>
                  <a:lnTo>
                    <a:pt x="142" y="244"/>
                  </a:lnTo>
                  <a:lnTo>
                    <a:pt x="119" y="291"/>
                  </a:lnTo>
                  <a:lnTo>
                    <a:pt x="81" y="396"/>
                  </a:lnTo>
                  <a:lnTo>
                    <a:pt x="50" y="508"/>
                  </a:lnTo>
                  <a:lnTo>
                    <a:pt x="27" y="626"/>
                  </a:lnTo>
                  <a:lnTo>
                    <a:pt x="11" y="743"/>
                  </a:lnTo>
                  <a:lnTo>
                    <a:pt x="3" y="859"/>
                  </a:lnTo>
                  <a:lnTo>
                    <a:pt x="0" y="970"/>
                  </a:lnTo>
                  <a:lnTo>
                    <a:pt x="5" y="1072"/>
                  </a:lnTo>
                  <a:lnTo>
                    <a:pt x="15" y="1160"/>
                  </a:lnTo>
                  <a:lnTo>
                    <a:pt x="26" y="1078"/>
                  </a:lnTo>
                  <a:lnTo>
                    <a:pt x="34" y="977"/>
                  </a:lnTo>
                  <a:lnTo>
                    <a:pt x="42" y="863"/>
                  </a:lnTo>
                  <a:lnTo>
                    <a:pt x="52" y="742"/>
                  </a:lnTo>
                  <a:lnTo>
                    <a:pt x="65" y="620"/>
                  </a:lnTo>
                  <a:lnTo>
                    <a:pt x="83" y="501"/>
                  </a:lnTo>
                  <a:lnTo>
                    <a:pt x="110" y="394"/>
                  </a:lnTo>
                  <a:lnTo>
                    <a:pt x="144" y="302"/>
                  </a:lnTo>
                  <a:lnTo>
                    <a:pt x="165" y="263"/>
                  </a:lnTo>
                  <a:lnTo>
                    <a:pt x="188" y="228"/>
                  </a:lnTo>
                  <a:lnTo>
                    <a:pt x="212" y="197"/>
                  </a:lnTo>
                  <a:lnTo>
                    <a:pt x="238" y="169"/>
                  </a:lnTo>
                  <a:lnTo>
                    <a:pt x="263" y="145"/>
                  </a:lnTo>
                  <a:lnTo>
                    <a:pt x="291" y="124"/>
                  </a:lnTo>
                  <a:lnTo>
                    <a:pt x="317" y="106"/>
                  </a:lnTo>
                  <a:lnTo>
                    <a:pt x="345" y="89"/>
                  </a:lnTo>
                  <a:lnTo>
                    <a:pt x="372" y="75"/>
                  </a:lnTo>
                  <a:lnTo>
                    <a:pt x="399" y="62"/>
                  </a:lnTo>
                  <a:lnTo>
                    <a:pt x="425" y="51"/>
                  </a:lnTo>
                  <a:lnTo>
                    <a:pt x="452" y="39"/>
                  </a:lnTo>
                  <a:lnTo>
                    <a:pt x="476" y="30"/>
                  </a:lnTo>
                  <a:lnTo>
                    <a:pt x="500" y="20"/>
                  </a:lnTo>
                  <a:lnTo>
                    <a:pt x="523" y="10"/>
                  </a:lnTo>
                  <a:lnTo>
                    <a:pt x="544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44280" y="5794200"/>
              <a:ext cx="195120" cy="129960"/>
            </a:xfrm>
            <a:custGeom>
              <a:avLst/>
              <a:gdLst/>
              <a:ahLst/>
              <a:rect l="l" t="t" r="r" b="b"/>
              <a:pathLst>
                <a:path w="247" h="163">
                  <a:moveTo>
                    <a:pt x="116" y="147"/>
                  </a:moveTo>
                  <a:lnTo>
                    <a:pt x="109" y="155"/>
                  </a:lnTo>
                  <a:lnTo>
                    <a:pt x="98" y="161"/>
                  </a:lnTo>
                  <a:lnTo>
                    <a:pt x="82" y="163"/>
                  </a:lnTo>
                  <a:lnTo>
                    <a:pt x="63" y="162"/>
                  </a:lnTo>
                  <a:lnTo>
                    <a:pt x="45" y="160"/>
                  </a:lnTo>
                  <a:lnTo>
                    <a:pt x="28" y="155"/>
                  </a:lnTo>
                  <a:lnTo>
                    <a:pt x="12" y="149"/>
                  </a:lnTo>
                  <a:lnTo>
                    <a:pt x="0" y="144"/>
                  </a:lnTo>
                  <a:lnTo>
                    <a:pt x="8" y="145"/>
                  </a:lnTo>
                  <a:lnTo>
                    <a:pt x="21" y="145"/>
                  </a:lnTo>
                  <a:lnTo>
                    <a:pt x="36" y="146"/>
                  </a:lnTo>
                  <a:lnTo>
                    <a:pt x="52" y="146"/>
                  </a:lnTo>
                  <a:lnTo>
                    <a:pt x="68" y="145"/>
                  </a:lnTo>
                  <a:lnTo>
                    <a:pt x="82" y="144"/>
                  </a:lnTo>
                  <a:lnTo>
                    <a:pt x="93" y="140"/>
                  </a:lnTo>
                  <a:lnTo>
                    <a:pt x="99" y="136"/>
                  </a:lnTo>
                  <a:lnTo>
                    <a:pt x="104" y="125"/>
                  </a:lnTo>
                  <a:lnTo>
                    <a:pt x="111" y="111"/>
                  </a:lnTo>
                  <a:lnTo>
                    <a:pt x="119" y="93"/>
                  </a:lnTo>
                  <a:lnTo>
                    <a:pt x="129" y="73"/>
                  </a:lnTo>
                  <a:lnTo>
                    <a:pt x="139" y="54"/>
                  </a:lnTo>
                  <a:lnTo>
                    <a:pt x="150" y="35"/>
                  </a:lnTo>
                  <a:lnTo>
                    <a:pt x="161" y="20"/>
                  </a:lnTo>
                  <a:lnTo>
                    <a:pt x="172" y="10"/>
                  </a:lnTo>
                  <a:lnTo>
                    <a:pt x="179" y="5"/>
                  </a:lnTo>
                  <a:lnTo>
                    <a:pt x="187" y="3"/>
                  </a:lnTo>
                  <a:lnTo>
                    <a:pt x="196" y="1"/>
                  </a:lnTo>
                  <a:lnTo>
                    <a:pt x="206" y="0"/>
                  </a:lnTo>
                  <a:lnTo>
                    <a:pt x="217" y="0"/>
                  </a:lnTo>
                  <a:lnTo>
                    <a:pt x="227" y="0"/>
                  </a:lnTo>
                  <a:lnTo>
                    <a:pt x="237" y="0"/>
                  </a:lnTo>
                  <a:lnTo>
                    <a:pt x="247" y="1"/>
                  </a:lnTo>
                  <a:lnTo>
                    <a:pt x="235" y="3"/>
                  </a:lnTo>
                  <a:lnTo>
                    <a:pt x="225" y="5"/>
                  </a:lnTo>
                  <a:lnTo>
                    <a:pt x="214" y="9"/>
                  </a:lnTo>
                  <a:lnTo>
                    <a:pt x="206" y="11"/>
                  </a:lnTo>
                  <a:lnTo>
                    <a:pt x="198" y="15"/>
                  </a:lnTo>
                  <a:lnTo>
                    <a:pt x="191" y="18"/>
                  </a:lnTo>
                  <a:lnTo>
                    <a:pt x="186" y="22"/>
                  </a:lnTo>
                  <a:lnTo>
                    <a:pt x="181" y="25"/>
                  </a:lnTo>
                  <a:lnTo>
                    <a:pt x="175" y="32"/>
                  </a:lnTo>
                  <a:lnTo>
                    <a:pt x="168" y="43"/>
                  </a:lnTo>
                  <a:lnTo>
                    <a:pt x="159" y="60"/>
                  </a:lnTo>
                  <a:lnTo>
                    <a:pt x="149" y="78"/>
                  </a:lnTo>
                  <a:lnTo>
                    <a:pt x="139" y="98"/>
                  </a:lnTo>
                  <a:lnTo>
                    <a:pt x="130" y="117"/>
                  </a:lnTo>
                  <a:lnTo>
                    <a:pt x="122" y="133"/>
                  </a:lnTo>
                  <a:lnTo>
                    <a:pt x="116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015640" y="5784480"/>
              <a:ext cx="188640" cy="55800"/>
            </a:xfrm>
            <a:custGeom>
              <a:avLst/>
              <a:gdLst/>
              <a:ahLst/>
              <a:rect l="l" t="t" r="r" b="b"/>
              <a:pathLst>
                <a:path w="239" h="70">
                  <a:moveTo>
                    <a:pt x="0" y="62"/>
                  </a:moveTo>
                  <a:lnTo>
                    <a:pt x="9" y="68"/>
                  </a:lnTo>
                  <a:lnTo>
                    <a:pt x="19" y="70"/>
                  </a:lnTo>
                  <a:lnTo>
                    <a:pt x="34" y="70"/>
                  </a:lnTo>
                  <a:lnTo>
                    <a:pt x="49" y="69"/>
                  </a:lnTo>
                  <a:lnTo>
                    <a:pt x="65" y="66"/>
                  </a:lnTo>
                  <a:lnTo>
                    <a:pt x="79" y="61"/>
                  </a:lnTo>
                  <a:lnTo>
                    <a:pt x="91" y="56"/>
                  </a:lnTo>
                  <a:lnTo>
                    <a:pt x="101" y="51"/>
                  </a:lnTo>
                  <a:lnTo>
                    <a:pt x="117" y="45"/>
                  </a:lnTo>
                  <a:lnTo>
                    <a:pt x="133" y="37"/>
                  </a:lnTo>
                  <a:lnTo>
                    <a:pt x="149" y="30"/>
                  </a:lnTo>
                  <a:lnTo>
                    <a:pt x="165" y="23"/>
                  </a:lnTo>
                  <a:lnTo>
                    <a:pt x="179" y="18"/>
                  </a:lnTo>
                  <a:lnTo>
                    <a:pt x="192" y="15"/>
                  </a:lnTo>
                  <a:lnTo>
                    <a:pt x="203" y="15"/>
                  </a:lnTo>
                  <a:lnTo>
                    <a:pt x="211" y="18"/>
                  </a:lnTo>
                  <a:lnTo>
                    <a:pt x="223" y="31"/>
                  </a:lnTo>
                  <a:lnTo>
                    <a:pt x="229" y="44"/>
                  </a:lnTo>
                  <a:lnTo>
                    <a:pt x="227" y="56"/>
                  </a:lnTo>
                  <a:lnTo>
                    <a:pt x="222" y="67"/>
                  </a:lnTo>
                  <a:lnTo>
                    <a:pt x="232" y="56"/>
                  </a:lnTo>
                  <a:lnTo>
                    <a:pt x="238" y="45"/>
                  </a:lnTo>
                  <a:lnTo>
                    <a:pt x="239" y="35"/>
                  </a:lnTo>
                  <a:lnTo>
                    <a:pt x="239" y="25"/>
                  </a:lnTo>
                  <a:lnTo>
                    <a:pt x="235" y="17"/>
                  </a:lnTo>
                  <a:lnTo>
                    <a:pt x="230" y="10"/>
                  </a:lnTo>
                  <a:lnTo>
                    <a:pt x="224" y="6"/>
                  </a:lnTo>
                  <a:lnTo>
                    <a:pt x="217" y="2"/>
                  </a:lnTo>
                  <a:lnTo>
                    <a:pt x="210" y="1"/>
                  </a:lnTo>
                  <a:lnTo>
                    <a:pt x="202" y="0"/>
                  </a:lnTo>
                  <a:lnTo>
                    <a:pt x="192" y="0"/>
                  </a:lnTo>
                  <a:lnTo>
                    <a:pt x="180" y="2"/>
                  </a:lnTo>
                  <a:lnTo>
                    <a:pt x="165" y="6"/>
                  </a:lnTo>
                  <a:lnTo>
                    <a:pt x="148" y="12"/>
                  </a:lnTo>
                  <a:lnTo>
                    <a:pt x="126" y="22"/>
                  </a:lnTo>
                  <a:lnTo>
                    <a:pt x="101" y="35"/>
                  </a:lnTo>
                  <a:lnTo>
                    <a:pt x="94" y="39"/>
                  </a:lnTo>
                  <a:lnTo>
                    <a:pt x="85" y="44"/>
                  </a:lnTo>
                  <a:lnTo>
                    <a:pt x="73" y="50"/>
                  </a:lnTo>
                  <a:lnTo>
                    <a:pt x="60" y="54"/>
                  </a:lnTo>
                  <a:lnTo>
                    <a:pt x="45" y="58"/>
                  </a:lnTo>
                  <a:lnTo>
                    <a:pt x="30" y="61"/>
                  </a:lnTo>
                  <a:lnTo>
                    <a:pt x="15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185560" y="5833800"/>
              <a:ext cx="60120" cy="93600"/>
            </a:xfrm>
            <a:custGeom>
              <a:avLst/>
              <a:gdLst/>
              <a:ahLst/>
              <a:rect l="l" t="t" r="r" b="b"/>
              <a:pathLst>
                <a:path w="76" h="119">
                  <a:moveTo>
                    <a:pt x="30" y="5"/>
                  </a:moveTo>
                  <a:lnTo>
                    <a:pt x="38" y="1"/>
                  </a:lnTo>
                  <a:lnTo>
                    <a:pt x="47" y="0"/>
                  </a:lnTo>
                  <a:lnTo>
                    <a:pt x="56" y="4"/>
                  </a:lnTo>
                  <a:lnTo>
                    <a:pt x="65" y="8"/>
                  </a:lnTo>
                  <a:lnTo>
                    <a:pt x="71" y="18"/>
                  </a:lnTo>
                  <a:lnTo>
                    <a:pt x="76" y="28"/>
                  </a:lnTo>
                  <a:lnTo>
                    <a:pt x="76" y="42"/>
                  </a:lnTo>
                  <a:lnTo>
                    <a:pt x="70" y="58"/>
                  </a:lnTo>
                  <a:lnTo>
                    <a:pt x="64" y="67"/>
                  </a:lnTo>
                  <a:lnTo>
                    <a:pt x="58" y="75"/>
                  </a:lnTo>
                  <a:lnTo>
                    <a:pt x="52" y="84"/>
                  </a:lnTo>
                  <a:lnTo>
                    <a:pt x="42" y="91"/>
                  </a:lnTo>
                  <a:lnTo>
                    <a:pt x="33" y="99"/>
                  </a:lnTo>
                  <a:lnTo>
                    <a:pt x="23" y="106"/>
                  </a:lnTo>
                  <a:lnTo>
                    <a:pt x="11" y="113"/>
                  </a:lnTo>
                  <a:lnTo>
                    <a:pt x="0" y="119"/>
                  </a:lnTo>
                  <a:lnTo>
                    <a:pt x="10" y="109"/>
                  </a:lnTo>
                  <a:lnTo>
                    <a:pt x="19" y="99"/>
                  </a:lnTo>
                  <a:lnTo>
                    <a:pt x="27" y="90"/>
                  </a:lnTo>
                  <a:lnTo>
                    <a:pt x="34" y="82"/>
                  </a:lnTo>
                  <a:lnTo>
                    <a:pt x="40" y="74"/>
                  </a:lnTo>
                  <a:lnTo>
                    <a:pt x="45" y="67"/>
                  </a:lnTo>
                  <a:lnTo>
                    <a:pt x="48" y="60"/>
                  </a:lnTo>
                  <a:lnTo>
                    <a:pt x="52" y="53"/>
                  </a:lnTo>
                  <a:lnTo>
                    <a:pt x="56" y="41"/>
                  </a:lnTo>
                  <a:lnTo>
                    <a:pt x="57" y="30"/>
                  </a:lnTo>
                  <a:lnTo>
                    <a:pt x="56" y="22"/>
                  </a:lnTo>
                  <a:lnTo>
                    <a:pt x="54" y="16"/>
                  </a:lnTo>
                  <a:lnTo>
                    <a:pt x="49" y="12"/>
                  </a:lnTo>
                  <a:lnTo>
                    <a:pt x="44" y="8"/>
                  </a:lnTo>
                  <a:lnTo>
                    <a:pt x="37" y="6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142720" y="5846400"/>
              <a:ext cx="41040" cy="3204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47" y="4"/>
                  </a:lnTo>
                  <a:lnTo>
                    <a:pt x="42" y="8"/>
                  </a:lnTo>
                  <a:lnTo>
                    <a:pt x="35" y="13"/>
                  </a:lnTo>
                  <a:lnTo>
                    <a:pt x="27" y="20"/>
                  </a:lnTo>
                  <a:lnTo>
                    <a:pt x="19" y="26"/>
                  </a:lnTo>
                  <a:lnTo>
                    <a:pt x="12" y="32"/>
                  </a:lnTo>
                  <a:lnTo>
                    <a:pt x="6" y="37"/>
                  </a:lnTo>
                  <a:lnTo>
                    <a:pt x="0" y="42"/>
                  </a:lnTo>
                  <a:lnTo>
                    <a:pt x="7" y="41"/>
                  </a:lnTo>
                  <a:lnTo>
                    <a:pt x="15" y="38"/>
                  </a:lnTo>
                  <a:lnTo>
                    <a:pt x="23" y="34"/>
                  </a:lnTo>
                  <a:lnTo>
                    <a:pt x="30" y="29"/>
                  </a:lnTo>
                  <a:lnTo>
                    <a:pt x="37" y="23"/>
                  </a:lnTo>
                  <a:lnTo>
                    <a:pt x="42" y="16"/>
                  </a:lnTo>
                  <a:lnTo>
                    <a:pt x="47" y="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99960" y="5911560"/>
              <a:ext cx="45720" cy="74520"/>
            </a:xfrm>
            <a:custGeom>
              <a:avLst/>
              <a:gdLst/>
              <a:ahLst/>
              <a:rect l="l" t="t" r="r" b="b"/>
              <a:pathLst>
                <a:path w="59" h="96">
                  <a:moveTo>
                    <a:pt x="25" y="0"/>
                  </a:moveTo>
                  <a:lnTo>
                    <a:pt x="31" y="1"/>
                  </a:lnTo>
                  <a:lnTo>
                    <a:pt x="38" y="3"/>
                  </a:lnTo>
                  <a:lnTo>
                    <a:pt x="44" y="7"/>
                  </a:lnTo>
                  <a:lnTo>
                    <a:pt x="48" y="12"/>
                  </a:lnTo>
                  <a:lnTo>
                    <a:pt x="53" y="16"/>
                  </a:lnTo>
                  <a:lnTo>
                    <a:pt x="56" y="21"/>
                  </a:lnTo>
                  <a:lnTo>
                    <a:pt x="59" y="25"/>
                  </a:lnTo>
                  <a:lnTo>
                    <a:pt x="59" y="31"/>
                  </a:lnTo>
                  <a:lnTo>
                    <a:pt x="58" y="39"/>
                  </a:lnTo>
                  <a:lnTo>
                    <a:pt x="55" y="47"/>
                  </a:lnTo>
                  <a:lnTo>
                    <a:pt x="52" y="54"/>
                  </a:lnTo>
                  <a:lnTo>
                    <a:pt x="46" y="61"/>
                  </a:lnTo>
                  <a:lnTo>
                    <a:pt x="38" y="69"/>
                  </a:lnTo>
                  <a:lnTo>
                    <a:pt x="28" y="77"/>
                  </a:lnTo>
                  <a:lnTo>
                    <a:pt x="15" y="86"/>
                  </a:lnTo>
                  <a:lnTo>
                    <a:pt x="0" y="96"/>
                  </a:lnTo>
                  <a:lnTo>
                    <a:pt x="9" y="86"/>
                  </a:lnTo>
                  <a:lnTo>
                    <a:pt x="18" y="76"/>
                  </a:lnTo>
                  <a:lnTo>
                    <a:pt x="28" y="65"/>
                  </a:lnTo>
                  <a:lnTo>
                    <a:pt x="35" y="52"/>
                  </a:lnTo>
                  <a:lnTo>
                    <a:pt x="38" y="38"/>
                  </a:lnTo>
                  <a:lnTo>
                    <a:pt x="39" y="25"/>
                  </a:lnTo>
                  <a:lnTo>
                    <a:pt x="35" y="1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923840" y="5968800"/>
              <a:ext cx="325080" cy="128520"/>
            </a:xfrm>
            <a:custGeom>
              <a:avLst/>
              <a:gdLst/>
              <a:ahLst/>
              <a:rect l="l" t="t" r="r" b="b"/>
              <a:pathLst>
                <a:path w="409" h="162">
                  <a:moveTo>
                    <a:pt x="387" y="4"/>
                  </a:moveTo>
                  <a:lnTo>
                    <a:pt x="400" y="0"/>
                  </a:lnTo>
                  <a:lnTo>
                    <a:pt x="408" y="4"/>
                  </a:lnTo>
                  <a:lnTo>
                    <a:pt x="409" y="17"/>
                  </a:lnTo>
                  <a:lnTo>
                    <a:pt x="405" y="38"/>
                  </a:lnTo>
                  <a:lnTo>
                    <a:pt x="400" y="46"/>
                  </a:lnTo>
                  <a:lnTo>
                    <a:pt x="392" y="55"/>
                  </a:lnTo>
                  <a:lnTo>
                    <a:pt x="383" y="65"/>
                  </a:lnTo>
                  <a:lnTo>
                    <a:pt x="371" y="76"/>
                  </a:lnTo>
                  <a:lnTo>
                    <a:pt x="360" y="86"/>
                  </a:lnTo>
                  <a:lnTo>
                    <a:pt x="348" y="95"/>
                  </a:lnTo>
                  <a:lnTo>
                    <a:pt x="338" y="103"/>
                  </a:lnTo>
                  <a:lnTo>
                    <a:pt x="330" y="109"/>
                  </a:lnTo>
                  <a:lnTo>
                    <a:pt x="315" y="117"/>
                  </a:lnTo>
                  <a:lnTo>
                    <a:pt x="296" y="125"/>
                  </a:lnTo>
                  <a:lnTo>
                    <a:pt x="276" y="131"/>
                  </a:lnTo>
                  <a:lnTo>
                    <a:pt x="253" y="136"/>
                  </a:lnTo>
                  <a:lnTo>
                    <a:pt x="230" y="139"/>
                  </a:lnTo>
                  <a:lnTo>
                    <a:pt x="205" y="140"/>
                  </a:lnTo>
                  <a:lnTo>
                    <a:pt x="182" y="140"/>
                  </a:lnTo>
                  <a:lnTo>
                    <a:pt x="162" y="139"/>
                  </a:lnTo>
                  <a:lnTo>
                    <a:pt x="133" y="137"/>
                  </a:lnTo>
                  <a:lnTo>
                    <a:pt x="107" y="137"/>
                  </a:lnTo>
                  <a:lnTo>
                    <a:pt x="83" y="138"/>
                  </a:lnTo>
                  <a:lnTo>
                    <a:pt x="62" y="141"/>
                  </a:lnTo>
                  <a:lnTo>
                    <a:pt x="43" y="145"/>
                  </a:lnTo>
                  <a:lnTo>
                    <a:pt x="27" y="151"/>
                  </a:lnTo>
                  <a:lnTo>
                    <a:pt x="12" y="156"/>
                  </a:lnTo>
                  <a:lnTo>
                    <a:pt x="0" y="162"/>
                  </a:lnTo>
                  <a:lnTo>
                    <a:pt x="13" y="151"/>
                  </a:lnTo>
                  <a:lnTo>
                    <a:pt x="27" y="140"/>
                  </a:lnTo>
                  <a:lnTo>
                    <a:pt x="42" y="131"/>
                  </a:lnTo>
                  <a:lnTo>
                    <a:pt x="60" y="124"/>
                  </a:lnTo>
                  <a:lnTo>
                    <a:pt x="80" y="119"/>
                  </a:lnTo>
                  <a:lnTo>
                    <a:pt x="103" y="116"/>
                  </a:lnTo>
                  <a:lnTo>
                    <a:pt x="129" y="117"/>
                  </a:lnTo>
                  <a:lnTo>
                    <a:pt x="158" y="119"/>
                  </a:lnTo>
                  <a:lnTo>
                    <a:pt x="173" y="121"/>
                  </a:lnTo>
                  <a:lnTo>
                    <a:pt x="194" y="122"/>
                  </a:lnTo>
                  <a:lnTo>
                    <a:pt x="217" y="121"/>
                  </a:lnTo>
                  <a:lnTo>
                    <a:pt x="241" y="118"/>
                  </a:lnTo>
                  <a:lnTo>
                    <a:pt x="265" y="116"/>
                  </a:lnTo>
                  <a:lnTo>
                    <a:pt x="287" y="111"/>
                  </a:lnTo>
                  <a:lnTo>
                    <a:pt x="307" y="104"/>
                  </a:lnTo>
                  <a:lnTo>
                    <a:pt x="321" y="96"/>
                  </a:lnTo>
                  <a:lnTo>
                    <a:pt x="330" y="89"/>
                  </a:lnTo>
                  <a:lnTo>
                    <a:pt x="342" y="79"/>
                  </a:lnTo>
                  <a:lnTo>
                    <a:pt x="357" y="66"/>
                  </a:lnTo>
                  <a:lnTo>
                    <a:pt x="372" y="54"/>
                  </a:lnTo>
                  <a:lnTo>
                    <a:pt x="385" y="39"/>
                  </a:lnTo>
                  <a:lnTo>
                    <a:pt x="393" y="26"/>
                  </a:lnTo>
                  <a:lnTo>
                    <a:pt x="394" y="13"/>
                  </a:lnTo>
                  <a:lnTo>
                    <a:pt x="3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487240" y="5783040"/>
              <a:ext cx="212400" cy="111240"/>
            </a:xfrm>
            <a:custGeom>
              <a:avLst/>
              <a:gdLst/>
              <a:ahLst/>
              <a:rect l="l" t="t" r="r" b="b"/>
              <a:pathLst>
                <a:path w="268" h="139">
                  <a:moveTo>
                    <a:pt x="154" y="129"/>
                  </a:moveTo>
                  <a:lnTo>
                    <a:pt x="162" y="136"/>
                  </a:lnTo>
                  <a:lnTo>
                    <a:pt x="175" y="139"/>
                  </a:lnTo>
                  <a:lnTo>
                    <a:pt x="191" y="139"/>
                  </a:lnTo>
                  <a:lnTo>
                    <a:pt x="210" y="135"/>
                  </a:lnTo>
                  <a:lnTo>
                    <a:pt x="227" y="129"/>
                  </a:lnTo>
                  <a:lnTo>
                    <a:pt x="244" y="122"/>
                  </a:lnTo>
                  <a:lnTo>
                    <a:pt x="258" y="114"/>
                  </a:lnTo>
                  <a:lnTo>
                    <a:pt x="268" y="106"/>
                  </a:lnTo>
                  <a:lnTo>
                    <a:pt x="260" y="108"/>
                  </a:lnTo>
                  <a:lnTo>
                    <a:pt x="248" y="110"/>
                  </a:lnTo>
                  <a:lnTo>
                    <a:pt x="233" y="114"/>
                  </a:lnTo>
                  <a:lnTo>
                    <a:pt x="218" y="116"/>
                  </a:lnTo>
                  <a:lnTo>
                    <a:pt x="201" y="118"/>
                  </a:lnTo>
                  <a:lnTo>
                    <a:pt x="187" y="120"/>
                  </a:lnTo>
                  <a:lnTo>
                    <a:pt x="176" y="118"/>
                  </a:lnTo>
                  <a:lnTo>
                    <a:pt x="169" y="115"/>
                  </a:lnTo>
                  <a:lnTo>
                    <a:pt x="163" y="106"/>
                  </a:lnTo>
                  <a:lnTo>
                    <a:pt x="154" y="93"/>
                  </a:lnTo>
                  <a:lnTo>
                    <a:pt x="143" y="77"/>
                  </a:lnTo>
                  <a:lnTo>
                    <a:pt x="129" y="60"/>
                  </a:lnTo>
                  <a:lnTo>
                    <a:pt x="115" y="42"/>
                  </a:lnTo>
                  <a:lnTo>
                    <a:pt x="100" y="26"/>
                  </a:lnTo>
                  <a:lnTo>
                    <a:pt x="87" y="14"/>
                  </a:lnTo>
                  <a:lnTo>
                    <a:pt x="75" y="5"/>
                  </a:lnTo>
                  <a:lnTo>
                    <a:pt x="67" y="2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39" y="1"/>
                  </a:lnTo>
                  <a:lnTo>
                    <a:pt x="29" y="2"/>
                  </a:lnTo>
                  <a:lnTo>
                    <a:pt x="19" y="4"/>
                  </a:lnTo>
                  <a:lnTo>
                    <a:pt x="9" y="7"/>
                  </a:lnTo>
                  <a:lnTo>
                    <a:pt x="0" y="10"/>
                  </a:lnTo>
                  <a:lnTo>
                    <a:pt x="11" y="10"/>
                  </a:lnTo>
                  <a:lnTo>
                    <a:pt x="23" y="11"/>
                  </a:lnTo>
                  <a:lnTo>
                    <a:pt x="33" y="11"/>
                  </a:lnTo>
                  <a:lnTo>
                    <a:pt x="43" y="12"/>
                  </a:lnTo>
                  <a:lnTo>
                    <a:pt x="51" y="15"/>
                  </a:lnTo>
                  <a:lnTo>
                    <a:pt x="57" y="16"/>
                  </a:lnTo>
                  <a:lnTo>
                    <a:pt x="63" y="19"/>
                  </a:lnTo>
                  <a:lnTo>
                    <a:pt x="69" y="22"/>
                  </a:lnTo>
                  <a:lnTo>
                    <a:pt x="76" y="27"/>
                  </a:lnTo>
                  <a:lnTo>
                    <a:pt x="85" y="38"/>
                  </a:lnTo>
                  <a:lnTo>
                    <a:pt x="98" y="52"/>
                  </a:lnTo>
                  <a:lnTo>
                    <a:pt x="110" y="68"/>
                  </a:lnTo>
                  <a:lnTo>
                    <a:pt x="123" y="85"/>
                  </a:lnTo>
                  <a:lnTo>
                    <a:pt x="136" y="102"/>
                  </a:lnTo>
                  <a:lnTo>
                    <a:pt x="146" y="117"/>
                  </a:lnTo>
                  <a:lnTo>
                    <a:pt x="15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27040" y="5803560"/>
              <a:ext cx="191520" cy="55800"/>
            </a:xfrm>
            <a:custGeom>
              <a:avLst/>
              <a:gdLst/>
              <a:ahLst/>
              <a:rect l="l" t="t" r="r" b="b"/>
              <a:pathLst>
                <a:path w="241" h="70">
                  <a:moveTo>
                    <a:pt x="241" y="27"/>
                  </a:moveTo>
                  <a:lnTo>
                    <a:pt x="235" y="33"/>
                  </a:lnTo>
                  <a:lnTo>
                    <a:pt x="225" y="38"/>
                  </a:lnTo>
                  <a:lnTo>
                    <a:pt x="211" y="40"/>
                  </a:lnTo>
                  <a:lnTo>
                    <a:pt x="195" y="42"/>
                  </a:lnTo>
                  <a:lnTo>
                    <a:pt x="179" y="40"/>
                  </a:lnTo>
                  <a:lnTo>
                    <a:pt x="164" y="39"/>
                  </a:lnTo>
                  <a:lnTo>
                    <a:pt x="151" y="37"/>
                  </a:lnTo>
                  <a:lnTo>
                    <a:pt x="141" y="33"/>
                  </a:lnTo>
                  <a:lnTo>
                    <a:pt x="124" y="30"/>
                  </a:lnTo>
                  <a:lnTo>
                    <a:pt x="106" y="27"/>
                  </a:lnTo>
                  <a:lnTo>
                    <a:pt x="89" y="22"/>
                  </a:lnTo>
                  <a:lnTo>
                    <a:pt x="73" y="17"/>
                  </a:lnTo>
                  <a:lnTo>
                    <a:pt x="58" y="15"/>
                  </a:lnTo>
                  <a:lnTo>
                    <a:pt x="44" y="15"/>
                  </a:lnTo>
                  <a:lnTo>
                    <a:pt x="34" y="16"/>
                  </a:lnTo>
                  <a:lnTo>
                    <a:pt x="26" y="22"/>
                  </a:lnTo>
                  <a:lnTo>
                    <a:pt x="16" y="36"/>
                  </a:lnTo>
                  <a:lnTo>
                    <a:pt x="14" y="50"/>
                  </a:lnTo>
                  <a:lnTo>
                    <a:pt x="18" y="62"/>
                  </a:lnTo>
                  <a:lnTo>
                    <a:pt x="24" y="70"/>
                  </a:lnTo>
                  <a:lnTo>
                    <a:pt x="13" y="62"/>
                  </a:lnTo>
                  <a:lnTo>
                    <a:pt x="5" y="53"/>
                  </a:lnTo>
                  <a:lnTo>
                    <a:pt x="1" y="43"/>
                  </a:lnTo>
                  <a:lnTo>
                    <a:pt x="0" y="33"/>
                  </a:lnTo>
                  <a:lnTo>
                    <a:pt x="3" y="24"/>
                  </a:lnTo>
                  <a:lnTo>
                    <a:pt x="6" y="17"/>
                  </a:lnTo>
                  <a:lnTo>
                    <a:pt x="12" y="10"/>
                  </a:lnTo>
                  <a:lnTo>
                    <a:pt x="18" y="7"/>
                  </a:lnTo>
                  <a:lnTo>
                    <a:pt x="24" y="5"/>
                  </a:lnTo>
                  <a:lnTo>
                    <a:pt x="33" y="2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9" y="0"/>
                  </a:lnTo>
                  <a:lnTo>
                    <a:pt x="88" y="4"/>
                  </a:lnTo>
                  <a:lnTo>
                    <a:pt x="111" y="9"/>
                  </a:lnTo>
                  <a:lnTo>
                    <a:pt x="137" y="17"/>
                  </a:lnTo>
                  <a:lnTo>
                    <a:pt x="145" y="21"/>
                  </a:lnTo>
                  <a:lnTo>
                    <a:pt x="155" y="23"/>
                  </a:lnTo>
                  <a:lnTo>
                    <a:pt x="167" y="27"/>
                  </a:lnTo>
                  <a:lnTo>
                    <a:pt x="181" y="29"/>
                  </a:lnTo>
                  <a:lnTo>
                    <a:pt x="196" y="30"/>
                  </a:lnTo>
                  <a:lnTo>
                    <a:pt x="211" y="31"/>
                  </a:lnTo>
                  <a:lnTo>
                    <a:pt x="227" y="30"/>
                  </a:lnTo>
                  <a:lnTo>
                    <a:pt x="2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295360" y="5860800"/>
              <a:ext cx="74160" cy="85680"/>
            </a:xfrm>
            <a:custGeom>
              <a:avLst/>
              <a:gdLst/>
              <a:ahLst/>
              <a:rect l="l" t="t" r="r" b="b"/>
              <a:pathLst>
                <a:path w="93" h="108">
                  <a:moveTo>
                    <a:pt x="43" y="2"/>
                  </a:moveTo>
                  <a:lnTo>
                    <a:pt x="35" y="0"/>
                  </a:lnTo>
                  <a:lnTo>
                    <a:pt x="24" y="1"/>
                  </a:lnTo>
                  <a:lnTo>
                    <a:pt x="15" y="5"/>
                  </a:lnTo>
                  <a:lnTo>
                    <a:pt x="8" y="12"/>
                  </a:lnTo>
                  <a:lnTo>
                    <a:pt x="2" y="22"/>
                  </a:lnTo>
                  <a:lnTo>
                    <a:pt x="0" y="33"/>
                  </a:lnTo>
                  <a:lnTo>
                    <a:pt x="3" y="46"/>
                  </a:lnTo>
                  <a:lnTo>
                    <a:pt x="12" y="61"/>
                  </a:lnTo>
                  <a:lnTo>
                    <a:pt x="18" y="69"/>
                  </a:lnTo>
                  <a:lnTo>
                    <a:pt x="26" y="77"/>
                  </a:lnTo>
                  <a:lnTo>
                    <a:pt x="36" y="84"/>
                  </a:lnTo>
                  <a:lnTo>
                    <a:pt x="45" y="90"/>
                  </a:lnTo>
                  <a:lnTo>
                    <a:pt x="55" y="95"/>
                  </a:lnTo>
                  <a:lnTo>
                    <a:pt x="68" y="100"/>
                  </a:lnTo>
                  <a:lnTo>
                    <a:pt x="79" y="105"/>
                  </a:lnTo>
                  <a:lnTo>
                    <a:pt x="93" y="108"/>
                  </a:lnTo>
                  <a:lnTo>
                    <a:pt x="81" y="100"/>
                  </a:lnTo>
                  <a:lnTo>
                    <a:pt x="70" y="92"/>
                  </a:lnTo>
                  <a:lnTo>
                    <a:pt x="61" y="85"/>
                  </a:lnTo>
                  <a:lnTo>
                    <a:pt x="52" y="78"/>
                  </a:lnTo>
                  <a:lnTo>
                    <a:pt x="45" y="72"/>
                  </a:lnTo>
                  <a:lnTo>
                    <a:pt x="39" y="65"/>
                  </a:lnTo>
                  <a:lnTo>
                    <a:pt x="33" y="60"/>
                  </a:lnTo>
                  <a:lnTo>
                    <a:pt x="30" y="54"/>
                  </a:lnTo>
                  <a:lnTo>
                    <a:pt x="21" y="33"/>
                  </a:lnTo>
                  <a:lnTo>
                    <a:pt x="21" y="18"/>
                  </a:lnTo>
                  <a:lnTo>
                    <a:pt x="30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355480" y="5865480"/>
              <a:ext cx="44280" cy="2556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0" y="0"/>
                  </a:moveTo>
                  <a:lnTo>
                    <a:pt x="3" y="2"/>
                  </a:lnTo>
                  <a:lnTo>
                    <a:pt x="9" y="5"/>
                  </a:lnTo>
                  <a:lnTo>
                    <a:pt x="16" y="10"/>
                  </a:lnTo>
                  <a:lnTo>
                    <a:pt x="25" y="15"/>
                  </a:lnTo>
                  <a:lnTo>
                    <a:pt x="35" y="19"/>
                  </a:lnTo>
                  <a:lnTo>
                    <a:pt x="43" y="24"/>
                  </a:lnTo>
                  <a:lnTo>
                    <a:pt x="51" y="27"/>
                  </a:lnTo>
                  <a:lnTo>
                    <a:pt x="56" y="31"/>
                  </a:lnTo>
                  <a:lnTo>
                    <a:pt x="50" y="31"/>
                  </a:lnTo>
                  <a:lnTo>
                    <a:pt x="41" y="30"/>
                  </a:lnTo>
                  <a:lnTo>
                    <a:pt x="33" y="27"/>
                  </a:lnTo>
                  <a:lnTo>
                    <a:pt x="25" y="24"/>
                  </a:lnTo>
                  <a:lnTo>
                    <a:pt x="17" y="19"/>
                  </a:lnTo>
                  <a:lnTo>
                    <a:pt x="10" y="13"/>
                  </a:lnTo>
                  <a:lnTo>
                    <a:pt x="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311200" y="5937120"/>
              <a:ext cx="53640" cy="6984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26" y="0"/>
                  </a:moveTo>
                  <a:lnTo>
                    <a:pt x="16" y="6"/>
                  </a:lnTo>
                  <a:lnTo>
                    <a:pt x="6" y="15"/>
                  </a:lnTo>
                  <a:lnTo>
                    <a:pt x="1" y="26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5" y="52"/>
                  </a:lnTo>
                  <a:lnTo>
                    <a:pt x="11" y="58"/>
                  </a:lnTo>
                  <a:lnTo>
                    <a:pt x="18" y="65"/>
                  </a:lnTo>
                  <a:lnTo>
                    <a:pt x="26" y="71"/>
                  </a:lnTo>
                  <a:lnTo>
                    <a:pt x="38" y="76"/>
                  </a:lnTo>
                  <a:lnTo>
                    <a:pt x="51" y="82"/>
                  </a:lnTo>
                  <a:lnTo>
                    <a:pt x="69" y="89"/>
                  </a:lnTo>
                  <a:lnTo>
                    <a:pt x="58" y="82"/>
                  </a:lnTo>
                  <a:lnTo>
                    <a:pt x="47" y="74"/>
                  </a:lnTo>
                  <a:lnTo>
                    <a:pt x="36" y="64"/>
                  </a:lnTo>
                  <a:lnTo>
                    <a:pt x="27" y="52"/>
                  </a:lnTo>
                  <a:lnTo>
                    <a:pt x="20" y="41"/>
                  </a:lnTo>
                  <a:lnTo>
                    <a:pt x="18" y="28"/>
                  </a:lnTo>
                  <a:lnTo>
                    <a:pt x="19" y="1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315880" y="5997240"/>
              <a:ext cx="340920" cy="84240"/>
            </a:xfrm>
            <a:custGeom>
              <a:avLst/>
              <a:gdLst/>
              <a:ahLst/>
              <a:rect l="l" t="t" r="r" b="b"/>
              <a:pathLst>
                <a:path w="429" h="105">
                  <a:moveTo>
                    <a:pt x="19" y="3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10" y="37"/>
                  </a:lnTo>
                  <a:lnTo>
                    <a:pt x="15" y="44"/>
                  </a:lnTo>
                  <a:lnTo>
                    <a:pt x="25" y="52"/>
                  </a:lnTo>
                  <a:lnTo>
                    <a:pt x="36" y="60"/>
                  </a:lnTo>
                  <a:lnTo>
                    <a:pt x="49" y="68"/>
                  </a:lnTo>
                  <a:lnTo>
                    <a:pt x="62" y="77"/>
                  </a:lnTo>
                  <a:lnTo>
                    <a:pt x="74" y="83"/>
                  </a:lnTo>
                  <a:lnTo>
                    <a:pt x="86" y="89"/>
                  </a:lnTo>
                  <a:lnTo>
                    <a:pt x="95" y="94"/>
                  </a:lnTo>
                  <a:lnTo>
                    <a:pt x="111" y="100"/>
                  </a:lnTo>
                  <a:lnTo>
                    <a:pt x="131" y="103"/>
                  </a:lnTo>
                  <a:lnTo>
                    <a:pt x="153" y="105"/>
                  </a:lnTo>
                  <a:lnTo>
                    <a:pt x="176" y="105"/>
                  </a:lnTo>
                  <a:lnTo>
                    <a:pt x="200" y="104"/>
                  </a:lnTo>
                  <a:lnTo>
                    <a:pt x="223" y="102"/>
                  </a:lnTo>
                  <a:lnTo>
                    <a:pt x="245" y="98"/>
                  </a:lnTo>
                  <a:lnTo>
                    <a:pt x="265" y="94"/>
                  </a:lnTo>
                  <a:lnTo>
                    <a:pt x="293" y="87"/>
                  </a:lnTo>
                  <a:lnTo>
                    <a:pt x="320" y="81"/>
                  </a:lnTo>
                  <a:lnTo>
                    <a:pt x="343" y="79"/>
                  </a:lnTo>
                  <a:lnTo>
                    <a:pt x="365" y="78"/>
                  </a:lnTo>
                  <a:lnTo>
                    <a:pt x="384" y="78"/>
                  </a:lnTo>
                  <a:lnTo>
                    <a:pt x="401" y="79"/>
                  </a:lnTo>
                  <a:lnTo>
                    <a:pt x="416" y="82"/>
                  </a:lnTo>
                  <a:lnTo>
                    <a:pt x="429" y="86"/>
                  </a:lnTo>
                  <a:lnTo>
                    <a:pt x="415" y="77"/>
                  </a:lnTo>
                  <a:lnTo>
                    <a:pt x="399" y="68"/>
                  </a:lnTo>
                  <a:lnTo>
                    <a:pt x="383" y="64"/>
                  </a:lnTo>
                  <a:lnTo>
                    <a:pt x="363" y="60"/>
                  </a:lnTo>
                  <a:lnTo>
                    <a:pt x="343" y="59"/>
                  </a:lnTo>
                  <a:lnTo>
                    <a:pt x="320" y="62"/>
                  </a:lnTo>
                  <a:lnTo>
                    <a:pt x="294" y="66"/>
                  </a:lnTo>
                  <a:lnTo>
                    <a:pt x="267" y="74"/>
                  </a:lnTo>
                  <a:lnTo>
                    <a:pt x="252" y="78"/>
                  </a:lnTo>
                  <a:lnTo>
                    <a:pt x="232" y="82"/>
                  </a:lnTo>
                  <a:lnTo>
                    <a:pt x="209" y="86"/>
                  </a:lnTo>
                  <a:lnTo>
                    <a:pt x="185" y="88"/>
                  </a:lnTo>
                  <a:lnTo>
                    <a:pt x="161" y="89"/>
                  </a:lnTo>
                  <a:lnTo>
                    <a:pt x="138" y="88"/>
                  </a:lnTo>
                  <a:lnTo>
                    <a:pt x="118" y="86"/>
                  </a:lnTo>
                  <a:lnTo>
                    <a:pt x="102" y="80"/>
                  </a:lnTo>
                  <a:lnTo>
                    <a:pt x="91" y="74"/>
                  </a:lnTo>
                  <a:lnTo>
                    <a:pt x="77" y="67"/>
                  </a:lnTo>
                  <a:lnTo>
                    <a:pt x="59" y="58"/>
                  </a:lnTo>
                  <a:lnTo>
                    <a:pt x="43" y="48"/>
                  </a:lnTo>
                  <a:lnTo>
                    <a:pt x="28" y="36"/>
                  </a:lnTo>
                  <a:lnTo>
                    <a:pt x="18" y="25"/>
                  </a:lnTo>
                  <a:lnTo>
                    <a:pt x="14" y="1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34920" y="5457600"/>
              <a:ext cx="250200" cy="369720"/>
            </a:xfrm>
            <a:custGeom>
              <a:avLst/>
              <a:gdLst/>
              <a:ahLst/>
              <a:rect l="l" t="t" r="r" b="b"/>
              <a:pathLst>
                <a:path w="314" h="464">
                  <a:moveTo>
                    <a:pt x="254" y="464"/>
                  </a:moveTo>
                  <a:lnTo>
                    <a:pt x="250" y="450"/>
                  </a:lnTo>
                  <a:lnTo>
                    <a:pt x="241" y="433"/>
                  </a:lnTo>
                  <a:lnTo>
                    <a:pt x="232" y="412"/>
                  </a:lnTo>
                  <a:lnTo>
                    <a:pt x="221" y="389"/>
                  </a:lnTo>
                  <a:lnTo>
                    <a:pt x="207" y="364"/>
                  </a:lnTo>
                  <a:lnTo>
                    <a:pt x="192" y="336"/>
                  </a:lnTo>
                  <a:lnTo>
                    <a:pt x="176" y="307"/>
                  </a:lnTo>
                  <a:lnTo>
                    <a:pt x="159" y="279"/>
                  </a:lnTo>
                  <a:lnTo>
                    <a:pt x="140" y="249"/>
                  </a:lnTo>
                  <a:lnTo>
                    <a:pt x="120" y="219"/>
                  </a:lnTo>
                  <a:lnTo>
                    <a:pt x="101" y="190"/>
                  </a:lnTo>
                  <a:lnTo>
                    <a:pt x="80" y="161"/>
                  </a:lnTo>
                  <a:lnTo>
                    <a:pt x="59" y="134"/>
                  </a:lnTo>
                  <a:lnTo>
                    <a:pt x="40" y="109"/>
                  </a:lnTo>
                  <a:lnTo>
                    <a:pt x="19" y="87"/>
                  </a:lnTo>
                  <a:lnTo>
                    <a:pt x="0" y="68"/>
                  </a:lnTo>
                  <a:lnTo>
                    <a:pt x="11" y="70"/>
                  </a:lnTo>
                  <a:lnTo>
                    <a:pt x="27" y="71"/>
                  </a:lnTo>
                  <a:lnTo>
                    <a:pt x="46" y="72"/>
                  </a:lnTo>
                  <a:lnTo>
                    <a:pt x="66" y="72"/>
                  </a:lnTo>
                  <a:lnTo>
                    <a:pt x="89" y="71"/>
                  </a:lnTo>
                  <a:lnTo>
                    <a:pt x="114" y="69"/>
                  </a:lnTo>
                  <a:lnTo>
                    <a:pt x="138" y="65"/>
                  </a:lnTo>
                  <a:lnTo>
                    <a:pt x="163" y="62"/>
                  </a:lnTo>
                  <a:lnTo>
                    <a:pt x="188" y="57"/>
                  </a:lnTo>
                  <a:lnTo>
                    <a:pt x="213" y="52"/>
                  </a:lnTo>
                  <a:lnTo>
                    <a:pt x="236" y="45"/>
                  </a:lnTo>
                  <a:lnTo>
                    <a:pt x="256" y="38"/>
                  </a:lnTo>
                  <a:lnTo>
                    <a:pt x="276" y="30"/>
                  </a:lnTo>
                  <a:lnTo>
                    <a:pt x="292" y="20"/>
                  </a:lnTo>
                  <a:lnTo>
                    <a:pt x="305" y="10"/>
                  </a:lnTo>
                  <a:lnTo>
                    <a:pt x="314" y="0"/>
                  </a:lnTo>
                  <a:lnTo>
                    <a:pt x="313" y="5"/>
                  </a:lnTo>
                  <a:lnTo>
                    <a:pt x="311" y="12"/>
                  </a:lnTo>
                  <a:lnTo>
                    <a:pt x="305" y="20"/>
                  </a:lnTo>
                  <a:lnTo>
                    <a:pt x="298" y="28"/>
                  </a:lnTo>
                  <a:lnTo>
                    <a:pt x="289" y="37"/>
                  </a:lnTo>
                  <a:lnTo>
                    <a:pt x="278" y="45"/>
                  </a:lnTo>
                  <a:lnTo>
                    <a:pt x="264" y="54"/>
                  </a:lnTo>
                  <a:lnTo>
                    <a:pt x="251" y="62"/>
                  </a:lnTo>
                  <a:lnTo>
                    <a:pt x="233" y="70"/>
                  </a:lnTo>
                  <a:lnTo>
                    <a:pt x="216" y="77"/>
                  </a:lnTo>
                  <a:lnTo>
                    <a:pt x="195" y="84"/>
                  </a:lnTo>
                  <a:lnTo>
                    <a:pt x="175" y="88"/>
                  </a:lnTo>
                  <a:lnTo>
                    <a:pt x="152" y="93"/>
                  </a:lnTo>
                  <a:lnTo>
                    <a:pt x="126" y="96"/>
                  </a:lnTo>
                  <a:lnTo>
                    <a:pt x="101" y="99"/>
                  </a:lnTo>
                  <a:lnTo>
                    <a:pt x="73" y="99"/>
                  </a:lnTo>
                  <a:lnTo>
                    <a:pt x="93" y="119"/>
                  </a:lnTo>
                  <a:lnTo>
                    <a:pt x="118" y="155"/>
                  </a:lnTo>
                  <a:lnTo>
                    <a:pt x="146" y="201"/>
                  </a:lnTo>
                  <a:lnTo>
                    <a:pt x="176" y="254"/>
                  </a:lnTo>
                  <a:lnTo>
                    <a:pt x="203" y="311"/>
                  </a:lnTo>
                  <a:lnTo>
                    <a:pt x="226" y="366"/>
                  </a:lnTo>
                  <a:lnTo>
                    <a:pt x="245" y="419"/>
                  </a:lnTo>
                  <a:lnTo>
                    <a:pt x="254" y="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856880" y="5397120"/>
              <a:ext cx="220320" cy="92160"/>
            </a:xfrm>
            <a:custGeom>
              <a:avLst/>
              <a:gdLst/>
              <a:ahLst/>
              <a:rect l="l" t="t" r="r" b="b"/>
              <a:pathLst>
                <a:path w="279" h="118">
                  <a:moveTo>
                    <a:pt x="279" y="25"/>
                  </a:moveTo>
                  <a:lnTo>
                    <a:pt x="270" y="17"/>
                  </a:lnTo>
                  <a:lnTo>
                    <a:pt x="255" y="10"/>
                  </a:lnTo>
                  <a:lnTo>
                    <a:pt x="236" y="5"/>
                  </a:lnTo>
                  <a:lnTo>
                    <a:pt x="214" y="2"/>
                  </a:lnTo>
                  <a:lnTo>
                    <a:pt x="190" y="0"/>
                  </a:lnTo>
                  <a:lnTo>
                    <a:pt x="164" y="2"/>
                  </a:lnTo>
                  <a:lnTo>
                    <a:pt x="137" y="4"/>
                  </a:lnTo>
                  <a:lnTo>
                    <a:pt x="111" y="7"/>
                  </a:lnTo>
                  <a:lnTo>
                    <a:pt x="84" y="14"/>
                  </a:lnTo>
                  <a:lnTo>
                    <a:pt x="61" y="21"/>
                  </a:lnTo>
                  <a:lnTo>
                    <a:pt x="39" y="30"/>
                  </a:lnTo>
                  <a:lnTo>
                    <a:pt x="22" y="41"/>
                  </a:lnTo>
                  <a:lnTo>
                    <a:pt x="9" y="53"/>
                  </a:lnTo>
                  <a:lnTo>
                    <a:pt x="1" y="66"/>
                  </a:lnTo>
                  <a:lnTo>
                    <a:pt x="0" y="82"/>
                  </a:lnTo>
                  <a:lnTo>
                    <a:pt x="6" y="98"/>
                  </a:lnTo>
                  <a:lnTo>
                    <a:pt x="15" y="106"/>
                  </a:lnTo>
                  <a:lnTo>
                    <a:pt x="31" y="112"/>
                  </a:lnTo>
                  <a:lnTo>
                    <a:pt x="53" y="116"/>
                  </a:lnTo>
                  <a:lnTo>
                    <a:pt x="79" y="118"/>
                  </a:lnTo>
                  <a:lnTo>
                    <a:pt x="107" y="117"/>
                  </a:lnTo>
                  <a:lnTo>
                    <a:pt x="136" y="112"/>
                  </a:lnTo>
                  <a:lnTo>
                    <a:pt x="164" y="105"/>
                  </a:lnTo>
                  <a:lnTo>
                    <a:pt x="189" y="96"/>
                  </a:lnTo>
                  <a:lnTo>
                    <a:pt x="170" y="95"/>
                  </a:lnTo>
                  <a:lnTo>
                    <a:pt x="146" y="95"/>
                  </a:lnTo>
                  <a:lnTo>
                    <a:pt x="123" y="95"/>
                  </a:lnTo>
                  <a:lnTo>
                    <a:pt x="99" y="95"/>
                  </a:lnTo>
                  <a:lnTo>
                    <a:pt x="76" y="93"/>
                  </a:lnTo>
                  <a:lnTo>
                    <a:pt x="58" y="89"/>
                  </a:lnTo>
                  <a:lnTo>
                    <a:pt x="44" y="81"/>
                  </a:lnTo>
                  <a:lnTo>
                    <a:pt x="37" y="71"/>
                  </a:lnTo>
                  <a:lnTo>
                    <a:pt x="37" y="65"/>
                  </a:lnTo>
                  <a:lnTo>
                    <a:pt x="42" y="58"/>
                  </a:lnTo>
                  <a:lnTo>
                    <a:pt x="50" y="52"/>
                  </a:lnTo>
                  <a:lnTo>
                    <a:pt x="60" y="47"/>
                  </a:lnTo>
                  <a:lnTo>
                    <a:pt x="74" y="41"/>
                  </a:lnTo>
                  <a:lnTo>
                    <a:pt x="89" y="35"/>
                  </a:lnTo>
                  <a:lnTo>
                    <a:pt x="107" y="30"/>
                  </a:lnTo>
                  <a:lnTo>
                    <a:pt x="126" y="27"/>
                  </a:lnTo>
                  <a:lnTo>
                    <a:pt x="145" y="24"/>
                  </a:lnTo>
                  <a:lnTo>
                    <a:pt x="166" y="20"/>
                  </a:lnTo>
                  <a:lnTo>
                    <a:pt x="187" y="19"/>
                  </a:lnTo>
                  <a:lnTo>
                    <a:pt x="208" y="18"/>
                  </a:lnTo>
                  <a:lnTo>
                    <a:pt x="227" y="18"/>
                  </a:lnTo>
                  <a:lnTo>
                    <a:pt x="246" y="19"/>
                  </a:lnTo>
                  <a:lnTo>
                    <a:pt x="263" y="21"/>
                  </a:lnTo>
                  <a:lnTo>
                    <a:pt x="27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093400" y="5462280"/>
              <a:ext cx="36360" cy="347760"/>
            </a:xfrm>
            <a:custGeom>
              <a:avLst/>
              <a:gdLst/>
              <a:ahLst/>
              <a:rect l="l" t="t" r="r" b="b"/>
              <a:pathLst>
                <a:path w="46" h="439">
                  <a:moveTo>
                    <a:pt x="3" y="0"/>
                  </a:moveTo>
                  <a:lnTo>
                    <a:pt x="2" y="27"/>
                  </a:lnTo>
                  <a:lnTo>
                    <a:pt x="0" y="75"/>
                  </a:lnTo>
                  <a:lnTo>
                    <a:pt x="0" y="140"/>
                  </a:lnTo>
                  <a:lnTo>
                    <a:pt x="2" y="211"/>
                  </a:lnTo>
                  <a:lnTo>
                    <a:pt x="5" y="284"/>
                  </a:lnTo>
                  <a:lnTo>
                    <a:pt x="11" y="352"/>
                  </a:lnTo>
                  <a:lnTo>
                    <a:pt x="19" y="406"/>
                  </a:lnTo>
                  <a:lnTo>
                    <a:pt x="31" y="439"/>
                  </a:lnTo>
                  <a:lnTo>
                    <a:pt x="46" y="438"/>
                  </a:lnTo>
                  <a:lnTo>
                    <a:pt x="42" y="397"/>
                  </a:lnTo>
                  <a:lnTo>
                    <a:pt x="37" y="346"/>
                  </a:lnTo>
                  <a:lnTo>
                    <a:pt x="30" y="288"/>
                  </a:lnTo>
                  <a:lnTo>
                    <a:pt x="23" y="228"/>
                  </a:lnTo>
                  <a:lnTo>
                    <a:pt x="15" y="166"/>
                  </a:lnTo>
                  <a:lnTo>
                    <a:pt x="10" y="106"/>
                  </a:lnTo>
                  <a:lnTo>
                    <a:pt x="5" y="5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88720" y="6072120"/>
              <a:ext cx="215640" cy="307800"/>
            </a:xfrm>
            <a:custGeom>
              <a:avLst/>
              <a:gdLst/>
              <a:ahLst/>
              <a:rect l="l" t="t" r="r" b="b"/>
              <a:pathLst>
                <a:path w="271" h="387">
                  <a:moveTo>
                    <a:pt x="0" y="0"/>
                  </a:moveTo>
                  <a:lnTo>
                    <a:pt x="7" y="65"/>
                  </a:lnTo>
                  <a:lnTo>
                    <a:pt x="15" y="176"/>
                  </a:lnTo>
                  <a:lnTo>
                    <a:pt x="19" y="296"/>
                  </a:lnTo>
                  <a:lnTo>
                    <a:pt x="21" y="387"/>
                  </a:lnTo>
                  <a:lnTo>
                    <a:pt x="35" y="387"/>
                  </a:lnTo>
                  <a:lnTo>
                    <a:pt x="52" y="387"/>
                  </a:lnTo>
                  <a:lnTo>
                    <a:pt x="68" y="386"/>
                  </a:lnTo>
                  <a:lnTo>
                    <a:pt x="84" y="385"/>
                  </a:lnTo>
                  <a:lnTo>
                    <a:pt x="101" y="383"/>
                  </a:lnTo>
                  <a:lnTo>
                    <a:pt x="118" y="379"/>
                  </a:lnTo>
                  <a:lnTo>
                    <a:pt x="136" y="374"/>
                  </a:lnTo>
                  <a:lnTo>
                    <a:pt x="153" y="369"/>
                  </a:lnTo>
                  <a:lnTo>
                    <a:pt x="170" y="362"/>
                  </a:lnTo>
                  <a:lnTo>
                    <a:pt x="186" y="353"/>
                  </a:lnTo>
                  <a:lnTo>
                    <a:pt x="203" y="343"/>
                  </a:lnTo>
                  <a:lnTo>
                    <a:pt x="218" y="331"/>
                  </a:lnTo>
                  <a:lnTo>
                    <a:pt x="232" y="318"/>
                  </a:lnTo>
                  <a:lnTo>
                    <a:pt x="246" y="303"/>
                  </a:lnTo>
                  <a:lnTo>
                    <a:pt x="259" y="286"/>
                  </a:lnTo>
                  <a:lnTo>
                    <a:pt x="271" y="266"/>
                  </a:lnTo>
                  <a:lnTo>
                    <a:pt x="261" y="272"/>
                  </a:lnTo>
                  <a:lnTo>
                    <a:pt x="252" y="279"/>
                  </a:lnTo>
                  <a:lnTo>
                    <a:pt x="242" y="285"/>
                  </a:lnTo>
                  <a:lnTo>
                    <a:pt x="230" y="291"/>
                  </a:lnTo>
                  <a:lnTo>
                    <a:pt x="219" y="298"/>
                  </a:lnTo>
                  <a:lnTo>
                    <a:pt x="207" y="305"/>
                  </a:lnTo>
                  <a:lnTo>
                    <a:pt x="194" y="312"/>
                  </a:lnTo>
                  <a:lnTo>
                    <a:pt x="181" y="318"/>
                  </a:lnTo>
                  <a:lnTo>
                    <a:pt x="167" y="325"/>
                  </a:lnTo>
                  <a:lnTo>
                    <a:pt x="153" y="331"/>
                  </a:lnTo>
                  <a:lnTo>
                    <a:pt x="138" y="336"/>
                  </a:lnTo>
                  <a:lnTo>
                    <a:pt x="123" y="341"/>
                  </a:lnTo>
                  <a:lnTo>
                    <a:pt x="107" y="346"/>
                  </a:lnTo>
                  <a:lnTo>
                    <a:pt x="91" y="349"/>
                  </a:lnTo>
                  <a:lnTo>
                    <a:pt x="75" y="351"/>
                  </a:lnTo>
                  <a:lnTo>
                    <a:pt x="57" y="354"/>
                  </a:lnTo>
                  <a:lnTo>
                    <a:pt x="60" y="327"/>
                  </a:lnTo>
                  <a:lnTo>
                    <a:pt x="59" y="286"/>
                  </a:lnTo>
                  <a:lnTo>
                    <a:pt x="54" y="236"/>
                  </a:lnTo>
                  <a:lnTo>
                    <a:pt x="47" y="182"/>
                  </a:lnTo>
                  <a:lnTo>
                    <a:pt x="38" y="127"/>
                  </a:lnTo>
                  <a:lnTo>
                    <a:pt x="26" y="75"/>
                  </a:lnTo>
                  <a:lnTo>
                    <a:pt x="14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96720" y="6075000"/>
              <a:ext cx="107640" cy="209520"/>
            </a:xfrm>
            <a:custGeom>
              <a:avLst/>
              <a:gdLst/>
              <a:ahLst/>
              <a:rect l="l" t="t" r="r" b="b"/>
              <a:pathLst>
                <a:path w="135" h="264">
                  <a:moveTo>
                    <a:pt x="0" y="0"/>
                  </a:moveTo>
                  <a:lnTo>
                    <a:pt x="9" y="18"/>
                  </a:lnTo>
                  <a:lnTo>
                    <a:pt x="25" y="45"/>
                  </a:lnTo>
                  <a:lnTo>
                    <a:pt x="46" y="81"/>
                  </a:lnTo>
                  <a:lnTo>
                    <a:pt x="68" y="121"/>
                  </a:lnTo>
                  <a:lnTo>
                    <a:pt x="91" y="163"/>
                  </a:lnTo>
                  <a:lnTo>
                    <a:pt x="110" y="203"/>
                  </a:lnTo>
                  <a:lnTo>
                    <a:pt x="126" y="238"/>
                  </a:lnTo>
                  <a:lnTo>
                    <a:pt x="135" y="264"/>
                  </a:lnTo>
                  <a:lnTo>
                    <a:pt x="133" y="239"/>
                  </a:lnTo>
                  <a:lnTo>
                    <a:pt x="125" y="205"/>
                  </a:lnTo>
                  <a:lnTo>
                    <a:pt x="111" y="167"/>
                  </a:lnTo>
                  <a:lnTo>
                    <a:pt x="93" y="128"/>
                  </a:lnTo>
                  <a:lnTo>
                    <a:pt x="72" y="88"/>
                  </a:lnTo>
                  <a:lnTo>
                    <a:pt x="48" y="52"/>
                  </a:lnTo>
                  <a:lnTo>
                    <a:pt x="24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396800" y="5464080"/>
              <a:ext cx="75600" cy="420480"/>
            </a:xfrm>
            <a:custGeom>
              <a:avLst/>
              <a:gdLst/>
              <a:ahLst/>
              <a:rect l="l" t="t" r="r" b="b"/>
              <a:pathLst>
                <a:path w="96" h="530">
                  <a:moveTo>
                    <a:pt x="12" y="0"/>
                  </a:moveTo>
                  <a:lnTo>
                    <a:pt x="6" y="33"/>
                  </a:lnTo>
                  <a:lnTo>
                    <a:pt x="2" y="93"/>
                  </a:lnTo>
                  <a:lnTo>
                    <a:pt x="0" y="169"/>
                  </a:lnTo>
                  <a:lnTo>
                    <a:pt x="3" y="254"/>
                  </a:lnTo>
                  <a:lnTo>
                    <a:pt x="12" y="341"/>
                  </a:lnTo>
                  <a:lnTo>
                    <a:pt x="30" y="421"/>
                  </a:lnTo>
                  <a:lnTo>
                    <a:pt x="57" y="487"/>
                  </a:lnTo>
                  <a:lnTo>
                    <a:pt x="96" y="530"/>
                  </a:lnTo>
                  <a:lnTo>
                    <a:pt x="83" y="499"/>
                  </a:lnTo>
                  <a:lnTo>
                    <a:pt x="69" y="462"/>
                  </a:lnTo>
                  <a:lnTo>
                    <a:pt x="56" y="418"/>
                  </a:lnTo>
                  <a:lnTo>
                    <a:pt x="45" y="364"/>
                  </a:lnTo>
                  <a:lnTo>
                    <a:pt x="34" y="297"/>
                  </a:lnTo>
                  <a:lnTo>
                    <a:pt x="25" y="215"/>
                  </a:lnTo>
                  <a:lnTo>
                    <a:pt x="18" y="11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296720" y="5859360"/>
              <a:ext cx="604440" cy="95040"/>
            </a:xfrm>
            <a:custGeom>
              <a:avLst/>
              <a:gdLst/>
              <a:ahLst/>
              <a:rect l="l" t="t" r="r" b="b"/>
              <a:pathLst>
                <a:path w="763" h="118">
                  <a:moveTo>
                    <a:pt x="0" y="0"/>
                  </a:moveTo>
                  <a:lnTo>
                    <a:pt x="12" y="11"/>
                  </a:lnTo>
                  <a:lnTo>
                    <a:pt x="29" y="24"/>
                  </a:lnTo>
                  <a:lnTo>
                    <a:pt x="51" y="39"/>
                  </a:lnTo>
                  <a:lnTo>
                    <a:pt x="76" y="54"/>
                  </a:lnTo>
                  <a:lnTo>
                    <a:pt x="106" y="67"/>
                  </a:lnTo>
                  <a:lnTo>
                    <a:pt x="139" y="82"/>
                  </a:lnTo>
                  <a:lnTo>
                    <a:pt x="177" y="95"/>
                  </a:lnTo>
                  <a:lnTo>
                    <a:pt x="218" y="106"/>
                  </a:lnTo>
                  <a:lnTo>
                    <a:pt x="260" y="114"/>
                  </a:lnTo>
                  <a:lnTo>
                    <a:pt x="306" y="118"/>
                  </a:lnTo>
                  <a:lnTo>
                    <a:pt x="355" y="118"/>
                  </a:lnTo>
                  <a:lnTo>
                    <a:pt x="406" y="114"/>
                  </a:lnTo>
                  <a:lnTo>
                    <a:pt x="457" y="104"/>
                  </a:lnTo>
                  <a:lnTo>
                    <a:pt x="511" y="89"/>
                  </a:lnTo>
                  <a:lnTo>
                    <a:pt x="567" y="67"/>
                  </a:lnTo>
                  <a:lnTo>
                    <a:pt x="622" y="38"/>
                  </a:lnTo>
                  <a:lnTo>
                    <a:pt x="635" y="31"/>
                  </a:lnTo>
                  <a:lnTo>
                    <a:pt x="651" y="26"/>
                  </a:lnTo>
                  <a:lnTo>
                    <a:pt x="668" y="23"/>
                  </a:lnTo>
                  <a:lnTo>
                    <a:pt x="688" y="20"/>
                  </a:lnTo>
                  <a:lnTo>
                    <a:pt x="707" y="21"/>
                  </a:lnTo>
                  <a:lnTo>
                    <a:pt x="727" y="24"/>
                  </a:lnTo>
                  <a:lnTo>
                    <a:pt x="745" y="29"/>
                  </a:lnTo>
                  <a:lnTo>
                    <a:pt x="763" y="38"/>
                  </a:lnTo>
                  <a:lnTo>
                    <a:pt x="742" y="21"/>
                  </a:lnTo>
                  <a:lnTo>
                    <a:pt x="720" y="11"/>
                  </a:lnTo>
                  <a:lnTo>
                    <a:pt x="699" y="6"/>
                  </a:lnTo>
                  <a:lnTo>
                    <a:pt x="680" y="6"/>
                  </a:lnTo>
                  <a:lnTo>
                    <a:pt x="660" y="9"/>
                  </a:lnTo>
                  <a:lnTo>
                    <a:pt x="641" y="14"/>
                  </a:lnTo>
                  <a:lnTo>
                    <a:pt x="623" y="20"/>
                  </a:lnTo>
                  <a:lnTo>
                    <a:pt x="607" y="26"/>
                  </a:lnTo>
                  <a:lnTo>
                    <a:pt x="561" y="47"/>
                  </a:lnTo>
                  <a:lnTo>
                    <a:pt x="515" y="62"/>
                  </a:lnTo>
                  <a:lnTo>
                    <a:pt x="469" y="74"/>
                  </a:lnTo>
                  <a:lnTo>
                    <a:pt x="424" y="82"/>
                  </a:lnTo>
                  <a:lnTo>
                    <a:pt x="379" y="87"/>
                  </a:lnTo>
                  <a:lnTo>
                    <a:pt x="336" y="89"/>
                  </a:lnTo>
                  <a:lnTo>
                    <a:pt x="294" y="88"/>
                  </a:lnTo>
                  <a:lnTo>
                    <a:pt x="253" y="85"/>
                  </a:lnTo>
                  <a:lnTo>
                    <a:pt x="214" y="79"/>
                  </a:lnTo>
                  <a:lnTo>
                    <a:pt x="176" y="71"/>
                  </a:lnTo>
                  <a:lnTo>
                    <a:pt x="141" y="62"/>
                  </a:lnTo>
                  <a:lnTo>
                    <a:pt x="107" y="51"/>
                  </a:lnTo>
                  <a:lnTo>
                    <a:pt x="76" y="39"/>
                  </a:lnTo>
                  <a:lnTo>
                    <a:pt x="48" y="26"/>
                  </a:lnTo>
                  <a:lnTo>
                    <a:pt x="2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803240" y="5898960"/>
              <a:ext cx="228240" cy="631800"/>
            </a:xfrm>
            <a:custGeom>
              <a:avLst/>
              <a:gdLst/>
              <a:ahLst/>
              <a:rect l="l" t="t" r="r" b="b"/>
              <a:pathLst>
                <a:path w="288" h="796">
                  <a:moveTo>
                    <a:pt x="103" y="0"/>
                  </a:moveTo>
                  <a:lnTo>
                    <a:pt x="85" y="42"/>
                  </a:lnTo>
                  <a:lnTo>
                    <a:pt x="65" y="126"/>
                  </a:lnTo>
                  <a:lnTo>
                    <a:pt x="46" y="240"/>
                  </a:lnTo>
                  <a:lnTo>
                    <a:pt x="34" y="369"/>
                  </a:lnTo>
                  <a:lnTo>
                    <a:pt x="29" y="499"/>
                  </a:lnTo>
                  <a:lnTo>
                    <a:pt x="37" y="617"/>
                  </a:lnTo>
                  <a:lnTo>
                    <a:pt x="62" y="708"/>
                  </a:lnTo>
                  <a:lnTo>
                    <a:pt x="107" y="757"/>
                  </a:lnTo>
                  <a:lnTo>
                    <a:pt x="134" y="765"/>
                  </a:lnTo>
                  <a:lnTo>
                    <a:pt x="158" y="764"/>
                  </a:lnTo>
                  <a:lnTo>
                    <a:pt x="180" y="756"/>
                  </a:lnTo>
                  <a:lnTo>
                    <a:pt x="200" y="741"/>
                  </a:lnTo>
                  <a:lnTo>
                    <a:pt x="216" y="720"/>
                  </a:lnTo>
                  <a:lnTo>
                    <a:pt x="231" y="695"/>
                  </a:lnTo>
                  <a:lnTo>
                    <a:pt x="243" y="664"/>
                  </a:lnTo>
                  <a:lnTo>
                    <a:pt x="254" y="630"/>
                  </a:lnTo>
                  <a:lnTo>
                    <a:pt x="263" y="593"/>
                  </a:lnTo>
                  <a:lnTo>
                    <a:pt x="269" y="554"/>
                  </a:lnTo>
                  <a:lnTo>
                    <a:pt x="273" y="514"/>
                  </a:lnTo>
                  <a:lnTo>
                    <a:pt x="277" y="472"/>
                  </a:lnTo>
                  <a:lnTo>
                    <a:pt x="278" y="432"/>
                  </a:lnTo>
                  <a:lnTo>
                    <a:pt x="277" y="393"/>
                  </a:lnTo>
                  <a:lnTo>
                    <a:pt x="274" y="355"/>
                  </a:lnTo>
                  <a:lnTo>
                    <a:pt x="271" y="319"/>
                  </a:lnTo>
                  <a:lnTo>
                    <a:pt x="278" y="358"/>
                  </a:lnTo>
                  <a:lnTo>
                    <a:pt x="282" y="399"/>
                  </a:lnTo>
                  <a:lnTo>
                    <a:pt x="286" y="441"/>
                  </a:lnTo>
                  <a:lnTo>
                    <a:pt x="288" y="484"/>
                  </a:lnTo>
                  <a:lnTo>
                    <a:pt x="287" y="528"/>
                  </a:lnTo>
                  <a:lnTo>
                    <a:pt x="285" y="570"/>
                  </a:lnTo>
                  <a:lnTo>
                    <a:pt x="280" y="611"/>
                  </a:lnTo>
                  <a:lnTo>
                    <a:pt x="273" y="650"/>
                  </a:lnTo>
                  <a:lnTo>
                    <a:pt x="263" y="686"/>
                  </a:lnTo>
                  <a:lnTo>
                    <a:pt x="250" y="718"/>
                  </a:lnTo>
                  <a:lnTo>
                    <a:pt x="235" y="746"/>
                  </a:lnTo>
                  <a:lnTo>
                    <a:pt x="216" y="767"/>
                  </a:lnTo>
                  <a:lnTo>
                    <a:pt x="194" y="785"/>
                  </a:lnTo>
                  <a:lnTo>
                    <a:pt x="168" y="794"/>
                  </a:lnTo>
                  <a:lnTo>
                    <a:pt x="140" y="796"/>
                  </a:lnTo>
                  <a:lnTo>
                    <a:pt x="107" y="790"/>
                  </a:lnTo>
                  <a:lnTo>
                    <a:pt x="76" y="774"/>
                  </a:lnTo>
                  <a:lnTo>
                    <a:pt x="51" y="747"/>
                  </a:lnTo>
                  <a:lnTo>
                    <a:pt x="31" y="710"/>
                  </a:lnTo>
                  <a:lnTo>
                    <a:pt x="16" y="664"/>
                  </a:lnTo>
                  <a:lnTo>
                    <a:pt x="7" y="612"/>
                  </a:lnTo>
                  <a:lnTo>
                    <a:pt x="1" y="554"/>
                  </a:lnTo>
                  <a:lnTo>
                    <a:pt x="0" y="493"/>
                  </a:lnTo>
                  <a:lnTo>
                    <a:pt x="4" y="429"/>
                  </a:lnTo>
                  <a:lnTo>
                    <a:pt x="8" y="363"/>
                  </a:lnTo>
                  <a:lnTo>
                    <a:pt x="17" y="298"/>
                  </a:lnTo>
                  <a:lnTo>
                    <a:pt x="28" y="236"/>
                  </a:lnTo>
                  <a:lnTo>
                    <a:pt x="41" y="176"/>
                  </a:lnTo>
                  <a:lnTo>
                    <a:pt x="54" y="121"/>
                  </a:lnTo>
                  <a:lnTo>
                    <a:pt x="70" y="73"/>
                  </a:lnTo>
                  <a:lnTo>
                    <a:pt x="87" y="32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101240" y="6146640"/>
              <a:ext cx="695160" cy="385560"/>
            </a:xfrm>
            <a:custGeom>
              <a:avLst/>
              <a:gdLst/>
              <a:ahLst/>
              <a:rect l="l" t="t" r="r" b="b"/>
              <a:pathLst>
                <a:path w="875" h="486">
                  <a:moveTo>
                    <a:pt x="0" y="0"/>
                  </a:moveTo>
                  <a:lnTo>
                    <a:pt x="4" y="9"/>
                  </a:lnTo>
                  <a:lnTo>
                    <a:pt x="9" y="20"/>
                  </a:lnTo>
                  <a:lnTo>
                    <a:pt x="15" y="31"/>
                  </a:lnTo>
                  <a:lnTo>
                    <a:pt x="22" y="45"/>
                  </a:lnTo>
                  <a:lnTo>
                    <a:pt x="28" y="60"/>
                  </a:lnTo>
                  <a:lnTo>
                    <a:pt x="37" y="76"/>
                  </a:lnTo>
                  <a:lnTo>
                    <a:pt x="47" y="92"/>
                  </a:lnTo>
                  <a:lnTo>
                    <a:pt x="57" y="111"/>
                  </a:lnTo>
                  <a:lnTo>
                    <a:pt x="69" y="129"/>
                  </a:lnTo>
                  <a:lnTo>
                    <a:pt x="83" y="149"/>
                  </a:lnTo>
                  <a:lnTo>
                    <a:pt x="98" y="168"/>
                  </a:lnTo>
                  <a:lnTo>
                    <a:pt x="114" y="188"/>
                  </a:lnTo>
                  <a:lnTo>
                    <a:pt x="131" y="209"/>
                  </a:lnTo>
                  <a:lnTo>
                    <a:pt x="151" y="229"/>
                  </a:lnTo>
                  <a:lnTo>
                    <a:pt x="171" y="250"/>
                  </a:lnTo>
                  <a:lnTo>
                    <a:pt x="194" y="271"/>
                  </a:lnTo>
                  <a:lnTo>
                    <a:pt x="219" y="291"/>
                  </a:lnTo>
                  <a:lnTo>
                    <a:pt x="246" y="310"/>
                  </a:lnTo>
                  <a:lnTo>
                    <a:pt x="275" y="330"/>
                  </a:lnTo>
                  <a:lnTo>
                    <a:pt x="306" y="348"/>
                  </a:lnTo>
                  <a:lnTo>
                    <a:pt x="338" y="365"/>
                  </a:lnTo>
                  <a:lnTo>
                    <a:pt x="374" y="383"/>
                  </a:lnTo>
                  <a:lnTo>
                    <a:pt x="412" y="398"/>
                  </a:lnTo>
                  <a:lnTo>
                    <a:pt x="452" y="413"/>
                  </a:lnTo>
                  <a:lnTo>
                    <a:pt x="496" y="425"/>
                  </a:lnTo>
                  <a:lnTo>
                    <a:pt x="541" y="437"/>
                  </a:lnTo>
                  <a:lnTo>
                    <a:pt x="589" y="447"/>
                  </a:lnTo>
                  <a:lnTo>
                    <a:pt x="641" y="455"/>
                  </a:lnTo>
                  <a:lnTo>
                    <a:pt x="695" y="462"/>
                  </a:lnTo>
                  <a:lnTo>
                    <a:pt x="752" y="467"/>
                  </a:lnTo>
                  <a:lnTo>
                    <a:pt x="812" y="469"/>
                  </a:lnTo>
                  <a:lnTo>
                    <a:pt x="875" y="469"/>
                  </a:lnTo>
                  <a:lnTo>
                    <a:pt x="848" y="475"/>
                  </a:lnTo>
                  <a:lnTo>
                    <a:pt x="820" y="478"/>
                  </a:lnTo>
                  <a:lnTo>
                    <a:pt x="790" y="482"/>
                  </a:lnTo>
                  <a:lnTo>
                    <a:pt x="760" y="484"/>
                  </a:lnTo>
                  <a:lnTo>
                    <a:pt x="729" y="485"/>
                  </a:lnTo>
                  <a:lnTo>
                    <a:pt x="698" y="486"/>
                  </a:lnTo>
                  <a:lnTo>
                    <a:pt x="665" y="485"/>
                  </a:lnTo>
                  <a:lnTo>
                    <a:pt x="633" y="483"/>
                  </a:lnTo>
                  <a:lnTo>
                    <a:pt x="601" y="479"/>
                  </a:lnTo>
                  <a:lnTo>
                    <a:pt x="568" y="476"/>
                  </a:lnTo>
                  <a:lnTo>
                    <a:pt x="534" y="470"/>
                  </a:lnTo>
                  <a:lnTo>
                    <a:pt x="502" y="463"/>
                  </a:lnTo>
                  <a:lnTo>
                    <a:pt x="468" y="455"/>
                  </a:lnTo>
                  <a:lnTo>
                    <a:pt x="435" y="445"/>
                  </a:lnTo>
                  <a:lnTo>
                    <a:pt x="403" y="435"/>
                  </a:lnTo>
                  <a:lnTo>
                    <a:pt x="371" y="422"/>
                  </a:lnTo>
                  <a:lnTo>
                    <a:pt x="339" y="408"/>
                  </a:lnTo>
                  <a:lnTo>
                    <a:pt x="308" y="392"/>
                  </a:lnTo>
                  <a:lnTo>
                    <a:pt x="278" y="376"/>
                  </a:lnTo>
                  <a:lnTo>
                    <a:pt x="248" y="357"/>
                  </a:lnTo>
                  <a:lnTo>
                    <a:pt x="221" y="337"/>
                  </a:lnTo>
                  <a:lnTo>
                    <a:pt x="193" y="315"/>
                  </a:lnTo>
                  <a:lnTo>
                    <a:pt x="167" y="292"/>
                  </a:lnTo>
                  <a:lnTo>
                    <a:pt x="141" y="266"/>
                  </a:lnTo>
                  <a:lnTo>
                    <a:pt x="118" y="240"/>
                  </a:lnTo>
                  <a:lnTo>
                    <a:pt x="96" y="211"/>
                  </a:lnTo>
                  <a:lnTo>
                    <a:pt x="76" y="181"/>
                  </a:lnTo>
                  <a:lnTo>
                    <a:pt x="56" y="149"/>
                  </a:lnTo>
                  <a:lnTo>
                    <a:pt x="39" y="114"/>
                  </a:lnTo>
                  <a:lnTo>
                    <a:pt x="24" y="79"/>
                  </a:lnTo>
                  <a:lnTo>
                    <a:pt x="1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439720" y="4689360"/>
              <a:ext cx="28080" cy="137880"/>
            </a:xfrm>
            <a:custGeom>
              <a:avLst/>
              <a:gdLst/>
              <a:ahLst/>
              <a:rect l="l" t="t" r="r" b="b"/>
              <a:pathLst>
                <a:path w="36" h="174">
                  <a:moveTo>
                    <a:pt x="30" y="0"/>
                  </a:moveTo>
                  <a:lnTo>
                    <a:pt x="33" y="15"/>
                  </a:lnTo>
                  <a:lnTo>
                    <a:pt x="36" y="34"/>
                  </a:lnTo>
                  <a:lnTo>
                    <a:pt x="36" y="57"/>
                  </a:lnTo>
                  <a:lnTo>
                    <a:pt x="33" y="83"/>
                  </a:lnTo>
                  <a:lnTo>
                    <a:pt x="29" y="108"/>
                  </a:lnTo>
                  <a:lnTo>
                    <a:pt x="22" y="133"/>
                  </a:lnTo>
                  <a:lnTo>
                    <a:pt x="12" y="155"/>
                  </a:lnTo>
                  <a:lnTo>
                    <a:pt x="0" y="174"/>
                  </a:lnTo>
                  <a:lnTo>
                    <a:pt x="6" y="141"/>
                  </a:lnTo>
                  <a:lnTo>
                    <a:pt x="15" y="95"/>
                  </a:lnTo>
                  <a:lnTo>
                    <a:pt x="24" y="4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430000" y="4846320"/>
              <a:ext cx="87120" cy="41400"/>
            </a:xfrm>
            <a:custGeom>
              <a:avLst/>
              <a:gdLst/>
              <a:ahLst/>
              <a:rect l="l" t="t" r="r" b="b"/>
              <a:pathLst>
                <a:path w="111" h="51">
                  <a:moveTo>
                    <a:pt x="104" y="11"/>
                  </a:moveTo>
                  <a:lnTo>
                    <a:pt x="109" y="18"/>
                  </a:lnTo>
                  <a:lnTo>
                    <a:pt x="111" y="25"/>
                  </a:lnTo>
                  <a:lnTo>
                    <a:pt x="109" y="31"/>
                  </a:lnTo>
                  <a:lnTo>
                    <a:pt x="104" y="36"/>
                  </a:lnTo>
                  <a:lnTo>
                    <a:pt x="98" y="39"/>
                  </a:lnTo>
                  <a:lnTo>
                    <a:pt x="89" y="40"/>
                  </a:lnTo>
                  <a:lnTo>
                    <a:pt x="80" y="39"/>
                  </a:lnTo>
                  <a:lnTo>
                    <a:pt x="69" y="35"/>
                  </a:lnTo>
                  <a:lnTo>
                    <a:pt x="61" y="41"/>
                  </a:lnTo>
                  <a:lnTo>
                    <a:pt x="50" y="47"/>
                  </a:lnTo>
                  <a:lnTo>
                    <a:pt x="36" y="51"/>
                  </a:lnTo>
                  <a:lnTo>
                    <a:pt x="23" y="51"/>
                  </a:lnTo>
                  <a:lnTo>
                    <a:pt x="12" y="47"/>
                  </a:lnTo>
                  <a:lnTo>
                    <a:pt x="4" y="38"/>
                  </a:lnTo>
                  <a:lnTo>
                    <a:pt x="0" y="22"/>
                  </a:lnTo>
                  <a:lnTo>
                    <a:pt x="3" y="0"/>
                  </a:lnTo>
                  <a:lnTo>
                    <a:pt x="4" y="13"/>
                  </a:lnTo>
                  <a:lnTo>
                    <a:pt x="8" y="23"/>
                  </a:lnTo>
                  <a:lnTo>
                    <a:pt x="15" y="30"/>
                  </a:lnTo>
                  <a:lnTo>
                    <a:pt x="25" y="33"/>
                  </a:lnTo>
                  <a:lnTo>
                    <a:pt x="35" y="36"/>
                  </a:lnTo>
                  <a:lnTo>
                    <a:pt x="45" y="33"/>
                  </a:lnTo>
                  <a:lnTo>
                    <a:pt x="57" y="28"/>
                  </a:lnTo>
                  <a:lnTo>
                    <a:pt x="67" y="20"/>
                  </a:lnTo>
                  <a:lnTo>
                    <a:pt x="74" y="23"/>
                  </a:lnTo>
                  <a:lnTo>
                    <a:pt x="80" y="26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28"/>
                  </a:lnTo>
                  <a:lnTo>
                    <a:pt x="96" y="24"/>
                  </a:lnTo>
                  <a:lnTo>
                    <a:pt x="99" y="20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422080" y="4924080"/>
              <a:ext cx="145800" cy="24120"/>
            </a:xfrm>
            <a:custGeom>
              <a:avLst/>
              <a:gdLst/>
              <a:ahLst/>
              <a:rect l="l" t="t" r="r" b="b"/>
              <a:pathLst>
                <a:path w="183" h="30">
                  <a:moveTo>
                    <a:pt x="183" y="2"/>
                  </a:moveTo>
                  <a:lnTo>
                    <a:pt x="173" y="7"/>
                  </a:lnTo>
                  <a:lnTo>
                    <a:pt x="163" y="9"/>
                  </a:lnTo>
                  <a:lnTo>
                    <a:pt x="151" y="11"/>
                  </a:lnTo>
                  <a:lnTo>
                    <a:pt x="139" y="12"/>
                  </a:lnTo>
                  <a:lnTo>
                    <a:pt x="128" y="11"/>
                  </a:lnTo>
                  <a:lnTo>
                    <a:pt x="116" y="10"/>
                  </a:lnTo>
                  <a:lnTo>
                    <a:pt x="106" y="7"/>
                  </a:lnTo>
                  <a:lnTo>
                    <a:pt x="97" y="1"/>
                  </a:lnTo>
                  <a:lnTo>
                    <a:pt x="89" y="0"/>
                  </a:lnTo>
                  <a:lnTo>
                    <a:pt x="82" y="3"/>
                  </a:lnTo>
                  <a:lnTo>
                    <a:pt x="74" y="9"/>
                  </a:lnTo>
                  <a:lnTo>
                    <a:pt x="67" y="11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6"/>
                  </a:lnTo>
                  <a:lnTo>
                    <a:pt x="40" y="7"/>
                  </a:lnTo>
                  <a:lnTo>
                    <a:pt x="36" y="10"/>
                  </a:lnTo>
                  <a:lnTo>
                    <a:pt x="32" y="12"/>
                  </a:lnTo>
                  <a:lnTo>
                    <a:pt x="29" y="14"/>
                  </a:lnTo>
                  <a:lnTo>
                    <a:pt x="25" y="14"/>
                  </a:lnTo>
                  <a:lnTo>
                    <a:pt x="21" y="14"/>
                  </a:lnTo>
                  <a:lnTo>
                    <a:pt x="16" y="12"/>
                  </a:lnTo>
                  <a:lnTo>
                    <a:pt x="9" y="11"/>
                  </a:lnTo>
                  <a:lnTo>
                    <a:pt x="2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5" y="25"/>
                  </a:lnTo>
                  <a:lnTo>
                    <a:pt x="9" y="29"/>
                  </a:lnTo>
                  <a:lnTo>
                    <a:pt x="16" y="30"/>
                  </a:lnTo>
                  <a:lnTo>
                    <a:pt x="24" y="30"/>
                  </a:lnTo>
                  <a:lnTo>
                    <a:pt x="34" y="27"/>
                  </a:lnTo>
                  <a:lnTo>
                    <a:pt x="43" y="23"/>
                  </a:lnTo>
                  <a:lnTo>
                    <a:pt x="51" y="26"/>
                  </a:lnTo>
                  <a:lnTo>
                    <a:pt x="59" y="29"/>
                  </a:lnTo>
                  <a:lnTo>
                    <a:pt x="65" y="30"/>
                  </a:lnTo>
                  <a:lnTo>
                    <a:pt x="72" y="29"/>
                  </a:lnTo>
                  <a:lnTo>
                    <a:pt x="77" y="27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7" y="22"/>
                  </a:lnTo>
                  <a:lnTo>
                    <a:pt x="119" y="25"/>
                  </a:lnTo>
                  <a:lnTo>
                    <a:pt x="129" y="27"/>
                  </a:lnTo>
                  <a:lnTo>
                    <a:pt x="139" y="26"/>
                  </a:lnTo>
                  <a:lnTo>
                    <a:pt x="150" y="24"/>
                  </a:lnTo>
                  <a:lnTo>
                    <a:pt x="160" y="19"/>
                  </a:lnTo>
                  <a:lnTo>
                    <a:pt x="172" y="11"/>
                  </a:lnTo>
                  <a:lnTo>
                    <a:pt x="1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450880" y="4951080"/>
              <a:ext cx="91440" cy="41400"/>
            </a:xfrm>
            <a:custGeom>
              <a:avLst/>
              <a:gdLst/>
              <a:ahLst/>
              <a:rect l="l" t="t" r="r" b="b"/>
              <a:pathLst>
                <a:path w="115" h="53">
                  <a:moveTo>
                    <a:pt x="115" y="0"/>
                  </a:moveTo>
                  <a:lnTo>
                    <a:pt x="111" y="4"/>
                  </a:lnTo>
                  <a:lnTo>
                    <a:pt x="104" y="9"/>
                  </a:lnTo>
                  <a:lnTo>
                    <a:pt x="94" y="16"/>
                  </a:lnTo>
                  <a:lnTo>
                    <a:pt x="82" y="22"/>
                  </a:lnTo>
                  <a:lnTo>
                    <a:pt x="68" y="28"/>
                  </a:lnTo>
                  <a:lnTo>
                    <a:pt x="52" y="31"/>
                  </a:lnTo>
                  <a:lnTo>
                    <a:pt x="33" y="31"/>
                  </a:lnTo>
                  <a:lnTo>
                    <a:pt x="15" y="27"/>
                  </a:lnTo>
                  <a:lnTo>
                    <a:pt x="2" y="27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14" y="50"/>
                  </a:lnTo>
                  <a:lnTo>
                    <a:pt x="25" y="52"/>
                  </a:lnTo>
                  <a:lnTo>
                    <a:pt x="39" y="53"/>
                  </a:lnTo>
                  <a:lnTo>
                    <a:pt x="53" y="52"/>
                  </a:lnTo>
                  <a:lnTo>
                    <a:pt x="68" y="47"/>
                  </a:lnTo>
                  <a:lnTo>
                    <a:pt x="82" y="40"/>
                  </a:lnTo>
                  <a:lnTo>
                    <a:pt x="96" y="30"/>
                  </a:lnTo>
                  <a:lnTo>
                    <a:pt x="107" y="17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266560" y="4389120"/>
              <a:ext cx="79200" cy="181080"/>
            </a:xfrm>
            <a:custGeom>
              <a:avLst/>
              <a:gdLst/>
              <a:ahLst/>
              <a:rect l="l" t="t" r="r" b="b"/>
              <a:pathLst>
                <a:path w="99" h="227">
                  <a:moveTo>
                    <a:pt x="15" y="227"/>
                  </a:moveTo>
                  <a:lnTo>
                    <a:pt x="7" y="200"/>
                  </a:lnTo>
                  <a:lnTo>
                    <a:pt x="1" y="169"/>
                  </a:lnTo>
                  <a:lnTo>
                    <a:pt x="0" y="135"/>
                  </a:lnTo>
                  <a:lnTo>
                    <a:pt x="5" y="99"/>
                  </a:lnTo>
                  <a:lnTo>
                    <a:pt x="16" y="67"/>
                  </a:lnTo>
                  <a:lnTo>
                    <a:pt x="35" y="37"/>
                  </a:lnTo>
                  <a:lnTo>
                    <a:pt x="62" y="15"/>
                  </a:lnTo>
                  <a:lnTo>
                    <a:pt x="99" y="0"/>
                  </a:lnTo>
                  <a:lnTo>
                    <a:pt x="87" y="14"/>
                  </a:lnTo>
                  <a:lnTo>
                    <a:pt x="73" y="26"/>
                  </a:lnTo>
                  <a:lnTo>
                    <a:pt x="58" y="42"/>
                  </a:lnTo>
                  <a:lnTo>
                    <a:pt x="44" y="63"/>
                  </a:lnTo>
                  <a:lnTo>
                    <a:pt x="31" y="90"/>
                  </a:lnTo>
                  <a:lnTo>
                    <a:pt x="21" y="124"/>
                  </a:lnTo>
                  <a:lnTo>
                    <a:pt x="15" y="169"/>
                  </a:lnTo>
                  <a:lnTo>
                    <a:pt x="15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330280" y="4394160"/>
              <a:ext cx="58320" cy="153720"/>
            </a:xfrm>
            <a:custGeom>
              <a:avLst/>
              <a:gdLst/>
              <a:ahLst/>
              <a:rect l="l" t="t" r="r" b="b"/>
              <a:pathLst>
                <a:path w="73" h="193">
                  <a:moveTo>
                    <a:pt x="25" y="193"/>
                  </a:moveTo>
                  <a:lnTo>
                    <a:pt x="11" y="170"/>
                  </a:lnTo>
                  <a:lnTo>
                    <a:pt x="3" y="145"/>
                  </a:lnTo>
                  <a:lnTo>
                    <a:pt x="0" y="117"/>
                  </a:lnTo>
                  <a:lnTo>
                    <a:pt x="3" y="89"/>
                  </a:lnTo>
                  <a:lnTo>
                    <a:pt x="11" y="63"/>
                  </a:lnTo>
                  <a:lnTo>
                    <a:pt x="25" y="38"/>
                  </a:lnTo>
                  <a:lnTo>
                    <a:pt x="46" y="17"/>
                  </a:lnTo>
                  <a:lnTo>
                    <a:pt x="73" y="0"/>
                  </a:lnTo>
                  <a:lnTo>
                    <a:pt x="62" y="10"/>
                  </a:lnTo>
                  <a:lnTo>
                    <a:pt x="52" y="25"/>
                  </a:lnTo>
                  <a:lnTo>
                    <a:pt x="40" y="42"/>
                  </a:lnTo>
                  <a:lnTo>
                    <a:pt x="31" y="65"/>
                  </a:lnTo>
                  <a:lnTo>
                    <a:pt x="24" y="91"/>
                  </a:lnTo>
                  <a:lnTo>
                    <a:pt x="20" y="121"/>
                  </a:lnTo>
                  <a:lnTo>
                    <a:pt x="20" y="155"/>
                  </a:lnTo>
                  <a:lnTo>
                    <a:pt x="25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420640" y="4410000"/>
              <a:ext cx="59760" cy="128520"/>
            </a:xfrm>
            <a:custGeom>
              <a:avLst/>
              <a:gdLst/>
              <a:ahLst/>
              <a:rect l="l" t="t" r="r" b="b"/>
              <a:pathLst>
                <a:path w="76" h="164">
                  <a:moveTo>
                    <a:pt x="10" y="164"/>
                  </a:moveTo>
                  <a:lnTo>
                    <a:pt x="5" y="145"/>
                  </a:lnTo>
                  <a:lnTo>
                    <a:pt x="1" y="124"/>
                  </a:lnTo>
                  <a:lnTo>
                    <a:pt x="0" y="100"/>
                  </a:lnTo>
                  <a:lnTo>
                    <a:pt x="3" y="77"/>
                  </a:lnTo>
                  <a:lnTo>
                    <a:pt x="13" y="54"/>
                  </a:lnTo>
                  <a:lnTo>
                    <a:pt x="26" y="32"/>
                  </a:lnTo>
                  <a:lnTo>
                    <a:pt x="47" y="14"/>
                  </a:lnTo>
                  <a:lnTo>
                    <a:pt x="76" y="0"/>
                  </a:lnTo>
                  <a:lnTo>
                    <a:pt x="68" y="12"/>
                  </a:lnTo>
                  <a:lnTo>
                    <a:pt x="59" y="23"/>
                  </a:lnTo>
                  <a:lnTo>
                    <a:pt x="47" y="36"/>
                  </a:lnTo>
                  <a:lnTo>
                    <a:pt x="37" y="51"/>
                  </a:lnTo>
                  <a:lnTo>
                    <a:pt x="26" y="69"/>
                  </a:lnTo>
                  <a:lnTo>
                    <a:pt x="17" y="93"/>
                  </a:lnTo>
                  <a:lnTo>
                    <a:pt x="13" y="124"/>
                  </a:lnTo>
                  <a:lnTo>
                    <a:pt x="10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04880" y="4424040"/>
              <a:ext cx="90000" cy="12564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0" y="157"/>
                  </a:moveTo>
                  <a:lnTo>
                    <a:pt x="1" y="140"/>
                  </a:lnTo>
                  <a:lnTo>
                    <a:pt x="4" y="118"/>
                  </a:lnTo>
                  <a:lnTo>
                    <a:pt x="12" y="93"/>
                  </a:lnTo>
                  <a:lnTo>
                    <a:pt x="23" y="66"/>
                  </a:lnTo>
                  <a:lnTo>
                    <a:pt x="38" y="42"/>
                  </a:lnTo>
                  <a:lnTo>
                    <a:pt x="59" y="22"/>
                  </a:lnTo>
                  <a:lnTo>
                    <a:pt x="84" y="7"/>
                  </a:lnTo>
                  <a:lnTo>
                    <a:pt x="115" y="0"/>
                  </a:lnTo>
                  <a:lnTo>
                    <a:pt x="105" y="9"/>
                  </a:lnTo>
                  <a:lnTo>
                    <a:pt x="91" y="20"/>
                  </a:lnTo>
                  <a:lnTo>
                    <a:pt x="75" y="35"/>
                  </a:lnTo>
                  <a:lnTo>
                    <a:pt x="57" y="53"/>
                  </a:lnTo>
                  <a:lnTo>
                    <a:pt x="40" y="73"/>
                  </a:lnTo>
                  <a:lnTo>
                    <a:pt x="24" y="98"/>
                  </a:lnTo>
                  <a:lnTo>
                    <a:pt x="10" y="125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577600" y="4479840"/>
              <a:ext cx="125280" cy="75960"/>
            </a:xfrm>
            <a:custGeom>
              <a:avLst/>
              <a:gdLst/>
              <a:ahLst/>
              <a:rect l="l" t="t" r="r" b="b"/>
              <a:pathLst>
                <a:path w="158" h="95">
                  <a:moveTo>
                    <a:pt x="0" y="95"/>
                  </a:moveTo>
                  <a:lnTo>
                    <a:pt x="9" y="71"/>
                  </a:lnTo>
                  <a:lnTo>
                    <a:pt x="22" y="49"/>
                  </a:lnTo>
                  <a:lnTo>
                    <a:pt x="37" y="32"/>
                  </a:lnTo>
                  <a:lnTo>
                    <a:pt x="55" y="17"/>
                  </a:lnTo>
                  <a:lnTo>
                    <a:pt x="76" y="7"/>
                  </a:lnTo>
                  <a:lnTo>
                    <a:pt x="100" y="1"/>
                  </a:lnTo>
                  <a:lnTo>
                    <a:pt x="128" y="0"/>
                  </a:lnTo>
                  <a:lnTo>
                    <a:pt x="158" y="3"/>
                  </a:lnTo>
                  <a:lnTo>
                    <a:pt x="137" y="8"/>
                  </a:lnTo>
                  <a:lnTo>
                    <a:pt x="115" y="15"/>
                  </a:lnTo>
                  <a:lnTo>
                    <a:pt x="93" y="24"/>
                  </a:lnTo>
                  <a:lnTo>
                    <a:pt x="71" y="34"/>
                  </a:lnTo>
                  <a:lnTo>
                    <a:pt x="51" y="47"/>
                  </a:lnTo>
                  <a:lnTo>
                    <a:pt x="31" y="61"/>
                  </a:lnTo>
                  <a:lnTo>
                    <a:pt x="14" y="77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658600" y="4543200"/>
              <a:ext cx="133200" cy="38160"/>
            </a:xfrm>
            <a:custGeom>
              <a:avLst/>
              <a:gdLst/>
              <a:ahLst/>
              <a:rect l="l" t="t" r="r" b="b"/>
              <a:pathLst>
                <a:path w="168" h="49">
                  <a:moveTo>
                    <a:pt x="0" y="49"/>
                  </a:moveTo>
                  <a:lnTo>
                    <a:pt x="13" y="34"/>
                  </a:lnTo>
                  <a:lnTo>
                    <a:pt x="30" y="21"/>
                  </a:lnTo>
                  <a:lnTo>
                    <a:pt x="51" y="11"/>
                  </a:lnTo>
                  <a:lnTo>
                    <a:pt x="74" y="4"/>
                  </a:lnTo>
                  <a:lnTo>
                    <a:pt x="98" y="0"/>
                  </a:lnTo>
                  <a:lnTo>
                    <a:pt x="123" y="0"/>
                  </a:lnTo>
                  <a:lnTo>
                    <a:pt x="146" y="4"/>
                  </a:lnTo>
                  <a:lnTo>
                    <a:pt x="168" y="12"/>
                  </a:lnTo>
                  <a:lnTo>
                    <a:pt x="147" y="12"/>
                  </a:lnTo>
                  <a:lnTo>
                    <a:pt x="123" y="14"/>
                  </a:lnTo>
                  <a:lnTo>
                    <a:pt x="98" y="19"/>
                  </a:lnTo>
                  <a:lnTo>
                    <a:pt x="74" y="25"/>
                  </a:lnTo>
                  <a:lnTo>
                    <a:pt x="51" y="30"/>
                  </a:lnTo>
                  <a:lnTo>
                    <a:pt x="30" y="37"/>
                  </a:lnTo>
                  <a:lnTo>
                    <a:pt x="13" y="43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690640" y="4600440"/>
              <a:ext cx="156600" cy="33120"/>
            </a:xfrm>
            <a:custGeom>
              <a:avLst/>
              <a:gdLst/>
              <a:ahLst/>
              <a:rect l="l" t="t" r="r" b="b"/>
              <a:pathLst>
                <a:path w="199" h="42">
                  <a:moveTo>
                    <a:pt x="0" y="42"/>
                  </a:moveTo>
                  <a:lnTo>
                    <a:pt x="9" y="34"/>
                  </a:lnTo>
                  <a:lnTo>
                    <a:pt x="19" y="26"/>
                  </a:lnTo>
                  <a:lnTo>
                    <a:pt x="30" y="21"/>
                  </a:lnTo>
                  <a:lnTo>
                    <a:pt x="40" y="14"/>
                  </a:lnTo>
                  <a:lnTo>
                    <a:pt x="51" y="9"/>
                  </a:lnTo>
                  <a:lnTo>
                    <a:pt x="64" y="6"/>
                  </a:lnTo>
                  <a:lnTo>
                    <a:pt x="76" y="2"/>
                  </a:lnTo>
                  <a:lnTo>
                    <a:pt x="88" y="0"/>
                  </a:lnTo>
                  <a:lnTo>
                    <a:pt x="101" y="0"/>
                  </a:lnTo>
                  <a:lnTo>
                    <a:pt x="115" y="1"/>
                  </a:lnTo>
                  <a:lnTo>
                    <a:pt x="129" y="3"/>
                  </a:lnTo>
                  <a:lnTo>
                    <a:pt x="142" y="8"/>
                  </a:lnTo>
                  <a:lnTo>
                    <a:pt x="156" y="14"/>
                  </a:lnTo>
                  <a:lnTo>
                    <a:pt x="170" y="21"/>
                  </a:lnTo>
                  <a:lnTo>
                    <a:pt x="184" y="30"/>
                  </a:lnTo>
                  <a:lnTo>
                    <a:pt x="199" y="41"/>
                  </a:lnTo>
                  <a:lnTo>
                    <a:pt x="189" y="37"/>
                  </a:lnTo>
                  <a:lnTo>
                    <a:pt x="178" y="32"/>
                  </a:lnTo>
                  <a:lnTo>
                    <a:pt x="168" y="29"/>
                  </a:lnTo>
                  <a:lnTo>
                    <a:pt x="156" y="26"/>
                  </a:lnTo>
                  <a:lnTo>
                    <a:pt x="145" y="24"/>
                  </a:lnTo>
                  <a:lnTo>
                    <a:pt x="133" y="22"/>
                  </a:lnTo>
                  <a:lnTo>
                    <a:pt x="121" y="21"/>
                  </a:lnTo>
                  <a:lnTo>
                    <a:pt x="109" y="21"/>
                  </a:lnTo>
                  <a:lnTo>
                    <a:pt x="96" y="21"/>
                  </a:lnTo>
                  <a:lnTo>
                    <a:pt x="83" y="22"/>
                  </a:lnTo>
                  <a:lnTo>
                    <a:pt x="70" y="24"/>
                  </a:lnTo>
                  <a:lnTo>
                    <a:pt x="56" y="26"/>
                  </a:lnTo>
                  <a:lnTo>
                    <a:pt x="42" y="29"/>
                  </a:lnTo>
                  <a:lnTo>
                    <a:pt x="28" y="33"/>
                  </a:lnTo>
                  <a:lnTo>
                    <a:pt x="15" y="3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477880" y="5114880"/>
              <a:ext cx="31320" cy="155520"/>
            </a:xfrm>
            <a:custGeom>
              <a:avLst/>
              <a:gdLst/>
              <a:ahLst/>
              <a:rect l="l" t="t" r="r" b="b"/>
              <a:pathLst>
                <a:path w="40" h="197">
                  <a:moveTo>
                    <a:pt x="6" y="0"/>
                  </a:moveTo>
                  <a:lnTo>
                    <a:pt x="14" y="36"/>
                  </a:lnTo>
                  <a:lnTo>
                    <a:pt x="20" y="87"/>
                  </a:lnTo>
                  <a:lnTo>
                    <a:pt x="17" y="142"/>
                  </a:lnTo>
                  <a:lnTo>
                    <a:pt x="0" y="197"/>
                  </a:lnTo>
                  <a:lnTo>
                    <a:pt x="17" y="178"/>
                  </a:lnTo>
                  <a:lnTo>
                    <a:pt x="28" y="155"/>
                  </a:lnTo>
                  <a:lnTo>
                    <a:pt x="36" y="129"/>
                  </a:lnTo>
                  <a:lnTo>
                    <a:pt x="40" y="103"/>
                  </a:lnTo>
                  <a:lnTo>
                    <a:pt x="38" y="75"/>
                  </a:lnTo>
                  <a:lnTo>
                    <a:pt x="33" y="49"/>
                  </a:lnTo>
                  <a:lnTo>
                    <a:pt x="22" y="2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725560" y="4922640"/>
              <a:ext cx="72360" cy="241200"/>
            </a:xfrm>
            <a:custGeom>
              <a:avLst/>
              <a:gdLst/>
              <a:ahLst/>
              <a:rect l="l" t="t" r="r" b="b"/>
              <a:pathLst>
                <a:path w="94" h="303">
                  <a:moveTo>
                    <a:pt x="5" y="0"/>
                  </a:moveTo>
                  <a:lnTo>
                    <a:pt x="3" y="23"/>
                  </a:lnTo>
                  <a:lnTo>
                    <a:pt x="0" y="56"/>
                  </a:lnTo>
                  <a:lnTo>
                    <a:pt x="2" y="98"/>
                  </a:lnTo>
                  <a:lnTo>
                    <a:pt x="7" y="142"/>
                  </a:lnTo>
                  <a:lnTo>
                    <a:pt x="18" y="189"/>
                  </a:lnTo>
                  <a:lnTo>
                    <a:pt x="35" y="234"/>
                  </a:lnTo>
                  <a:lnTo>
                    <a:pt x="59" y="273"/>
                  </a:lnTo>
                  <a:lnTo>
                    <a:pt x="94" y="303"/>
                  </a:lnTo>
                  <a:lnTo>
                    <a:pt x="74" y="274"/>
                  </a:lnTo>
                  <a:lnTo>
                    <a:pt x="57" y="243"/>
                  </a:lnTo>
                  <a:lnTo>
                    <a:pt x="43" y="210"/>
                  </a:lnTo>
                  <a:lnTo>
                    <a:pt x="33" y="175"/>
                  </a:lnTo>
                  <a:lnTo>
                    <a:pt x="23" y="137"/>
                  </a:lnTo>
                  <a:lnTo>
                    <a:pt x="17" y="95"/>
                  </a:lnTo>
                  <a:lnTo>
                    <a:pt x="10" y="4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436480" y="5268600"/>
              <a:ext cx="353520" cy="127080"/>
            </a:xfrm>
            <a:custGeom>
              <a:avLst/>
              <a:gdLst/>
              <a:ahLst/>
              <a:rect l="l" t="t" r="r" b="b"/>
              <a:pathLst>
                <a:path w="445" h="160">
                  <a:moveTo>
                    <a:pt x="3" y="0"/>
                  </a:moveTo>
                  <a:lnTo>
                    <a:pt x="2" y="16"/>
                  </a:lnTo>
                  <a:lnTo>
                    <a:pt x="6" y="36"/>
                  </a:lnTo>
                  <a:lnTo>
                    <a:pt x="17" y="58"/>
                  </a:lnTo>
                  <a:lnTo>
                    <a:pt x="33" y="80"/>
                  </a:lnTo>
                  <a:lnTo>
                    <a:pt x="54" y="100"/>
                  </a:lnTo>
                  <a:lnTo>
                    <a:pt x="80" y="118"/>
                  </a:lnTo>
                  <a:lnTo>
                    <a:pt x="110" y="130"/>
                  </a:lnTo>
                  <a:lnTo>
                    <a:pt x="146" y="135"/>
                  </a:lnTo>
                  <a:lnTo>
                    <a:pt x="165" y="135"/>
                  </a:lnTo>
                  <a:lnTo>
                    <a:pt x="185" y="134"/>
                  </a:lnTo>
                  <a:lnTo>
                    <a:pt x="207" y="132"/>
                  </a:lnTo>
                  <a:lnTo>
                    <a:pt x="228" y="128"/>
                  </a:lnTo>
                  <a:lnTo>
                    <a:pt x="250" y="123"/>
                  </a:lnTo>
                  <a:lnTo>
                    <a:pt x="271" y="118"/>
                  </a:lnTo>
                  <a:lnTo>
                    <a:pt x="293" y="112"/>
                  </a:lnTo>
                  <a:lnTo>
                    <a:pt x="315" y="104"/>
                  </a:lnTo>
                  <a:lnTo>
                    <a:pt x="336" y="95"/>
                  </a:lnTo>
                  <a:lnTo>
                    <a:pt x="356" y="85"/>
                  </a:lnTo>
                  <a:lnTo>
                    <a:pt x="375" y="74"/>
                  </a:lnTo>
                  <a:lnTo>
                    <a:pt x="392" y="61"/>
                  </a:lnTo>
                  <a:lnTo>
                    <a:pt x="408" y="47"/>
                  </a:lnTo>
                  <a:lnTo>
                    <a:pt x="422" y="34"/>
                  </a:lnTo>
                  <a:lnTo>
                    <a:pt x="435" y="17"/>
                  </a:lnTo>
                  <a:lnTo>
                    <a:pt x="445" y="0"/>
                  </a:lnTo>
                  <a:lnTo>
                    <a:pt x="440" y="19"/>
                  </a:lnTo>
                  <a:lnTo>
                    <a:pt x="430" y="37"/>
                  </a:lnTo>
                  <a:lnTo>
                    <a:pt x="419" y="54"/>
                  </a:lnTo>
                  <a:lnTo>
                    <a:pt x="405" y="70"/>
                  </a:lnTo>
                  <a:lnTo>
                    <a:pt x="389" y="85"/>
                  </a:lnTo>
                  <a:lnTo>
                    <a:pt x="370" y="99"/>
                  </a:lnTo>
                  <a:lnTo>
                    <a:pt x="351" y="112"/>
                  </a:lnTo>
                  <a:lnTo>
                    <a:pt x="329" y="122"/>
                  </a:lnTo>
                  <a:lnTo>
                    <a:pt x="307" y="133"/>
                  </a:lnTo>
                  <a:lnTo>
                    <a:pt x="284" y="142"/>
                  </a:lnTo>
                  <a:lnTo>
                    <a:pt x="261" y="149"/>
                  </a:lnTo>
                  <a:lnTo>
                    <a:pt x="237" y="155"/>
                  </a:lnTo>
                  <a:lnTo>
                    <a:pt x="214" y="158"/>
                  </a:lnTo>
                  <a:lnTo>
                    <a:pt x="190" y="160"/>
                  </a:lnTo>
                  <a:lnTo>
                    <a:pt x="168" y="160"/>
                  </a:lnTo>
                  <a:lnTo>
                    <a:pt x="146" y="159"/>
                  </a:lnTo>
                  <a:lnTo>
                    <a:pt x="107" y="152"/>
                  </a:lnTo>
                  <a:lnTo>
                    <a:pt x="73" y="142"/>
                  </a:lnTo>
                  <a:lnTo>
                    <a:pt x="47" y="127"/>
                  </a:lnTo>
                  <a:lnTo>
                    <a:pt x="26" y="108"/>
                  </a:lnTo>
                  <a:lnTo>
                    <a:pt x="11" y="87"/>
                  </a:lnTo>
                  <a:lnTo>
                    <a:pt x="2" y="61"/>
                  </a:lnTo>
                  <a:lnTo>
                    <a:pt x="0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063520" y="5133600"/>
              <a:ext cx="366120" cy="231840"/>
            </a:xfrm>
            <a:custGeom>
              <a:avLst/>
              <a:gdLst/>
              <a:ahLst/>
              <a:rect l="l" t="t" r="r" b="b"/>
              <a:pathLst>
                <a:path w="462" h="291">
                  <a:moveTo>
                    <a:pt x="462" y="4"/>
                  </a:moveTo>
                  <a:lnTo>
                    <a:pt x="446" y="2"/>
                  </a:lnTo>
                  <a:lnTo>
                    <a:pt x="424" y="0"/>
                  </a:lnTo>
                  <a:lnTo>
                    <a:pt x="397" y="0"/>
                  </a:lnTo>
                  <a:lnTo>
                    <a:pt x="367" y="2"/>
                  </a:lnTo>
                  <a:lnTo>
                    <a:pt x="333" y="5"/>
                  </a:lnTo>
                  <a:lnTo>
                    <a:pt x="296" y="12"/>
                  </a:lnTo>
                  <a:lnTo>
                    <a:pt x="260" y="22"/>
                  </a:lnTo>
                  <a:lnTo>
                    <a:pt x="222" y="34"/>
                  </a:lnTo>
                  <a:lnTo>
                    <a:pt x="185" y="50"/>
                  </a:lnTo>
                  <a:lnTo>
                    <a:pt x="148" y="70"/>
                  </a:lnTo>
                  <a:lnTo>
                    <a:pt x="113" y="94"/>
                  </a:lnTo>
                  <a:lnTo>
                    <a:pt x="82" y="123"/>
                  </a:lnTo>
                  <a:lnTo>
                    <a:pt x="55" y="156"/>
                  </a:lnTo>
                  <a:lnTo>
                    <a:pt x="30" y="195"/>
                  </a:lnTo>
                  <a:lnTo>
                    <a:pt x="12" y="240"/>
                  </a:lnTo>
                  <a:lnTo>
                    <a:pt x="0" y="291"/>
                  </a:lnTo>
                  <a:lnTo>
                    <a:pt x="13" y="273"/>
                  </a:lnTo>
                  <a:lnTo>
                    <a:pt x="25" y="252"/>
                  </a:lnTo>
                  <a:lnTo>
                    <a:pt x="36" y="231"/>
                  </a:lnTo>
                  <a:lnTo>
                    <a:pt x="48" y="210"/>
                  </a:lnTo>
                  <a:lnTo>
                    <a:pt x="59" y="190"/>
                  </a:lnTo>
                  <a:lnTo>
                    <a:pt x="73" y="168"/>
                  </a:lnTo>
                  <a:lnTo>
                    <a:pt x="89" y="147"/>
                  </a:lnTo>
                  <a:lnTo>
                    <a:pt x="109" y="126"/>
                  </a:lnTo>
                  <a:lnTo>
                    <a:pt x="132" y="106"/>
                  </a:lnTo>
                  <a:lnTo>
                    <a:pt x="159" y="87"/>
                  </a:lnTo>
                  <a:lnTo>
                    <a:pt x="193" y="69"/>
                  </a:lnTo>
                  <a:lnTo>
                    <a:pt x="232" y="53"/>
                  </a:lnTo>
                  <a:lnTo>
                    <a:pt x="277" y="38"/>
                  </a:lnTo>
                  <a:lnTo>
                    <a:pt x="330" y="24"/>
                  </a:lnTo>
                  <a:lnTo>
                    <a:pt x="392" y="13"/>
                  </a:lnTo>
                  <a:lnTo>
                    <a:pt x="46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96800" y="5402160"/>
              <a:ext cx="263160" cy="120600"/>
            </a:xfrm>
            <a:custGeom>
              <a:avLst/>
              <a:gdLst/>
              <a:ahLst/>
              <a:rect l="l" t="t" r="r" b="b"/>
              <a:pathLst>
                <a:path w="332" h="152">
                  <a:moveTo>
                    <a:pt x="121" y="50"/>
                  </a:moveTo>
                  <a:lnTo>
                    <a:pt x="135" y="52"/>
                  </a:lnTo>
                  <a:lnTo>
                    <a:pt x="151" y="56"/>
                  </a:lnTo>
                  <a:lnTo>
                    <a:pt x="170" y="59"/>
                  </a:lnTo>
                  <a:lnTo>
                    <a:pt x="186" y="65"/>
                  </a:lnTo>
                  <a:lnTo>
                    <a:pt x="200" y="72"/>
                  </a:lnTo>
                  <a:lnTo>
                    <a:pt x="210" y="80"/>
                  </a:lnTo>
                  <a:lnTo>
                    <a:pt x="212" y="91"/>
                  </a:lnTo>
                  <a:lnTo>
                    <a:pt x="208" y="105"/>
                  </a:lnTo>
                  <a:lnTo>
                    <a:pt x="203" y="111"/>
                  </a:lnTo>
                  <a:lnTo>
                    <a:pt x="196" y="116"/>
                  </a:lnTo>
                  <a:lnTo>
                    <a:pt x="186" y="120"/>
                  </a:lnTo>
                  <a:lnTo>
                    <a:pt x="174" y="124"/>
                  </a:lnTo>
                  <a:lnTo>
                    <a:pt x="162" y="127"/>
                  </a:lnTo>
                  <a:lnTo>
                    <a:pt x="148" y="129"/>
                  </a:lnTo>
                  <a:lnTo>
                    <a:pt x="133" y="131"/>
                  </a:lnTo>
                  <a:lnTo>
                    <a:pt x="117" y="132"/>
                  </a:lnTo>
                  <a:lnTo>
                    <a:pt x="102" y="131"/>
                  </a:lnTo>
                  <a:lnTo>
                    <a:pt x="87" y="129"/>
                  </a:lnTo>
                  <a:lnTo>
                    <a:pt x="72" y="126"/>
                  </a:lnTo>
                  <a:lnTo>
                    <a:pt x="58" y="123"/>
                  </a:lnTo>
                  <a:lnTo>
                    <a:pt x="45" y="117"/>
                  </a:lnTo>
                  <a:lnTo>
                    <a:pt x="35" y="110"/>
                  </a:lnTo>
                  <a:lnTo>
                    <a:pt x="27" y="101"/>
                  </a:lnTo>
                  <a:lnTo>
                    <a:pt x="21" y="90"/>
                  </a:lnTo>
                  <a:lnTo>
                    <a:pt x="19" y="79"/>
                  </a:lnTo>
                  <a:lnTo>
                    <a:pt x="22" y="67"/>
                  </a:lnTo>
                  <a:lnTo>
                    <a:pt x="30" y="56"/>
                  </a:lnTo>
                  <a:lnTo>
                    <a:pt x="42" y="45"/>
                  </a:lnTo>
                  <a:lnTo>
                    <a:pt x="57" y="36"/>
                  </a:lnTo>
                  <a:lnTo>
                    <a:pt x="76" y="28"/>
                  </a:lnTo>
                  <a:lnTo>
                    <a:pt x="97" y="22"/>
                  </a:lnTo>
                  <a:lnTo>
                    <a:pt x="121" y="19"/>
                  </a:lnTo>
                  <a:lnTo>
                    <a:pt x="147" y="18"/>
                  </a:lnTo>
                  <a:lnTo>
                    <a:pt x="173" y="20"/>
                  </a:lnTo>
                  <a:lnTo>
                    <a:pt x="201" y="25"/>
                  </a:lnTo>
                  <a:lnTo>
                    <a:pt x="228" y="33"/>
                  </a:lnTo>
                  <a:lnTo>
                    <a:pt x="255" y="45"/>
                  </a:lnTo>
                  <a:lnTo>
                    <a:pt x="283" y="61"/>
                  </a:lnTo>
                  <a:lnTo>
                    <a:pt x="308" y="82"/>
                  </a:lnTo>
                  <a:lnTo>
                    <a:pt x="332" y="108"/>
                  </a:lnTo>
                  <a:lnTo>
                    <a:pt x="326" y="89"/>
                  </a:lnTo>
                  <a:lnTo>
                    <a:pt x="312" y="72"/>
                  </a:lnTo>
                  <a:lnTo>
                    <a:pt x="294" y="56"/>
                  </a:lnTo>
                  <a:lnTo>
                    <a:pt x="270" y="41"/>
                  </a:lnTo>
                  <a:lnTo>
                    <a:pt x="243" y="28"/>
                  </a:lnTo>
                  <a:lnTo>
                    <a:pt x="213" y="17"/>
                  </a:lnTo>
                  <a:lnTo>
                    <a:pt x="182" y="8"/>
                  </a:lnTo>
                  <a:lnTo>
                    <a:pt x="150" y="3"/>
                  </a:lnTo>
                  <a:lnTo>
                    <a:pt x="119" y="0"/>
                  </a:lnTo>
                  <a:lnTo>
                    <a:pt x="89" y="0"/>
                  </a:lnTo>
                  <a:lnTo>
                    <a:pt x="62" y="5"/>
                  </a:lnTo>
                  <a:lnTo>
                    <a:pt x="38" y="14"/>
                  </a:lnTo>
                  <a:lnTo>
                    <a:pt x="20" y="28"/>
                  </a:lnTo>
                  <a:lnTo>
                    <a:pt x="7" y="46"/>
                  </a:lnTo>
                  <a:lnTo>
                    <a:pt x="0" y="71"/>
                  </a:lnTo>
                  <a:lnTo>
                    <a:pt x="3" y="99"/>
                  </a:lnTo>
                  <a:lnTo>
                    <a:pt x="7" y="111"/>
                  </a:lnTo>
                  <a:lnTo>
                    <a:pt x="15" y="120"/>
                  </a:lnTo>
                  <a:lnTo>
                    <a:pt x="26" y="129"/>
                  </a:lnTo>
                  <a:lnTo>
                    <a:pt x="41" y="136"/>
                  </a:lnTo>
                  <a:lnTo>
                    <a:pt x="57" y="143"/>
                  </a:lnTo>
                  <a:lnTo>
                    <a:pt x="74" y="148"/>
                  </a:lnTo>
                  <a:lnTo>
                    <a:pt x="94" y="151"/>
                  </a:lnTo>
                  <a:lnTo>
                    <a:pt x="113" y="152"/>
                  </a:lnTo>
                  <a:lnTo>
                    <a:pt x="133" y="152"/>
                  </a:lnTo>
                  <a:lnTo>
                    <a:pt x="152" y="151"/>
                  </a:lnTo>
                  <a:lnTo>
                    <a:pt x="172" y="148"/>
                  </a:lnTo>
                  <a:lnTo>
                    <a:pt x="189" y="142"/>
                  </a:lnTo>
                  <a:lnTo>
                    <a:pt x="204" y="135"/>
                  </a:lnTo>
                  <a:lnTo>
                    <a:pt x="217" y="126"/>
                  </a:lnTo>
                  <a:lnTo>
                    <a:pt x="227" y="114"/>
                  </a:lnTo>
                  <a:lnTo>
                    <a:pt x="234" y="101"/>
                  </a:lnTo>
                  <a:lnTo>
                    <a:pt x="235" y="84"/>
                  </a:lnTo>
                  <a:lnTo>
                    <a:pt x="228" y="73"/>
                  </a:lnTo>
                  <a:lnTo>
                    <a:pt x="216" y="64"/>
                  </a:lnTo>
                  <a:lnTo>
                    <a:pt x="198" y="57"/>
                  </a:lnTo>
                  <a:lnTo>
                    <a:pt x="179" y="52"/>
                  </a:lnTo>
                  <a:lnTo>
                    <a:pt x="158" y="50"/>
                  </a:lnTo>
                  <a:lnTo>
                    <a:pt x="139" y="50"/>
                  </a:lnTo>
                  <a:lnTo>
                    <a:pt x="12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311200" y="5519520"/>
              <a:ext cx="75600" cy="274680"/>
            </a:xfrm>
            <a:custGeom>
              <a:avLst/>
              <a:gdLst/>
              <a:ahLst/>
              <a:rect l="l" t="t" r="r" b="b"/>
              <a:pathLst>
                <a:path w="95" h="347">
                  <a:moveTo>
                    <a:pt x="0" y="0"/>
                  </a:moveTo>
                  <a:lnTo>
                    <a:pt x="8" y="18"/>
                  </a:lnTo>
                  <a:lnTo>
                    <a:pt x="20" y="51"/>
                  </a:lnTo>
                  <a:lnTo>
                    <a:pt x="35" y="91"/>
                  </a:lnTo>
                  <a:lnTo>
                    <a:pt x="50" y="139"/>
                  </a:lnTo>
                  <a:lnTo>
                    <a:pt x="64" y="192"/>
                  </a:lnTo>
                  <a:lnTo>
                    <a:pt x="77" y="245"/>
                  </a:lnTo>
                  <a:lnTo>
                    <a:pt x="85" y="298"/>
                  </a:lnTo>
                  <a:lnTo>
                    <a:pt x="88" y="347"/>
                  </a:lnTo>
                  <a:lnTo>
                    <a:pt x="95" y="309"/>
                  </a:lnTo>
                  <a:lnTo>
                    <a:pt x="95" y="263"/>
                  </a:lnTo>
                  <a:lnTo>
                    <a:pt x="91" y="213"/>
                  </a:lnTo>
                  <a:lnTo>
                    <a:pt x="80" y="162"/>
                  </a:lnTo>
                  <a:lnTo>
                    <a:pt x="65" y="113"/>
                  </a:lnTo>
                  <a:lnTo>
                    <a:pt x="47" y="67"/>
                  </a:lnTo>
                  <a:lnTo>
                    <a:pt x="25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468160" y="5510160"/>
              <a:ext cx="64800" cy="301320"/>
            </a:xfrm>
            <a:custGeom>
              <a:avLst/>
              <a:gdLst/>
              <a:ahLst/>
              <a:rect l="l" t="t" r="r" b="b"/>
              <a:pathLst>
                <a:path w="83" h="379">
                  <a:moveTo>
                    <a:pt x="83" y="0"/>
                  </a:moveTo>
                  <a:lnTo>
                    <a:pt x="71" y="25"/>
                  </a:lnTo>
                  <a:lnTo>
                    <a:pt x="56" y="63"/>
                  </a:lnTo>
                  <a:lnTo>
                    <a:pt x="40" y="112"/>
                  </a:lnTo>
                  <a:lnTo>
                    <a:pt x="25" y="169"/>
                  </a:lnTo>
                  <a:lnTo>
                    <a:pt x="12" y="227"/>
                  </a:lnTo>
                  <a:lnTo>
                    <a:pt x="3" y="285"/>
                  </a:lnTo>
                  <a:lnTo>
                    <a:pt x="0" y="337"/>
                  </a:lnTo>
                  <a:lnTo>
                    <a:pt x="4" y="379"/>
                  </a:lnTo>
                  <a:lnTo>
                    <a:pt x="9" y="343"/>
                  </a:lnTo>
                  <a:lnTo>
                    <a:pt x="17" y="298"/>
                  </a:lnTo>
                  <a:lnTo>
                    <a:pt x="26" y="246"/>
                  </a:lnTo>
                  <a:lnTo>
                    <a:pt x="37" y="193"/>
                  </a:lnTo>
                  <a:lnTo>
                    <a:pt x="47" y="139"/>
                  </a:lnTo>
                  <a:lnTo>
                    <a:pt x="60" y="87"/>
                  </a:lnTo>
                  <a:lnTo>
                    <a:pt x="71" y="4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271240" y="6081480"/>
              <a:ext cx="220320" cy="331920"/>
            </a:xfrm>
            <a:custGeom>
              <a:avLst/>
              <a:gdLst/>
              <a:ahLst/>
              <a:rect l="l" t="t" r="r" b="b"/>
              <a:pathLst>
                <a:path w="279" h="420">
                  <a:moveTo>
                    <a:pt x="109" y="0"/>
                  </a:moveTo>
                  <a:lnTo>
                    <a:pt x="105" y="23"/>
                  </a:lnTo>
                  <a:lnTo>
                    <a:pt x="94" y="64"/>
                  </a:lnTo>
                  <a:lnTo>
                    <a:pt x="81" y="116"/>
                  </a:lnTo>
                  <a:lnTo>
                    <a:pt x="63" y="174"/>
                  </a:lnTo>
                  <a:lnTo>
                    <a:pt x="46" y="234"/>
                  </a:lnTo>
                  <a:lnTo>
                    <a:pt x="28" y="290"/>
                  </a:lnTo>
                  <a:lnTo>
                    <a:pt x="13" y="336"/>
                  </a:lnTo>
                  <a:lnTo>
                    <a:pt x="0" y="367"/>
                  </a:lnTo>
                  <a:lnTo>
                    <a:pt x="9" y="375"/>
                  </a:lnTo>
                  <a:lnTo>
                    <a:pt x="20" y="383"/>
                  </a:lnTo>
                  <a:lnTo>
                    <a:pt x="32" y="391"/>
                  </a:lnTo>
                  <a:lnTo>
                    <a:pt x="46" y="398"/>
                  </a:lnTo>
                  <a:lnTo>
                    <a:pt x="61" y="405"/>
                  </a:lnTo>
                  <a:lnTo>
                    <a:pt x="77" y="411"/>
                  </a:lnTo>
                  <a:lnTo>
                    <a:pt x="94" y="415"/>
                  </a:lnTo>
                  <a:lnTo>
                    <a:pt x="113" y="419"/>
                  </a:lnTo>
                  <a:lnTo>
                    <a:pt x="133" y="420"/>
                  </a:lnTo>
                  <a:lnTo>
                    <a:pt x="152" y="420"/>
                  </a:lnTo>
                  <a:lnTo>
                    <a:pt x="173" y="419"/>
                  </a:lnTo>
                  <a:lnTo>
                    <a:pt x="194" y="415"/>
                  </a:lnTo>
                  <a:lnTo>
                    <a:pt x="214" y="409"/>
                  </a:lnTo>
                  <a:lnTo>
                    <a:pt x="236" y="401"/>
                  </a:lnTo>
                  <a:lnTo>
                    <a:pt x="258" y="391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3" y="381"/>
                  </a:lnTo>
                  <a:lnTo>
                    <a:pt x="252" y="383"/>
                  </a:lnTo>
                  <a:lnTo>
                    <a:pt x="240" y="385"/>
                  </a:lnTo>
                  <a:lnTo>
                    <a:pt x="226" y="388"/>
                  </a:lnTo>
                  <a:lnTo>
                    <a:pt x="211" y="390"/>
                  </a:lnTo>
                  <a:lnTo>
                    <a:pt x="195" y="391"/>
                  </a:lnTo>
                  <a:lnTo>
                    <a:pt x="177" y="392"/>
                  </a:lnTo>
                  <a:lnTo>
                    <a:pt x="159" y="392"/>
                  </a:lnTo>
                  <a:lnTo>
                    <a:pt x="141" y="392"/>
                  </a:lnTo>
                  <a:lnTo>
                    <a:pt x="121" y="390"/>
                  </a:lnTo>
                  <a:lnTo>
                    <a:pt x="103" y="386"/>
                  </a:lnTo>
                  <a:lnTo>
                    <a:pt x="83" y="382"/>
                  </a:lnTo>
                  <a:lnTo>
                    <a:pt x="65" y="375"/>
                  </a:lnTo>
                  <a:lnTo>
                    <a:pt x="46" y="367"/>
                  </a:lnTo>
                  <a:lnTo>
                    <a:pt x="28" y="356"/>
                  </a:lnTo>
                  <a:lnTo>
                    <a:pt x="38" y="330"/>
                  </a:lnTo>
                  <a:lnTo>
                    <a:pt x="51" y="291"/>
                  </a:lnTo>
                  <a:lnTo>
                    <a:pt x="65" y="242"/>
                  </a:lnTo>
                  <a:lnTo>
                    <a:pt x="78" y="189"/>
                  </a:lnTo>
                  <a:lnTo>
                    <a:pt x="90" y="134"/>
                  </a:lnTo>
                  <a:lnTo>
                    <a:pt x="100" y="82"/>
                  </a:lnTo>
                  <a:lnTo>
                    <a:pt x="107" y="3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468160" y="6099120"/>
              <a:ext cx="20520" cy="263520"/>
            </a:xfrm>
            <a:custGeom>
              <a:avLst/>
              <a:gdLst/>
              <a:ahLst/>
              <a:rect l="l" t="t" r="r" b="b"/>
              <a:pathLst>
                <a:path w="25" h="331">
                  <a:moveTo>
                    <a:pt x="5" y="0"/>
                  </a:moveTo>
                  <a:lnTo>
                    <a:pt x="1" y="60"/>
                  </a:lnTo>
                  <a:lnTo>
                    <a:pt x="0" y="159"/>
                  </a:lnTo>
                  <a:lnTo>
                    <a:pt x="7" y="262"/>
                  </a:lnTo>
                  <a:lnTo>
                    <a:pt x="25" y="331"/>
                  </a:lnTo>
                  <a:lnTo>
                    <a:pt x="24" y="267"/>
                  </a:lnTo>
                  <a:lnTo>
                    <a:pt x="18" y="173"/>
                  </a:lnTo>
                  <a:lnTo>
                    <a:pt x="11" y="7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647440" y="5771880"/>
              <a:ext cx="488880" cy="81000"/>
            </a:xfrm>
            <a:custGeom>
              <a:avLst/>
              <a:gdLst/>
              <a:ahLst/>
              <a:rect l="l" t="t" r="r" b="b"/>
              <a:pathLst>
                <a:path w="617" h="102">
                  <a:moveTo>
                    <a:pt x="0" y="76"/>
                  </a:moveTo>
                  <a:lnTo>
                    <a:pt x="6" y="66"/>
                  </a:lnTo>
                  <a:lnTo>
                    <a:pt x="14" y="55"/>
                  </a:lnTo>
                  <a:lnTo>
                    <a:pt x="26" y="48"/>
                  </a:lnTo>
                  <a:lnTo>
                    <a:pt x="40" y="43"/>
                  </a:lnTo>
                  <a:lnTo>
                    <a:pt x="56" y="40"/>
                  </a:lnTo>
                  <a:lnTo>
                    <a:pt x="73" y="40"/>
                  </a:lnTo>
                  <a:lnTo>
                    <a:pt x="93" y="43"/>
                  </a:lnTo>
                  <a:lnTo>
                    <a:pt x="113" y="48"/>
                  </a:lnTo>
                  <a:lnTo>
                    <a:pt x="127" y="53"/>
                  </a:lnTo>
                  <a:lnTo>
                    <a:pt x="146" y="57"/>
                  </a:lnTo>
                  <a:lnTo>
                    <a:pt x="169" y="62"/>
                  </a:lnTo>
                  <a:lnTo>
                    <a:pt x="195" y="67"/>
                  </a:lnTo>
                  <a:lnTo>
                    <a:pt x="225" y="71"/>
                  </a:lnTo>
                  <a:lnTo>
                    <a:pt x="259" y="75"/>
                  </a:lnTo>
                  <a:lnTo>
                    <a:pt x="294" y="77"/>
                  </a:lnTo>
                  <a:lnTo>
                    <a:pt x="331" y="77"/>
                  </a:lnTo>
                  <a:lnTo>
                    <a:pt x="369" y="77"/>
                  </a:lnTo>
                  <a:lnTo>
                    <a:pt x="408" y="75"/>
                  </a:lnTo>
                  <a:lnTo>
                    <a:pt x="446" y="69"/>
                  </a:lnTo>
                  <a:lnTo>
                    <a:pt x="484" y="62"/>
                  </a:lnTo>
                  <a:lnTo>
                    <a:pt x="521" y="52"/>
                  </a:lnTo>
                  <a:lnTo>
                    <a:pt x="556" y="38"/>
                  </a:lnTo>
                  <a:lnTo>
                    <a:pt x="588" y="21"/>
                  </a:lnTo>
                  <a:lnTo>
                    <a:pt x="617" y="0"/>
                  </a:lnTo>
                  <a:lnTo>
                    <a:pt x="609" y="16"/>
                  </a:lnTo>
                  <a:lnTo>
                    <a:pt x="596" y="31"/>
                  </a:lnTo>
                  <a:lnTo>
                    <a:pt x="580" y="45"/>
                  </a:lnTo>
                  <a:lnTo>
                    <a:pt x="559" y="57"/>
                  </a:lnTo>
                  <a:lnTo>
                    <a:pt x="534" y="68"/>
                  </a:lnTo>
                  <a:lnTo>
                    <a:pt x="506" y="78"/>
                  </a:lnTo>
                  <a:lnTo>
                    <a:pt x="476" y="86"/>
                  </a:lnTo>
                  <a:lnTo>
                    <a:pt x="443" y="93"/>
                  </a:lnTo>
                  <a:lnTo>
                    <a:pt x="407" y="98"/>
                  </a:lnTo>
                  <a:lnTo>
                    <a:pt x="369" y="101"/>
                  </a:lnTo>
                  <a:lnTo>
                    <a:pt x="330" y="102"/>
                  </a:lnTo>
                  <a:lnTo>
                    <a:pt x="288" y="102"/>
                  </a:lnTo>
                  <a:lnTo>
                    <a:pt x="246" y="99"/>
                  </a:lnTo>
                  <a:lnTo>
                    <a:pt x="203" y="94"/>
                  </a:lnTo>
                  <a:lnTo>
                    <a:pt x="159" y="86"/>
                  </a:lnTo>
                  <a:lnTo>
                    <a:pt x="116" y="77"/>
                  </a:lnTo>
                  <a:lnTo>
                    <a:pt x="101" y="72"/>
                  </a:lnTo>
                  <a:lnTo>
                    <a:pt x="87" y="69"/>
                  </a:lnTo>
                  <a:lnTo>
                    <a:pt x="74" y="64"/>
                  </a:lnTo>
                  <a:lnTo>
                    <a:pt x="62" y="62"/>
                  </a:lnTo>
                  <a:lnTo>
                    <a:pt x="48" y="61"/>
                  </a:lnTo>
                  <a:lnTo>
                    <a:pt x="34" y="63"/>
                  </a:lnTo>
                  <a:lnTo>
                    <a:pt x="18" y="68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658600" y="5856120"/>
              <a:ext cx="101520" cy="554040"/>
            </a:xfrm>
            <a:custGeom>
              <a:avLst/>
              <a:gdLst/>
              <a:ahLst/>
              <a:rect l="l" t="t" r="r" b="b"/>
              <a:pathLst>
                <a:path w="128" h="698">
                  <a:moveTo>
                    <a:pt x="0" y="0"/>
                  </a:moveTo>
                  <a:lnTo>
                    <a:pt x="8" y="16"/>
                  </a:lnTo>
                  <a:lnTo>
                    <a:pt x="19" y="40"/>
                  </a:lnTo>
                  <a:lnTo>
                    <a:pt x="31" y="74"/>
                  </a:lnTo>
                  <a:lnTo>
                    <a:pt x="44" y="114"/>
                  </a:lnTo>
                  <a:lnTo>
                    <a:pt x="57" y="159"/>
                  </a:lnTo>
                  <a:lnTo>
                    <a:pt x="69" y="210"/>
                  </a:lnTo>
                  <a:lnTo>
                    <a:pt x="80" y="264"/>
                  </a:lnTo>
                  <a:lnTo>
                    <a:pt x="89" y="319"/>
                  </a:lnTo>
                  <a:lnTo>
                    <a:pt x="96" y="376"/>
                  </a:lnTo>
                  <a:lnTo>
                    <a:pt x="98" y="432"/>
                  </a:lnTo>
                  <a:lnTo>
                    <a:pt x="98" y="487"/>
                  </a:lnTo>
                  <a:lnTo>
                    <a:pt x="92" y="539"/>
                  </a:lnTo>
                  <a:lnTo>
                    <a:pt x="81" y="588"/>
                  </a:lnTo>
                  <a:lnTo>
                    <a:pt x="64" y="631"/>
                  </a:lnTo>
                  <a:lnTo>
                    <a:pt x="39" y="668"/>
                  </a:lnTo>
                  <a:lnTo>
                    <a:pt x="7" y="698"/>
                  </a:lnTo>
                  <a:lnTo>
                    <a:pt x="33" y="694"/>
                  </a:lnTo>
                  <a:lnTo>
                    <a:pt x="56" y="680"/>
                  </a:lnTo>
                  <a:lnTo>
                    <a:pt x="75" y="656"/>
                  </a:lnTo>
                  <a:lnTo>
                    <a:pt x="92" y="623"/>
                  </a:lnTo>
                  <a:lnTo>
                    <a:pt x="106" y="585"/>
                  </a:lnTo>
                  <a:lnTo>
                    <a:pt x="118" y="540"/>
                  </a:lnTo>
                  <a:lnTo>
                    <a:pt x="125" y="491"/>
                  </a:lnTo>
                  <a:lnTo>
                    <a:pt x="128" y="437"/>
                  </a:lnTo>
                  <a:lnTo>
                    <a:pt x="128" y="381"/>
                  </a:lnTo>
                  <a:lnTo>
                    <a:pt x="124" y="324"/>
                  </a:lnTo>
                  <a:lnTo>
                    <a:pt x="116" y="265"/>
                  </a:lnTo>
                  <a:lnTo>
                    <a:pt x="103" y="206"/>
                  </a:lnTo>
                  <a:lnTo>
                    <a:pt x="84" y="150"/>
                  </a:lnTo>
                  <a:lnTo>
                    <a:pt x="61" y="96"/>
                  </a:lnTo>
                  <a:lnTo>
                    <a:pt x="34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507760" y="6126120"/>
              <a:ext cx="133200" cy="301320"/>
            </a:xfrm>
            <a:custGeom>
              <a:avLst/>
              <a:gdLst/>
              <a:ahLst/>
              <a:rect l="l" t="t" r="r" b="b"/>
              <a:pathLst>
                <a:path w="167" h="380">
                  <a:moveTo>
                    <a:pt x="37" y="0"/>
                  </a:moveTo>
                  <a:lnTo>
                    <a:pt x="31" y="30"/>
                  </a:lnTo>
                  <a:lnTo>
                    <a:pt x="28" y="76"/>
                  </a:lnTo>
                  <a:lnTo>
                    <a:pt x="28" y="133"/>
                  </a:lnTo>
                  <a:lnTo>
                    <a:pt x="34" y="196"/>
                  </a:lnTo>
                  <a:lnTo>
                    <a:pt x="48" y="258"/>
                  </a:lnTo>
                  <a:lnTo>
                    <a:pt x="74" y="313"/>
                  </a:lnTo>
                  <a:lnTo>
                    <a:pt x="112" y="355"/>
                  </a:lnTo>
                  <a:lnTo>
                    <a:pt x="167" y="378"/>
                  </a:lnTo>
                  <a:lnTo>
                    <a:pt x="150" y="380"/>
                  </a:lnTo>
                  <a:lnTo>
                    <a:pt x="131" y="379"/>
                  </a:lnTo>
                  <a:lnTo>
                    <a:pt x="112" y="375"/>
                  </a:lnTo>
                  <a:lnTo>
                    <a:pt x="94" y="370"/>
                  </a:lnTo>
                  <a:lnTo>
                    <a:pt x="75" y="362"/>
                  </a:lnTo>
                  <a:lnTo>
                    <a:pt x="58" y="349"/>
                  </a:lnTo>
                  <a:lnTo>
                    <a:pt x="42" y="333"/>
                  </a:lnTo>
                  <a:lnTo>
                    <a:pt x="28" y="313"/>
                  </a:lnTo>
                  <a:lnTo>
                    <a:pt x="17" y="290"/>
                  </a:lnTo>
                  <a:lnTo>
                    <a:pt x="7" y="263"/>
                  </a:lnTo>
                  <a:lnTo>
                    <a:pt x="2" y="231"/>
                  </a:lnTo>
                  <a:lnTo>
                    <a:pt x="0" y="195"/>
                  </a:lnTo>
                  <a:lnTo>
                    <a:pt x="2" y="154"/>
                  </a:lnTo>
                  <a:lnTo>
                    <a:pt x="8" y="108"/>
                  </a:lnTo>
                  <a:lnTo>
                    <a:pt x="20" y="5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677680" y="6040080"/>
              <a:ext cx="690480" cy="435240"/>
            </a:xfrm>
            <a:custGeom>
              <a:avLst/>
              <a:gdLst/>
              <a:ahLst/>
              <a:rect l="l" t="t" r="r" b="b"/>
              <a:pathLst>
                <a:path w="870" h="547">
                  <a:moveTo>
                    <a:pt x="0" y="501"/>
                  </a:moveTo>
                  <a:lnTo>
                    <a:pt x="9" y="501"/>
                  </a:lnTo>
                  <a:lnTo>
                    <a:pt x="20" y="502"/>
                  </a:lnTo>
                  <a:lnTo>
                    <a:pt x="34" y="504"/>
                  </a:lnTo>
                  <a:lnTo>
                    <a:pt x="50" y="507"/>
                  </a:lnTo>
                  <a:lnTo>
                    <a:pt x="67" y="509"/>
                  </a:lnTo>
                  <a:lnTo>
                    <a:pt x="87" y="511"/>
                  </a:lnTo>
                  <a:lnTo>
                    <a:pt x="109" y="514"/>
                  </a:lnTo>
                  <a:lnTo>
                    <a:pt x="131" y="516"/>
                  </a:lnTo>
                  <a:lnTo>
                    <a:pt x="156" y="517"/>
                  </a:lnTo>
                  <a:lnTo>
                    <a:pt x="182" y="518"/>
                  </a:lnTo>
                  <a:lnTo>
                    <a:pt x="208" y="517"/>
                  </a:lnTo>
                  <a:lnTo>
                    <a:pt x="237" y="516"/>
                  </a:lnTo>
                  <a:lnTo>
                    <a:pt x="266" y="514"/>
                  </a:lnTo>
                  <a:lnTo>
                    <a:pt x="296" y="510"/>
                  </a:lnTo>
                  <a:lnTo>
                    <a:pt x="327" y="505"/>
                  </a:lnTo>
                  <a:lnTo>
                    <a:pt x="358" y="497"/>
                  </a:lnTo>
                  <a:lnTo>
                    <a:pt x="390" y="489"/>
                  </a:lnTo>
                  <a:lnTo>
                    <a:pt x="423" y="478"/>
                  </a:lnTo>
                  <a:lnTo>
                    <a:pt x="456" y="464"/>
                  </a:lnTo>
                  <a:lnTo>
                    <a:pt x="489" y="448"/>
                  </a:lnTo>
                  <a:lnTo>
                    <a:pt x="523" y="429"/>
                  </a:lnTo>
                  <a:lnTo>
                    <a:pt x="556" y="409"/>
                  </a:lnTo>
                  <a:lnTo>
                    <a:pt x="589" y="385"/>
                  </a:lnTo>
                  <a:lnTo>
                    <a:pt x="623" y="357"/>
                  </a:lnTo>
                  <a:lnTo>
                    <a:pt x="656" y="326"/>
                  </a:lnTo>
                  <a:lnTo>
                    <a:pt x="688" y="291"/>
                  </a:lnTo>
                  <a:lnTo>
                    <a:pt x="721" y="253"/>
                  </a:lnTo>
                  <a:lnTo>
                    <a:pt x="753" y="211"/>
                  </a:lnTo>
                  <a:lnTo>
                    <a:pt x="783" y="164"/>
                  </a:lnTo>
                  <a:lnTo>
                    <a:pt x="813" y="114"/>
                  </a:lnTo>
                  <a:lnTo>
                    <a:pt x="843" y="60"/>
                  </a:lnTo>
                  <a:lnTo>
                    <a:pt x="870" y="0"/>
                  </a:lnTo>
                  <a:lnTo>
                    <a:pt x="864" y="23"/>
                  </a:lnTo>
                  <a:lnTo>
                    <a:pt x="857" y="48"/>
                  </a:lnTo>
                  <a:lnTo>
                    <a:pt x="847" y="73"/>
                  </a:lnTo>
                  <a:lnTo>
                    <a:pt x="837" y="100"/>
                  </a:lnTo>
                  <a:lnTo>
                    <a:pt x="825" y="126"/>
                  </a:lnTo>
                  <a:lnTo>
                    <a:pt x="812" y="153"/>
                  </a:lnTo>
                  <a:lnTo>
                    <a:pt x="798" y="181"/>
                  </a:lnTo>
                  <a:lnTo>
                    <a:pt x="783" y="208"/>
                  </a:lnTo>
                  <a:lnTo>
                    <a:pt x="766" y="236"/>
                  </a:lnTo>
                  <a:lnTo>
                    <a:pt x="747" y="264"/>
                  </a:lnTo>
                  <a:lnTo>
                    <a:pt x="728" y="290"/>
                  </a:lnTo>
                  <a:lnTo>
                    <a:pt x="707" y="317"/>
                  </a:lnTo>
                  <a:lnTo>
                    <a:pt x="685" y="342"/>
                  </a:lnTo>
                  <a:lnTo>
                    <a:pt x="661" y="367"/>
                  </a:lnTo>
                  <a:lnTo>
                    <a:pt x="635" y="390"/>
                  </a:lnTo>
                  <a:lnTo>
                    <a:pt x="610" y="413"/>
                  </a:lnTo>
                  <a:lnTo>
                    <a:pt x="581" y="435"/>
                  </a:lnTo>
                  <a:lnTo>
                    <a:pt x="552" y="455"/>
                  </a:lnTo>
                  <a:lnTo>
                    <a:pt x="523" y="473"/>
                  </a:lnTo>
                  <a:lnTo>
                    <a:pt x="490" y="491"/>
                  </a:lnTo>
                  <a:lnTo>
                    <a:pt x="457" y="505"/>
                  </a:lnTo>
                  <a:lnTo>
                    <a:pt x="422" y="518"/>
                  </a:lnTo>
                  <a:lnTo>
                    <a:pt x="387" y="529"/>
                  </a:lnTo>
                  <a:lnTo>
                    <a:pt x="350" y="538"/>
                  </a:lnTo>
                  <a:lnTo>
                    <a:pt x="311" y="544"/>
                  </a:lnTo>
                  <a:lnTo>
                    <a:pt x="270" y="546"/>
                  </a:lnTo>
                  <a:lnTo>
                    <a:pt x="229" y="547"/>
                  </a:lnTo>
                  <a:lnTo>
                    <a:pt x="186" y="544"/>
                  </a:lnTo>
                  <a:lnTo>
                    <a:pt x="141" y="538"/>
                  </a:lnTo>
                  <a:lnTo>
                    <a:pt x="95" y="530"/>
                  </a:lnTo>
                  <a:lnTo>
                    <a:pt x="48" y="517"/>
                  </a:lnTo>
                  <a:lnTo>
                    <a:pt x="0" y="5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206520" y="5349600"/>
              <a:ext cx="151920" cy="647640"/>
            </a:xfrm>
            <a:custGeom>
              <a:avLst/>
              <a:gdLst/>
              <a:ahLst/>
              <a:rect l="l" t="t" r="r" b="b"/>
              <a:pathLst>
                <a:path w="193" h="815">
                  <a:moveTo>
                    <a:pt x="0" y="0"/>
                  </a:moveTo>
                  <a:lnTo>
                    <a:pt x="6" y="18"/>
                  </a:lnTo>
                  <a:lnTo>
                    <a:pt x="14" y="48"/>
                  </a:lnTo>
                  <a:lnTo>
                    <a:pt x="26" y="90"/>
                  </a:lnTo>
                  <a:lnTo>
                    <a:pt x="38" y="139"/>
                  </a:lnTo>
                  <a:lnTo>
                    <a:pt x="53" y="197"/>
                  </a:lnTo>
                  <a:lnTo>
                    <a:pt x="69" y="259"/>
                  </a:lnTo>
                  <a:lnTo>
                    <a:pt x="86" y="326"/>
                  </a:lnTo>
                  <a:lnTo>
                    <a:pt x="103" y="394"/>
                  </a:lnTo>
                  <a:lnTo>
                    <a:pt x="119" y="463"/>
                  </a:lnTo>
                  <a:lnTo>
                    <a:pt x="135" y="531"/>
                  </a:lnTo>
                  <a:lnTo>
                    <a:pt x="149" y="595"/>
                  </a:lnTo>
                  <a:lnTo>
                    <a:pt x="162" y="655"/>
                  </a:lnTo>
                  <a:lnTo>
                    <a:pt x="172" y="709"/>
                  </a:lnTo>
                  <a:lnTo>
                    <a:pt x="180" y="756"/>
                  </a:lnTo>
                  <a:lnTo>
                    <a:pt x="185" y="791"/>
                  </a:lnTo>
                  <a:lnTo>
                    <a:pt x="186" y="815"/>
                  </a:lnTo>
                  <a:lnTo>
                    <a:pt x="192" y="789"/>
                  </a:lnTo>
                  <a:lnTo>
                    <a:pt x="193" y="752"/>
                  </a:lnTo>
                  <a:lnTo>
                    <a:pt x="192" y="708"/>
                  </a:lnTo>
                  <a:lnTo>
                    <a:pt x="186" y="658"/>
                  </a:lnTo>
                  <a:lnTo>
                    <a:pt x="179" y="601"/>
                  </a:lnTo>
                  <a:lnTo>
                    <a:pt x="169" y="540"/>
                  </a:lnTo>
                  <a:lnTo>
                    <a:pt x="156" y="477"/>
                  </a:lnTo>
                  <a:lnTo>
                    <a:pt x="142" y="412"/>
                  </a:lnTo>
                  <a:lnTo>
                    <a:pt x="127" y="347"/>
                  </a:lnTo>
                  <a:lnTo>
                    <a:pt x="110" y="283"/>
                  </a:lnTo>
                  <a:lnTo>
                    <a:pt x="93" y="222"/>
                  </a:lnTo>
                  <a:lnTo>
                    <a:pt x="74" y="164"/>
                  </a:lnTo>
                  <a:lnTo>
                    <a:pt x="55" y="113"/>
                  </a:lnTo>
                  <a:lnTo>
                    <a:pt x="36" y="67"/>
                  </a:lnTo>
                  <a:lnTo>
                    <a:pt x="18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814480" y="5106600"/>
              <a:ext cx="378720" cy="193680"/>
            </a:xfrm>
            <a:custGeom>
              <a:avLst/>
              <a:gdLst/>
              <a:ahLst/>
              <a:rect l="l" t="t" r="r" b="b"/>
              <a:pathLst>
                <a:path w="478" h="244">
                  <a:moveTo>
                    <a:pt x="0" y="6"/>
                  </a:moveTo>
                  <a:lnTo>
                    <a:pt x="13" y="6"/>
                  </a:lnTo>
                  <a:lnTo>
                    <a:pt x="31" y="7"/>
                  </a:lnTo>
                  <a:lnTo>
                    <a:pt x="53" y="9"/>
                  </a:lnTo>
                  <a:lnTo>
                    <a:pt x="80" y="13"/>
                  </a:lnTo>
                  <a:lnTo>
                    <a:pt x="111" y="17"/>
                  </a:lnTo>
                  <a:lnTo>
                    <a:pt x="143" y="24"/>
                  </a:lnTo>
                  <a:lnTo>
                    <a:pt x="179" y="33"/>
                  </a:lnTo>
                  <a:lnTo>
                    <a:pt x="215" y="44"/>
                  </a:lnTo>
                  <a:lnTo>
                    <a:pt x="251" y="58"/>
                  </a:lnTo>
                  <a:lnTo>
                    <a:pt x="289" y="74"/>
                  </a:lnTo>
                  <a:lnTo>
                    <a:pt x="326" y="93"/>
                  </a:lnTo>
                  <a:lnTo>
                    <a:pt x="361" y="116"/>
                  </a:lnTo>
                  <a:lnTo>
                    <a:pt x="395" y="142"/>
                  </a:lnTo>
                  <a:lnTo>
                    <a:pt x="427" y="172"/>
                  </a:lnTo>
                  <a:lnTo>
                    <a:pt x="454" y="206"/>
                  </a:lnTo>
                  <a:lnTo>
                    <a:pt x="478" y="244"/>
                  </a:lnTo>
                  <a:lnTo>
                    <a:pt x="477" y="222"/>
                  </a:lnTo>
                  <a:lnTo>
                    <a:pt x="470" y="201"/>
                  </a:lnTo>
                  <a:lnTo>
                    <a:pt x="460" y="177"/>
                  </a:lnTo>
                  <a:lnTo>
                    <a:pt x="446" y="154"/>
                  </a:lnTo>
                  <a:lnTo>
                    <a:pt x="427" y="131"/>
                  </a:lnTo>
                  <a:lnTo>
                    <a:pt x="405" y="110"/>
                  </a:lnTo>
                  <a:lnTo>
                    <a:pt x="378" y="89"/>
                  </a:lnTo>
                  <a:lnTo>
                    <a:pt x="348" y="68"/>
                  </a:lnTo>
                  <a:lnTo>
                    <a:pt x="315" y="51"/>
                  </a:lnTo>
                  <a:lnTo>
                    <a:pt x="278" y="35"/>
                  </a:lnTo>
                  <a:lnTo>
                    <a:pt x="239" y="21"/>
                  </a:lnTo>
                  <a:lnTo>
                    <a:pt x="196" y="10"/>
                  </a:lnTo>
                  <a:lnTo>
                    <a:pt x="150" y="4"/>
                  </a:lnTo>
                  <a:lnTo>
                    <a:pt x="103" y="0"/>
                  </a:lnTo>
                  <a:lnTo>
                    <a:pt x="52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145960" y="5432040"/>
              <a:ext cx="140760" cy="478080"/>
            </a:xfrm>
            <a:custGeom>
              <a:avLst/>
              <a:gdLst/>
              <a:ahLst/>
              <a:rect l="l" t="t" r="r" b="b"/>
              <a:pathLst>
                <a:path w="178" h="603">
                  <a:moveTo>
                    <a:pt x="61" y="0"/>
                  </a:moveTo>
                  <a:lnTo>
                    <a:pt x="53" y="14"/>
                  </a:lnTo>
                  <a:lnTo>
                    <a:pt x="43" y="31"/>
                  </a:lnTo>
                  <a:lnTo>
                    <a:pt x="32" y="53"/>
                  </a:lnTo>
                  <a:lnTo>
                    <a:pt x="23" y="79"/>
                  </a:lnTo>
                  <a:lnTo>
                    <a:pt x="14" y="107"/>
                  </a:lnTo>
                  <a:lnTo>
                    <a:pt x="7" y="141"/>
                  </a:lnTo>
                  <a:lnTo>
                    <a:pt x="3" y="177"/>
                  </a:lnTo>
                  <a:lnTo>
                    <a:pt x="0" y="215"/>
                  </a:lnTo>
                  <a:lnTo>
                    <a:pt x="3" y="256"/>
                  </a:lnTo>
                  <a:lnTo>
                    <a:pt x="9" y="300"/>
                  </a:lnTo>
                  <a:lnTo>
                    <a:pt x="20" y="346"/>
                  </a:lnTo>
                  <a:lnTo>
                    <a:pt x="37" y="394"/>
                  </a:lnTo>
                  <a:lnTo>
                    <a:pt x="61" y="444"/>
                  </a:lnTo>
                  <a:lnTo>
                    <a:pt x="92" y="496"/>
                  </a:lnTo>
                  <a:lnTo>
                    <a:pt x="130" y="549"/>
                  </a:lnTo>
                  <a:lnTo>
                    <a:pt x="178" y="603"/>
                  </a:lnTo>
                  <a:lnTo>
                    <a:pt x="166" y="574"/>
                  </a:lnTo>
                  <a:lnTo>
                    <a:pt x="152" y="546"/>
                  </a:lnTo>
                  <a:lnTo>
                    <a:pt x="137" y="518"/>
                  </a:lnTo>
                  <a:lnTo>
                    <a:pt x="122" y="489"/>
                  </a:lnTo>
                  <a:lnTo>
                    <a:pt x="107" y="459"/>
                  </a:lnTo>
                  <a:lnTo>
                    <a:pt x="94" y="428"/>
                  </a:lnTo>
                  <a:lnTo>
                    <a:pt x="80" y="395"/>
                  </a:lnTo>
                  <a:lnTo>
                    <a:pt x="67" y="362"/>
                  </a:lnTo>
                  <a:lnTo>
                    <a:pt x="56" y="326"/>
                  </a:lnTo>
                  <a:lnTo>
                    <a:pt x="46" y="288"/>
                  </a:lnTo>
                  <a:lnTo>
                    <a:pt x="41" y="248"/>
                  </a:lnTo>
                  <a:lnTo>
                    <a:pt x="37" y="205"/>
                  </a:lnTo>
                  <a:lnTo>
                    <a:pt x="37" y="159"/>
                  </a:lnTo>
                  <a:lnTo>
                    <a:pt x="41" y="110"/>
                  </a:lnTo>
                  <a:lnTo>
                    <a:pt x="49" y="5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950920" y="5271840"/>
              <a:ext cx="105840" cy="525600"/>
            </a:xfrm>
            <a:custGeom>
              <a:avLst/>
              <a:gdLst/>
              <a:ahLst/>
              <a:rect l="l" t="t" r="r" b="b"/>
              <a:pathLst>
                <a:path w="134" h="662">
                  <a:moveTo>
                    <a:pt x="43" y="0"/>
                  </a:moveTo>
                  <a:lnTo>
                    <a:pt x="20" y="36"/>
                  </a:lnTo>
                  <a:lnTo>
                    <a:pt x="6" y="77"/>
                  </a:lnTo>
                  <a:lnTo>
                    <a:pt x="0" y="118"/>
                  </a:lnTo>
                  <a:lnTo>
                    <a:pt x="1" y="162"/>
                  </a:lnTo>
                  <a:lnTo>
                    <a:pt x="8" y="207"/>
                  </a:lnTo>
                  <a:lnTo>
                    <a:pt x="18" y="252"/>
                  </a:lnTo>
                  <a:lnTo>
                    <a:pt x="32" y="298"/>
                  </a:lnTo>
                  <a:lnTo>
                    <a:pt x="48" y="344"/>
                  </a:lnTo>
                  <a:lnTo>
                    <a:pt x="63" y="390"/>
                  </a:lnTo>
                  <a:lnTo>
                    <a:pt x="78" y="434"/>
                  </a:lnTo>
                  <a:lnTo>
                    <a:pt x="92" y="478"/>
                  </a:lnTo>
                  <a:lnTo>
                    <a:pt x="101" y="519"/>
                  </a:lnTo>
                  <a:lnTo>
                    <a:pt x="106" y="560"/>
                  </a:lnTo>
                  <a:lnTo>
                    <a:pt x="105" y="596"/>
                  </a:lnTo>
                  <a:lnTo>
                    <a:pt x="96" y="631"/>
                  </a:lnTo>
                  <a:lnTo>
                    <a:pt x="78" y="662"/>
                  </a:lnTo>
                  <a:lnTo>
                    <a:pt x="106" y="636"/>
                  </a:lnTo>
                  <a:lnTo>
                    <a:pt x="123" y="606"/>
                  </a:lnTo>
                  <a:lnTo>
                    <a:pt x="132" y="571"/>
                  </a:lnTo>
                  <a:lnTo>
                    <a:pt x="134" y="533"/>
                  </a:lnTo>
                  <a:lnTo>
                    <a:pt x="130" y="492"/>
                  </a:lnTo>
                  <a:lnTo>
                    <a:pt x="121" y="449"/>
                  </a:lnTo>
                  <a:lnTo>
                    <a:pt x="108" y="403"/>
                  </a:lnTo>
                  <a:lnTo>
                    <a:pt x="93" y="357"/>
                  </a:lnTo>
                  <a:lnTo>
                    <a:pt x="77" y="310"/>
                  </a:lnTo>
                  <a:lnTo>
                    <a:pt x="62" y="261"/>
                  </a:lnTo>
                  <a:lnTo>
                    <a:pt x="47" y="214"/>
                  </a:lnTo>
                  <a:lnTo>
                    <a:pt x="36" y="168"/>
                  </a:lnTo>
                  <a:lnTo>
                    <a:pt x="29" y="122"/>
                  </a:lnTo>
                  <a:lnTo>
                    <a:pt x="26" y="79"/>
                  </a:lnTo>
                  <a:lnTo>
                    <a:pt x="31" y="3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741400" y="4657680"/>
              <a:ext cx="85320" cy="199800"/>
            </a:xfrm>
            <a:custGeom>
              <a:avLst/>
              <a:gdLst/>
              <a:ahLst/>
              <a:rect l="l" t="t" r="r" b="b"/>
              <a:pathLst>
                <a:path w="108" h="254">
                  <a:moveTo>
                    <a:pt x="2" y="29"/>
                  </a:moveTo>
                  <a:lnTo>
                    <a:pt x="12" y="18"/>
                  </a:lnTo>
                  <a:lnTo>
                    <a:pt x="23" y="8"/>
                  </a:lnTo>
                  <a:lnTo>
                    <a:pt x="36" y="3"/>
                  </a:lnTo>
                  <a:lnTo>
                    <a:pt x="50" y="0"/>
                  </a:lnTo>
                  <a:lnTo>
                    <a:pt x="63" y="1"/>
                  </a:lnTo>
                  <a:lnTo>
                    <a:pt x="76" y="6"/>
                  </a:lnTo>
                  <a:lnTo>
                    <a:pt x="89" y="14"/>
                  </a:lnTo>
                  <a:lnTo>
                    <a:pt x="100" y="27"/>
                  </a:lnTo>
                  <a:lnTo>
                    <a:pt x="107" y="45"/>
                  </a:lnTo>
                  <a:lnTo>
                    <a:pt x="108" y="69"/>
                  </a:lnTo>
                  <a:lnTo>
                    <a:pt x="105" y="99"/>
                  </a:lnTo>
                  <a:lnTo>
                    <a:pt x="94" y="132"/>
                  </a:lnTo>
                  <a:lnTo>
                    <a:pt x="79" y="165"/>
                  </a:lnTo>
                  <a:lnTo>
                    <a:pt x="59" y="197"/>
                  </a:lnTo>
                  <a:lnTo>
                    <a:pt x="32" y="228"/>
                  </a:lnTo>
                  <a:lnTo>
                    <a:pt x="0" y="254"/>
                  </a:lnTo>
                  <a:lnTo>
                    <a:pt x="15" y="233"/>
                  </a:lnTo>
                  <a:lnTo>
                    <a:pt x="31" y="209"/>
                  </a:lnTo>
                  <a:lnTo>
                    <a:pt x="47" y="182"/>
                  </a:lnTo>
                  <a:lnTo>
                    <a:pt x="63" y="155"/>
                  </a:lnTo>
                  <a:lnTo>
                    <a:pt x="76" y="125"/>
                  </a:lnTo>
                  <a:lnTo>
                    <a:pt x="84" y="94"/>
                  </a:lnTo>
                  <a:lnTo>
                    <a:pt x="86" y="64"/>
                  </a:lnTo>
                  <a:lnTo>
                    <a:pt x="82" y="33"/>
                  </a:lnTo>
                  <a:lnTo>
                    <a:pt x="77" y="23"/>
                  </a:lnTo>
                  <a:lnTo>
                    <a:pt x="70" y="18"/>
                  </a:lnTo>
                  <a:lnTo>
                    <a:pt x="62" y="14"/>
                  </a:lnTo>
                  <a:lnTo>
                    <a:pt x="52" y="13"/>
                  </a:lnTo>
                  <a:lnTo>
                    <a:pt x="40" y="14"/>
                  </a:lnTo>
                  <a:lnTo>
                    <a:pt x="28" y="16"/>
                  </a:lnTo>
                  <a:lnTo>
                    <a:pt x="15" y="22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868120" y="4652640"/>
              <a:ext cx="244440" cy="506520"/>
            </a:xfrm>
            <a:custGeom>
              <a:avLst/>
              <a:gdLst/>
              <a:ahLst/>
              <a:rect l="l" t="t" r="r" b="b"/>
              <a:pathLst>
                <a:path w="308" h="637">
                  <a:moveTo>
                    <a:pt x="0" y="0"/>
                  </a:moveTo>
                  <a:lnTo>
                    <a:pt x="7" y="12"/>
                  </a:lnTo>
                  <a:lnTo>
                    <a:pt x="18" y="35"/>
                  </a:lnTo>
                  <a:lnTo>
                    <a:pt x="33" y="67"/>
                  </a:lnTo>
                  <a:lnTo>
                    <a:pt x="51" y="103"/>
                  </a:lnTo>
                  <a:lnTo>
                    <a:pt x="72" y="147"/>
                  </a:lnTo>
                  <a:lnTo>
                    <a:pt x="95" y="196"/>
                  </a:lnTo>
                  <a:lnTo>
                    <a:pt x="119" y="246"/>
                  </a:lnTo>
                  <a:lnTo>
                    <a:pt x="144" y="299"/>
                  </a:lnTo>
                  <a:lnTo>
                    <a:pt x="170" y="352"/>
                  </a:lnTo>
                  <a:lnTo>
                    <a:pt x="195" y="405"/>
                  </a:lnTo>
                  <a:lnTo>
                    <a:pt x="219" y="456"/>
                  </a:lnTo>
                  <a:lnTo>
                    <a:pt x="242" y="503"/>
                  </a:lnTo>
                  <a:lnTo>
                    <a:pt x="263" y="547"/>
                  </a:lnTo>
                  <a:lnTo>
                    <a:pt x="281" y="584"/>
                  </a:lnTo>
                  <a:lnTo>
                    <a:pt x="296" y="615"/>
                  </a:lnTo>
                  <a:lnTo>
                    <a:pt x="308" y="637"/>
                  </a:lnTo>
                  <a:lnTo>
                    <a:pt x="292" y="618"/>
                  </a:lnTo>
                  <a:lnTo>
                    <a:pt x="273" y="594"/>
                  </a:lnTo>
                  <a:lnTo>
                    <a:pt x="253" y="564"/>
                  </a:lnTo>
                  <a:lnTo>
                    <a:pt x="231" y="530"/>
                  </a:lnTo>
                  <a:lnTo>
                    <a:pt x="209" y="491"/>
                  </a:lnTo>
                  <a:lnTo>
                    <a:pt x="185" y="448"/>
                  </a:lnTo>
                  <a:lnTo>
                    <a:pt x="162" y="404"/>
                  </a:lnTo>
                  <a:lnTo>
                    <a:pt x="139" y="357"/>
                  </a:lnTo>
                  <a:lnTo>
                    <a:pt x="115" y="310"/>
                  </a:lnTo>
                  <a:lnTo>
                    <a:pt x="94" y="261"/>
                  </a:lnTo>
                  <a:lnTo>
                    <a:pt x="72" y="213"/>
                  </a:lnTo>
                  <a:lnTo>
                    <a:pt x="53" y="166"/>
                  </a:lnTo>
                  <a:lnTo>
                    <a:pt x="36" y="120"/>
                  </a:lnTo>
                  <a:lnTo>
                    <a:pt x="21" y="77"/>
                  </a:lnTo>
                  <a:lnTo>
                    <a:pt x="9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244240" y="4900320"/>
              <a:ext cx="61560" cy="520920"/>
            </a:xfrm>
            <a:custGeom>
              <a:avLst/>
              <a:gdLst/>
              <a:ahLst/>
              <a:rect l="l" t="t" r="r" b="b"/>
              <a:pathLst>
                <a:path w="78" h="657">
                  <a:moveTo>
                    <a:pt x="75" y="0"/>
                  </a:moveTo>
                  <a:lnTo>
                    <a:pt x="68" y="46"/>
                  </a:lnTo>
                  <a:lnTo>
                    <a:pt x="60" y="118"/>
                  </a:lnTo>
                  <a:lnTo>
                    <a:pt x="50" y="207"/>
                  </a:lnTo>
                  <a:lnTo>
                    <a:pt x="40" y="306"/>
                  </a:lnTo>
                  <a:lnTo>
                    <a:pt x="28" y="409"/>
                  </a:lnTo>
                  <a:lnTo>
                    <a:pt x="18" y="506"/>
                  </a:lnTo>
                  <a:lnTo>
                    <a:pt x="9" y="591"/>
                  </a:lnTo>
                  <a:lnTo>
                    <a:pt x="0" y="657"/>
                  </a:lnTo>
                  <a:lnTo>
                    <a:pt x="18" y="608"/>
                  </a:lnTo>
                  <a:lnTo>
                    <a:pt x="35" y="536"/>
                  </a:lnTo>
                  <a:lnTo>
                    <a:pt x="50" y="446"/>
                  </a:lnTo>
                  <a:lnTo>
                    <a:pt x="63" y="347"/>
                  </a:lnTo>
                  <a:lnTo>
                    <a:pt x="71" y="245"/>
                  </a:lnTo>
                  <a:lnTo>
                    <a:pt x="77" y="148"/>
                  </a:lnTo>
                  <a:lnTo>
                    <a:pt x="78" y="64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341080" y="5036760"/>
              <a:ext cx="33120" cy="382680"/>
            </a:xfrm>
            <a:custGeom>
              <a:avLst/>
              <a:gdLst/>
              <a:ahLst/>
              <a:rect l="l" t="t" r="r" b="b"/>
              <a:pathLst>
                <a:path w="41" h="480">
                  <a:moveTo>
                    <a:pt x="39" y="0"/>
                  </a:moveTo>
                  <a:lnTo>
                    <a:pt x="34" y="36"/>
                  </a:lnTo>
                  <a:lnTo>
                    <a:pt x="27" y="99"/>
                  </a:lnTo>
                  <a:lnTo>
                    <a:pt x="21" y="177"/>
                  </a:lnTo>
                  <a:lnTo>
                    <a:pt x="15" y="261"/>
                  </a:lnTo>
                  <a:lnTo>
                    <a:pt x="9" y="343"/>
                  </a:lnTo>
                  <a:lnTo>
                    <a:pt x="4" y="413"/>
                  </a:lnTo>
                  <a:lnTo>
                    <a:pt x="1" y="462"/>
                  </a:lnTo>
                  <a:lnTo>
                    <a:pt x="0" y="480"/>
                  </a:lnTo>
                  <a:lnTo>
                    <a:pt x="24" y="469"/>
                  </a:lnTo>
                  <a:lnTo>
                    <a:pt x="32" y="382"/>
                  </a:lnTo>
                  <a:lnTo>
                    <a:pt x="39" y="243"/>
                  </a:lnTo>
                  <a:lnTo>
                    <a:pt x="41" y="9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768400" y="4881240"/>
              <a:ext cx="55080" cy="731880"/>
            </a:xfrm>
            <a:custGeom>
              <a:avLst/>
              <a:gdLst/>
              <a:ahLst/>
              <a:rect l="l" t="t" r="r" b="b"/>
              <a:pathLst>
                <a:path w="71" h="920">
                  <a:moveTo>
                    <a:pt x="0" y="0"/>
                  </a:moveTo>
                  <a:lnTo>
                    <a:pt x="0" y="49"/>
                  </a:lnTo>
                  <a:lnTo>
                    <a:pt x="4" y="138"/>
                  </a:lnTo>
                  <a:lnTo>
                    <a:pt x="11" y="254"/>
                  </a:lnTo>
                  <a:lnTo>
                    <a:pt x="20" y="390"/>
                  </a:lnTo>
                  <a:lnTo>
                    <a:pt x="32" y="534"/>
                  </a:lnTo>
                  <a:lnTo>
                    <a:pt x="43" y="678"/>
                  </a:lnTo>
                  <a:lnTo>
                    <a:pt x="55" y="810"/>
                  </a:lnTo>
                  <a:lnTo>
                    <a:pt x="65" y="920"/>
                  </a:lnTo>
                  <a:lnTo>
                    <a:pt x="71" y="867"/>
                  </a:lnTo>
                  <a:lnTo>
                    <a:pt x="70" y="769"/>
                  </a:lnTo>
                  <a:lnTo>
                    <a:pt x="65" y="640"/>
                  </a:lnTo>
                  <a:lnTo>
                    <a:pt x="57" y="493"/>
                  </a:lnTo>
                  <a:lnTo>
                    <a:pt x="44" y="342"/>
                  </a:lnTo>
                  <a:lnTo>
                    <a:pt x="31" y="200"/>
                  </a:lnTo>
                  <a:lnTo>
                    <a:pt x="16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795400" y="4856040"/>
              <a:ext cx="158400" cy="698400"/>
            </a:xfrm>
            <a:custGeom>
              <a:avLst/>
              <a:gdLst/>
              <a:ahLst/>
              <a:rect l="l" t="t" r="r" b="b"/>
              <a:pathLst>
                <a:path w="199" h="881">
                  <a:moveTo>
                    <a:pt x="0" y="0"/>
                  </a:moveTo>
                  <a:lnTo>
                    <a:pt x="2" y="15"/>
                  </a:lnTo>
                  <a:lnTo>
                    <a:pt x="7" y="45"/>
                  </a:lnTo>
                  <a:lnTo>
                    <a:pt x="13" y="86"/>
                  </a:lnTo>
                  <a:lnTo>
                    <a:pt x="21" y="136"/>
                  </a:lnTo>
                  <a:lnTo>
                    <a:pt x="31" y="195"/>
                  </a:lnTo>
                  <a:lnTo>
                    <a:pt x="43" y="260"/>
                  </a:lnTo>
                  <a:lnTo>
                    <a:pt x="55" y="330"/>
                  </a:lnTo>
                  <a:lnTo>
                    <a:pt x="70" y="403"/>
                  </a:lnTo>
                  <a:lnTo>
                    <a:pt x="85" y="476"/>
                  </a:lnTo>
                  <a:lnTo>
                    <a:pt x="100" y="550"/>
                  </a:lnTo>
                  <a:lnTo>
                    <a:pt x="116" y="622"/>
                  </a:lnTo>
                  <a:lnTo>
                    <a:pt x="134" y="688"/>
                  </a:lnTo>
                  <a:lnTo>
                    <a:pt x="150" y="749"/>
                  </a:lnTo>
                  <a:lnTo>
                    <a:pt x="167" y="804"/>
                  </a:lnTo>
                  <a:lnTo>
                    <a:pt x="183" y="847"/>
                  </a:lnTo>
                  <a:lnTo>
                    <a:pt x="199" y="881"/>
                  </a:lnTo>
                  <a:lnTo>
                    <a:pt x="195" y="859"/>
                  </a:lnTo>
                  <a:lnTo>
                    <a:pt x="187" y="824"/>
                  </a:lnTo>
                  <a:lnTo>
                    <a:pt x="176" y="778"/>
                  </a:lnTo>
                  <a:lnTo>
                    <a:pt x="165" y="723"/>
                  </a:lnTo>
                  <a:lnTo>
                    <a:pt x="151" y="661"/>
                  </a:lnTo>
                  <a:lnTo>
                    <a:pt x="136" y="593"/>
                  </a:lnTo>
                  <a:lnTo>
                    <a:pt x="121" y="521"/>
                  </a:lnTo>
                  <a:lnTo>
                    <a:pt x="105" y="448"/>
                  </a:lnTo>
                  <a:lnTo>
                    <a:pt x="88" y="373"/>
                  </a:lnTo>
                  <a:lnTo>
                    <a:pt x="72" y="301"/>
                  </a:lnTo>
                  <a:lnTo>
                    <a:pt x="57" y="232"/>
                  </a:lnTo>
                  <a:lnTo>
                    <a:pt x="42" y="168"/>
                  </a:lnTo>
                  <a:lnTo>
                    <a:pt x="29" y="111"/>
                  </a:lnTo>
                  <a:lnTo>
                    <a:pt x="17" y="63"/>
                  </a:lnTo>
                  <a:lnTo>
                    <a:pt x="7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838240" y="4803480"/>
              <a:ext cx="132840" cy="317520"/>
            </a:xfrm>
            <a:custGeom>
              <a:avLst/>
              <a:gdLst/>
              <a:ahLst/>
              <a:rect l="l" t="t" r="r" b="b"/>
              <a:pathLst>
                <a:path w="169" h="400">
                  <a:moveTo>
                    <a:pt x="0" y="0"/>
                  </a:moveTo>
                  <a:lnTo>
                    <a:pt x="8" y="27"/>
                  </a:lnTo>
                  <a:lnTo>
                    <a:pt x="22" y="74"/>
                  </a:lnTo>
                  <a:lnTo>
                    <a:pt x="40" y="132"/>
                  </a:lnTo>
                  <a:lnTo>
                    <a:pt x="62" y="197"/>
                  </a:lnTo>
                  <a:lnTo>
                    <a:pt x="84" y="261"/>
                  </a:lnTo>
                  <a:lnTo>
                    <a:pt x="105" y="321"/>
                  </a:lnTo>
                  <a:lnTo>
                    <a:pt x="123" y="369"/>
                  </a:lnTo>
                  <a:lnTo>
                    <a:pt x="135" y="400"/>
                  </a:lnTo>
                  <a:lnTo>
                    <a:pt x="169" y="397"/>
                  </a:lnTo>
                  <a:lnTo>
                    <a:pt x="154" y="369"/>
                  </a:lnTo>
                  <a:lnTo>
                    <a:pt x="136" y="325"/>
                  </a:lnTo>
                  <a:lnTo>
                    <a:pt x="114" y="271"/>
                  </a:lnTo>
                  <a:lnTo>
                    <a:pt x="91" y="211"/>
                  </a:lnTo>
                  <a:lnTo>
                    <a:pt x="67" y="148"/>
                  </a:lnTo>
                  <a:lnTo>
                    <a:pt x="43" y="91"/>
                  </a:lnTo>
                  <a:lnTo>
                    <a:pt x="21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246040" y="5300280"/>
              <a:ext cx="39240" cy="349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24" y="43"/>
                  </a:moveTo>
                  <a:lnTo>
                    <a:pt x="34" y="42"/>
                  </a:lnTo>
                  <a:lnTo>
                    <a:pt x="42" y="37"/>
                  </a:lnTo>
                  <a:lnTo>
                    <a:pt x="47" y="30"/>
                  </a:lnTo>
                  <a:lnTo>
                    <a:pt x="49" y="22"/>
                  </a:lnTo>
                  <a:lnTo>
                    <a:pt x="47" y="13"/>
                  </a:lnTo>
                  <a:lnTo>
                    <a:pt x="42" y="6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7" y="37"/>
                  </a:lnTo>
                  <a:lnTo>
                    <a:pt x="15" y="42"/>
                  </a:lnTo>
                  <a:lnTo>
                    <a:pt x="2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239560" y="5335200"/>
              <a:ext cx="39240" cy="3996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24" y="51"/>
                  </a:moveTo>
                  <a:lnTo>
                    <a:pt x="34" y="49"/>
                  </a:lnTo>
                  <a:lnTo>
                    <a:pt x="42" y="43"/>
                  </a:lnTo>
                  <a:lnTo>
                    <a:pt x="47" y="35"/>
                  </a:lnTo>
                  <a:lnTo>
                    <a:pt x="49" y="25"/>
                  </a:lnTo>
                  <a:lnTo>
                    <a:pt x="47" y="15"/>
                  </a:lnTo>
                  <a:lnTo>
                    <a:pt x="42" y="7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7" y="43"/>
                  </a:lnTo>
                  <a:lnTo>
                    <a:pt x="15" y="49"/>
                  </a:lnTo>
                  <a:lnTo>
                    <a:pt x="2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249280" y="5267160"/>
              <a:ext cx="39240" cy="39600"/>
            </a:xfrm>
            <a:custGeom>
              <a:avLst/>
              <a:gdLst/>
              <a:ahLst/>
              <a:rect l="l" t="t" r="r" b="b"/>
              <a:pathLst>
                <a:path w="50" h="51">
                  <a:moveTo>
                    <a:pt x="25" y="51"/>
                  </a:moveTo>
                  <a:lnTo>
                    <a:pt x="35" y="48"/>
                  </a:lnTo>
                  <a:lnTo>
                    <a:pt x="43" y="42"/>
                  </a:lnTo>
                  <a:lnTo>
                    <a:pt x="48" y="34"/>
                  </a:lnTo>
                  <a:lnTo>
                    <a:pt x="50" y="25"/>
                  </a:lnTo>
                  <a:lnTo>
                    <a:pt x="48" y="15"/>
                  </a:lnTo>
                  <a:lnTo>
                    <a:pt x="43" y="7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3" y="15"/>
                  </a:lnTo>
                  <a:lnTo>
                    <a:pt x="0" y="25"/>
                  </a:lnTo>
                  <a:lnTo>
                    <a:pt x="3" y="34"/>
                  </a:lnTo>
                  <a:lnTo>
                    <a:pt x="7" y="42"/>
                  </a:lnTo>
                  <a:lnTo>
                    <a:pt x="15" y="48"/>
                  </a:lnTo>
                  <a:lnTo>
                    <a:pt x="2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795400" y="5449680"/>
              <a:ext cx="39240" cy="3492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30" y="44"/>
                  </a:moveTo>
                  <a:lnTo>
                    <a:pt x="39" y="39"/>
                  </a:lnTo>
                  <a:lnTo>
                    <a:pt x="46" y="34"/>
                  </a:lnTo>
                  <a:lnTo>
                    <a:pt x="50" y="25"/>
                  </a:lnTo>
                  <a:lnTo>
                    <a:pt x="50" y="16"/>
                  </a:lnTo>
                  <a:lnTo>
                    <a:pt x="45" y="8"/>
                  </a:lnTo>
                  <a:lnTo>
                    <a:pt x="38" y="4"/>
                  </a:lnTo>
                  <a:lnTo>
                    <a:pt x="29" y="0"/>
                  </a:lnTo>
                  <a:lnTo>
                    <a:pt x="20" y="1"/>
                  </a:lnTo>
                  <a:lnTo>
                    <a:pt x="10" y="6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4" y="37"/>
                  </a:lnTo>
                  <a:lnTo>
                    <a:pt x="10" y="42"/>
                  </a:lnTo>
                  <a:lnTo>
                    <a:pt x="20" y="45"/>
                  </a:lnTo>
                  <a:lnTo>
                    <a:pt x="3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798280" y="5484600"/>
              <a:ext cx="39600" cy="381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31" y="48"/>
                  </a:moveTo>
                  <a:lnTo>
                    <a:pt x="40" y="44"/>
                  </a:lnTo>
                  <a:lnTo>
                    <a:pt x="46" y="37"/>
                  </a:lnTo>
                  <a:lnTo>
                    <a:pt x="49" y="29"/>
                  </a:lnTo>
                  <a:lnTo>
                    <a:pt x="49" y="19"/>
                  </a:lnTo>
                  <a:lnTo>
                    <a:pt x="45" y="9"/>
                  </a:lnTo>
                  <a:lnTo>
                    <a:pt x="38" y="2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9" y="5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" y="39"/>
                  </a:lnTo>
                  <a:lnTo>
                    <a:pt x="11" y="46"/>
                  </a:lnTo>
                  <a:lnTo>
                    <a:pt x="20" y="48"/>
                  </a:lnTo>
                  <a:lnTo>
                    <a:pt x="3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793600" y="5410080"/>
              <a:ext cx="3924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30" y="48"/>
                  </a:moveTo>
                  <a:lnTo>
                    <a:pt x="39" y="45"/>
                  </a:lnTo>
                  <a:lnTo>
                    <a:pt x="46" y="38"/>
                  </a:lnTo>
                  <a:lnTo>
                    <a:pt x="48" y="28"/>
                  </a:lnTo>
                  <a:lnTo>
                    <a:pt x="48" y="19"/>
                  </a:lnTo>
                  <a:lnTo>
                    <a:pt x="44" y="10"/>
                  </a:lnTo>
                  <a:lnTo>
                    <a:pt x="37" y="3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9" y="4"/>
                  </a:lnTo>
                  <a:lnTo>
                    <a:pt x="2" y="11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3" y="40"/>
                  </a:lnTo>
                  <a:lnTo>
                    <a:pt x="10" y="46"/>
                  </a:lnTo>
                  <a:lnTo>
                    <a:pt x="20" y="49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889000" y="5386320"/>
              <a:ext cx="39240" cy="3492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34" y="41"/>
                  </a:moveTo>
                  <a:lnTo>
                    <a:pt x="42" y="36"/>
                  </a:lnTo>
                  <a:lnTo>
                    <a:pt x="48" y="27"/>
                  </a:lnTo>
                  <a:lnTo>
                    <a:pt x="49" y="19"/>
                  </a:lnTo>
                  <a:lnTo>
                    <a:pt x="47" y="11"/>
                  </a:lnTo>
                  <a:lnTo>
                    <a:pt x="42" y="4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5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8" y="39"/>
                  </a:lnTo>
                  <a:lnTo>
                    <a:pt x="15" y="44"/>
                  </a:lnTo>
                  <a:lnTo>
                    <a:pt x="25" y="44"/>
                  </a:lnTo>
                  <a:lnTo>
                    <a:pt x="3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898360" y="5419440"/>
              <a:ext cx="39240" cy="3960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37" y="48"/>
                  </a:moveTo>
                  <a:lnTo>
                    <a:pt x="45" y="42"/>
                  </a:lnTo>
                  <a:lnTo>
                    <a:pt x="50" y="34"/>
                  </a:lnTo>
                  <a:lnTo>
                    <a:pt x="51" y="24"/>
                  </a:lnTo>
                  <a:lnTo>
                    <a:pt x="49" y="15"/>
                  </a:lnTo>
                  <a:lnTo>
                    <a:pt x="43" y="7"/>
                  </a:lnTo>
                  <a:lnTo>
                    <a:pt x="35" y="1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7" y="8"/>
                  </a:lnTo>
                  <a:lnTo>
                    <a:pt x="3" y="16"/>
                  </a:lnTo>
                  <a:lnTo>
                    <a:pt x="0" y="26"/>
                  </a:lnTo>
                  <a:lnTo>
                    <a:pt x="3" y="35"/>
                  </a:lnTo>
                  <a:lnTo>
                    <a:pt x="6" y="39"/>
                  </a:lnTo>
                  <a:lnTo>
                    <a:pt x="10" y="43"/>
                  </a:lnTo>
                  <a:lnTo>
                    <a:pt x="13" y="46"/>
                  </a:lnTo>
                  <a:lnTo>
                    <a:pt x="18" y="48"/>
                  </a:lnTo>
                  <a:lnTo>
                    <a:pt x="22" y="50"/>
                  </a:lnTo>
                  <a:lnTo>
                    <a:pt x="28" y="50"/>
                  </a:lnTo>
                  <a:lnTo>
                    <a:pt x="33" y="49"/>
                  </a:lnTo>
                  <a:lnTo>
                    <a:pt x="3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881080" y="5346360"/>
              <a:ext cx="39240" cy="39960"/>
            </a:xfrm>
            <a:custGeom>
              <a:avLst/>
              <a:gdLst/>
              <a:ahLst/>
              <a:rect l="l" t="t" r="r" b="b"/>
              <a:pathLst>
                <a:path w="51" h="51">
                  <a:moveTo>
                    <a:pt x="36" y="48"/>
                  </a:moveTo>
                  <a:lnTo>
                    <a:pt x="44" y="43"/>
                  </a:lnTo>
                  <a:lnTo>
                    <a:pt x="50" y="35"/>
                  </a:lnTo>
                  <a:lnTo>
                    <a:pt x="51" y="24"/>
                  </a:lnTo>
                  <a:lnTo>
                    <a:pt x="49" y="15"/>
                  </a:lnTo>
                  <a:lnTo>
                    <a:pt x="43" y="7"/>
                  </a:lnTo>
                  <a:lnTo>
                    <a:pt x="35" y="1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7" y="8"/>
                  </a:lnTo>
                  <a:lnTo>
                    <a:pt x="3" y="16"/>
                  </a:lnTo>
                  <a:lnTo>
                    <a:pt x="0" y="27"/>
                  </a:lnTo>
                  <a:lnTo>
                    <a:pt x="3" y="36"/>
                  </a:lnTo>
                  <a:lnTo>
                    <a:pt x="8" y="44"/>
                  </a:lnTo>
                  <a:lnTo>
                    <a:pt x="16" y="48"/>
                  </a:lnTo>
                  <a:lnTo>
                    <a:pt x="27" y="51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700200" y="37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 件 的 焊 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18960" y="4680000"/>
            <a:ext cx="2032200" cy="977760"/>
          </a:xfrm>
          <a:prstGeom prst="cloudCallout">
            <a:avLst>
              <a:gd name="adj1" fmla="val 18592"/>
              <a:gd name="adj2" fmla="val -13961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桌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735120" y="1766880"/>
            <a:ext cx="8175600" cy="4468680"/>
            <a:chOff x="735120" y="1766880"/>
            <a:chExt cx="8175600" cy="4468680"/>
          </a:xfrm>
        </p:grpSpPr>
        <p:grpSp>
          <p:nvGrpSpPr>
            <p:cNvPr id="1567" name=""/>
            <p:cNvGrpSpPr/>
            <p:nvPr/>
          </p:nvGrpSpPr>
          <p:grpSpPr>
            <a:xfrm>
              <a:off x="735120" y="1766880"/>
              <a:ext cx="7742880" cy="2011320"/>
              <a:chOff x="735120" y="1766880"/>
              <a:chExt cx="7742880" cy="2011320"/>
            </a:xfrm>
          </p:grpSpPr>
          <p:sp>
            <p:nvSpPr>
              <p:cNvPr id="1568" name=""/>
              <p:cNvSpPr/>
              <p:nvPr/>
            </p:nvSpPr>
            <p:spPr>
              <a:xfrm flipH="1">
                <a:off x="5597280" y="1847880"/>
                <a:ext cx="374760" cy="544680"/>
              </a:xfrm>
              <a:custGeom>
                <a:avLst/>
                <a:gdLst/>
                <a:ahLst/>
                <a:rect l="l" t="t" r="r" b="b"/>
                <a:pathLst>
                  <a:path w="281" h="343">
                    <a:moveTo>
                      <a:pt x="0" y="343"/>
                    </a:moveTo>
                    <a:lnTo>
                      <a:pt x="8" y="288"/>
                    </a:lnTo>
                    <a:lnTo>
                      <a:pt x="172" y="288"/>
                    </a:lnTo>
                    <a:lnTo>
                      <a:pt x="172" y="132"/>
                    </a:lnTo>
                    <a:lnTo>
                      <a:pt x="281" y="0"/>
                    </a:lnTo>
                  </a:path>
                </a:pathLst>
              </a:custGeom>
              <a:noFill/>
              <a:ln w="507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147360" y="1832040"/>
                <a:ext cx="376920" cy="544680"/>
              </a:xfrm>
              <a:custGeom>
                <a:avLst/>
                <a:gdLst/>
                <a:ahLst/>
                <a:rect l="l" t="t" r="r" b="b"/>
                <a:pathLst>
                  <a:path w="281" h="343">
                    <a:moveTo>
                      <a:pt x="0" y="343"/>
                    </a:moveTo>
                    <a:lnTo>
                      <a:pt x="8" y="288"/>
                    </a:lnTo>
                    <a:lnTo>
                      <a:pt x="172" y="288"/>
                    </a:lnTo>
                    <a:lnTo>
                      <a:pt x="172" y="132"/>
                    </a:lnTo>
                    <a:lnTo>
                      <a:pt x="281" y="0"/>
                    </a:lnTo>
                  </a:path>
                </a:pathLst>
              </a:custGeom>
              <a:noFill/>
              <a:ln w="507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0" name=""/>
              <p:cNvGrpSpPr/>
              <p:nvPr/>
            </p:nvGrpSpPr>
            <p:grpSpPr>
              <a:xfrm>
                <a:off x="5734800" y="2344680"/>
                <a:ext cx="642960" cy="1260720"/>
                <a:chOff x="5734800" y="2344680"/>
                <a:chExt cx="642960" cy="1260720"/>
              </a:xfrm>
            </p:grpSpPr>
            <p:sp>
              <p:nvSpPr>
                <p:cNvPr id="1571" name=""/>
                <p:cNvSpPr/>
                <p:nvPr/>
              </p:nvSpPr>
              <p:spPr>
                <a:xfrm rot="10800000">
                  <a:off x="5734800" y="2529000"/>
                  <a:ext cx="624240" cy="1076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1b1b1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rot="10800000">
                  <a:off x="5810760" y="2446200"/>
                  <a:ext cx="511920" cy="83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1b1b1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rot="10800000">
                  <a:off x="5756400" y="2344680"/>
                  <a:ext cx="621360" cy="100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b1b1b1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3957480" y="1933200"/>
                <a:ext cx="929880" cy="1680480"/>
                <a:chOff x="3957480" y="1933200"/>
                <a:chExt cx="929880" cy="1680480"/>
              </a:xfrm>
            </p:grpSpPr>
            <p:sp>
              <p:nvSpPr>
                <p:cNvPr id="1575" name=""/>
                <p:cNvSpPr/>
                <p:nvPr/>
              </p:nvSpPr>
              <p:spPr>
                <a:xfrm flipV="1">
                  <a:off x="4599000" y="1979280"/>
                  <a:ext cx="288360" cy="210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H="1" flipV="1">
                  <a:off x="3957480" y="1933200"/>
                  <a:ext cx="231120" cy="24948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V="1">
                  <a:off x="4209840" y="2174760"/>
                  <a:ext cx="397440" cy="1389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8" name=""/>
                <p:cNvGrpSpPr/>
                <p:nvPr/>
              </p:nvGrpSpPr>
              <p:grpSpPr>
                <a:xfrm>
                  <a:off x="4106520" y="2556360"/>
                  <a:ext cx="536400" cy="906840"/>
                  <a:chOff x="4106520" y="2556360"/>
                  <a:chExt cx="536400" cy="906840"/>
                </a:xfrm>
              </p:grpSpPr>
              <p:sp>
                <p:nvSpPr>
                  <p:cNvPr id="1579" name=""/>
                  <p:cNvSpPr/>
                  <p:nvPr/>
                </p:nvSpPr>
                <p:spPr>
                  <a:xfrm flipH="1" rot="17100000">
                    <a:off x="4003200" y="2895840"/>
                    <a:ext cx="7513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 flipH="1" rot="17100000">
                    <a:off x="4388040" y="2498400"/>
                    <a:ext cx="14256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504" y="18369"/>
                        </a:moveTo>
                        <a:arcTo wR="10800" hR="10800" stAng="2669816" swAng="163413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504" y="18369"/>
                        </a:moveTo>
                        <a:arcTo wR="10800" hR="10800" stAng="2669816" swAng="16341319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 flipH="1" rot="6300000">
                    <a:off x="4219560" y="3180960"/>
                    <a:ext cx="13968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04" y="18051"/>
                        </a:moveTo>
                        <a:arcTo wR="10800" hR="10800" stAng="2530276" swAng="1622288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04" y="18051"/>
                        </a:moveTo>
                        <a:arcTo wR="10800" hR="10800" stAng="2530276" swAng="16222885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 flipH="1" rot="17100000">
                    <a:off x="4261320" y="3159720"/>
                    <a:ext cx="84960" cy="36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51">
                        <a:moveTo>
                          <a:pt x="27" y="0"/>
                        </a:moveTo>
                        <a:cubicBezTo>
                          <a:pt x="28" y="47"/>
                          <a:pt x="32" y="95"/>
                          <a:pt x="29" y="142"/>
                        </a:cubicBezTo>
                        <a:cubicBezTo>
                          <a:pt x="28" y="151"/>
                          <a:pt x="3" y="136"/>
                          <a:pt x="3" y="136"/>
                        </a:cubicBezTo>
                        <a:cubicBezTo>
                          <a:pt x="7" y="94"/>
                          <a:pt x="0" y="52"/>
                          <a:pt x="5" y="10"/>
                        </a:cubicBezTo>
                        <a:cubicBezTo>
                          <a:pt x="5" y="8"/>
                          <a:pt x="24" y="1"/>
                          <a:pt x="27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e4c00"/>
                      </a:gs>
                      <a:gs pos="50000">
                        <a:srgbClr val="cca500"/>
                      </a:gs>
                      <a:gs pos="100000">
                        <a:srgbClr val="5e4c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 flipH="1" rot="17100000">
                    <a:off x="4413240" y="263520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61700"/>
                      </a:gs>
                      <a:gs pos="50000">
                        <a:srgbClr val="993300"/>
                      </a:gs>
                      <a:gs pos="100000">
                        <a:srgbClr val="4617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 flipH="1" rot="17100000">
                    <a:off x="4320360" y="3012120"/>
                    <a:ext cx="6444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50000">
                        <a:srgbClr val="ffcc00"/>
                      </a:gs>
                      <a:gs pos="100000">
                        <a:srgbClr val="ff99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 flipH="1" rot="17100000">
                    <a:off x="4366440" y="282384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34343"/>
                      </a:gs>
                      <a:gs pos="50000">
                        <a:srgbClr val="000000"/>
                      </a:gs>
                      <a:gs pos="100000">
                        <a:srgbClr val="434343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6" name=""/>
                <p:cNvSpPr/>
                <p:nvPr/>
              </p:nvSpPr>
              <p:spPr>
                <a:xfrm flipV="1">
                  <a:off x="4039560" y="3432960"/>
                  <a:ext cx="178200" cy="18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" y="8967"/>
                      </a:moveTo>
                      <a:arcTo wR="10800" hR="10800" stAng="-10213724" swAng="102137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" y="8967"/>
                      </a:moveTo>
                      <a:arcTo wR="10800" hR="10800" stAng="-10213724" swAng="10213724"/>
                    </a:path>
                  </a:pathLst>
                </a:custGeom>
                <a:noFill/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V="1">
                  <a:off x="4043160" y="2174760"/>
                  <a:ext cx="150480" cy="139572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8" name=""/>
              <p:cNvGrpSpPr/>
              <p:nvPr/>
            </p:nvGrpSpPr>
            <p:grpSpPr>
              <a:xfrm>
                <a:off x="2437200" y="1914120"/>
                <a:ext cx="929880" cy="1680480"/>
                <a:chOff x="2437200" y="1914120"/>
                <a:chExt cx="929880" cy="1680480"/>
              </a:xfrm>
            </p:grpSpPr>
            <p:sp>
              <p:nvSpPr>
                <p:cNvPr id="1589" name=""/>
                <p:cNvSpPr/>
                <p:nvPr/>
              </p:nvSpPr>
              <p:spPr>
                <a:xfrm flipV="1">
                  <a:off x="3078720" y="1960200"/>
                  <a:ext cx="288360" cy="210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H="1" flipV="1">
                  <a:off x="2437200" y="1914120"/>
                  <a:ext cx="231120" cy="24948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V="1">
                  <a:off x="2689560" y="2155680"/>
                  <a:ext cx="397440" cy="138924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2" name=""/>
                <p:cNvGrpSpPr/>
                <p:nvPr/>
              </p:nvGrpSpPr>
              <p:grpSpPr>
                <a:xfrm>
                  <a:off x="2586600" y="2537280"/>
                  <a:ext cx="536040" cy="906840"/>
                  <a:chOff x="2586600" y="2537280"/>
                  <a:chExt cx="536040" cy="906840"/>
                </a:xfrm>
              </p:grpSpPr>
              <p:sp>
                <p:nvSpPr>
                  <p:cNvPr id="1593" name=""/>
                  <p:cNvSpPr/>
                  <p:nvPr/>
                </p:nvSpPr>
                <p:spPr>
                  <a:xfrm flipH="1" rot="17100000">
                    <a:off x="2483280" y="2876760"/>
                    <a:ext cx="7513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 flipH="1" rot="17100000">
                    <a:off x="2867760" y="2479320"/>
                    <a:ext cx="14256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504" y="18369"/>
                        </a:moveTo>
                        <a:arcTo wR="10800" hR="10800" stAng="2669816" swAng="1634131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504" y="18369"/>
                        </a:moveTo>
                        <a:arcTo wR="10800" hR="10800" stAng="2669816" swAng="16341319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 flipH="1" rot="6300000">
                    <a:off x="2699640" y="3161880"/>
                    <a:ext cx="13968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04" y="18051"/>
                        </a:moveTo>
                        <a:arcTo wR="10800" hR="10800" stAng="2530276" swAng="1622288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04" y="18051"/>
                        </a:moveTo>
                        <a:arcTo wR="10800" hR="10800" stAng="2530276" swAng="16222885"/>
                      </a:path>
                    </a:pathLst>
                  </a:custGeom>
                  <a:gradFill rotWithShape="0">
                    <a:gsLst>
                      <a:gs pos="0">
                        <a:srgbClr val="755e46"/>
                      </a:gs>
                      <a:gs pos="50000">
                        <a:srgbClr val="ffcc99"/>
                      </a:gs>
                      <a:gs pos="100000">
                        <a:srgbClr val="755e46"/>
                      </a:gs>
                    </a:gsLst>
                    <a:lin ang="81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 flipH="1" rot="17100000">
                    <a:off x="2741040" y="3140640"/>
                    <a:ext cx="84960" cy="36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51">
                        <a:moveTo>
                          <a:pt x="27" y="0"/>
                        </a:moveTo>
                        <a:cubicBezTo>
                          <a:pt x="28" y="47"/>
                          <a:pt x="32" y="95"/>
                          <a:pt x="29" y="142"/>
                        </a:cubicBezTo>
                        <a:cubicBezTo>
                          <a:pt x="28" y="151"/>
                          <a:pt x="3" y="136"/>
                          <a:pt x="3" y="136"/>
                        </a:cubicBezTo>
                        <a:cubicBezTo>
                          <a:pt x="7" y="94"/>
                          <a:pt x="0" y="52"/>
                          <a:pt x="5" y="10"/>
                        </a:cubicBezTo>
                        <a:cubicBezTo>
                          <a:pt x="5" y="8"/>
                          <a:pt x="24" y="1"/>
                          <a:pt x="27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e4c00"/>
                      </a:gs>
                      <a:gs pos="50000">
                        <a:srgbClr val="cca500"/>
                      </a:gs>
                      <a:gs pos="100000">
                        <a:srgbClr val="5e4c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 flipH="1" rot="17100000">
                    <a:off x="2893320" y="261612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61700"/>
                      </a:gs>
                      <a:gs pos="50000">
                        <a:srgbClr val="993300"/>
                      </a:gs>
                      <a:gs pos="100000">
                        <a:srgbClr val="4617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 flipH="1" rot="17100000">
                    <a:off x="2800080" y="2993040"/>
                    <a:ext cx="6444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9900"/>
                      </a:gs>
                      <a:gs pos="50000">
                        <a:srgbClr val="ffcc00"/>
                      </a:gs>
                      <a:gs pos="100000">
                        <a:srgbClr val="ff990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 flipH="1" rot="17100000">
                    <a:off x="2846160" y="2804760"/>
                    <a:ext cx="63720" cy="241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34343"/>
                      </a:gs>
                      <a:gs pos="50000">
                        <a:srgbClr val="000000"/>
                      </a:gs>
                      <a:gs pos="100000">
                        <a:srgbClr val="434343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0" name=""/>
                <p:cNvSpPr/>
                <p:nvPr/>
              </p:nvSpPr>
              <p:spPr>
                <a:xfrm flipV="1">
                  <a:off x="2519280" y="3413880"/>
                  <a:ext cx="178200" cy="18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" y="8967"/>
                      </a:moveTo>
                      <a:arcTo wR="10800" hR="10800" stAng="-10213724" swAng="102137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" y="8967"/>
                      </a:moveTo>
                      <a:arcTo wR="10800" hR="10800" stAng="-10213724" swAng="10213724"/>
                    </a:path>
                  </a:pathLst>
                </a:custGeom>
                <a:noFill/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flipV="1">
                  <a:off x="2522880" y="2155680"/>
                  <a:ext cx="150480" cy="1395720"/>
                </a:xfrm>
                <a:prstGeom prst="line">
                  <a:avLst/>
                </a:prstGeom>
                <a:ln w="507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2" name=""/>
              <p:cNvSpPr/>
              <p:nvPr/>
            </p:nvSpPr>
            <p:spPr>
              <a:xfrm>
                <a:off x="1787400" y="2185920"/>
                <a:ext cx="5749920" cy="22320"/>
              </a:xfrm>
              <a:prstGeom prst="line">
                <a:avLst/>
              </a:prstGeom>
              <a:ln w="7632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3" name=""/>
              <p:cNvGrpSpPr/>
              <p:nvPr/>
            </p:nvGrpSpPr>
            <p:grpSpPr>
              <a:xfrm>
                <a:off x="757800" y="1805040"/>
                <a:ext cx="1350720" cy="1447560"/>
                <a:chOff x="757800" y="1805040"/>
                <a:chExt cx="1350720" cy="144756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757800" y="1805040"/>
                  <a:ext cx="900720" cy="14475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1658520" y="2250000"/>
                  <a:ext cx="450000" cy="5572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6" name=""/>
              <p:cNvGrpSpPr/>
              <p:nvPr/>
            </p:nvGrpSpPr>
            <p:grpSpPr>
              <a:xfrm>
                <a:off x="7127280" y="1805040"/>
                <a:ext cx="1350720" cy="1447560"/>
                <a:chOff x="7127280" y="1805040"/>
                <a:chExt cx="1350720" cy="1447560"/>
              </a:xfrm>
            </p:grpSpPr>
            <p:sp>
              <p:nvSpPr>
                <p:cNvPr id="1607" name=""/>
                <p:cNvSpPr/>
                <p:nvPr/>
              </p:nvSpPr>
              <p:spPr>
                <a:xfrm flipH="1">
                  <a:off x="7577280" y="1805040"/>
                  <a:ext cx="900720" cy="144756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H="1">
                  <a:off x="7127280" y="2250000"/>
                  <a:ext cx="450000" cy="5572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9" name=""/>
              <p:cNvSpPr/>
              <p:nvPr/>
            </p:nvSpPr>
            <p:spPr>
              <a:xfrm>
                <a:off x="735120" y="3625920"/>
                <a:ext cx="7720560" cy="1522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304720" y="182088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932200" y="178920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838320" y="180504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460040" y="178740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113880" y="1787400"/>
                <a:ext cx="54828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438520" y="1766880"/>
                <a:ext cx="547920" cy="374760"/>
              </a:xfrm>
              <a:custGeom>
                <a:avLst/>
                <a:gdLst/>
                <a:ahLst/>
                <a:rect l="l" t="t" r="r" b="b"/>
                <a:pathLst>
                  <a:path w="409" h="236">
                    <a:moveTo>
                      <a:pt x="40" y="234"/>
                    </a:moveTo>
                    <a:cubicBezTo>
                      <a:pt x="0" y="214"/>
                      <a:pt x="98" y="158"/>
                      <a:pt x="126" y="116"/>
                    </a:cubicBezTo>
                    <a:cubicBezTo>
                      <a:pt x="153" y="75"/>
                      <a:pt x="173" y="3"/>
                      <a:pt x="206" y="0"/>
                    </a:cubicBezTo>
                    <a:cubicBezTo>
                      <a:pt x="232" y="1"/>
                      <a:pt x="255" y="84"/>
                      <a:pt x="282" y="124"/>
                    </a:cubicBezTo>
                    <a:cubicBezTo>
                      <a:pt x="307" y="162"/>
                      <a:pt x="409" y="216"/>
                      <a:pt x="369" y="236"/>
                    </a:cubicBezTo>
                    <a:lnTo>
                      <a:pt x="4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fdfdf"/>
                  </a:gs>
                  <a:gs pos="100000">
                    <a:srgbClr val="808080"/>
                  </a:gs>
                </a:gsLst>
                <a:lin ang="10800000"/>
              </a:gra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6" name=""/>
            <p:cNvSpPr/>
            <p:nvPr/>
          </p:nvSpPr>
          <p:spPr>
            <a:xfrm>
              <a:off x="2486160" y="5303880"/>
              <a:ext cx="3413160" cy="931680"/>
            </a:xfrm>
            <a:prstGeom prst="wedgeRoundRectCallout">
              <a:avLst>
                <a:gd name="adj1" fmla="val -652"/>
                <a:gd name="adj2" fmla="val -276407"/>
                <a:gd name="adj3" fmla="val 1666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间距由孔距决定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323040" y="4529160"/>
              <a:ext cx="2587680" cy="1414440"/>
            </a:xfrm>
            <a:prstGeom prst="wedgeRoundRectCallout">
              <a:avLst>
                <a:gd name="adj1" fmla="val -44541"/>
                <a:gd name="adj2" fmla="val -121379"/>
                <a:gd name="adj3" fmla="val 16667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电解电容紧贴底板安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0" y="3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 意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-338400" y="1072440"/>
            <a:ext cx="5021280" cy="3572640"/>
            <a:chOff x="-338400" y="1072440"/>
            <a:chExt cx="5021280" cy="3572640"/>
          </a:xfrm>
        </p:grpSpPr>
        <p:sp>
          <p:nvSpPr>
            <p:cNvPr id="1620" name=""/>
            <p:cNvSpPr/>
            <p:nvPr/>
          </p:nvSpPr>
          <p:spPr>
            <a:xfrm rot="21013800">
              <a:off x="-103320" y="1331640"/>
              <a:ext cx="3317040" cy="305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31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31538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 flipV="1" rot="21013800">
              <a:off x="3238200" y="1317600"/>
              <a:ext cx="1230480" cy="2622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4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47776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4165920" y="214200"/>
            <a:ext cx="4023720" cy="3732840"/>
            <a:chOff x="4165920" y="214200"/>
            <a:chExt cx="4023720" cy="3732840"/>
          </a:xfrm>
        </p:grpSpPr>
        <p:grpSp>
          <p:nvGrpSpPr>
            <p:cNvPr id="1623" name=""/>
            <p:cNvGrpSpPr/>
            <p:nvPr/>
          </p:nvGrpSpPr>
          <p:grpSpPr>
            <a:xfrm>
              <a:off x="5772240" y="214200"/>
              <a:ext cx="2417400" cy="2610720"/>
              <a:chOff x="5772240" y="214200"/>
              <a:chExt cx="2417400" cy="2610720"/>
            </a:xfrm>
          </p:grpSpPr>
          <p:sp>
            <p:nvSpPr>
              <p:cNvPr id="1624" name=""/>
              <p:cNvSpPr/>
              <p:nvPr/>
            </p:nvSpPr>
            <p:spPr>
              <a:xfrm rot="18445200">
                <a:off x="6067080" y="968400"/>
                <a:ext cx="1585440" cy="1526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flipV="1" rot="18445200">
                <a:off x="7196040" y="190800"/>
                <a:ext cx="588240" cy="131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4165920" y="1258200"/>
              <a:ext cx="2032560" cy="2688840"/>
              <a:chOff x="4165920" y="1258200"/>
              <a:chExt cx="2032560" cy="2688840"/>
            </a:xfrm>
          </p:grpSpPr>
          <p:sp>
            <p:nvSpPr>
              <p:cNvPr id="1627" name=""/>
              <p:cNvSpPr/>
              <p:nvPr/>
            </p:nvSpPr>
            <p:spPr>
              <a:xfrm rot="2202000">
                <a:off x="5389560" y="1491480"/>
                <a:ext cx="315720" cy="121140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V="1" rot="2201400">
                <a:off x="5780160" y="1540440"/>
                <a:ext cx="308520" cy="76680"/>
              </a:xfrm>
              <a:custGeom>
                <a:avLst/>
                <a:gdLst>
                  <a:gd name="textAreaLeft" fmla="*/ 67680 w 308520"/>
                  <a:gd name="textAreaRight" fmla="*/ 240840 w 308520"/>
                  <a:gd name="textAreaTop" fmla="*/ 16920 h 76680"/>
                  <a:gd name="textAreaBottom" fmla="*/ 59760 h 7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rot="2202000">
                <a:off x="4946760" y="2572200"/>
                <a:ext cx="408600" cy="12204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rot="2202000">
                <a:off x="4890240" y="2675880"/>
                <a:ext cx="408600" cy="7128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rot="2202000">
                <a:off x="4974840" y="2738160"/>
                <a:ext cx="176400" cy="392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rot="2202000">
                <a:off x="4870440" y="2733120"/>
                <a:ext cx="99720" cy="44316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rot="2202000">
                <a:off x="4547880" y="3074760"/>
                <a:ext cx="130680" cy="5860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rot="2202000">
                <a:off x="4275000" y="3566160"/>
                <a:ext cx="85320" cy="394200"/>
              </a:xfrm>
              <a:custGeom>
                <a:avLst/>
                <a:gdLst>
                  <a:gd name="textAreaLeft" fmla="*/ 24840 w 85320"/>
                  <a:gd name="textAreaRight" fmla="*/ 60480 w 85320"/>
                  <a:gd name="textAreaTop" fmla="*/ 114840 h 394200"/>
                  <a:gd name="textAreaBottom" fmla="*/ 27936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rot="2202000">
                <a:off x="5983200" y="1266480"/>
                <a:ext cx="133560" cy="31716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102720" y="1310400"/>
                <a:ext cx="70560" cy="5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072120" y="134640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046560" y="138564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026400" y="1412640"/>
                <a:ext cx="7020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000480" y="144720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979240" y="148320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953320" y="151056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934960" y="147348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961960" y="143964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984640" y="1409760"/>
                <a:ext cx="7020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004080" y="137772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056280" y="1308240"/>
                <a:ext cx="7020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032880" y="1344960"/>
                <a:ext cx="7056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rot="2202000">
                <a:off x="5114880" y="2567880"/>
                <a:ext cx="65880" cy="12204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4981320" y="2529360"/>
                <a:ext cx="12348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994640" y="2506680"/>
                <a:ext cx="123480" cy="91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010120" y="248544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967640" y="2547360"/>
                <a:ext cx="123840" cy="918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185440" y="265104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201280" y="263016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172120" y="2669040"/>
                <a:ext cx="123840" cy="921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155200" y="2684520"/>
                <a:ext cx="131760" cy="9828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8" name=""/>
          <p:cNvSpPr/>
          <p:nvPr/>
        </p:nvSpPr>
        <p:spPr>
          <a:xfrm>
            <a:off x="344520" y="1419120"/>
            <a:ext cx="1979640" cy="860400"/>
          </a:xfrm>
          <a:prstGeom prst="wedgeEllipseCallout">
            <a:avLst>
              <a:gd name="adj1" fmla="val 76944"/>
              <a:gd name="adj2" fmla="val 1365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60360" y="2451240"/>
            <a:ext cx="2443320" cy="1379520"/>
          </a:xfrm>
          <a:prstGeom prst="wedgeRoundRectCallout">
            <a:avLst>
              <a:gd name="adj1" fmla="val 88273"/>
              <a:gd name="adj2" fmla="val 50805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用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电烙铁运载焊锡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5084640" y="1748160"/>
            <a:ext cx="2824560" cy="2848680"/>
            <a:chOff x="5084640" y="1748160"/>
            <a:chExt cx="2824560" cy="2848680"/>
          </a:xfrm>
        </p:grpSpPr>
        <p:sp>
          <p:nvSpPr>
            <p:cNvPr id="1661" name=""/>
            <p:cNvSpPr/>
            <p:nvPr/>
          </p:nvSpPr>
          <p:spPr>
            <a:xfrm rot="1221600">
              <a:off x="5403960" y="2058840"/>
              <a:ext cx="2185920" cy="2227320"/>
            </a:xfrm>
            <a:prstGeom prst="irregularSeal2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004440" y="2820240"/>
              <a:ext cx="8406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0033"/>
                  </a:solidFill>
                  <a:latin typeface="Times New Roman"/>
                </a:rPr>
                <a:t>错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3" name=""/>
          <p:cNvSpPr/>
          <p:nvPr/>
        </p:nvSpPr>
        <p:spPr>
          <a:xfrm>
            <a:off x="3822840" y="4788000"/>
            <a:ext cx="330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高温使助焊剂分解挥发，易造成焊接缺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1562040" y="3892320"/>
            <a:ext cx="5284800" cy="1850040"/>
            <a:chOff x="1562040" y="3892320"/>
            <a:chExt cx="5284800" cy="1850040"/>
          </a:xfrm>
        </p:grpSpPr>
        <p:sp>
          <p:nvSpPr>
            <p:cNvPr id="1665" name=""/>
            <p:cNvSpPr/>
            <p:nvPr/>
          </p:nvSpPr>
          <p:spPr>
            <a:xfrm>
              <a:off x="1562040" y="4179960"/>
              <a:ext cx="5284800" cy="0"/>
            </a:xfrm>
            <a:prstGeom prst="line">
              <a:avLst/>
            </a:prstGeom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6" name=""/>
            <p:cNvGrpSpPr/>
            <p:nvPr/>
          </p:nvGrpSpPr>
          <p:grpSpPr>
            <a:xfrm>
              <a:off x="2180160" y="3892320"/>
              <a:ext cx="1219320" cy="1850040"/>
              <a:chOff x="2180160" y="3892320"/>
              <a:chExt cx="1219320" cy="1850040"/>
            </a:xfrm>
          </p:grpSpPr>
          <p:sp>
            <p:nvSpPr>
              <p:cNvPr id="1667" name=""/>
              <p:cNvSpPr/>
              <p:nvPr/>
            </p:nvSpPr>
            <p:spPr>
              <a:xfrm flipV="1">
                <a:off x="3021480" y="3942720"/>
                <a:ext cx="378000" cy="2314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H="1" flipV="1">
                <a:off x="2180160" y="3892320"/>
                <a:ext cx="303120" cy="2746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2511000" y="4158720"/>
                <a:ext cx="521280" cy="15292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0" name=""/>
              <p:cNvGrpSpPr/>
              <p:nvPr/>
            </p:nvGrpSpPr>
            <p:grpSpPr>
              <a:xfrm>
                <a:off x="2361240" y="4559040"/>
                <a:ext cx="733320" cy="1036080"/>
                <a:chOff x="2361240" y="4559040"/>
                <a:chExt cx="733320" cy="1036080"/>
              </a:xfrm>
            </p:grpSpPr>
            <p:sp>
              <p:nvSpPr>
                <p:cNvPr id="1671" name=""/>
                <p:cNvSpPr/>
                <p:nvPr/>
              </p:nvSpPr>
              <p:spPr>
                <a:xfrm flipH="1" rot="17100000">
                  <a:off x="2317680" y="4926960"/>
                  <a:ext cx="827280" cy="316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flipH="1" rot="17100000">
                  <a:off x="2778480" y="4468680"/>
                  <a:ext cx="157320" cy="44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flipH="1" rot="6300000">
                  <a:off x="2520720" y="5238000"/>
                  <a:ext cx="153720" cy="448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flipH="1" rot="17100000">
                  <a:off x="2571480" y="5211360"/>
                  <a:ext cx="93600" cy="48528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H="1" rot="17100000">
                  <a:off x="2797920" y="4631400"/>
                  <a:ext cx="70200" cy="316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flipH="1" rot="17100000">
                  <a:off x="2655360" y="5057640"/>
                  <a:ext cx="71280" cy="316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 flipH="1" rot="17100000">
                  <a:off x="2727000" y="4844520"/>
                  <a:ext cx="70200" cy="316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8" name=""/>
              <p:cNvSpPr/>
              <p:nvPr/>
            </p:nvSpPr>
            <p:spPr>
              <a:xfrm flipV="1">
                <a:off x="2287800" y="5543640"/>
                <a:ext cx="233640" cy="19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2292840" y="4158720"/>
                <a:ext cx="197640" cy="153648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8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9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66720" y="44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焊元件的拔除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1" name=""/>
          <p:cNvGrpSpPr/>
          <p:nvPr/>
        </p:nvGrpSpPr>
        <p:grpSpPr>
          <a:xfrm>
            <a:off x="1212840" y="1682280"/>
            <a:ext cx="6256440" cy="2785680"/>
            <a:chOff x="1212840" y="1682280"/>
            <a:chExt cx="6256440" cy="2785680"/>
          </a:xfrm>
        </p:grpSpPr>
        <p:sp>
          <p:nvSpPr>
            <p:cNvPr id="1682" name=""/>
            <p:cNvSpPr/>
            <p:nvPr/>
          </p:nvSpPr>
          <p:spPr>
            <a:xfrm flipV="1">
              <a:off x="1871640" y="3903840"/>
              <a:ext cx="5597640" cy="563400"/>
            </a:xfrm>
            <a:prstGeom prst="parallelogram">
              <a:avLst>
                <a:gd name="adj" fmla="val 12069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2141640" y="1682280"/>
              <a:ext cx="1547280" cy="2467440"/>
              <a:chOff x="2141640" y="1682280"/>
              <a:chExt cx="1547280" cy="2467440"/>
            </a:xfrm>
          </p:grpSpPr>
          <p:sp>
            <p:nvSpPr>
              <p:cNvPr id="1684" name=""/>
              <p:cNvSpPr/>
              <p:nvPr/>
            </p:nvSpPr>
            <p:spPr>
              <a:xfrm>
                <a:off x="3209040" y="3773880"/>
                <a:ext cx="479880" cy="3085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2141640" y="3783600"/>
                <a:ext cx="384480" cy="3661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561400" y="1755720"/>
                <a:ext cx="661320" cy="203940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7" name=""/>
              <p:cNvGrpSpPr/>
              <p:nvPr/>
            </p:nvGrpSpPr>
            <p:grpSpPr>
              <a:xfrm>
                <a:off x="2376360" y="1886760"/>
                <a:ext cx="919800" cy="1366200"/>
                <a:chOff x="2376360" y="1886760"/>
                <a:chExt cx="919800" cy="1366200"/>
              </a:xfrm>
            </p:grpSpPr>
            <p:sp>
              <p:nvSpPr>
                <p:cNvPr id="1688" name=""/>
                <p:cNvSpPr/>
                <p:nvPr/>
              </p:nvSpPr>
              <p:spPr>
                <a:xfrm flipH="1" flipV="1" rot="4500000">
                  <a:off x="2289240" y="2358360"/>
                  <a:ext cx="1103400" cy="40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flipH="1" flipV="1" rot="4500000">
                  <a:off x="2888640" y="2792880"/>
                  <a:ext cx="210240" cy="568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504" y="18369"/>
                      </a:moveTo>
                      <a:arcTo wR="10800" hR="10800" stAng="2669816" swAng="163413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504" y="18369"/>
                      </a:moveTo>
                      <a:arcTo wR="10800" hR="10800" stAng="2669816" swAng="16341319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H="1" flipV="1" rot="15300000">
                  <a:off x="2574720" y="1774800"/>
                  <a:ext cx="205560" cy="568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8804" y="18051"/>
                      </a:moveTo>
                      <a:arcTo wR="10800" hR="10800" stAng="2530276" swAng="162228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8804" y="18051"/>
                      </a:moveTo>
                      <a:arcTo wR="10800" hR="10800" stAng="2530276" swAng="16222885"/>
                    </a:path>
                  </a:pathLst>
                </a:custGeom>
                <a:gradFill rotWithShape="0">
                  <a:gsLst>
                    <a:gs pos="0">
                      <a:srgbClr val="755e46"/>
                    </a:gs>
                    <a:gs pos="50000">
                      <a:srgbClr val="ffcc99"/>
                    </a:gs>
                    <a:gs pos="100000">
                      <a:srgbClr val="755e4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flipH="1" flipV="1" rot="4500000">
                  <a:off x="2641680" y="1762560"/>
                  <a:ext cx="125280" cy="615600"/>
                </a:xfrm>
                <a:custGeom>
                  <a:avLst/>
                  <a:gdLst/>
                  <a:ahLst/>
                  <a:rect l="l" t="t" r="r" b="b"/>
                  <a:pathLst>
                    <a:path w="32" h="151">
                      <a:moveTo>
                        <a:pt x="27" y="0"/>
                      </a:moveTo>
                      <a:cubicBezTo>
                        <a:pt x="28" y="47"/>
                        <a:pt x="32" y="95"/>
                        <a:pt x="29" y="142"/>
                      </a:cubicBezTo>
                      <a:cubicBezTo>
                        <a:pt x="28" y="151"/>
                        <a:pt x="3" y="136"/>
                        <a:pt x="3" y="136"/>
                      </a:cubicBezTo>
                      <a:cubicBezTo>
                        <a:pt x="7" y="94"/>
                        <a:pt x="0" y="52"/>
                        <a:pt x="5" y="10"/>
                      </a:cubicBezTo>
                      <a:cubicBezTo>
                        <a:pt x="5" y="8"/>
                        <a:pt x="24" y="1"/>
                        <a:pt x="27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5e4c00"/>
                    </a:gs>
                    <a:gs pos="50000">
                      <a:srgbClr val="cca500"/>
                    </a:gs>
                    <a:gs pos="100000">
                      <a:srgbClr val="5e4c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flipH="1" flipV="1" rot="4500000">
                  <a:off x="2917800" y="2747160"/>
                  <a:ext cx="93600" cy="40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1700"/>
                    </a:gs>
                    <a:gs pos="50000">
                      <a:srgbClr val="993300"/>
                    </a:gs>
                    <a:gs pos="100000">
                      <a:srgbClr val="4617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H="1" flipV="1" rot="4500000">
                  <a:off x="2744280" y="2184480"/>
                  <a:ext cx="95040" cy="401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00"/>
                    </a:gs>
                    <a:gs pos="50000">
                      <a:srgbClr val="ffcc00"/>
                    </a:gs>
                    <a:gs pos="100000">
                      <a:srgbClr val="ff99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H="1" flipV="1" rot="4500000">
                  <a:off x="2831040" y="2464920"/>
                  <a:ext cx="93600" cy="40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34343"/>
                    </a:gs>
                    <a:gs pos="50000">
                      <a:srgbClr val="000000"/>
                    </a:gs>
                    <a:gs pos="100000">
                      <a:srgbClr val="43434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5" name=""/>
              <p:cNvSpPr/>
              <p:nvPr/>
            </p:nvSpPr>
            <p:spPr>
              <a:xfrm>
                <a:off x="2278080" y="1682280"/>
                <a:ext cx="296640" cy="26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7" y="8967"/>
                    </a:moveTo>
                    <a:arcTo wR="10800" hR="10800" stAng="-10213724" swAng="1021372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7" y="8967"/>
                    </a:moveTo>
                    <a:arcTo wR="10800" hR="10800" stAng="-10213724" swAng="10213724"/>
                  </a:path>
                </a:pathLst>
              </a:custGeom>
              <a:noFill/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284560" y="1745640"/>
                <a:ext cx="250560" cy="2049120"/>
              </a:xfrm>
              <a:prstGeom prst="line">
                <a:avLst/>
              </a:prstGeom>
              <a:ln w="507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7" name=""/>
            <p:cNvSpPr/>
            <p:nvPr/>
          </p:nvSpPr>
          <p:spPr>
            <a:xfrm flipV="1">
              <a:off x="1212840" y="3348360"/>
              <a:ext cx="5597640" cy="563400"/>
            </a:xfrm>
            <a:prstGeom prst="parallelogram">
              <a:avLst>
                <a:gd name="adj" fmla="val 12069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2133720" y="3909600"/>
              <a:ext cx="442800" cy="21204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3235320" y="3920040"/>
              <a:ext cx="442800" cy="21204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0" name=""/>
          <p:cNvSpPr/>
          <p:nvPr/>
        </p:nvSpPr>
        <p:spPr>
          <a:xfrm>
            <a:off x="1066680" y="4716360"/>
            <a:ext cx="4818240" cy="1768680"/>
          </a:xfrm>
          <a:prstGeom prst="wedgeRoundRectCallout">
            <a:avLst>
              <a:gd name="adj1" fmla="val -2453"/>
              <a:gd name="adj2" fmla="val -93268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清除烙铁上的锡，绿面向下，用烙铁将元件脚上的锡尽量刮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3609720" y="3812400"/>
            <a:ext cx="4671720" cy="2829240"/>
            <a:chOff x="3609720" y="3812400"/>
            <a:chExt cx="4671720" cy="2829240"/>
          </a:xfrm>
        </p:grpSpPr>
        <p:grpSp>
          <p:nvGrpSpPr>
            <p:cNvPr id="1702" name=""/>
            <p:cNvGrpSpPr/>
            <p:nvPr/>
          </p:nvGrpSpPr>
          <p:grpSpPr>
            <a:xfrm>
              <a:off x="5650200" y="4632840"/>
              <a:ext cx="2631240" cy="2008800"/>
              <a:chOff x="5650200" y="4632840"/>
              <a:chExt cx="2631240" cy="2008800"/>
            </a:xfrm>
          </p:grpSpPr>
          <p:sp>
            <p:nvSpPr>
              <p:cNvPr id="1703" name=""/>
              <p:cNvSpPr/>
              <p:nvPr/>
            </p:nvSpPr>
            <p:spPr>
              <a:xfrm rot="1104000">
                <a:off x="5842800" y="4859280"/>
                <a:ext cx="1677600" cy="149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 flipV="1" rot="1104000">
                <a:off x="7472160" y="5292720"/>
                <a:ext cx="622080" cy="128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609720" y="3812400"/>
              <a:ext cx="3328200" cy="1144080"/>
              <a:chOff x="3609720" y="3812400"/>
              <a:chExt cx="3328200" cy="1144080"/>
            </a:xfrm>
          </p:grpSpPr>
          <p:sp>
            <p:nvSpPr>
              <p:cNvPr id="1706" name=""/>
              <p:cNvSpPr/>
              <p:nvPr/>
            </p:nvSpPr>
            <p:spPr>
              <a:xfrm rot="6461400">
                <a:off x="5757480" y="3930840"/>
                <a:ext cx="309600" cy="1281960"/>
              </a:xfrm>
              <a:prstGeom prst="rect">
                <a:avLst/>
              </a:prstGeom>
              <a:gradFill rotWithShape="0">
                <a:gsLst>
                  <a:gs pos="0">
                    <a:srgbClr val="663300"/>
                  </a:gs>
                  <a:gs pos="100000">
                    <a:srgbClr val="e2d9d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 rot="6460800">
                <a:off x="6411960" y="4739400"/>
                <a:ext cx="302400" cy="81360"/>
              </a:xfrm>
              <a:custGeom>
                <a:avLst/>
                <a:gdLst>
                  <a:gd name="textAreaLeft" fmla="*/ 66240 w 302400"/>
                  <a:gd name="textAreaRight" fmla="*/ 236160 w 302400"/>
                  <a:gd name="textAreaTop" fmla="*/ 17640 h 81360"/>
                  <a:gd name="textAreaBottom" fmla="*/ 63720 h 81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rot="6461400">
                <a:off x="5038920" y="4295520"/>
                <a:ext cx="400320" cy="128880"/>
              </a:xfrm>
              <a:prstGeom prst="rect">
                <a:avLst/>
              </a:prstGeom>
              <a:gradFill rotWithShape="0">
                <a:gsLst>
                  <a:gs pos="0">
                    <a:srgbClr val="462f00"/>
                  </a:gs>
                  <a:gs pos="100000">
                    <a:srgbClr val="9966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rot="6461400">
                <a:off x="4941000" y="4292640"/>
                <a:ext cx="400320" cy="7524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rot="6461400">
                <a:off x="4997880" y="4294440"/>
                <a:ext cx="172800" cy="41760"/>
              </a:xfrm>
              <a:prstGeom prst="rect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rot="6461400">
                <a:off x="4789440" y="4005000"/>
                <a:ext cx="97920" cy="4687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6461400">
                <a:off x="4255200" y="3765240"/>
                <a:ext cx="128160" cy="61992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rot="6461400">
                <a:off x="3779280" y="3706920"/>
                <a:ext cx="83520" cy="417240"/>
              </a:xfrm>
              <a:custGeom>
                <a:avLst/>
                <a:gdLst>
                  <a:gd name="textAreaLeft" fmla="*/ 24120 w 83520"/>
                  <a:gd name="textAreaRight" fmla="*/ 59400 w 83520"/>
                  <a:gd name="textAreaTop" fmla="*/ 121680 h 417240"/>
                  <a:gd name="textAreaBottom" fmla="*/ 295560 h 41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407" y="21600"/>
                    </a:lnTo>
                    <a:lnTo>
                      <a:pt x="81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rot="6461400">
                <a:off x="6692400" y="4674960"/>
                <a:ext cx="131040" cy="33552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>
                <a:off x="6864120" y="485748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H="1">
                <a:off x="6817680" y="4839840"/>
                <a:ext cx="2628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>
                <a:off x="6769440" y="482724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>
                <a:off x="6735240" y="481644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>
                <a:off x="6691680" y="480240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>
                <a:off x="6648840" y="479340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6612480" y="477720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6642360" y="4749120"/>
                <a:ext cx="2592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6685200" y="476424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6723000" y="477612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6761520" y="4785480"/>
                <a:ext cx="26280" cy="82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6849000" y="4813560"/>
                <a:ext cx="2628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>
                <a:off x="6804720" y="4802400"/>
                <a:ext cx="26280" cy="82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rot="6461400">
                <a:off x="5210280" y="4291200"/>
                <a:ext cx="64800" cy="128880"/>
              </a:xfrm>
              <a:prstGeom prst="rect">
                <a:avLst/>
              </a:prstGeom>
              <a:gradFill rotWithShape="0">
                <a:gsLst>
                  <a:gs pos="0">
                    <a:srgbClr val="5e4600"/>
                  </a:gs>
                  <a:gs pos="100000">
                    <a:srgbClr val="cc9900"/>
                  </a:gs>
                </a:gsLst>
                <a:lin ang="135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>
                <a:off x="5234400" y="4168800"/>
                <a:ext cx="46080" cy="144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>
                <a:off x="5261760" y="4174560"/>
                <a:ext cx="4572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5288040" y="418320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5211720" y="4161600"/>
                <a:ext cx="46080" cy="14436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5188680" y="439776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5214960" y="440604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5165640" y="4390560"/>
                <a:ext cx="46080" cy="14400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5141160" y="4379040"/>
                <a:ext cx="49320" cy="1537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1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本课题的目的及意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3640" y="3670200"/>
            <a:ext cx="7743960" cy="106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锡焊技术是电工、电子工艺的基本操作技能之一，通过实习要求大家在初步掌握这一技术的同时，注意培养自己在工作中耐心细致，一丝不苟的工作作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7120" y="1020600"/>
            <a:ext cx="774360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收音机是最常用的家用电器之一，通过这次实习，我们应该在了解其基本工作原理的基础上学会安装、调试、使用 ，并学会排除一些常见故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42800" y="41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焊元件的拔除  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rot="16200000">
            <a:off x="1007280" y="2815200"/>
            <a:ext cx="484200" cy="2057400"/>
          </a:xfrm>
          <a:custGeom>
            <a:avLst/>
            <a:gdLst>
              <a:gd name="textAreaLeft" fmla="*/ 156240 w 484200"/>
              <a:gd name="textAreaRight" fmla="*/ 327960 w 484200"/>
              <a:gd name="textAreaTop" fmla="*/ 664560 h 2057400"/>
              <a:gd name="textAreaBottom" fmla="*/ 1392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2191" y="21600"/>
                </a:lnTo>
                <a:lnTo>
                  <a:pt x="9409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62040" y="1892160"/>
            <a:ext cx="2251080" cy="947880"/>
          </a:xfrm>
          <a:prstGeom prst="wedgeRoundRectCallout">
            <a:avLst>
              <a:gd name="adj1" fmla="val 7194"/>
              <a:gd name="adj2" fmla="val 148490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镊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555480" y="4535640"/>
            <a:ext cx="118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633680" y="5162400"/>
            <a:ext cx="1224000" cy="768600"/>
          </a:xfrm>
          <a:prstGeom prst="wedgeRoundRectCallout">
            <a:avLst>
              <a:gd name="adj1" fmla="val -122634"/>
              <a:gd name="adj2" fmla="val -109916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2541240" y="1746000"/>
            <a:ext cx="3376800" cy="4571640"/>
            <a:chOff x="2541240" y="1746000"/>
            <a:chExt cx="3376800" cy="4571640"/>
          </a:xfrm>
        </p:grpSpPr>
        <p:sp>
          <p:nvSpPr>
            <p:cNvPr id="1743" name=""/>
            <p:cNvSpPr/>
            <p:nvPr/>
          </p:nvSpPr>
          <p:spPr>
            <a:xfrm flipV="1" rot="16200000">
              <a:off x="3373200" y="3434760"/>
              <a:ext cx="4233960" cy="855360"/>
            </a:xfrm>
            <a:prstGeom prst="parallelogram">
              <a:avLst>
                <a:gd name="adj" fmla="val 82521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4" name=""/>
            <p:cNvGrpSpPr/>
            <p:nvPr/>
          </p:nvGrpSpPr>
          <p:grpSpPr>
            <a:xfrm>
              <a:off x="2640600" y="3685320"/>
              <a:ext cx="1746000" cy="854640"/>
              <a:chOff x="2640600" y="3685320"/>
              <a:chExt cx="1746000" cy="854640"/>
            </a:xfrm>
          </p:grpSpPr>
          <p:sp>
            <p:nvSpPr>
              <p:cNvPr id="1745" name=""/>
              <p:cNvSpPr/>
              <p:nvPr/>
            </p:nvSpPr>
            <p:spPr>
              <a:xfrm flipV="1" rot="10049400">
                <a:off x="2765160" y="3941280"/>
                <a:ext cx="1481040" cy="342000"/>
              </a:xfrm>
              <a:prstGeom prst="rect">
                <a:avLst/>
              </a:pr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 rot="10049400">
                <a:off x="4056120" y="3709800"/>
                <a:ext cx="281160" cy="48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504" y="18369"/>
                    </a:moveTo>
                    <a:arcTo wR="10800" hR="10800" stAng="2669816" swAng="163413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504" y="18369"/>
                    </a:moveTo>
                    <a:arcTo wR="10800" hR="10800" stAng="2669816" swAng="16341319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 rot="20849400">
                <a:off x="2689200" y="4009680"/>
                <a:ext cx="275040" cy="483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804" y="18051"/>
                    </a:moveTo>
                    <a:arcTo wR="10800" hR="10800" stAng="2530276" swAng="162228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804" y="18051"/>
                    </a:moveTo>
                    <a:arcTo wR="10800" hR="10800" stAng="2530276" swAng="16222885"/>
                  </a:path>
                </a:pathLst>
              </a:custGeom>
              <a:gradFill rotWithShape="0">
                <a:gsLst>
                  <a:gs pos="0">
                    <a:srgbClr val="755e46"/>
                  </a:gs>
                  <a:gs pos="50000">
                    <a:srgbClr val="ffcc99"/>
                  </a:gs>
                  <a:gs pos="100000">
                    <a:srgbClr val="755e4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V="1" rot="10049400">
                <a:off x="2771280" y="4003560"/>
                <a:ext cx="167400" cy="523800"/>
              </a:xfrm>
              <a:custGeom>
                <a:avLst/>
                <a:gdLst/>
                <a:ahLst/>
                <a:rect l="l" t="t" r="r" b="b"/>
                <a:pathLst>
                  <a:path w="32" h="151">
                    <a:moveTo>
                      <a:pt x="27" y="0"/>
                    </a:moveTo>
                    <a:cubicBezTo>
                      <a:pt x="28" y="47"/>
                      <a:pt x="32" y="95"/>
                      <a:pt x="29" y="142"/>
                    </a:cubicBezTo>
                    <a:cubicBezTo>
                      <a:pt x="28" y="151"/>
                      <a:pt x="3" y="136"/>
                      <a:pt x="3" y="136"/>
                    </a:cubicBezTo>
                    <a:cubicBezTo>
                      <a:pt x="7" y="94"/>
                      <a:pt x="0" y="52"/>
                      <a:pt x="5" y="10"/>
                    </a:cubicBezTo>
                    <a:cubicBezTo>
                      <a:pt x="5" y="8"/>
                      <a:pt x="24" y="1"/>
                      <a:pt x="2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e4c00"/>
                  </a:gs>
                  <a:gs pos="50000">
                    <a:srgbClr val="cca500"/>
                  </a:gs>
                  <a:gs pos="100000">
                    <a:srgbClr val="5e4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 rot="10049400">
                <a:off x="3966120" y="3828240"/>
                <a:ext cx="126000" cy="341640"/>
              </a:xfrm>
              <a:prstGeom prst="rect">
                <a:avLst/>
              </a:prstGeom>
              <a:gradFill rotWithShape="0">
                <a:gsLst>
                  <a:gs pos="0">
                    <a:srgbClr val="461700"/>
                  </a:gs>
                  <a:gs pos="50000">
                    <a:srgbClr val="993300"/>
                  </a:gs>
                  <a:gs pos="100000">
                    <a:srgbClr val="46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V="1" rot="10049400">
                <a:off x="3206880" y="3996000"/>
                <a:ext cx="127800" cy="3416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ffcc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 rot="10049400">
                <a:off x="3587760" y="3912120"/>
                <a:ext cx="125280" cy="342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43434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2" name=""/>
            <p:cNvSpPr/>
            <p:nvPr/>
          </p:nvSpPr>
          <p:spPr>
            <a:xfrm flipV="1">
              <a:off x="4352760" y="3739320"/>
              <a:ext cx="792360" cy="2026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5143680" y="3615120"/>
              <a:ext cx="569520" cy="864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5192640" y="4275000"/>
              <a:ext cx="611280" cy="5220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 rot="5400000">
              <a:off x="2551680" y="4263840"/>
              <a:ext cx="314280" cy="33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" y="8967"/>
                  </a:moveTo>
                  <a:arcTo wR="10800" hR="10800" stAng="-10213724" swAng="10213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" y="8967"/>
                  </a:moveTo>
                  <a:arcTo wR="10800" hR="10800" stAng="-10213724" swAng="10213724"/>
                </a:path>
              </a:pathLst>
            </a:custGeom>
            <a:noFill/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2620800" y="4317120"/>
              <a:ext cx="2586240" cy="265680"/>
            </a:xfrm>
            <a:prstGeom prst="line">
              <a:avLst/>
            </a:prstGeom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 rot="16200000">
              <a:off x="2899080" y="4152240"/>
              <a:ext cx="3856680" cy="473040"/>
            </a:xfrm>
            <a:prstGeom prst="parallelogram">
              <a:avLst>
                <a:gd name="adj" fmla="val 69338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 rot="15938400">
              <a:off x="5183280" y="4153680"/>
              <a:ext cx="90360" cy="33660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V="1" rot="15310800">
              <a:off x="5172840" y="3549240"/>
              <a:ext cx="88920" cy="336600"/>
            </a:xfrm>
            <a:prstGeom prst="triangle">
              <a:avLst>
                <a:gd name="adj" fmla="val 48213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0" name=""/>
          <p:cNvGrpSpPr/>
          <p:nvPr/>
        </p:nvGrpSpPr>
        <p:grpSpPr>
          <a:xfrm>
            <a:off x="6176520" y="5425920"/>
            <a:ext cx="2800080" cy="2638800"/>
            <a:chOff x="6176520" y="5425920"/>
            <a:chExt cx="2800080" cy="2638800"/>
          </a:xfrm>
        </p:grpSpPr>
        <p:sp>
          <p:nvSpPr>
            <p:cNvPr id="1761" name=""/>
            <p:cNvSpPr/>
            <p:nvPr/>
          </p:nvSpPr>
          <p:spPr>
            <a:xfrm rot="2405400">
              <a:off x="6492600" y="5792040"/>
              <a:ext cx="1725840" cy="16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 flipV="1" rot="2405400">
              <a:off x="7966080" y="6636240"/>
              <a:ext cx="640080" cy="138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3" name=""/>
          <p:cNvGrpSpPr/>
          <p:nvPr/>
        </p:nvGrpSpPr>
        <p:grpSpPr>
          <a:xfrm>
            <a:off x="5076000" y="3696840"/>
            <a:ext cx="2827800" cy="2338200"/>
            <a:chOff x="5076000" y="3696840"/>
            <a:chExt cx="2827800" cy="2338200"/>
          </a:xfrm>
        </p:grpSpPr>
        <p:sp>
          <p:nvSpPr>
            <p:cNvPr id="1764" name=""/>
            <p:cNvSpPr/>
            <p:nvPr/>
          </p:nvSpPr>
          <p:spPr>
            <a:xfrm rot="7761600">
              <a:off x="6853320" y="4629960"/>
              <a:ext cx="333720" cy="13190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e2d9d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 rot="7761600">
              <a:off x="7400520" y="5694480"/>
              <a:ext cx="326160" cy="83520"/>
            </a:xfrm>
            <a:custGeom>
              <a:avLst/>
              <a:gdLst>
                <a:gd name="textAreaLeft" fmla="*/ 71640 w 326160"/>
                <a:gd name="textAreaRight" fmla="*/ 254520 w 326160"/>
                <a:gd name="textAreaTop" fmla="*/ 18360 h 83520"/>
                <a:gd name="textAreaBottom" fmla="*/ 65160 h 8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rot="7761600">
              <a:off x="6240600" y="4764600"/>
              <a:ext cx="432000" cy="132840"/>
            </a:xfrm>
            <a:prstGeom prst="rect">
              <a:avLst/>
            </a:prstGeom>
            <a:gradFill rotWithShape="0">
              <a:gsLst>
                <a:gs pos="0">
                  <a:srgbClr val="462f00"/>
                </a:gs>
                <a:gs pos="100000">
                  <a:srgbClr val="9966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rot="7761600">
              <a:off x="6158520" y="4726800"/>
              <a:ext cx="432000" cy="774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7761600">
              <a:off x="6232680" y="4708080"/>
              <a:ext cx="186480" cy="4284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rot="7761600">
              <a:off x="6066360" y="4322880"/>
              <a:ext cx="105480" cy="482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rot="7761600">
              <a:off x="5616360" y="3890520"/>
              <a:ext cx="138240" cy="63792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rot="7761600">
              <a:off x="5225040" y="3652920"/>
              <a:ext cx="90000" cy="429120"/>
            </a:xfrm>
            <a:custGeom>
              <a:avLst/>
              <a:gdLst>
                <a:gd name="textAreaLeft" fmla="*/ 26280 w 90000"/>
                <a:gd name="textAreaRight" fmla="*/ 63720 w 90000"/>
                <a:gd name="textAreaTop" fmla="*/ 125280 h 429120"/>
                <a:gd name="textAreaBottom" fmla="*/ 303840 h 42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407" y="21600"/>
                  </a:lnTo>
                  <a:lnTo>
                    <a:pt x="8193" y="21600"/>
                  </a:ln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rot="7761600">
              <a:off x="7654680" y="5698080"/>
              <a:ext cx="141480" cy="345240"/>
            </a:xfrm>
            <a:prstGeom prst="rect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7788600" y="5933520"/>
              <a:ext cx="5868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7751160" y="5898600"/>
              <a:ext cx="5868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7709400" y="586872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7680600" y="584532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7644600" y="581580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7606800" y="579060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7578000" y="576108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7618680" y="5744160"/>
              <a:ext cx="586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7653960" y="577512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7685640" y="5800680"/>
              <a:ext cx="5868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7719480" y="5824440"/>
              <a:ext cx="5868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7791840" y="5883840"/>
              <a:ext cx="59040" cy="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7753680" y="5856840"/>
              <a:ext cx="590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rot="7761600">
              <a:off x="6427080" y="4761720"/>
              <a:ext cx="69840" cy="132840"/>
            </a:xfrm>
            <a:prstGeom prst="rect">
              <a:avLst/>
            </a:prstGeom>
            <a:gradFill rotWithShape="0">
              <a:gsLst>
                <a:gs pos="0">
                  <a:srgbClr val="5e4600"/>
                </a:gs>
                <a:gs pos="100000">
                  <a:srgbClr val="cc9900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6471720" y="465696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6495840" y="467244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6517800" y="4690440"/>
              <a:ext cx="103680" cy="12636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6452280" y="4641120"/>
              <a:ext cx="10368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6333480" y="486720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6355440" y="4885200"/>
              <a:ext cx="10368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6314400" y="4851360"/>
              <a:ext cx="103320" cy="12600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6291360" y="4832280"/>
              <a:ext cx="110520" cy="134280"/>
            </a:xfrm>
            <a:prstGeom prst="line">
              <a:avLst/>
            </a:prstGeom>
            <a:ln w="1908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6402240" y="2095560"/>
            <a:ext cx="2287800" cy="1157400"/>
          </a:xfrm>
          <a:prstGeom prst="wedgeRoundRectCallout">
            <a:avLst>
              <a:gd name="adj1" fmla="val -104060"/>
              <a:gd name="adj2" fmla="val 81824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用烙铁将锡熔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电位器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阻值的测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5115240" y="452880"/>
            <a:ext cx="4526280" cy="4526280"/>
            <a:chOff x="5115240" y="452880"/>
            <a:chExt cx="4526280" cy="4526280"/>
          </a:xfrm>
        </p:grpSpPr>
        <p:grpSp>
          <p:nvGrpSpPr>
            <p:cNvPr id="1798" name=""/>
            <p:cNvGrpSpPr/>
            <p:nvPr/>
          </p:nvGrpSpPr>
          <p:grpSpPr>
            <a:xfrm>
              <a:off x="5115240" y="452880"/>
              <a:ext cx="4526280" cy="4526280"/>
              <a:chOff x="5115240" y="452880"/>
              <a:chExt cx="4526280" cy="4526280"/>
            </a:xfrm>
          </p:grpSpPr>
          <p:grpSp>
            <p:nvGrpSpPr>
              <p:cNvPr id="1799" name=""/>
              <p:cNvGrpSpPr/>
              <p:nvPr/>
            </p:nvGrpSpPr>
            <p:grpSpPr>
              <a:xfrm>
                <a:off x="5115240" y="452880"/>
                <a:ext cx="4526280" cy="4526280"/>
                <a:chOff x="5115240" y="452880"/>
                <a:chExt cx="4526280" cy="4526280"/>
              </a:xfrm>
            </p:grpSpPr>
            <p:sp>
              <p:nvSpPr>
                <p:cNvPr id="1800" name=""/>
                <p:cNvSpPr/>
                <p:nvPr/>
              </p:nvSpPr>
              <p:spPr>
                <a:xfrm>
                  <a:off x="6275520" y="861840"/>
                  <a:ext cx="2286000" cy="2895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6504120" y="1090440"/>
                  <a:ext cx="1828800" cy="990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2" name=""/>
                <p:cNvGrpSpPr/>
                <p:nvPr/>
              </p:nvGrpSpPr>
              <p:grpSpPr>
                <a:xfrm>
                  <a:off x="6961320" y="2462040"/>
                  <a:ext cx="914400" cy="917280"/>
                  <a:chOff x="6961320" y="2462040"/>
                  <a:chExt cx="914400" cy="917280"/>
                </a:xfrm>
              </p:grpSpPr>
              <p:sp>
                <p:nvSpPr>
                  <p:cNvPr id="1803" name=""/>
                  <p:cNvSpPr/>
                  <p:nvPr/>
                </p:nvSpPr>
                <p:spPr>
                  <a:xfrm>
                    <a:off x="6961320" y="2462040"/>
                    <a:ext cx="914400" cy="9144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 rot="2515200">
                    <a:off x="7342200" y="2385720"/>
                    <a:ext cx="101520" cy="11001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 flipH="1">
                    <a:off x="7418520" y="2538000"/>
                    <a:ext cx="304560" cy="38124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6" name=""/>
                <p:cNvSpPr/>
                <p:nvPr/>
              </p:nvSpPr>
              <p:spPr>
                <a:xfrm flipV="1" rot="13500000">
                  <a:off x="5776920" y="1116000"/>
                  <a:ext cx="3202200" cy="3198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506" y="136"/>
                      </a:moveTo>
                      <a:arcTo wR="10800" hR="10800" stAng="-4854694" swAng="42446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506" y="136"/>
                      </a:moveTo>
                      <a:arcTo wR="10800" hR="10800" stAng="-4854694" swAng="4244652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7342560" y="2233440"/>
                  <a:ext cx="152280" cy="76320"/>
                </a:xfrm>
                <a:prstGeom prst="ellipse">
                  <a:avLst/>
                </a:prstGeom>
                <a:solidFill>
                  <a:srgbClr val="00cc99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6428160" y="34527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6428160" y="31478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8256960" y="314784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8256960" y="34527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2" name=""/>
              <p:cNvSpPr/>
              <p:nvPr/>
            </p:nvSpPr>
            <p:spPr>
              <a:xfrm>
                <a:off x="6351480" y="2868480"/>
                <a:ext cx="247680" cy="247680"/>
              </a:xfrm>
              <a:prstGeom prst="plus">
                <a:avLst>
                  <a:gd name="adj" fmla="val 43847"/>
                </a:avLst>
              </a:prstGeom>
              <a:solidFill>
                <a:srgbClr val="ff00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656400" y="355428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4" name=""/>
            <p:cNvSpPr/>
            <p:nvPr/>
          </p:nvSpPr>
          <p:spPr>
            <a:xfrm>
              <a:off x="7908840" y="1420920"/>
              <a:ext cx="4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647120" y="21826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×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7418520" y="1268280"/>
              <a:ext cx="76212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6526080" y="3554280"/>
            <a:ext cx="1447920" cy="1359360"/>
            <a:chOff x="6526080" y="3554280"/>
            <a:chExt cx="1447920" cy="1359360"/>
          </a:xfrm>
        </p:grpSpPr>
        <p:sp>
          <p:nvSpPr>
            <p:cNvPr id="1818" name=""/>
            <p:cNvSpPr/>
            <p:nvPr/>
          </p:nvSpPr>
          <p:spPr>
            <a:xfrm>
              <a:off x="6526080" y="3554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526080" y="4087800"/>
              <a:ext cx="14479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0" name=""/>
            <p:cNvGrpSpPr/>
            <p:nvPr/>
          </p:nvGrpSpPr>
          <p:grpSpPr>
            <a:xfrm>
              <a:off x="7012440" y="4222080"/>
              <a:ext cx="954720" cy="691560"/>
              <a:chOff x="7012440" y="4222080"/>
              <a:chExt cx="954720" cy="691560"/>
            </a:xfrm>
          </p:grpSpPr>
          <p:sp>
            <p:nvSpPr>
              <p:cNvPr id="1821" name=""/>
              <p:cNvSpPr/>
              <p:nvPr/>
            </p:nvSpPr>
            <p:spPr>
              <a:xfrm flipV="1" rot="3294000">
                <a:off x="7582320" y="4084560"/>
                <a:ext cx="76320" cy="794160"/>
              </a:xfrm>
              <a:custGeom>
                <a:avLst/>
                <a:gdLst>
                  <a:gd name="textAreaLeft" fmla="*/ 16560 w 76320"/>
                  <a:gd name="textAreaRight" fmla="*/ 59760 w 76320"/>
                  <a:gd name="textAreaTop" fmla="*/ 174600 h 794160"/>
                  <a:gd name="textAreaBottom" fmla="*/ 619560 h 7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>
                <a:off x="7012440" y="4709520"/>
                <a:ext cx="290160" cy="20412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3" name=""/>
          <p:cNvGrpSpPr/>
          <p:nvPr/>
        </p:nvGrpSpPr>
        <p:grpSpPr>
          <a:xfrm>
            <a:off x="5078520" y="3249720"/>
            <a:ext cx="1487880" cy="1673640"/>
            <a:chOff x="5078520" y="3249720"/>
            <a:chExt cx="1487880" cy="1673640"/>
          </a:xfrm>
        </p:grpSpPr>
        <p:sp>
          <p:nvSpPr>
            <p:cNvPr id="1824" name=""/>
            <p:cNvSpPr/>
            <p:nvPr/>
          </p:nvSpPr>
          <p:spPr>
            <a:xfrm>
              <a:off x="5078520" y="3249720"/>
              <a:ext cx="60984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5626440" y="4210560"/>
              <a:ext cx="939960" cy="712800"/>
              <a:chOff x="5626440" y="4210560"/>
              <a:chExt cx="939960" cy="712800"/>
            </a:xfrm>
          </p:grpSpPr>
          <p:sp>
            <p:nvSpPr>
              <p:cNvPr id="1826" name=""/>
              <p:cNvSpPr/>
              <p:nvPr/>
            </p:nvSpPr>
            <p:spPr>
              <a:xfrm flipV="1" rot="18408000">
                <a:off x="5928120" y="4081680"/>
                <a:ext cx="76320" cy="792000"/>
              </a:xfrm>
              <a:custGeom>
                <a:avLst/>
                <a:gdLst>
                  <a:gd name="textAreaLeft" fmla="*/ 16560 w 76320"/>
                  <a:gd name="textAreaRight" fmla="*/ 59760 w 76320"/>
                  <a:gd name="textAreaTop" fmla="*/ 174240 h 792000"/>
                  <a:gd name="textAreaBottom" fmla="*/ 6177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280920" y="4709520"/>
                <a:ext cx="285480" cy="21384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8" name=""/>
            <p:cNvSpPr/>
            <p:nvPr/>
          </p:nvSpPr>
          <p:spPr>
            <a:xfrm flipH="1">
              <a:off x="5078520" y="3249720"/>
              <a:ext cx="1447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9" name=""/>
          <p:cNvSpPr/>
          <p:nvPr/>
        </p:nvSpPr>
        <p:spPr>
          <a:xfrm>
            <a:off x="2811600" y="4530600"/>
            <a:ext cx="2487600" cy="1524240"/>
          </a:xfrm>
          <a:prstGeom prst="wedgeRoundRectCallout">
            <a:avLst>
              <a:gd name="adj1" fmla="val 94287"/>
              <a:gd name="adj2" fmla="val -18125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测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与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间阻值</a:t>
            </a:r>
            <a:r>
              <a:rPr b="1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5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 flipV="1" rot="16200000">
            <a:off x="6167880" y="5018040"/>
            <a:ext cx="114156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rot="16200000">
            <a:off x="6473880" y="4829040"/>
            <a:ext cx="635040" cy="76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 flipV="1" rot="16200000">
            <a:off x="6230880" y="4830840"/>
            <a:ext cx="635040" cy="76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rot="16200000">
            <a:off x="6688080" y="4830840"/>
            <a:ext cx="635040" cy="76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V="1" rot="16200000">
            <a:off x="7367040" y="5546520"/>
            <a:ext cx="190800" cy="228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flipV="1" rot="16200000">
            <a:off x="5919480" y="5482440"/>
            <a:ext cx="190440" cy="228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 rot="16200000">
            <a:off x="6358680" y="5171400"/>
            <a:ext cx="760320" cy="914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01760" y="1398600"/>
            <a:ext cx="2819160" cy="2057400"/>
          </a:xfrm>
          <a:prstGeom prst="wedgeRectCallout">
            <a:avLst>
              <a:gd name="adj1" fmla="val -8837"/>
              <a:gd name="adj2" fmla="val 88347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转动旋钮，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3 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间的阻值应随之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3581280" y="1447920"/>
            <a:ext cx="2133720" cy="1371600"/>
            <a:chOff x="3581280" y="1447920"/>
            <a:chExt cx="2133720" cy="1371600"/>
          </a:xfrm>
        </p:grpSpPr>
        <p:sp>
          <p:nvSpPr>
            <p:cNvPr id="1839" name=""/>
            <p:cNvSpPr/>
            <p:nvPr/>
          </p:nvSpPr>
          <p:spPr>
            <a:xfrm>
              <a:off x="4114800" y="2438280"/>
              <a:ext cx="914400" cy="3812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3657600" y="2666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5029200" y="26668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572000" y="190512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581280" y="2057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419720" y="1447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257800" y="20574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642960" y="4265640"/>
            <a:ext cx="1814040" cy="1726560"/>
            <a:chOff x="642960" y="4265640"/>
            <a:chExt cx="1814040" cy="1726560"/>
          </a:xfrm>
        </p:grpSpPr>
        <p:sp>
          <p:nvSpPr>
            <p:cNvPr id="1847" name=""/>
            <p:cNvSpPr/>
            <p:nvPr/>
          </p:nvSpPr>
          <p:spPr>
            <a:xfrm>
              <a:off x="662040" y="4787640"/>
              <a:ext cx="72360" cy="109008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383560" y="4736160"/>
              <a:ext cx="7308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988560" y="4863240"/>
              <a:ext cx="10764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458000" y="4901400"/>
              <a:ext cx="16740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018880" y="4853880"/>
              <a:ext cx="107640" cy="1090800"/>
            </a:xfrm>
            <a:custGeom>
              <a:avLst/>
              <a:gdLst/>
              <a:ahLst/>
              <a:rect l="l" t="t" r="r" b="b"/>
              <a:pathLst>
                <a:path w="34" h="343">
                  <a:moveTo>
                    <a:pt x="0" y="0"/>
                  </a:moveTo>
                  <a:lnTo>
                    <a:pt x="0" y="205"/>
                  </a:lnTo>
                  <a:lnTo>
                    <a:pt x="10" y="205"/>
                  </a:lnTo>
                  <a:lnTo>
                    <a:pt x="10" y="343"/>
                  </a:lnTo>
                  <a:lnTo>
                    <a:pt x="24" y="343"/>
                  </a:lnTo>
                  <a:lnTo>
                    <a:pt x="25" y="206"/>
                  </a:lnTo>
                  <a:lnTo>
                    <a:pt x="34" y="206"/>
                  </a:lnTo>
                  <a:lnTo>
                    <a:pt x="3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42960" y="4348440"/>
              <a:ext cx="1814040" cy="578880"/>
            </a:xfrm>
            <a:prstGeom prst="can">
              <a:avLst>
                <a:gd name="adj" fmla="val 37361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67800" y="4329720"/>
              <a:ext cx="1769400" cy="23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321560" y="4265640"/>
              <a:ext cx="386640" cy="270360"/>
            </a:xfrm>
            <a:prstGeom prst="cube">
              <a:avLst>
                <a:gd name="adj" fmla="val 52939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0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5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0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友  情  提  醒 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13716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857" name=""/>
          <p:cNvGrpSpPr/>
          <p:nvPr/>
        </p:nvGrpSpPr>
        <p:grpSpPr>
          <a:xfrm>
            <a:off x="1066680" y="1219320"/>
            <a:ext cx="7310520" cy="4772160"/>
            <a:chOff x="1066680" y="1219320"/>
            <a:chExt cx="7310520" cy="4772160"/>
          </a:xfrm>
        </p:grpSpPr>
        <p:sp>
          <p:nvSpPr>
            <p:cNvPr id="1858" name=""/>
            <p:cNvSpPr/>
            <p:nvPr/>
          </p:nvSpPr>
          <p:spPr>
            <a:xfrm>
              <a:off x="1600200" y="1219320"/>
              <a:ext cx="67755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焊接前电阻要看清阻值大小，并用万用表校核。电容、二极管要看清极性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523880" y="2362320"/>
              <a:ext cx="685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一旦焊错要小心地用烙铁加热后取下重焊。拨下的动作要轻，如果安装孔堵塞，要边加热，边用针通开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523880" y="4145040"/>
              <a:ext cx="6853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电阻的读数方向要一致，色环不清楚</a:t>
              </a:r>
              <a:br>
                <a:rPr sz="3200"/>
              </a:b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时要用万用表测定阻值后再装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523880" y="5410080"/>
              <a:ext cx="685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上螺丝、螺母时用力要合适，不可用力太大。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143000" y="2514600"/>
              <a:ext cx="40176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>
              <a:hlinkClick r:id="rId2" action="ppaction://hlinksldjump"/>
            </p:cNvPr>
            <p:cNvSpPr/>
            <p:nvPr/>
          </p:nvSpPr>
          <p:spPr>
            <a:xfrm>
              <a:off x="1143000" y="4221000"/>
              <a:ext cx="401760" cy="45108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>
              <a:hlinkClick r:id="rId3" action="ppaction://hlinksldjump"/>
            </p:cNvPr>
            <p:cNvSpPr/>
            <p:nvPr/>
          </p:nvSpPr>
          <p:spPr>
            <a:xfrm>
              <a:off x="1143000" y="5486400"/>
              <a:ext cx="40176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>
              <a:hlinkClick r:id="rId4" action="ppaction://hlinksldjump"/>
            </p:cNvPr>
            <p:cNvSpPr/>
            <p:nvPr/>
          </p:nvSpPr>
          <p:spPr>
            <a:xfrm>
              <a:off x="1066680" y="1371600"/>
              <a:ext cx="40176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8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"/>
          <p:cNvSpPr/>
          <p:nvPr/>
        </p:nvSpPr>
        <p:spPr>
          <a:xfrm>
            <a:off x="395280" y="54144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焊接时注意各元件对应位置确保无误时在进行焊接，根据工艺要求依次安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905120" y="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元件焊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1158840" y="5562720"/>
            <a:ext cx="63183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安装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SM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贴片元件，集成块注意脚位，先固定一个脚后再焊接其它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8305920" y="2133720"/>
            <a:ext cx="304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8496360" y="1593720"/>
            <a:ext cx="457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1" name="" descr=""/>
          <p:cNvPicPr/>
          <p:nvPr/>
        </p:nvPicPr>
        <p:blipFill>
          <a:blip r:embed="rId1"/>
          <a:stretch/>
        </p:blipFill>
        <p:spPr>
          <a:xfrm>
            <a:off x="1209600" y="1638360"/>
            <a:ext cx="59324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1243080" y="5092560"/>
            <a:ext cx="6553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插装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THT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面元件。跳线、电阻、电感及瓷片电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3" name="" descr=""/>
          <p:cNvPicPr/>
          <p:nvPr/>
        </p:nvPicPr>
        <p:blipFill>
          <a:blip r:embed="rId1"/>
          <a:stretch/>
        </p:blipFill>
        <p:spPr>
          <a:xfrm>
            <a:off x="1376280" y="1135080"/>
            <a:ext cx="60404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"/>
          <p:cNvSpPr/>
          <p:nvPr/>
        </p:nvSpPr>
        <p:spPr>
          <a:xfrm>
            <a:off x="649440" y="5487840"/>
            <a:ext cx="754848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安装空心电感、磁珠电感及二极管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BB91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，注意二极管极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5" name="" descr=""/>
          <p:cNvPicPr/>
          <p:nvPr/>
        </p:nvPicPr>
        <p:blipFill>
          <a:blip r:embed="rId1"/>
          <a:stretch/>
        </p:blipFill>
        <p:spPr>
          <a:xfrm>
            <a:off x="0" y="485640"/>
            <a:ext cx="7121520" cy="341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6" name=""/>
          <p:cNvGraphicFramePr/>
          <p:nvPr/>
        </p:nvGraphicFramePr>
        <p:xfrm>
          <a:off x="7102440" y="1003320"/>
          <a:ext cx="2041560" cy="26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02440" y="1003320"/>
                    <a:ext cx="20415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"/>
          <p:cNvSpPr/>
          <p:nvPr/>
        </p:nvSpPr>
        <p:spPr>
          <a:xfrm>
            <a:off x="1984320" y="5286240"/>
            <a:ext cx="574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安装电解电容和电位器，电位器紧贴电路板安装，电解电容对号入座，注意正负极性卧式安装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9" name="" descr=""/>
          <p:cNvPicPr/>
          <p:nvPr/>
        </p:nvPicPr>
        <p:blipFill>
          <a:blip r:embed="rId1"/>
          <a:stretch/>
        </p:blipFill>
        <p:spPr>
          <a:xfrm>
            <a:off x="0" y="928800"/>
            <a:ext cx="1838160" cy="2295360"/>
          </a:xfrm>
          <a:prstGeom prst="rect">
            <a:avLst/>
          </a:prstGeom>
          <a:ln w="0">
            <a:noFill/>
          </a:ln>
        </p:spPr>
      </p:pic>
      <p:pic>
        <p:nvPicPr>
          <p:cNvPr id="1880" name="" descr=""/>
          <p:cNvPicPr/>
          <p:nvPr/>
        </p:nvPicPr>
        <p:blipFill>
          <a:blip r:embed="rId2"/>
          <a:stretch/>
        </p:blipFill>
        <p:spPr>
          <a:xfrm>
            <a:off x="1781280" y="903240"/>
            <a:ext cx="67705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"/>
          <p:cNvSpPr/>
          <p:nvPr/>
        </p:nvSpPr>
        <p:spPr>
          <a:xfrm>
            <a:off x="1479600" y="5872320"/>
            <a:ext cx="62881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安装耳机插座和选台按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2" name="" descr=""/>
          <p:cNvPicPr/>
          <p:nvPr/>
        </p:nvPicPr>
        <p:blipFill>
          <a:blip r:embed="rId1"/>
          <a:stretch/>
        </p:blipFill>
        <p:spPr>
          <a:xfrm>
            <a:off x="793800" y="711360"/>
            <a:ext cx="7613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522360" y="5640480"/>
            <a:ext cx="7910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安装发光二极管，注意正负极，可以装到外壳上确定高度后再焊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4" name="" descr=""/>
          <p:cNvPicPr/>
          <p:nvPr/>
        </p:nvPicPr>
        <p:blipFill>
          <a:blip r:embed="rId1"/>
          <a:stretch/>
        </p:blipFill>
        <p:spPr>
          <a:xfrm>
            <a:off x="363600" y="812880"/>
            <a:ext cx="5697360" cy="4037040"/>
          </a:xfrm>
          <a:prstGeom prst="rect">
            <a:avLst/>
          </a:prstGeom>
          <a:ln w="0">
            <a:noFill/>
          </a:ln>
        </p:spPr>
      </p:pic>
      <p:pic>
        <p:nvPicPr>
          <p:cNvPr id="1885" name="" descr=""/>
          <p:cNvPicPr/>
          <p:nvPr/>
        </p:nvPicPr>
        <p:blipFill>
          <a:blip r:embed="rId2"/>
          <a:stretch/>
        </p:blipFill>
        <p:spPr>
          <a:xfrm>
            <a:off x="6058080" y="830160"/>
            <a:ext cx="2393640" cy="2854440"/>
          </a:xfrm>
          <a:prstGeom prst="rect">
            <a:avLst/>
          </a:prstGeom>
          <a:ln w="0">
            <a:noFill/>
          </a:ln>
        </p:spPr>
      </p:pic>
      <p:pic>
        <p:nvPicPr>
          <p:cNvPr id="1886" name="" descr=""/>
          <p:cNvPicPr/>
          <p:nvPr/>
        </p:nvPicPr>
        <p:blipFill>
          <a:blip r:embed="rId3"/>
          <a:stretch/>
        </p:blipFill>
        <p:spPr>
          <a:xfrm>
            <a:off x="6067440" y="3684600"/>
            <a:ext cx="148428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7" name="" descr=""/>
          <p:cNvPicPr/>
          <p:nvPr/>
        </p:nvPicPr>
        <p:blipFill>
          <a:blip r:embed="rId1"/>
          <a:stretch/>
        </p:blipFill>
        <p:spPr>
          <a:xfrm>
            <a:off x="1444680" y="246240"/>
            <a:ext cx="5946840" cy="4937040"/>
          </a:xfrm>
          <a:prstGeom prst="rect">
            <a:avLst/>
          </a:prstGeom>
          <a:ln w="0">
            <a:noFill/>
          </a:ln>
        </p:spPr>
      </p:pic>
      <p:sp>
        <p:nvSpPr>
          <p:cNvPr id="1888" name=""/>
          <p:cNvSpPr/>
          <p:nvPr/>
        </p:nvSpPr>
        <p:spPr>
          <a:xfrm>
            <a:off x="536400" y="5683320"/>
            <a:ext cx="79106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焊接电源线红线为正极黑线为负极，把电池极片焊接到导线另一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70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2031FM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收音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电路原理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8920" y="801720"/>
            <a:ext cx="641952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9" name="" descr=""/>
          <p:cNvPicPr/>
          <p:nvPr/>
        </p:nvPicPr>
        <p:blipFill>
          <a:blip r:embed="rId1"/>
          <a:stretch/>
        </p:blipFill>
        <p:spPr>
          <a:xfrm>
            <a:off x="220680" y="814320"/>
            <a:ext cx="4330800" cy="3853080"/>
          </a:xfrm>
          <a:prstGeom prst="rect">
            <a:avLst/>
          </a:prstGeom>
          <a:ln w="0">
            <a:noFill/>
          </a:ln>
        </p:spPr>
      </p:pic>
      <p:pic>
        <p:nvPicPr>
          <p:cNvPr id="1890" name="" descr=""/>
          <p:cNvPicPr/>
          <p:nvPr/>
        </p:nvPicPr>
        <p:blipFill>
          <a:blip r:embed="rId2"/>
          <a:stretch/>
        </p:blipFill>
        <p:spPr>
          <a:xfrm>
            <a:off x="4508640" y="809640"/>
            <a:ext cx="4302000" cy="3744720"/>
          </a:xfrm>
          <a:prstGeom prst="rect">
            <a:avLst/>
          </a:prstGeom>
          <a:ln w="0">
            <a:noFill/>
          </a:ln>
        </p:spPr>
      </p:pic>
      <p:sp>
        <p:nvSpPr>
          <p:cNvPr id="1891" name=""/>
          <p:cNvSpPr/>
          <p:nvPr/>
        </p:nvSpPr>
        <p:spPr>
          <a:xfrm>
            <a:off x="0" y="5423040"/>
            <a:ext cx="8955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装上选台按钮，注意其中一个注意有缺口对准，电路板装到外壳上，装上螺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2" name="" descr=""/>
          <p:cNvPicPr/>
          <p:nvPr/>
        </p:nvPicPr>
        <p:blipFill>
          <a:blip r:embed="rId1"/>
          <a:stretch/>
        </p:blipFill>
        <p:spPr>
          <a:xfrm>
            <a:off x="1060560" y="303120"/>
            <a:ext cx="7572240" cy="4832280"/>
          </a:xfrm>
          <a:prstGeom prst="rect">
            <a:avLst/>
          </a:prstGeom>
          <a:ln w="0">
            <a:noFill/>
          </a:ln>
        </p:spPr>
      </p:pic>
      <p:sp>
        <p:nvSpPr>
          <p:cNvPr id="1893" name=""/>
          <p:cNvSpPr/>
          <p:nvPr/>
        </p:nvSpPr>
        <p:spPr>
          <a:xfrm>
            <a:off x="1276200" y="5916600"/>
            <a:ext cx="65026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装上调谐里面按钮，后再装上外按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5619600" cy="3176640"/>
          </a:xfrm>
          <a:prstGeom prst="rect">
            <a:avLst/>
          </a:prstGeom>
          <a:ln w="0">
            <a:noFill/>
          </a:ln>
        </p:spPr>
      </p:pic>
      <p:sp>
        <p:nvSpPr>
          <p:cNvPr id="1895" name=""/>
          <p:cNvSpPr/>
          <p:nvPr/>
        </p:nvSpPr>
        <p:spPr>
          <a:xfrm>
            <a:off x="1189080" y="5495760"/>
            <a:ext cx="6502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把电池极片装到后盖内后装上螺丝，即可收听广播节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6" name="" descr=""/>
          <p:cNvPicPr/>
          <p:nvPr/>
        </p:nvPicPr>
        <p:blipFill>
          <a:blip r:embed="rId2"/>
          <a:stretch/>
        </p:blipFill>
        <p:spPr>
          <a:xfrm>
            <a:off x="5597640" y="1488960"/>
            <a:ext cx="334332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203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琥珀"/>
              </a:rPr>
              <a:t>收音机装配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601560"/>
            <a:ext cx="91440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36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安 装 步 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415200" y="3809880"/>
            <a:ext cx="1676160" cy="27432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826920" y="1434960"/>
            <a:ext cx="6948360" cy="4400280"/>
            <a:chOff x="826920" y="1434960"/>
            <a:chExt cx="6948360" cy="4400280"/>
          </a:xfrm>
        </p:grpSpPr>
        <p:sp>
          <p:nvSpPr>
            <p:cNvPr id="97" name=""/>
            <p:cNvSpPr/>
            <p:nvPr/>
          </p:nvSpPr>
          <p:spPr>
            <a:xfrm>
              <a:off x="1436400" y="4446720"/>
              <a:ext cx="458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机械部件的安装调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36400" y="2886120"/>
              <a:ext cx="417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焊接前的准备工作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>
              <a:hlinkClick r:id="rId2" action="ppaction://hlinksldjump"/>
            </p:cNvPr>
            <p:cNvSpPr/>
            <p:nvPr/>
          </p:nvSpPr>
          <p:spPr>
            <a:xfrm>
              <a:off x="826920" y="222084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>
              <a:hlinkClick r:id="rId3" action="ppaction://hlinksldjump"/>
            </p:cNvPr>
            <p:cNvSpPr/>
            <p:nvPr/>
          </p:nvSpPr>
          <p:spPr>
            <a:xfrm>
              <a:off x="826920" y="526896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>
              <a:hlinkClick r:id="rId4" action="ppaction://hlinksldjump"/>
            </p:cNvPr>
            <p:cNvSpPr/>
            <p:nvPr/>
          </p:nvSpPr>
          <p:spPr>
            <a:xfrm>
              <a:off x="826920" y="450684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826920" y="370044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>
              <a:hlinkClick r:id="rId6" action="ppaction://hlinksldjump"/>
            </p:cNvPr>
            <p:cNvSpPr/>
            <p:nvPr/>
          </p:nvSpPr>
          <p:spPr>
            <a:xfrm>
              <a:off x="826920" y="298296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36400" y="3686040"/>
              <a:ext cx="44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元器件的焊接与安装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36400" y="5192640"/>
              <a:ext cx="423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收音机故障的排除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09400" y="2092320"/>
              <a:ext cx="636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二 极 管、电容、电阻的 认识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58720" y="1434960"/>
              <a:ext cx="302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清点材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>
              <a:hlinkClick r:id="rId7" action="ppaction://hlinksldjump"/>
            </p:cNvPr>
            <p:cNvSpPr/>
            <p:nvPr/>
          </p:nvSpPr>
          <p:spPr>
            <a:xfrm>
              <a:off x="849240" y="1587600"/>
              <a:ext cx="411120" cy="450720"/>
            </a:xfrm>
            <a:custGeom>
              <a:avLst/>
              <a:gdLst/>
              <a:ahLst/>
              <a:rect l="l" t="t" r="r" b="b"/>
              <a:pathLst>
                <a:path w="1284" h="1407">
                  <a:moveTo>
                    <a:pt x="489" y="294"/>
                  </a:moveTo>
                  <a:lnTo>
                    <a:pt x="502" y="278"/>
                  </a:lnTo>
                  <a:lnTo>
                    <a:pt x="511" y="263"/>
                  </a:lnTo>
                  <a:lnTo>
                    <a:pt x="516" y="246"/>
                  </a:lnTo>
                  <a:lnTo>
                    <a:pt x="516" y="224"/>
                  </a:lnTo>
                  <a:lnTo>
                    <a:pt x="510" y="199"/>
                  </a:lnTo>
                  <a:lnTo>
                    <a:pt x="505" y="178"/>
                  </a:lnTo>
                  <a:lnTo>
                    <a:pt x="498" y="152"/>
                  </a:lnTo>
                  <a:lnTo>
                    <a:pt x="495" y="124"/>
                  </a:lnTo>
                  <a:lnTo>
                    <a:pt x="498" y="107"/>
                  </a:lnTo>
                  <a:lnTo>
                    <a:pt x="503" y="86"/>
                  </a:lnTo>
                  <a:lnTo>
                    <a:pt x="513" y="64"/>
                  </a:lnTo>
                  <a:lnTo>
                    <a:pt x="527" y="43"/>
                  </a:lnTo>
                  <a:lnTo>
                    <a:pt x="545" y="26"/>
                  </a:lnTo>
                  <a:lnTo>
                    <a:pt x="561" y="13"/>
                  </a:lnTo>
                  <a:lnTo>
                    <a:pt x="583" y="5"/>
                  </a:lnTo>
                  <a:lnTo>
                    <a:pt x="609" y="1"/>
                  </a:lnTo>
                  <a:lnTo>
                    <a:pt x="637" y="0"/>
                  </a:lnTo>
                  <a:lnTo>
                    <a:pt x="675" y="0"/>
                  </a:lnTo>
                  <a:lnTo>
                    <a:pt x="705" y="3"/>
                  </a:lnTo>
                  <a:lnTo>
                    <a:pt x="722" y="9"/>
                  </a:lnTo>
                  <a:lnTo>
                    <a:pt x="735" y="17"/>
                  </a:lnTo>
                  <a:lnTo>
                    <a:pt x="749" y="26"/>
                  </a:lnTo>
                  <a:lnTo>
                    <a:pt x="763" y="40"/>
                  </a:lnTo>
                  <a:lnTo>
                    <a:pt x="776" y="58"/>
                  </a:lnTo>
                  <a:lnTo>
                    <a:pt x="786" y="74"/>
                  </a:lnTo>
                  <a:lnTo>
                    <a:pt x="791" y="88"/>
                  </a:lnTo>
                  <a:lnTo>
                    <a:pt x="795" y="112"/>
                  </a:lnTo>
                  <a:lnTo>
                    <a:pt x="795" y="133"/>
                  </a:lnTo>
                  <a:lnTo>
                    <a:pt x="792" y="154"/>
                  </a:lnTo>
                  <a:lnTo>
                    <a:pt x="788" y="170"/>
                  </a:lnTo>
                  <a:lnTo>
                    <a:pt x="783" y="196"/>
                  </a:lnTo>
                  <a:lnTo>
                    <a:pt x="776" y="223"/>
                  </a:lnTo>
                  <a:lnTo>
                    <a:pt x="773" y="240"/>
                  </a:lnTo>
                  <a:lnTo>
                    <a:pt x="778" y="257"/>
                  </a:lnTo>
                  <a:lnTo>
                    <a:pt x="784" y="269"/>
                  </a:lnTo>
                  <a:lnTo>
                    <a:pt x="795" y="285"/>
                  </a:lnTo>
                  <a:lnTo>
                    <a:pt x="811" y="298"/>
                  </a:lnTo>
                  <a:lnTo>
                    <a:pt x="826" y="309"/>
                  </a:lnTo>
                  <a:lnTo>
                    <a:pt x="848" y="318"/>
                  </a:lnTo>
                  <a:lnTo>
                    <a:pt x="870" y="324"/>
                  </a:lnTo>
                  <a:lnTo>
                    <a:pt x="891" y="329"/>
                  </a:lnTo>
                  <a:lnTo>
                    <a:pt x="913" y="332"/>
                  </a:lnTo>
                  <a:lnTo>
                    <a:pt x="936" y="338"/>
                  </a:lnTo>
                  <a:lnTo>
                    <a:pt x="954" y="344"/>
                  </a:lnTo>
                  <a:lnTo>
                    <a:pt x="968" y="351"/>
                  </a:lnTo>
                  <a:lnTo>
                    <a:pt x="979" y="359"/>
                  </a:lnTo>
                  <a:lnTo>
                    <a:pt x="987" y="368"/>
                  </a:lnTo>
                  <a:lnTo>
                    <a:pt x="993" y="379"/>
                  </a:lnTo>
                  <a:lnTo>
                    <a:pt x="998" y="392"/>
                  </a:lnTo>
                  <a:lnTo>
                    <a:pt x="1000" y="404"/>
                  </a:lnTo>
                  <a:lnTo>
                    <a:pt x="1002" y="415"/>
                  </a:lnTo>
                  <a:lnTo>
                    <a:pt x="1002" y="430"/>
                  </a:lnTo>
                  <a:lnTo>
                    <a:pt x="1000" y="447"/>
                  </a:lnTo>
                  <a:lnTo>
                    <a:pt x="1000" y="460"/>
                  </a:lnTo>
                  <a:lnTo>
                    <a:pt x="1003" y="476"/>
                  </a:lnTo>
                  <a:lnTo>
                    <a:pt x="1010" y="490"/>
                  </a:lnTo>
                  <a:lnTo>
                    <a:pt x="1018" y="502"/>
                  </a:lnTo>
                  <a:lnTo>
                    <a:pt x="1028" y="511"/>
                  </a:lnTo>
                  <a:lnTo>
                    <a:pt x="1041" y="521"/>
                  </a:lnTo>
                  <a:lnTo>
                    <a:pt x="1054" y="527"/>
                  </a:lnTo>
                  <a:lnTo>
                    <a:pt x="1074" y="531"/>
                  </a:lnTo>
                  <a:lnTo>
                    <a:pt x="1091" y="533"/>
                  </a:lnTo>
                  <a:lnTo>
                    <a:pt x="1107" y="534"/>
                  </a:lnTo>
                  <a:lnTo>
                    <a:pt x="1125" y="533"/>
                  </a:lnTo>
                  <a:lnTo>
                    <a:pt x="1147" y="531"/>
                  </a:lnTo>
                  <a:lnTo>
                    <a:pt x="1164" y="530"/>
                  </a:lnTo>
                  <a:lnTo>
                    <a:pt x="1181" y="528"/>
                  </a:lnTo>
                  <a:lnTo>
                    <a:pt x="1197" y="527"/>
                  </a:lnTo>
                  <a:lnTo>
                    <a:pt x="1216" y="528"/>
                  </a:lnTo>
                  <a:lnTo>
                    <a:pt x="1226" y="530"/>
                  </a:lnTo>
                  <a:lnTo>
                    <a:pt x="1238" y="533"/>
                  </a:lnTo>
                  <a:lnTo>
                    <a:pt x="1249" y="539"/>
                  </a:lnTo>
                  <a:lnTo>
                    <a:pt x="1261" y="548"/>
                  </a:lnTo>
                  <a:lnTo>
                    <a:pt x="1270" y="558"/>
                  </a:lnTo>
                  <a:lnTo>
                    <a:pt x="1277" y="573"/>
                  </a:lnTo>
                  <a:lnTo>
                    <a:pt x="1280" y="586"/>
                  </a:lnTo>
                  <a:lnTo>
                    <a:pt x="1282" y="602"/>
                  </a:lnTo>
                  <a:lnTo>
                    <a:pt x="1284" y="631"/>
                  </a:lnTo>
                  <a:lnTo>
                    <a:pt x="1283" y="665"/>
                  </a:lnTo>
                  <a:lnTo>
                    <a:pt x="1284" y="701"/>
                  </a:lnTo>
                  <a:lnTo>
                    <a:pt x="1281" y="743"/>
                  </a:lnTo>
                  <a:lnTo>
                    <a:pt x="1278" y="772"/>
                  </a:lnTo>
                  <a:lnTo>
                    <a:pt x="1275" y="795"/>
                  </a:lnTo>
                  <a:lnTo>
                    <a:pt x="1270" y="808"/>
                  </a:lnTo>
                  <a:lnTo>
                    <a:pt x="1262" y="820"/>
                  </a:lnTo>
                  <a:lnTo>
                    <a:pt x="1253" y="828"/>
                  </a:lnTo>
                  <a:lnTo>
                    <a:pt x="1241" y="835"/>
                  </a:lnTo>
                  <a:lnTo>
                    <a:pt x="1227" y="839"/>
                  </a:lnTo>
                  <a:lnTo>
                    <a:pt x="1215" y="842"/>
                  </a:lnTo>
                  <a:lnTo>
                    <a:pt x="1190" y="843"/>
                  </a:lnTo>
                  <a:lnTo>
                    <a:pt x="1168" y="842"/>
                  </a:lnTo>
                  <a:lnTo>
                    <a:pt x="1150" y="839"/>
                  </a:lnTo>
                  <a:lnTo>
                    <a:pt x="1134" y="838"/>
                  </a:lnTo>
                  <a:lnTo>
                    <a:pt x="1116" y="837"/>
                  </a:lnTo>
                  <a:lnTo>
                    <a:pt x="1100" y="837"/>
                  </a:lnTo>
                  <a:lnTo>
                    <a:pt x="1086" y="838"/>
                  </a:lnTo>
                  <a:lnTo>
                    <a:pt x="1071" y="839"/>
                  </a:lnTo>
                  <a:lnTo>
                    <a:pt x="1053" y="844"/>
                  </a:lnTo>
                  <a:lnTo>
                    <a:pt x="1043" y="848"/>
                  </a:lnTo>
                  <a:lnTo>
                    <a:pt x="1034" y="852"/>
                  </a:lnTo>
                  <a:lnTo>
                    <a:pt x="1022" y="860"/>
                  </a:lnTo>
                  <a:lnTo>
                    <a:pt x="1014" y="870"/>
                  </a:lnTo>
                  <a:lnTo>
                    <a:pt x="1008" y="879"/>
                  </a:lnTo>
                  <a:lnTo>
                    <a:pt x="1002" y="890"/>
                  </a:lnTo>
                  <a:lnTo>
                    <a:pt x="999" y="901"/>
                  </a:lnTo>
                  <a:lnTo>
                    <a:pt x="998" y="913"/>
                  </a:lnTo>
                  <a:lnTo>
                    <a:pt x="999" y="926"/>
                  </a:lnTo>
                  <a:lnTo>
                    <a:pt x="999" y="948"/>
                  </a:lnTo>
                  <a:lnTo>
                    <a:pt x="998" y="971"/>
                  </a:lnTo>
                  <a:lnTo>
                    <a:pt x="992" y="988"/>
                  </a:lnTo>
                  <a:lnTo>
                    <a:pt x="986" y="1002"/>
                  </a:lnTo>
                  <a:lnTo>
                    <a:pt x="977" y="1012"/>
                  </a:lnTo>
                  <a:lnTo>
                    <a:pt x="964" y="1020"/>
                  </a:lnTo>
                  <a:lnTo>
                    <a:pt x="951" y="1027"/>
                  </a:lnTo>
                  <a:lnTo>
                    <a:pt x="936" y="1031"/>
                  </a:lnTo>
                  <a:lnTo>
                    <a:pt x="917" y="1035"/>
                  </a:lnTo>
                  <a:lnTo>
                    <a:pt x="901" y="1040"/>
                  </a:lnTo>
                  <a:lnTo>
                    <a:pt x="882" y="1043"/>
                  </a:lnTo>
                  <a:lnTo>
                    <a:pt x="866" y="1046"/>
                  </a:lnTo>
                  <a:lnTo>
                    <a:pt x="848" y="1050"/>
                  </a:lnTo>
                  <a:lnTo>
                    <a:pt x="834" y="1057"/>
                  </a:lnTo>
                  <a:lnTo>
                    <a:pt x="818" y="1064"/>
                  </a:lnTo>
                  <a:lnTo>
                    <a:pt x="803" y="1073"/>
                  </a:lnTo>
                  <a:lnTo>
                    <a:pt x="792" y="1085"/>
                  </a:lnTo>
                  <a:lnTo>
                    <a:pt x="782" y="1099"/>
                  </a:lnTo>
                  <a:lnTo>
                    <a:pt x="774" y="1116"/>
                  </a:lnTo>
                  <a:lnTo>
                    <a:pt x="772" y="1131"/>
                  </a:lnTo>
                  <a:lnTo>
                    <a:pt x="773" y="1148"/>
                  </a:lnTo>
                  <a:lnTo>
                    <a:pt x="776" y="1164"/>
                  </a:lnTo>
                  <a:lnTo>
                    <a:pt x="781" y="1181"/>
                  </a:lnTo>
                  <a:lnTo>
                    <a:pt x="785" y="1200"/>
                  </a:lnTo>
                  <a:lnTo>
                    <a:pt x="788" y="1217"/>
                  </a:lnTo>
                  <a:lnTo>
                    <a:pt x="792" y="1239"/>
                  </a:lnTo>
                  <a:lnTo>
                    <a:pt x="792" y="1261"/>
                  </a:lnTo>
                  <a:lnTo>
                    <a:pt x="787" y="1283"/>
                  </a:lnTo>
                  <a:lnTo>
                    <a:pt x="782" y="1300"/>
                  </a:lnTo>
                  <a:lnTo>
                    <a:pt x="776" y="1317"/>
                  </a:lnTo>
                  <a:lnTo>
                    <a:pt x="768" y="1333"/>
                  </a:lnTo>
                  <a:lnTo>
                    <a:pt x="757" y="1353"/>
                  </a:lnTo>
                  <a:lnTo>
                    <a:pt x="745" y="1366"/>
                  </a:lnTo>
                  <a:lnTo>
                    <a:pt x="735" y="1375"/>
                  </a:lnTo>
                  <a:lnTo>
                    <a:pt x="722" y="1386"/>
                  </a:lnTo>
                  <a:lnTo>
                    <a:pt x="708" y="1396"/>
                  </a:lnTo>
                  <a:lnTo>
                    <a:pt x="695" y="1401"/>
                  </a:lnTo>
                  <a:lnTo>
                    <a:pt x="683" y="1404"/>
                  </a:lnTo>
                  <a:lnTo>
                    <a:pt x="663" y="1406"/>
                  </a:lnTo>
                  <a:lnTo>
                    <a:pt x="640" y="1407"/>
                  </a:lnTo>
                  <a:lnTo>
                    <a:pt x="612" y="1406"/>
                  </a:lnTo>
                  <a:lnTo>
                    <a:pt x="599" y="1406"/>
                  </a:lnTo>
                  <a:lnTo>
                    <a:pt x="582" y="1403"/>
                  </a:lnTo>
                  <a:lnTo>
                    <a:pt x="564" y="1398"/>
                  </a:lnTo>
                  <a:lnTo>
                    <a:pt x="548" y="1389"/>
                  </a:lnTo>
                  <a:lnTo>
                    <a:pt x="538" y="1381"/>
                  </a:lnTo>
                  <a:lnTo>
                    <a:pt x="527" y="1370"/>
                  </a:lnTo>
                  <a:lnTo>
                    <a:pt x="518" y="1360"/>
                  </a:lnTo>
                  <a:lnTo>
                    <a:pt x="509" y="1347"/>
                  </a:lnTo>
                  <a:lnTo>
                    <a:pt x="502" y="1334"/>
                  </a:lnTo>
                  <a:lnTo>
                    <a:pt x="496" y="1318"/>
                  </a:lnTo>
                  <a:lnTo>
                    <a:pt x="493" y="1301"/>
                  </a:lnTo>
                  <a:lnTo>
                    <a:pt x="492" y="1288"/>
                  </a:lnTo>
                  <a:lnTo>
                    <a:pt x="492" y="1270"/>
                  </a:lnTo>
                  <a:lnTo>
                    <a:pt x="493" y="1255"/>
                  </a:lnTo>
                  <a:lnTo>
                    <a:pt x="498" y="1239"/>
                  </a:lnTo>
                  <a:lnTo>
                    <a:pt x="502" y="1220"/>
                  </a:lnTo>
                  <a:lnTo>
                    <a:pt x="507" y="1202"/>
                  </a:lnTo>
                  <a:lnTo>
                    <a:pt x="510" y="1186"/>
                  </a:lnTo>
                  <a:lnTo>
                    <a:pt x="511" y="1171"/>
                  </a:lnTo>
                  <a:lnTo>
                    <a:pt x="510" y="1159"/>
                  </a:lnTo>
                  <a:lnTo>
                    <a:pt x="507" y="1147"/>
                  </a:lnTo>
                  <a:lnTo>
                    <a:pt x="499" y="1132"/>
                  </a:lnTo>
                  <a:lnTo>
                    <a:pt x="491" y="1122"/>
                  </a:lnTo>
                  <a:lnTo>
                    <a:pt x="481" y="1111"/>
                  </a:lnTo>
                  <a:lnTo>
                    <a:pt x="470" y="1103"/>
                  </a:lnTo>
                  <a:lnTo>
                    <a:pt x="459" y="1095"/>
                  </a:lnTo>
                  <a:lnTo>
                    <a:pt x="443" y="1089"/>
                  </a:lnTo>
                  <a:lnTo>
                    <a:pt x="429" y="1085"/>
                  </a:lnTo>
                  <a:lnTo>
                    <a:pt x="411" y="1081"/>
                  </a:lnTo>
                  <a:lnTo>
                    <a:pt x="395" y="1079"/>
                  </a:lnTo>
                  <a:lnTo>
                    <a:pt x="380" y="1075"/>
                  </a:lnTo>
                  <a:lnTo>
                    <a:pt x="362" y="1071"/>
                  </a:lnTo>
                  <a:lnTo>
                    <a:pt x="347" y="1065"/>
                  </a:lnTo>
                  <a:lnTo>
                    <a:pt x="329" y="1060"/>
                  </a:lnTo>
                  <a:lnTo>
                    <a:pt x="315" y="1054"/>
                  </a:lnTo>
                  <a:lnTo>
                    <a:pt x="304" y="1045"/>
                  </a:lnTo>
                  <a:lnTo>
                    <a:pt x="295" y="1033"/>
                  </a:lnTo>
                  <a:lnTo>
                    <a:pt x="289" y="1018"/>
                  </a:lnTo>
                  <a:lnTo>
                    <a:pt x="284" y="998"/>
                  </a:lnTo>
                  <a:lnTo>
                    <a:pt x="283" y="982"/>
                  </a:lnTo>
                  <a:lnTo>
                    <a:pt x="284" y="964"/>
                  </a:lnTo>
                  <a:lnTo>
                    <a:pt x="286" y="950"/>
                  </a:lnTo>
                  <a:lnTo>
                    <a:pt x="284" y="933"/>
                  </a:lnTo>
                  <a:lnTo>
                    <a:pt x="279" y="920"/>
                  </a:lnTo>
                  <a:lnTo>
                    <a:pt x="270" y="906"/>
                  </a:lnTo>
                  <a:lnTo>
                    <a:pt x="261" y="897"/>
                  </a:lnTo>
                  <a:lnTo>
                    <a:pt x="250" y="888"/>
                  </a:lnTo>
                  <a:lnTo>
                    <a:pt x="235" y="882"/>
                  </a:lnTo>
                  <a:lnTo>
                    <a:pt x="218" y="876"/>
                  </a:lnTo>
                  <a:lnTo>
                    <a:pt x="200" y="874"/>
                  </a:lnTo>
                  <a:lnTo>
                    <a:pt x="185" y="872"/>
                  </a:lnTo>
                  <a:lnTo>
                    <a:pt x="168" y="872"/>
                  </a:lnTo>
                  <a:lnTo>
                    <a:pt x="153" y="874"/>
                  </a:lnTo>
                  <a:lnTo>
                    <a:pt x="138" y="875"/>
                  </a:lnTo>
                  <a:lnTo>
                    <a:pt x="123" y="877"/>
                  </a:lnTo>
                  <a:lnTo>
                    <a:pt x="108" y="879"/>
                  </a:lnTo>
                  <a:lnTo>
                    <a:pt x="83" y="879"/>
                  </a:lnTo>
                  <a:lnTo>
                    <a:pt x="67" y="878"/>
                  </a:lnTo>
                  <a:lnTo>
                    <a:pt x="50" y="874"/>
                  </a:lnTo>
                  <a:lnTo>
                    <a:pt x="38" y="868"/>
                  </a:lnTo>
                  <a:lnTo>
                    <a:pt x="25" y="858"/>
                  </a:lnTo>
                  <a:lnTo>
                    <a:pt x="16" y="847"/>
                  </a:lnTo>
                  <a:lnTo>
                    <a:pt x="10" y="835"/>
                  </a:lnTo>
                  <a:lnTo>
                    <a:pt x="3" y="812"/>
                  </a:lnTo>
                  <a:lnTo>
                    <a:pt x="2" y="788"/>
                  </a:lnTo>
                  <a:lnTo>
                    <a:pt x="1" y="764"/>
                  </a:lnTo>
                  <a:lnTo>
                    <a:pt x="0" y="734"/>
                  </a:lnTo>
                  <a:lnTo>
                    <a:pt x="2" y="708"/>
                  </a:lnTo>
                  <a:lnTo>
                    <a:pt x="3" y="680"/>
                  </a:lnTo>
                  <a:lnTo>
                    <a:pt x="4" y="655"/>
                  </a:lnTo>
                  <a:lnTo>
                    <a:pt x="6" y="629"/>
                  </a:lnTo>
                  <a:lnTo>
                    <a:pt x="9" y="609"/>
                  </a:lnTo>
                  <a:lnTo>
                    <a:pt x="12" y="587"/>
                  </a:lnTo>
                  <a:lnTo>
                    <a:pt x="16" y="570"/>
                  </a:lnTo>
                  <a:lnTo>
                    <a:pt x="22" y="559"/>
                  </a:lnTo>
                  <a:lnTo>
                    <a:pt x="31" y="548"/>
                  </a:lnTo>
                  <a:lnTo>
                    <a:pt x="40" y="541"/>
                  </a:lnTo>
                  <a:lnTo>
                    <a:pt x="52" y="533"/>
                  </a:lnTo>
                  <a:lnTo>
                    <a:pt x="63" y="531"/>
                  </a:lnTo>
                  <a:lnTo>
                    <a:pt x="77" y="528"/>
                  </a:lnTo>
                  <a:lnTo>
                    <a:pt x="95" y="527"/>
                  </a:lnTo>
                  <a:lnTo>
                    <a:pt x="111" y="528"/>
                  </a:lnTo>
                  <a:lnTo>
                    <a:pt x="133" y="531"/>
                  </a:lnTo>
                  <a:lnTo>
                    <a:pt x="152" y="532"/>
                  </a:lnTo>
                  <a:lnTo>
                    <a:pt x="168" y="533"/>
                  </a:lnTo>
                  <a:lnTo>
                    <a:pt x="190" y="534"/>
                  </a:lnTo>
                  <a:lnTo>
                    <a:pt x="213" y="531"/>
                  </a:lnTo>
                  <a:lnTo>
                    <a:pt x="232" y="527"/>
                  </a:lnTo>
                  <a:lnTo>
                    <a:pt x="250" y="520"/>
                  </a:lnTo>
                  <a:lnTo>
                    <a:pt x="262" y="513"/>
                  </a:lnTo>
                  <a:lnTo>
                    <a:pt x="274" y="502"/>
                  </a:lnTo>
                  <a:lnTo>
                    <a:pt x="283" y="488"/>
                  </a:lnTo>
                  <a:lnTo>
                    <a:pt x="289" y="474"/>
                  </a:lnTo>
                  <a:lnTo>
                    <a:pt x="291" y="459"/>
                  </a:lnTo>
                  <a:lnTo>
                    <a:pt x="290" y="448"/>
                  </a:lnTo>
                  <a:lnTo>
                    <a:pt x="289" y="427"/>
                  </a:lnTo>
                  <a:lnTo>
                    <a:pt x="290" y="406"/>
                  </a:lnTo>
                  <a:lnTo>
                    <a:pt x="294" y="390"/>
                  </a:lnTo>
                  <a:lnTo>
                    <a:pt x="299" y="375"/>
                  </a:lnTo>
                  <a:lnTo>
                    <a:pt x="306" y="364"/>
                  </a:lnTo>
                  <a:lnTo>
                    <a:pt x="320" y="353"/>
                  </a:lnTo>
                  <a:lnTo>
                    <a:pt x="335" y="345"/>
                  </a:lnTo>
                  <a:lnTo>
                    <a:pt x="354" y="339"/>
                  </a:lnTo>
                  <a:lnTo>
                    <a:pt x="373" y="334"/>
                  </a:lnTo>
                  <a:lnTo>
                    <a:pt x="389" y="330"/>
                  </a:lnTo>
                  <a:lnTo>
                    <a:pt x="409" y="327"/>
                  </a:lnTo>
                  <a:lnTo>
                    <a:pt x="428" y="323"/>
                  </a:lnTo>
                  <a:lnTo>
                    <a:pt x="450" y="317"/>
                  </a:lnTo>
                  <a:lnTo>
                    <a:pt x="471" y="308"/>
                  </a:lnTo>
                  <a:lnTo>
                    <a:pt x="489" y="294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411200" y="5432400"/>
            <a:ext cx="454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8240" y="34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第一步：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清点电子元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89240" y="2076480"/>
            <a:ext cx="5532480" cy="3470400"/>
          </a:xfrm>
          <a:prstGeom prst="wedgeEllipseCallout">
            <a:avLst>
              <a:gd name="adj1" fmla="val -68537"/>
              <a:gd name="adj2" fmla="val -32481"/>
            </a:avLst>
          </a:prstGeom>
          <a:solidFill>
            <a:srgbClr val="ccff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请按元件清单一一对应，记清每个元件的名称与外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1960" y="1541520"/>
            <a:ext cx="1736640" cy="1436760"/>
          </a:xfrm>
          <a:prstGeom prst="ellipse">
            <a:avLst/>
          </a:prstGeom>
          <a:solidFill>
            <a:srgbClr val="ccffff"/>
          </a:solidFill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注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f0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友  情  提  醒 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3983040"/>
            <a:ext cx="4724280" cy="2057400"/>
          </a:xfrm>
          <a:prstGeom prst="cloudCallout">
            <a:avLst>
              <a:gd name="adj1" fmla="val -72277"/>
              <a:gd name="adj2" fmla="val 50694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弹簧和螺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要小心滚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57400" y="4751280"/>
            <a:ext cx="2079360" cy="13939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546120" y="1155600"/>
            <a:ext cx="7848360" cy="3322800"/>
            <a:chOff x="546120" y="1155600"/>
            <a:chExt cx="7848360" cy="3322800"/>
          </a:xfrm>
        </p:grpSpPr>
        <p:sp>
          <p:nvSpPr>
            <p:cNvPr id="117" name=""/>
            <p:cNvSpPr/>
            <p:nvPr/>
          </p:nvSpPr>
          <p:spPr>
            <a:xfrm>
              <a:off x="546120" y="328932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33cc"/>
                  </a:solidFill>
                  <a:latin typeface="Monotype Sorts"/>
                  <a:ea typeface="Monotype Sorts"/>
                </a:rPr>
                <a:t>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清点完后请将暂时不用元件、材料放    回塑料袋备用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8400" y="1155600"/>
              <a:ext cx="73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00"/>
                  </a:solidFill>
                  <a:latin typeface="Monotype Sorts"/>
                  <a:ea typeface="Monotype Sorts"/>
                </a:rPr>
                <a:t>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打开时请小心，不要将塑料袋撕破，       以免零件丢失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8400" y="222228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3300"/>
                  </a:solidFill>
                  <a:latin typeface="Monotype Sorts"/>
                  <a:ea typeface="Monotype Sorts"/>
                </a:rPr>
                <a:t>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清点材料时请将机壳后盖当容器，将所有的东西都放在里面 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8400" y="3898800"/>
              <a:ext cx="6248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3:54:46Z</dcterms:created>
  <dc:creator>legend</dc:creator>
  <dc:description/>
  <dc:language>en-US</dc:language>
  <cp:lastModifiedBy>dell</cp:lastModifiedBy>
  <cp:lastPrinted>2005-04-05T03:11:06Z</cp:lastPrinted>
  <dcterms:modified xsi:type="dcterms:W3CDTF">2014-04-02T08:03:01Z</dcterms:modified>
  <cp:revision>684</cp:revision>
  <dc:subject/>
  <dc:title>PowerPoint 演示文稿</dc:title>
</cp:coreProperties>
</file>