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5AD-8F4D-4FFB-A972-F70EEE38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CD9-5019-4572-971A-AEA0DC4F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D42-6B09-4278-8D6E-BB3108BD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97A-C60B-4D42-AB93-39A4FD59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A1B-E565-4174-B760-896DA18B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F55-DC5C-44DD-A380-CBF0EC20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35B-909F-4086-8446-BA78D77E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08F-1F3E-4C4C-B116-EB091801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FA8-BD18-4EF1-BA41-4F6CEDE7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854-33E2-47DA-808B-AE5AF441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7FD-2451-470A-BB24-A1037B96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520-F5DD-4BB5-ABF6-8A0447F7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54A-39C5-4F54-A2C7-0664B419E96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和计数是控制系统中的两个重要功能，是时序电路的基础。对于时序控制系统，经常需要定时输出某些控制信号，或者对某些待测量进行定时扫描和监测，这便需要实现定时和计数的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硬件上集成了可编程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，其有两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即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工作方式可供选择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（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其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通用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是集定时、计数和捕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功能于一体，功能更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内部通过专用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设置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的参数，例如方式选择、定时计数选择、运行控制、溢出标志、触发方式等控制字。本章详细讲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结构、控制寄存器和工作模式。对于每一种工作方式都给出了典型的实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分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相互独立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的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只适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对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设置为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，相当于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R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使其停止计数，没有什么实际意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49244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具有自动重装载和捕获能力的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提供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单片机是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扩展，在其特殊功能寄存器组中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关的寄存器分别为：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捕获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定时寄存器高低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17.3.1  T2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及其程序访问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似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设定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方式、各种功能选择及有关状态信息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还是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内部定时或对外部事件计数的计数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所不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：捕获、自动再装入和波特率发生器方式。通过软件设置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相关位，可以设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。位的设置和工作模式的对应关系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7391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结构、控制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方式，并分别给出了详细的程序设计方法。本章还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单片机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进行了详细的介绍。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是单片机的一个非常有用的功能，熟练掌握本章内容，对以后的单片机设计有很大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两个通用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具有定时和计数的功能，可以通过特殊功能寄存器来选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，同样可以通过特殊功能寄存器来选择。下面分别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及控制寄存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结构的核心是一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结构如图所示。其中，这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计数器是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计数器组成的，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控制寄存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用于指定各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功能和工作模式。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用于控制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启动和停止计数，同时也设置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状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属于特殊功能寄存器，其内容在单片机软件中设置，这样便于单片机程序操作。当单片机进行系统复位时，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所有控制位都清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4038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功能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，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都具有定时和计数两种功能，可以在定时器模式控制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控制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进行设置。下面分别介绍这两种功能的工作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计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就是对计数脉冲进行计数。其中，计数脉冲来自相应的外部输入引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当该引脚的输入信号发生由高电平至低电平的负跳变时，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值增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是对时间进行统计。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定时功能其实也是通过计数实现的，与计数功能不同的是，此时计数脉冲来自于单片机的内部时钟脉冲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3  T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到的控制和状态寄存器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主要用于定义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功能和工作模式。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每执行一条涉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，例如工作方式选择、定时计数模式选择、溢出标志、触发方式等，该操作将在下一条指令的第一个机器周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式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始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具有丰富的功能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可以选择计数或者定时工作方式外，每个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（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通过对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进行编码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中的任一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时，用法是一样的，仅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有所区别。下面分别介绍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，其由一个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个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分频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中的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这里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当置寄存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就工作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无论工作于计数方式还是定时方式，其运行原理都是一样的。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溢出时，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，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溢出时，计数器清零，并向溢出控制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同时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出中断请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区别在于计数的位数不同，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定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于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，此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。在同一模式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模式的工作原理相同，只不过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计数器，可以具有较长的定时周期。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晶振，选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每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反向，即在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由于定时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可以求得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D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配制成自动重新装入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3626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5:47Z</dcterms:created>
  <dc:creator>cheng</dc:creator>
  <dc:description/>
  <dc:language>en-US</dc:language>
  <cp:lastModifiedBy>cheng</cp:lastModifiedBy>
  <dcterms:modified xsi:type="dcterms:W3CDTF">2008-10-13T07:02:58Z</dcterms:modified>
  <cp:revision>2</cp:revision>
  <dc:subject/>
  <dc:title>第17章  51系列单片机的定时器/计数器</dc:title>
</cp:coreProperties>
</file>