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8CC-3A44-44DB-8444-19FF86FF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30D-5C26-4038-B138-F52EEA9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CA5-19BE-410C-BF31-C2250B61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386-CFEF-4A8E-AF31-1045D4CD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5E4-5AD4-4762-AE7C-241F6D2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ECB-7A2F-4F83-9E77-F47F5070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7B6-C60E-4A98-A7C6-88401003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BDB-71A3-44F7-8823-A734AE29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A1A-B63B-46AD-A38A-8DC76568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576-0B59-4116-810E-35ED097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A2C-1097-449F-B2A2-6193883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70D-FC51-4F9C-B942-9630C1D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28F-024B-47B6-84B5-DF76EB46CA5D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人机交互式单片机系统来说，不仅需要响应用户输入，同时也需要将一些测控信息输出显示。这些显示信息可以提供实时的数据或图形结果，以便于掌握系统的状态并进行分析处理。目前，在单片机中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。其成本低廉、使用简便，可以显示数字或几个特定的字符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种类与结构，以及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实现显示，包括静态显示和动态显示。本章还通过实例介绍了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是指每隔一段时间循环点亮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每次只有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被点亮。根据人眼的视觉暂留效应，当循环点亮的速度很快的时候，可以认为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稳定显示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的硬件连接比较简单。这里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将所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引脚并联在一起，连接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据总线上。而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共阳极引脚或共阴极引脚分别由另一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线控制， 从图中可以看出，使用两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便可以动态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。其中一个并口作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控制引脚，另一个并口作为公共的数据总线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采用扫描显示的方式，即在同一时刻，只使用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数据。通过为共阴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公共引脚赋低电平（或高电平），从而选择某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。如此循环，使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显示的数据，并进行适当的延时，形成视觉暂留效果。这样便可以达到动态显示的目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3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前面介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动态驱动显示在程序设计上比较复杂，实际上可以将相应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扫描动态显示电路交由特定功能的芯片来完成。目前，市场上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驱动芯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驱动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232000" cy="30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572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各种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方法，其中以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最为方便，占用单片机资源少，而且程序控制简单。这里便以实例讲解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完整的电路图，如图所示。这里的单片机选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新型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也可以采用其他兼容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，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19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演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个寄存器操作，以及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数字及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4562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器件，包括共阳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和共阴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，然后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技术及其应用实例。本章还重点讲解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动态显示技术，包括静态驱动、动态驱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驱动。最后通过一个具体的实例讲解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控制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显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是单片机系统中常用的显示接口，读者应该熟练掌握其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发光二极管，英文全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ight Emitting Dio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单独的发光二极管便是一个最简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通过控制其的亮灭来作为信号指示，一般用于电源指示灯、工作状态指示等。单个的发光二极管使用比较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是由若干个发光二极管组成的显示字段的显示器件，一般简称为数码管。当数码管中的某个发光二极管导通的时候，相应的一个字段便发光，不导通的则不发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根据控制不同组合的二极管导通，来显示各种数据和字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应用系统中使用最多的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可以显示十进制数字以及一些英文字符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模块可以分为共阴极和共阳极两种，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1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是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条形发光二极管和一个小数点位构成，其引脚配置，如图所示，其内部结构，如图所示。从图中可以看出，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可以用来显示数字，另一个发光二极管构成小数点。因此，这种数码管有时也被称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显示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525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2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阴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和共阳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结构类似，其引脚配置，如图所示。从图中可以看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同样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组成，其中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另一个发光二极管构成小数点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的内部结构，如图所示。其中所有发光二极管的阴极为公共端，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如果发光二极管的阳极极为高电平的时候，发光二极管导通，该字段发光；反之，如果发光二极管的阳极为低电平的时候，发光二极管截止，该字段不发光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6058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结构及其显示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主要用于显示数字和一些特定的字符。这里通过一个具体的实例介绍一下，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进行数字和字母的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例主要用来使用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数字或字符，读者可以从中掌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基本操作方法。这里给出完整的电路原理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295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的方式，根据按键的不同，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有不同的显示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创建项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程序代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438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单片机应用系统中，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情况比较少，经常需要同时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来显示大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数据或字符串。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并列使用的情况为例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数码管可以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999~999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间的任何数字，也可以同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构成的字符串。可见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大大扩展显示的信息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场合，直接用单片机的一个并行口便可以控制显示。如果仍然采用这种方法来控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然是不太可能的，因为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只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，而且有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还需要用作其他用途。而对于一些多引脚的型号，通常也不够为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配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用于显示。此时便需要根据系统资源占用情况，来选用合理的显示控制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静态显示方式是指，当数码管显示某个字符的时候，相应字段的发光二极管恒定地导通或者截止，即亮灭是完全不变的。在这种情况下，多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同时显示的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共阴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为例，如图所示。其公共端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每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的字段引脚分别接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端口，这样便可以为每个数码管单独赋值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87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8:40Z</dcterms:created>
  <dc:creator>cheng</dc:creator>
  <dc:description/>
  <dc:language>en-US</dc:language>
  <cp:lastModifiedBy>cheng</cp:lastModifiedBy>
  <dcterms:modified xsi:type="dcterms:W3CDTF">2008-10-13T08:08:47Z</dcterms:modified>
  <cp:revision>2</cp:revision>
  <dc:subject/>
  <dc:title>第24章  LED数码管显示</dc:title>
</cp:coreProperties>
</file>