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5E2-E457-451A-B064-6317513D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1D5-A20B-4AD7-B96E-40E17576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0BF-7675-460C-B6D6-A1AEE48B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45E1-665B-4DCA-BAEA-82BD2B5C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A90-C919-4F40-BBDE-F0DA30DB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D80-9582-4D8B-BEAF-C84EF5CF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E90-4C39-46C7-B654-91DE81D4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920-7692-4D23-9B89-26BE7EBF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335-1515-44AC-B1F7-8C4B8AF2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DD7A-4E81-4295-9DA9-F476E21E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0C8-C1F2-490A-9E82-EAFB8A93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2CF4-526C-46ED-88E3-1FCABD35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A7A3-56BD-4872-8F65-E5B48E82CDC8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的程序调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除了能够仿真单片机各种片上资源和寄存器外，还具有完备的程序调试器。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调试器，可以程序进行单步调试、断点调试、代码覆盖分析以及性能分析和优化等。本章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调试器的各种调试功能，包括性能分析器、代码覆盖分析器和断点等。同时本章还详细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种调试指令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命令可以用来显示或修改存储器内容。存储器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73915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的程序调试功能，包括性能分析器、代码覆盖分析器和断点等。本章还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提供的调试命令，这些调试命令大大扩展了单片机程序的仿真调试。合理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种调试功能及调试命令，可以在程序设计和调试时达到事半功倍的效果。因此，熟练掌握本章内容有助于读者分析和优化单片机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1  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程序调试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集成开发环境具有完备的程序调试功能，结合硬件资源的仿真，便可以实现无需外部硬件的完善仿真调试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调试器除具有最基本的调试功能外，还包含一些高级调试工具才具有的代码覆盖分析等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调试器的主要特性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完整的符号信息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源代码级别的调试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断点调试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带有条件的复杂断点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扩充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试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性能分析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代码覆盖分析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两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atchpoin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窗口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完善的调试命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样化的调试函数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外部硬件无缝接口，实现程序的在线调试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性能分析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性能分析器。其可以在程序运行时，统计各个函数或者程序模块的执行次数及运行时间。这样，通过性能分析器的统计结果，便可以找到程序最耗时的部分，进行优化。使用性能分析器的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495288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代码覆盖分析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代码覆盖分析器。其可以在程序运行时，统计已执行的程序代码的比例，结果以百分数显示。使用性能分析器的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71629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断点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完善的断点调试功能。最简单的断点可以双击源代码的某一行，来放置一个断点。断点以红色块显示，如图所示。简单断点也可以通过工具栏、右键菜单或者主菜单来实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3581280"/>
            <a:ext cx="53816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  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试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完善的调试命令，这些调试命令可分为以下几大类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通用命令：提供多种调试操作。例如进行系统复位，退出调试模式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命令：用于执行目标程序，分析程序运行性能。例如跳出当前函数，停止程序运行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断点命令：用于进行断点操作。断点命令用来控制断点，例如开启或关闭断点，删除或添加断点等。当程序运行到某条指令时，可以通过断点停止程序运行，此时可以执行调试命令或执行用户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命令：用来显示和更改存储器的内容。例如显示存储器中的内容，在线编译代码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通用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用命令提供多种调试操作，使用通用命令使得调试程序更加灵活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的通用命令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73915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命令可以在命令窗口运行代码和程序指令，使用程序命令大大提高了程序调试的灵活性和方便性。程序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7467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断点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提供的断点命令可以管理调试断点。断点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73054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45:16Z</dcterms:created>
  <dc:creator>cheng</dc:creator>
  <dc:description/>
  <dc:language>en-US</dc:language>
  <cp:lastModifiedBy>cheng</cp:lastModifiedBy>
  <dcterms:modified xsi:type="dcterms:W3CDTF">2008-10-13T07:56:51Z</dcterms:modified>
  <cp:revision>3</cp:revision>
  <dc:subject/>
  <dc:title>第22章  Keil μVison3中的程序调试</dc:title>
</cp:coreProperties>
</file>