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B09-1365-4858-BE7C-F9D2BDA3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3BA-1187-49FC-A3C2-32EA55AD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BC1-8000-40FE-8ED4-DC5C5008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424-6835-4FC3-9C49-5E78F84B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EBE-6691-4B1F-9938-808C2939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C6A-FCDB-41FB-AC47-F7F9256B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AC5-9E8A-4135-BEA7-FBF446F7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F64-4029-4FF9-942F-AB55573B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400-7038-4B77-A02B-636A1607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342-C9CA-409A-8622-25C7F6E6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D9C-111E-45C7-9B90-AA5B156C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5EB-508D-4B47-9039-A70C3396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A78C-B352-439A-B95A-653AF4E67595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串行总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应用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提出的串行同步双工通讯接口。由于其采用三根信号线，所以常称为三线制同步串行总线接口。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最早应用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微控制器上，后来被广泛应用到其他微控制器、存储器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等领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占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少，使用简单方便，可以提高系统的可靠性。本章主要介绍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，以及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使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3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子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操作需要严格遵守总线协议。这里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用到的操作指令封装为子函数，方便调用。这些子函数不仅适用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样适用于其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接口的器件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通过调用前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子函数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操作。其中，在程序中指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了程序设计的方便，这里规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格式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001××A8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其中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起始位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令的操作码，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地址码。这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可以表示为如下所示的几种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5  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程序的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828800" y="2840040"/>
            <a:ext cx="60674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4 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解了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，并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操作指令及其操作时序。本章最后通过一个具体的实例，介绍了如何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在软件上仿真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。其中给出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读写的子函数以及一个完整的实例。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减少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的使用，在实际电路设计中具有广泛的应用，读者应该熟练掌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步串行总线接口是一种串行同步双工通讯接口，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最早提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信号线进行通讯，分别介绍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时钟信号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数据输入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数据输出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4572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2  Microwar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优势，目前多家公司推出了各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产品。其中，使用最多的便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34.2.1  Microware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种可用电气方法在线擦除和写入的存储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既有普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可读可写的特性，又具有非易失性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掉电后仍然能保持所存储数据的优点。许多大的半导体公司都生产可支持三线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ational Semiconduct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M93C06/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品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C06/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LC46/56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3AA06/46/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产品。这些三线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如下特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般采用单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+5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源供电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较低的功耗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三态输出，并可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平兼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擦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入时间不超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擦除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写入周期寿命一般都可达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万次以上，有的产品已可达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万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片内写入的数据保存寿命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以上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2.2  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包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指令，这些指令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兼容。其中，对于不同的型号，其具体的指令所代表的含义略有区别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比特的存储空间，可以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8×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×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使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93C4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总线指令及其说明，如表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6964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2.3  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46/56/57/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指令。下面分别介绍各个指令执行的时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A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WE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WD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4.3  5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系列单片机读写三线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基本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没有集成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。当其与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连接时，只能够采用软件模拟的方式来实现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的操作。这里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例，介绍如何在软件上实现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的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三线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icrowa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93C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系统电路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4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09680" y="2819520"/>
            <a:ext cx="47008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496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10:04Z</dcterms:created>
  <dc:creator>cheng</dc:creator>
  <dc:description/>
  <dc:language>en-US</dc:language>
  <cp:lastModifiedBy>cheng</cp:lastModifiedBy>
  <dcterms:modified xsi:type="dcterms:W3CDTF">2008-10-13T09:12:36Z</dcterms:modified>
  <cp:revision>2</cp:revision>
  <dc:subject/>
  <dc:title>第34章  Microware串行总线EEPROM的应用</dc:title>
</cp:coreProperties>
</file>