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F7E-89F9-4D45-94CE-11515372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236C-9928-44BE-9481-8A2ED195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39C-561A-4A85-8C6D-DA42F09C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3110-6336-481F-BEF5-668F19A9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BE9B-845B-4F24-95E3-D8981628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68A-6CED-4D92-9031-C8A80D8E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653-A9C9-4460-B99B-3F471331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674B-0A79-4ADC-8B70-265A8AE1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263-52C2-4E3A-B32E-D344137A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00E2-9AFA-456D-A5B3-C7BE0704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966-CDA3-4167-AC3C-918C5780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3A5F-D32B-4C5A-AB24-8BDABD7A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6092-2B5E-4034-B2C5-99A1DFDA2952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单总线温度传感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8S20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总线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结构，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llas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常简单实用的总线协议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通过一条公共数据线实现主机与一个或多个从机之间的半双工、双向通信。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引脚的使用减少到了最少，因此特别适合于单片机系统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llas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推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温度传感器即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。由于其所需的引脚最少、接口简单、无需外部元件和精度高等优点，广泛应用于单片机系统中进行测温以及温度监控。本章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的温度传感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应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3.3  DS18S2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读写子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操作需要严格遵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协议。这里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支持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操作命令、存储器操作命令等封装为子函数，方便调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延时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复位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位写入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字节写入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位读取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字节读取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读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代码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R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校验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搜索器件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搜索第一个器件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读取暂存器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查找器件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读取温度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作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主机，定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.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数据总线。主函数中首先初始化串行口为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波特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800bit/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接着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来扫描串口输入，根据输入数据来调用函数执行不同的功能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3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仿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集成开发环境提供了很好的信号仿真功能，下面就利用其进行程序的仿真分析。具体操作步骤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）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集成开发环境中，选择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ebug”→“Start/Stop Debug Session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命令，进入仿真分析模式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）选择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eripherals”→“Serial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命令，打开“串口仿真”接口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）选择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ebug”→“Go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命令，开始执行仿真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）此时，在串行仿真接口中便输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控制菜单。这里输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即选择读取温度值。程序便输出对应的摄氏温度值以及华氏温度值，如图所示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362320" y="3886200"/>
            <a:ext cx="44193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总线的工作原理，并结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温度传感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详细讲解了其供电方式以及数据操作命令。最后通过一个完整的实例介绍了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模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数据传输，从而实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控制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总线是一种结构简单的接口协议，其最大化地减少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数目，在实际电路中有着广泛的应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总线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总线，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，顾名思义是只需要一根数据线的数据传输方式。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结构，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3.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示。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机包括一个开漏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，并通过上拉电阻上拉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.3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源。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可以包含一个或多个，除了公共的地线外，所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共用一根数据总线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结构中主机为数据传输的控制器，主动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通信，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则只能被动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机通信。因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结构是一种半双工的双向数据传输结构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总线温度传感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8S20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种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温度传感器，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llas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生产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字温度传感器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高精度的摄氏温度测量，同时具有非易失性、用户可编程上下触发门限的报警功能。由于其独特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，使得其可以占用极少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资源，使用起来十分方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温度传感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采用带隙温度检测结构，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升级产品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部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主要部件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激光刻制的唯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序列号、温度传感器以及非易失性温度报警触发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通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结构，仅需一个引脚即可实现数据的发送或接收。另外，用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供电电源可以从数据线本身获得，无须外部电源。每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出厂时都有唯一的一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序列号，可以将多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同时连在一根单总线上，从而实现多点分布温度测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05120" y="4267080"/>
            <a:ext cx="580068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2.2  DS18S2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供电方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可以采用两种供电方式，即外部供电方式和寄生电源供电方式。如果采用外部供电方式，如图所示。此时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可以外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3.3V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V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电源，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GN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引脚必需接地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如果采用寄生电源供电方式，如图所示。此时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D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引脚必须接地。另外为了得到足够的工作电流，应给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线提供一个强上拉，一般可以使用一个场效应管将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线直接拉到电源上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单总线上汲取能量，在信号线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Q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处于高电平期间把能量存储在内部电容里，在信号线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Q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处于低电平期间消耗电容上的电量工作，直到高电平到来，再给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部的寄生电源充电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743200" y="3962520"/>
            <a:ext cx="366228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2.3  DS18S2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数据操作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将通信时使用的引脚减少到只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，在数据传输时需要满足特定的格式才能进行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通信的第一步是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，然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机发送各种命令来进行数据传输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操作命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存储器操作命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温度转换操作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3.3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单片机读写温度传感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实例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般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没有集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控制器，因此常采用软件模拟的方法来实现。这里介绍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的单片机来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温度传感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读写温度传感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系统电路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90920" y="2590920"/>
            <a:ext cx="451476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首先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首先打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选择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oject”→“New” →“μVison Project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命令，新建一个工程，并保存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在弹出的选择器件对话框中选择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如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3.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单击“确定”按钮，此时弹出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Vison3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话框，如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3.1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示。单击“是”按钮，完成工程的建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选择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ile”→“New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命令，新建一个程序文件，并保存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*.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文件，可以在其中输入程序代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09:08Z</dcterms:created>
  <dc:creator>cheng</dc:creator>
  <dc:description/>
  <dc:language>en-US</dc:language>
  <cp:lastModifiedBy>cheng</cp:lastModifiedBy>
  <dcterms:modified xsi:type="dcterms:W3CDTF">2008-10-13T09:08:59Z</dcterms:modified>
  <cp:revision>3</cp:revision>
  <dc:subject/>
  <dc:title>第33章  单总线温度传感器DS18S20</dc:title>
</cp:coreProperties>
</file>