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5C76-D3B9-49C5-BE3F-E6154B4FE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8A2F-F5D7-4801-85BF-5763FD840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6031-58C7-4278-B6CE-89364EE11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2958-BF73-482D-9AF5-57ED690B2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C556-3ECA-443C-9253-8C030256E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F6F5-ADD9-4C75-A59D-DEDC4A2A4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9EC5-2378-4616-92CB-5240B86EA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DAE6-7D20-41CD-B569-AF189ECA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75AB-CE5B-4598-A36D-3C836944F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16A8-F3BF-4BB3-8FB8-5673413D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9320-583D-4DDF-8C86-990A6827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C6C8-1294-413C-B8FD-70B9EE74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4A154-088E-4601-A0C3-0B36A51E5457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章  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系列单片机中断系统及其程序设计</a:t>
            </a: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一般情况下，单片机程序是按照先后顺序执行代码的。有的时候，为了优先处理特定的任务，需要打断主程序的运行。这便需要单片机具有处理中断的能力。当微处理器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正在执行程序的过程中，如果外部硬件或者内部组件有紧急的请求，此时中断系统可以将当前的程序暂停，优先处理中断请求。当中断请求处理完毕的时候，再返回来继续执行主程序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断系统是计算机或者单片机的重要功能部件，有了中断系统，便可以使微处理器具备对外部的异步事件进行处理的能力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具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中断源，两级中断优先级，具有完善的指令控制能力。使用单片机的中断系统可以很方便地完成各种外部硬件响应的操作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3  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系列单片机的中断系统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在硬件上提供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中断源支持，在软件上可以使用控制寄存器来进行控制，为用户提供了十分方便的操作接口。下面分别介绍中断请求、中断允许以及中断优先级的标志及访问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3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中断请求标志及其访问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中断请求标志用于中断发生时，向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提出请求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系列单片机的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个中断请求，分别对应一个中断请求标志位。其中特殊功能寄存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CO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控制外部中断和定时器溢出中断，特殊功能寄存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CO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控制串行接口中断。下面分别进行介绍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CO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中断标志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CO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中断标志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控制寄存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CO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位定义格式，如图所示。控制寄存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CO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字节地址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98H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其中的每一位都是可以进行位寻址的，位地址为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98H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9FH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。下面分别介绍各位的定义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057400" y="4648320"/>
            <a:ext cx="544824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3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中断允许标志及其访问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断允许标志用于允许或者禁止相应的中断请求。对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中断请求，分别对应一个中断允许或禁止标志位，其均由一个中断允许控制寄存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控制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断允许控制寄存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位定义格式，如图所示。其字节地址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8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可以位寻址。下面分别介绍各位的定义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905120" y="4648320"/>
            <a:ext cx="5562360" cy="15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3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中断优先级标志及其访问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断优先级标志用于设置中断的优先等级。对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支持两级中断优先级，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中断请求，分别对应一个中断优先级标志位，由寄存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P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来控制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断优先级控制寄存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P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各位的定义，如图所示。其字节地址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8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可以位寻址。下面分别介绍各位的定义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133720" y="4648320"/>
            <a:ext cx="539100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中断的处理过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对中断的处理分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步：中断响应，中断处理和中断返回。下面分别介绍这三个过程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4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中断的响应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断的响应是指在单片机主程序运行过程中，如果遇到中断请求，在满足中断响应条件的情况下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对该中断做出的响应。在实际的中断处理时，需要注意如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方面的问题：中断响应的条件、中断响应的过程和中断响应的时间，下面分别进行介绍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中断响应的条件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中断的响应过程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中断的响应时间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4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中断的处理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单片机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对中断处理的流程图，如图所示。从图中可以看出，单片机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对中断处理的过程可以分为两类，一个是硬件自动完成的部分，另一个是软件处理的部分。这里主要介绍的中断处理是指中断的软件处理过程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505320" y="2438280"/>
            <a:ext cx="19368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4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中断的返回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断的返回是指中断服务例程结束后，返回主程序的过程。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中，中断服务程序的返回比较简单，直接在中断服务程序最后面加上一个中断返回指令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ET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即可。中断返回指令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ET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执行时，主要完成如下两个方面的工作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将主程序的断点地址送回程序计数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通知中断系统已将当前中断处理完毕，清除优先级状态触发器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4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中断请求的撤离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断请求的撤离主要的目的是，保证对于一次中断信号只执行一次中断响应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响应中断后，需要及时将中断请求标志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CON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CON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的标志位清除，否则将引起一个中断信号触发多次中断响应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可以采用两种方式解决中断请求的撤离，分别介绍如下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硬件自动清除中断标志。对于外部中断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外部中断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定时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来说，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正确响应中断后，将自动清除该中断请求的标志位，无需软件处理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软件清除中断标志。对于串行接口的中断请求，当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正确响应中断后，硬件不会自动清除中断标志位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I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I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因此需要在中断服务程序中用软件来人工清除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5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中断源的程序设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前面介绍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中的各个中断源及其程序设计。下面将分别介绍在程序设计中如何实现中断的响应以及处理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中断系统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断系统是现代的微处理器都具备的，不只是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所特有的。不同的微处理器对中断系统支持的程度不同。中断其实是现实世界的一种反映。例如，某人正在看书，另外烧水的水壶开了，这个人便要去将水壶放好，等倒完水后再回来看书。这个过程便是“执行主程序（看书）—中断（水壶开，倒水）—中断返回（继续看书）”的过程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5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外部中断源的程序设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提供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外部中断源，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3.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引脚）和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3.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引脚），分别对应外部中断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请求和外部中断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请求。这里举例讲解外部中断的程序设计。假设要使外部中断发生的时候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端口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端口的电平分别反向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5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定时中断源的程序设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内部集成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，分别提供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定时中断源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F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F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这里举例讲解定时中断的程序设计。假设单片机外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6MHz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晶振，这里采用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采用模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使定时器产生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m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定时，并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端口输出周期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m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方波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按照前面章节，计算单片机的机器周期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2÷6MHz=2×10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-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=2µ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计算定时器初值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则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-X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×2×10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-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=1×10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-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求得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X=7692=1E0C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根据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定时器的结构特性，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初值应该设置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H0=0F0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L0=0C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5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串行中断源的程序设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系列单片机的片内串口接口提供了发送中断源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TI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和接收中断源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RI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。这里举例讲解定时中断的程序设计。假设使用串行口的发送中断源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TI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来发送数据。如果采用汇编语句进行程序设计，其程序示例如下：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ORG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0000H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AJMP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MAIN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转向主程序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ORG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0023H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AJMP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SISR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转向中断服务例程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ORG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0200H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MAIN: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MOV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SCON,#00H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初始化串行口模式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SETB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ES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开启串行中断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MOV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A,#68H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将数据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68H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送入累加器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MOV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SBUF,A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出数据到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SBUF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，启动串行输出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HERE: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SJMP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SISR: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CLR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TI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清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TI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，准备下一次数据发送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RETI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6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外部中断源的扩展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提供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外部中断源，对于很多的测控系统，有时外部有很多中断源需要处理，这样外部中断源显然不够用。因此需要进行外部中断源的扩展，从而实现对多个外部中断的响应处理能力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可以使用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扩展和查询方式扩展两种方法，下面分别进行介绍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6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定时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计数器扩展外部中断源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扩展外部中断源的原理是：当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的计数值达到最大值后，再有一个计数信号输入，便将引发溢出中断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实际应用中，将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的初值赋为计数最大值，然后再将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的输入端作为外部中断源的输入端，当外部中断产生的时候，将给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一个计数信号，导致中断响应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由于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有多种工作模式，对于不同的工作模式有不同的处理方法，主要有以下两种处理方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模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扩展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其他模式扩展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6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查询方式扩展外部中断源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查询方式扩展外部中断源的示意图，如图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8.1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所示。使用查询方式扩展外部中断源，可以获得较多的外部中断源输入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图中通过来扩展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外部中断源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T10~INT17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这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中断的有效信号为高电平，通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非门连接到端口，外部中断信号同时也分别接到单片机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端口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当某个外部扩展中断发生的时候，输出高电平的有效信号，经反向后转换成为低电平的有效信号输入端口。此时端口出现负跳变，引发中断。此时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响应中断，并开始扫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端口的电平，以确定哪一个中断提出申请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7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详细讲述了中断系统的基本概述，并重点介绍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的中断类型以及中断的各种控制标准位。接着讲述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对中断的处理过程，并通过实例详细讲述了各种中断源的编程方式。最后还介绍了外部中断源的扩展方式及其程序设计。中断是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重要的系统资源，合理使用中断系统，可以减轻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负担，简化程序设计，实现对外部信号的实时处理。因此，熟练掌握本章内容是学习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的基础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1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什么是中断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微处理器引入中断后，便形成了其特有的概念，主要有如下几个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断源：能够产生中断请求的硬件或软件资源称为中断源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主程序：中断发生前正在执行的程序代码称为主程序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断点：中断发生时，主程序被断开的程序代码位置称为断点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断系统：在微处理器中，能够实现中断响应、中断处理和中断返回的功能部件称为中断系统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利用这些基本概念来描述中断及其处理过程，即微处理器执行主程序，此时如果某个中断源产生中断请求，并发送给中断系统。中断系统响应该中断请求，并在断点处中断主程序的执行转而执行中断服务例程。当中断服务结束后，中断系统返回主程序的断点处，继续执行向下主程序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1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中断的用途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实际的测控应用系统中，中断的使用主要体现在如下几个方面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实时信号处理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微处理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对外部信号的检测可以采用查询和中断两种方式。其中查询方式是在主程序执行的过程中，按照一定的时间间隔循环扫描端口，根据端口电平的改变从而获知外部的事件的发生。由于扫描端口是有一定时间间隔的，因此有可能会错过对事件的响应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系统故障处理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在系统运行过程中，如果遇到电源突变、计算溢出等，则可能导致无法预测的硬件及软件方面的故障。使用以往的方法，需要关闭整个系统，然后进行故障处理。此时有些系统执行过程中的参数便无法保存，有可能导致不可挽救的损失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1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中断需要解决的问题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一个完整的中断系统需要合理处理中断识别、中断响应、中断优先级以及中断嵌套等。下面分别进行介绍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中断识别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断识别是指微处理器对各个中断的区分。一个微处理器往往不止支持一个中断，例如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805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单片机支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中断源，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T89S5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则支持多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中断源。这些中断需要对应不同的中断服务程序，因此，中断系统必须能够对各个不同的中断源进行区分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中断响应及返回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断响应是中断发生后所需要处理的工作。而中断返回则是中断处理结束后所需要处理的工作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中断优先级及中断嵌套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微处理器的中断系统一般都支持多个中断源，此时经常遇到有两个中断同时提出请求，以及在一个中断得到请求并进行处理的进程中，另外一个中断请求随之发生并需要得到处理的情况。为了有效地解决这两个问题，在微处理器的中断系统中提出了中断优先级的概念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2  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系列单片机的中断类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微处理器一般都支持多个中断源，通常按照中断源的不同，大致可以分为三类：外部中断源、定时中断源和串行中断源。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为例，其共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中断源，包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外部中断源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定时中断源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串行中断源。下面分别介绍这三类中断源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2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外部中断源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外部中断源是由外部硬件电路产生的中断。外部中断源一般采用两种触发方式：沿触发方式（上升沿或下降沿有效）和电平触发方式（高电平或低电平有效）。下面分别进行介绍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对于沿触发方式，在微处理器的时钟周期内如果检测到有效的电平变化信号（上升沿或下降沿），则即认为产生中断请求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开始执行相应的中断服务程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对于电平触发方式，在微处理器的时钟周期内如果检测到有效的电平信号（高电平或低电平），即认为产生中断请求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开始执行相应的中断服务程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2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定时中断源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定时中断源是由微处理器内部集成的定时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产生的中断。其以定时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的溢出信号作为中断请求，当溢出发生的时候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响应中断请求并开始执行相应的中断服务程序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内部集成了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定时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，分别提供了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定时中断源：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F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F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。分别介绍如下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F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CON.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为定时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溢出中断请求。在程序运行时，如果定时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产生溢出，将标志位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F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置位，请求中断，中断系统将进入中断处理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F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CON.7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为定时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溢出中断请求。在程序运行时，如果定时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产生溢出，将标志位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F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置位，请求中断，中断系统将进入中断处理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2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串行中断源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串行中断源是微处理器在进行串行通信的时候，每个数据发送或接收完毕产生的中断请求。其来自于微处理器的内部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响应这个中断请求后，可以再次发送串行数据或者读入接收到的串行数据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的片内串口接口提供了发送中断源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I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接收中断源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I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。当进行串行数据传输的时候，如果发送或接收串行数据完成的时候，硬件将置标志位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I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I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请求中断，中断系统将进入中断处理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中断源的识别和响应是通过中断入口地址，即中断矢量来实现的。当某个中断发生的时候，首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响应中断，将中断源的入口地址装载到程序计数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，中断服务程序便是从该地址开始执行的。当中断服务程序执行完毕后，将返回原来的断点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2:36:42Z</dcterms:created>
  <dc:creator>cheng</dc:creator>
  <dc:description/>
  <dc:language>en-US</dc:language>
  <cp:lastModifiedBy>cheng</cp:lastModifiedBy>
  <dcterms:modified xsi:type="dcterms:W3CDTF">2008-10-13T07:07:53Z</dcterms:modified>
  <cp:revision>3</cp:revision>
  <dc:subject/>
  <dc:title>第18章  51系列单片机中断系统及其程序设计</dc:title>
</cp:coreProperties>
</file>