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35A-4020-4F8F-A843-A2396486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9BB-61B2-4772-B358-1FE54EB0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B3D-0FA6-40AD-96D6-2F375ACE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B39-EA78-4EAC-9614-2BEE636D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CF6-69F1-415A-A3C7-B3C6D26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7F8-CD55-40CF-83BD-D915DDE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1BE-C714-4E97-AAD7-9448E153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16B-6CE8-47C8-A2DF-1EF32DE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066-F221-4397-80C0-D4914350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191-46D5-4846-9369-F8CBA329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EB1-939C-4607-9738-99FE571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5F0-F768-434C-839A-1583C0C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EB3F-9314-4CDD-A69E-F6CBDFC1F52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实时时钟芯片应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一些测控系统或者手持式设备，经常需要显示以及设定时间。目前，市场上有多种实时时钟芯片提供了这类功能。这种可编程的实时时钟芯片内置了可编程的日历时钟以及一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，用于设定以及保存时间。另外，实时时钟芯片一般内置闰年补偿系统，计时很准确。其采用备份电池供电，在系统断电时仍可以工作。实时时钟芯片的这些优点，使得其广泛应用于需要时间显示的场合。本章详细介绍了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功能、控制指令以及时间的操作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首先初始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通过输入不同的字符来分别执行初始化、时钟操作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分别介绍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时钟操作。此时可以选择显示时间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写时钟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初始化操作。此时可以详细设置时间和日期等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进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操作。此时可以选择单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、多字节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或者多字节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输入字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复位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现对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硬件复位操作。程序中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来进行复位操作，其程序代码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ResetDS1302()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0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STB = 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读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ad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内部数据。该函数中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逐位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字节数据，并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返回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riteByte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写入寄存器地址或者数据。该函数中，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时钟下，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引脚逐位写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的字节数据。其程序代码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WriteByteDS1302(uchar W_Byte)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char i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or(i = 0; i &lt; 8; ++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逐位写入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_O = 0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f(W_Byte &amp; 0x01) I_O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钟操作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K = 1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_Byte &gt;&gt;= 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移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i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进行初始化操作。该函数中，分别输入需要设置的年、月、星期、日、小时、分钟和秒的数值，然后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set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允许涓流充电，最后以多字节突发方式写入时钟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Clk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时钟寄存器执行写操作。该函数中，首先获取时钟寄存器地址以及时钟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9  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写入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RamByte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以及时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分别调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riteByteDS1302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来执行写寄存器地址和写数据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寄存器内容显示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splay(uchar loop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并显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时钟寄存器中的数据。该函数中，首先复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然后采用多字节突发方式读取时钟寄存器中的数据，然后每秒显示一次结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Read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。该函数中，首先以多字节突发方式来读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将数据保存在数组中，接着将各个数据输出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字节突发方式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urstWriteRAM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写操作。该函数中，首先获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，然后采用多字节突发方式来写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宋体"/>
              </a:rPr>
              <a:t>3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LLA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一款实时时钟芯片。其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线串行接口，芯片内部集成了可编程日历时钟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的静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日历时钟可自动进行闰年补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自身还具有对备份电池进行涓流充电功能，可有效长备份电池的使用寿命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其计时准确、接口简单、使用方便、工作电压范围宽和低功耗等优点，得到了广泛的应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命令字节和数据格式，并介绍了两种数据传输方式：单字节传输方式和多字节突发传输方式。本章通过一个具体的实例，讲解了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，在该实例中分别采用了单字节传输方式和多字节传输方式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钟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操作。实时时钟常用于需要时间设定和显示的场合，在单片机应用系统中很常见，熟练掌握本章可以轻松实现单片机的时钟显示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排列，如图所示。其中各个引脚功能如下所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495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命令字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从器件，由外部微处理器来控制数据传输。每次传送时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入一个命令字节开始，后面是数据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7243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据格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格式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两种操作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60958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.1.4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传输方式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外部微处理器之间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传送同步串行数据。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串行通信时的位同步时钟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传送一位数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每次数据传送时以字节为单位，先发送低位，再发送高位，因此传送一个字节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脉冲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数据传输可采用单字节或多字节突发方式进行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620568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实时时钟芯片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串行接口，只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引脚便可以完成操作，其使用非常方便。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作为外部微处理器，来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进行控制。当然也可以选择其它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实时时钟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60958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0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程序，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控制。首先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建立项目，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47242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2:31Z</dcterms:created>
  <dc:creator>cheng</dc:creator>
  <dc:description/>
  <dc:language>en-US</dc:language>
  <cp:lastModifiedBy>cheng</cp:lastModifiedBy>
  <dcterms:modified xsi:type="dcterms:W3CDTF">2008-10-13T08:52:34Z</dcterms:modified>
  <cp:revision>2</cp:revision>
  <dc:subject/>
  <dc:title>第30章  实时时钟芯片应用</dc:title>
</cp:coreProperties>
</file>