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8A39-7A60-4685-B45D-BEDFF403A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DD7F-EDC9-4B3A-8F93-20F30428C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68E6-2CD8-4AF4-8075-0F0B1B5CE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280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652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7908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8280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652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635D-35B4-4643-A1C8-044375B11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BCAE-4D4C-416A-A12F-9769DF1D1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76C8-950C-4679-892A-231CE4AFE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149B-CD7C-4FCB-A515-B16E8B589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6A7C-C30E-4016-9210-E864A6D6C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399D-A65E-4029-BE6C-AC9141416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005B-4299-425C-8455-E462AAC23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96D1-3535-48D8-A0F6-55299C00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5118-F88F-4895-8790-6466DBDCD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3640" y="2924280"/>
            <a:ext cx="3600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F26C0-DE47-4238-AD64-BD65ADA2FB75}" type="slidenum"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章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系列单片机概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单片机以其价格低廉、功能强大、体积小、性能稳定等优点，深受广大电子设计爱好者喜爱。目前，各类产品中都能看到单片机的身影，如门铃、报警器、玩具，以及各类数据采集系统和控制终端等。单片机是现代电子设计中使用最广泛的电子元件。而其中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是最早兴起的一类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功能完备、指令系统丰富，发展的最为成熟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本章主要介绍单片机的产生及几十年的发展演化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的简介和应用领域。另外还包括最新主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内核单片机介绍以及单片机的开发概述。本章内容包括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单片机的产生与发展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介绍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最新主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内核单片机介绍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开发概述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3.4  Silicon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单片机介绍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Silicon Laboratories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C8051F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系列单片机，集成了世界一流的模拟功能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Flash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以及基于 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JTAG 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的调试功能。另外还具有可配置的高性能模拟、高达 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100 MIPS 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的 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8051 CPU 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以及系统内现场可编程性。这些特性为用户提供了充分的设计灵活性以及卓越的系统性能。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C8051F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系列单片机主要有如下几类。</a:t>
            </a:r>
            <a:endParaRPr b="0" lang="en-US" sz="19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USB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混合信号微处理器。这类微处理器内部集成了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USB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接口，以及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ADC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DAC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温度传感器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SMbus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UART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等资源。</a:t>
            </a:r>
            <a:endParaRPr b="0" lang="en-US" sz="19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精密混合信号微处理器。这类微处理器内部集成了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Flash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ADC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DAC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温度传感器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SMbus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UART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比较器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VREF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等资源。</a:t>
            </a:r>
            <a:endParaRPr b="0" lang="en-US" sz="19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CAN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总线接口混合信号微处理器。这类微处理器内部集成了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CAN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总线接口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Flash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ADC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DAC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温度传感器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SMbus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UART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比较器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VREF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等资源。</a:t>
            </a:r>
            <a:endParaRPr b="0" lang="en-US" sz="19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小型化微处理器。这类微处理器将高速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8051 CPU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闪存及高性能模拟电路集成到一个超小微型导线框封装 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(MLP) 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中，可以让系统设计者在提高系统性能的同时，减少元件数量和整体尺寸。</a:t>
            </a:r>
            <a:endParaRPr b="0" lang="en-US" sz="19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3.5  Maxim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单片机介绍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axim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公司的产品线很丰富，其推出的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兼容微控制器在保持指令集、目标代码与早期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设计兼容的同时，使性能指标提高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3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倍。主要有如下几类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高速微处理器。这类微处理器具有闪存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EPROM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OM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等，每机器周期使用一个时钟，速度是标准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3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倍。包括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89C45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89C43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87C53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87C52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83C53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83C52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80CH1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80C32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80C32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80C31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安全微控制器。这是具有防篡改能力的微控制器，其能够对程序和数据存储器进行加密，以防未经授权的系统介入。系统的电池备份架构一旦检测到篡改事件将立即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"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清零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"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内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RAM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并且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ES/3DES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加密技术可以防止外部总线窃听。包括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525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5000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500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2250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225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5002FP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2252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907X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5001FP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5000FP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2251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网络微控制器。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axim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微型互联网接口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(TINI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网络微控制器能够为嵌入式系统增添网络功能，适用于以太网或各种低级网络系统。片内集成具有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IPv4/IPv6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CP/IP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网络栈，以及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0/10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以太网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AC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符合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IEEE® 802.3 MII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标准。包括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80C41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80C41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80C40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S80C39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3.6  NXP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单片机介绍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NXP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半导体公司的前身是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hilip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其推出了多种单片机微控制器。主要有如下几类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PC700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。主要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7LPC76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7LPC76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7LPC76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7LPC76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7LPC767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7LPC76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7LPC769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7LPC77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7LPC779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PC900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。这是一种增强型多用途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Flash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单片机。主要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9LPC940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9LPC940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9LPC940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9LPC940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9LPC910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9LPC910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9LPC9107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9LPC91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9LPC91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9LPC91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9LPC91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以及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9LPC92x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9LPC93x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等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0C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。包括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7C5xX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7CL5xX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9C5xX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9C66x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xC59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7C55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7C5x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9C5xBx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87C51Rx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3.7  Winbond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单片机介绍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inbond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系列单片机是中国台湾的华邦电子推出的，其产品线丰富。主要有如下几类：</a:t>
            </a:r>
            <a:endParaRPr b="0" lang="en-US" sz="19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标准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单片机。这类单片机具有高达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40MHz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的工作频率，包含多个定时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计数器以及在系统编程等特性。包括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C32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E51B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E52B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E54B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E58B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E516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E858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C51D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C52D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C54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C801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C438C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C58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19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宽电压单片机。这类单片机工作电压可以低至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2.4V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以及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1.8V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，非常适合于电池供电的手持式设备。包括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L32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L51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L52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L54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L801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LE51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LE52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LE54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LE58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LE516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LE812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19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增强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单片机。这类单片机工作电压可以低至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2.7V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，具有高达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40MHz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的工作频率、多个定时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计数器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个中断源、内置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SRAM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以及双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UART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等资源。主要包括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7C32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7L32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7E58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7LE58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19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工业温度级单片机。这类单片机具有符合工业应用的温度范围以及低至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2.4V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的工作电压。包括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IE52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8IE54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7IC32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W77IE58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19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3.8  Analog Devices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单片机介绍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美国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公司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nalog Device In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公司生产各种高性能的模拟器件，其推出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内核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uC8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集成了多种精密模拟资源，包括多通道的高分辨率模数转换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数模转换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A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基准电压源和温度传感器等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uC8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具有符合工业标准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2 MCU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内核，包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uC81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uC81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uC81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uC82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uC83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uC83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uC83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uC83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uC84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uC84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uC84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uC84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uC847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uC84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3.9  TI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单片机介绍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美国德州仪器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(TI)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提供两类具有嵌入式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8051/8052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微控制器的产品系列。其中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icroSystems (MSC)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产品系列包括嵌入式数据获取解决方案。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USB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产品系列包括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USB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嵌入式连接解决方案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icroSystems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系列单片机。这类单片机是完全集成混合信号器件。该系列的产品包括整合了以下组件的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8051 CPU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：高精度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elta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型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ADC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高精度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AC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8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通道复用器、烧坏检测、 可选缓冲输入、失调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AC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（数模转换器）、可编程增益放大器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(PGA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温度传感器、精密电压参考、 闪速程序存储器、闪速数据存储器和数据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RAM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。该产品系列的器件都是引脚兼容的，大大简化了器件迁移过程。包括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SC120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SC120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SC120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SC121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SC121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SC121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SC121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MSC121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USB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接口系列单片机。这类微控制器系列使用标准的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805x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微控制器并将各种外围接口集成到一起，以满足各种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USB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外设需求。所有这些产品都遵从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USB 2.0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规范。其中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USB3xxx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器件是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USB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全速适配外围设备。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USB2136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和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USB5052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是将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8052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微控制器和全速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USB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集线器集成到一起的组合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USB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设备。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USB6xxx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产品是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USB 2.0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高速适配设备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3.10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其他单片机介绍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除了上述的几家半导体公司的单片机外，还有很多其他的半导体厂商也提供了多种型号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内核单片机。例如美国的飞思卡尔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Freescale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摩托罗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otorol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icrochip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等，日本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NE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日立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Hitachi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瑞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enesa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等。这些厂商的单片机同样具有不错的性能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另外，近些年国内的半导体厂商异军突起，也提供了很多有特色的单片机。例如上海普芯达电子有限公司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W89F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上海普芯达电子有限公司总部位于上海张江高科技园区。该公司提供多种半导体器件，包括单片机、电源管理器件、系统监管器件、通信接口器件、信号调理器件、功率驱动器件、数字逻辑器件、存储器、专用标准器件和系统级封装芯片等。其推出的单片机型号有如下两类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.CW89F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.CW89FE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4  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系列单片机开发概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单片机应用系统的开发是以单片机为核心，配合一定的外部电路及程序，从而实现特定测量及控制功能的应用系统。其中单片机的选型、资源分配以及程序设计是整个系统设计的关键。一般来说，一个完整的单片机应用系统设计包括分析测控系统、单片机选型、硬件资源分配、单片机程序设计、仿真测试并最终下载到实际硬件电路中执行。单片机开发的整个流程，如图所示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962520" y="3157560"/>
            <a:ext cx="117936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4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分析测控系统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用户在进行单片机应用系统开发时，首先要对该测控系统进行可行性分析以及系统总统方案设计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可行性分析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可行性分析主要是分析整个设计任务的可能性。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系统总体方案设计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当完成可行性分析后，便进入系统整体方案设计阶段。这里，主要结合国内外相关产品的技术参数和功能特性、本系统的应用要求以及现有条件，来决定本设计所要实现的功能和技术指标。接着，制定合理的计划，编写设计任务书，从而完成该单片机应用系统的总体方案设计。 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4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单片机选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应用系统开发过程中，单片机是整个设计的核心，因此选择合适的单片机型号很重要。目前，市场上的单片机种类很多，不同厂商均推出很多不同侧重功能的单片机类型。在进行正式的单片机应用系统开发之前，需要了解各个不同单片机的特性，从中作出合理的选择。在单片机选型时，主要需要注意以下几点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根据应用系统的硬件资源要求，在性能指标满足的情况下，尽量选择硬件资源集成在单片机内的型号，例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A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2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以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P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等。这样便于整个系统的软件管理，可以减少外部硬件的投入，缩小电路板的面积，从而减少投资等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单片机的产生与发展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946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年，由美国宾夕法尼亚大学研制成功世界上第一台电子数字计算机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ENIAC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。该计算机运算速度为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500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/s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内部使用了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800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多个电子管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50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多个继电器，占地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50m</a:t>
            </a:r>
            <a:r>
              <a:rPr b="0" lang="zh-CN" sz="18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重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吨。它的诞生引发了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世纪电子工业的革命，如今电子计算机以令人难以想象的速度发展，产品线不断更新换代，成为发展最快的行业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近年来，为了满足小型设备或者便携式设备的需求，在计算机的大家族中，单片微型计算机异军突起，发展十分迅速，其基本渗透到了电子设计的方方面面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单片微型计算机（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ingle-Chip Microcomputer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）是在一块芯片上集成了中央处理器（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entral Processing Uni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）、只读存储器（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ead Only Memor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OM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）、随机存取存储器（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andom Access Memor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）、定时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计数器以及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I/O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Input/Outpu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）接口等部件，这些部件构成了一个完整的微型计算机。单片微型计算机也简称为单片机。单片机从产生到现在的短短三十几年历史中，产品不断更新，其大致经历了四个阶段。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位单片机时代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低中档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位单片机时代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高档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位单片机时代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增强型单片机时代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4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硬件资源分配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当总体方案以及单片机型号确定下来后，需要仔细规划整个硬件电路的资源分配。一般来说，一个单片机应用系统由紧密联系的硬件及软件构成。因此，在进行设计前，需要规划哪部分的功能用硬件来实现以及用什么硬件来实现，哪部分的功能用软件来实现等。这里需要注意以下几点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如果单片机的硬件资源丰富，尽量选择使用单片机内部集成的硬件资源来实现，这样可以减少硬件投资，提高集成度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对于一些常用的功能部件，尽量选择标准化、模块化的典型电路，这样可以提高设计的灵活性，确保成功率等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合理规划单片机的硬件及软件资源，充分发挥单片机的最大功能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硬件上最好留有扩展的接口，以方便后期的维护及升级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要仔细考虑各部分硬件的功率消耗以及驱动能力，驱动能力不够将导致系统无法正确运行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4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程序设计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在整个单片机应用系统的总体方案及硬件分配定型后，便可以着手进入具体的设计阶段。这里，单片机的程序设计是关键，可以根据实际的需要来选择单片机设计语言及开发环境。在单片机程序设计时，主要需要从以下几点来考虑。</a:t>
            </a:r>
            <a:endParaRPr b="0" lang="en-US" sz="19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采用结构化的程序设计，将各个功能部件模块化，用子程序来实现，这样便于调试以及后续的移植修改等。</a:t>
            </a:r>
            <a:endParaRPr b="0" lang="en-US" sz="19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合理使用单片机的资源，包括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ROM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、定时器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计数器、中断等。</a:t>
            </a:r>
            <a:endParaRPr b="0" lang="en-US" sz="19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尽量采用执行速度快的指令，以充分发挥单片机的性能优势。</a:t>
            </a:r>
            <a:endParaRPr b="0" lang="en-US" sz="19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充分考虑软件运行时的状态，避免未处理的运行状态，否则程序运行时易出错，不受控制。</a:t>
            </a:r>
            <a:endParaRPr b="0" lang="en-US" sz="19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合理安排各个功能部件的时序，确保程序能正确执行。</a:t>
            </a:r>
            <a:endParaRPr b="0" lang="en-US" sz="19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尽量选择使用单片机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语言来进行设计，避免使用汇编语言，除非有特殊要求。这样可以使程序易懂，便于交流和后期维护。</a:t>
            </a:r>
            <a:endParaRPr b="0" lang="en-US" sz="19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宋体"/>
              </a:rPr>
              <a:t>程序中要尽量添加注释，提高程序的可读性。</a:t>
            </a:r>
            <a:endParaRPr b="0" lang="en-US" sz="19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4.5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仿真测试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单片机仿真测试和程序设计是紧密相关的。在实际设计过程中，需要经常对各个功能部件进行仿真测试，这样可以及时发现问题，确保模块的正确性。对于整个系统的设计，仿真测试则可以模拟实际的程序运行，观察整个时序以及运行状态是否合理。当发现问题时，需要返回程序设计阶段修改设计，进而重新仿真测试，直到程序运行通过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用户在进行程序设计时，需要选择一个好的编译仿真环境，例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Kei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μVision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、英国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Labcenter electronic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ROTEU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等。如果条件允许，可以选择一款和单片机型号匹配的硬件仿真器。硬件仿真器一般支持在线仿真调试，可以实时观察程序中的各个变量，最大程度上对程序进行测试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4.6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实际硬件测试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当程序设计通过后，便可以将其下载到单片机中结合整个硬件电路来测试。在实际硬件电路测试阶段，主要看单片机程序和外部硬件接口是否正常，单片机的驱动能力是否够用，以及整个硬件电路的逻辑时序配合是否正确等。如果发现问题，则要返回设计阶段，逐个解决问题。硬件测试通过后，便可以投入使用或者生产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5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小结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章主要介绍了单片机的发展历程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的简介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的应用领域。接着介绍了一下实际常用的一些主流半导体厂商的单片机型号，以供参考。最后，详细介绍了开发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应用系统的整个流程及其主要注意事项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2  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系列单片机介绍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目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单片机仍然是电子设计领域最为广泛使用的产品，这里详细介绍使用最多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单片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2.1  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系列单片机简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是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nte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CS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以及和其具有兼容内核的单片机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CS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是最早、最基本的单片机，功能也最简单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nte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公司生产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CS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包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3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3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7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75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现在集成电路的飞速发展，各大芯片厂商提供了很多与其兼容的单片机。比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me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89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T89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ilicon Laboratorie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8051F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，还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hilip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XC55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等。这些单片机采用兼容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CS-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结构和指令系统，只是对其功能和内部资源等方面进行了不同程度的扩展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2.2  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系列单片机的应用领域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523520"/>
            <a:ext cx="7108920" cy="47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系列单片机以其高性能、高速度、体积小、价格低廉、可重复编程和方便功能扩展等优点，在市场上得到广泛的应用。其主要应用于如下几个领域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家电产品及玩具。由于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系列单片机价格低、体积小、控制能力强、功能扩展方便等优点，使其广泛应用于电视、冰箱、洗衣机、玩具、家用防盗报警器等方面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机电一体化设备。机电一体化设备是指将机械技术、微电子技术和计算机技术结合在一起，从而产生具有智能化特性的产品，它是现代机械及电子工业的主要发展方向。单片机可以作为机电一体化产品的控制器，从而简化原机械产品的结构，扩展其功能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智能测量设备。以前的测量仪表体积大、功能单一，限制了测量仪表的发展。采用单片机改造各种测量控制仪表，可以使其体积减少、功能扩展，从而产生新一代的智能化仪表，如各种数字万用表、示波器等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自动测控系统。采用单片机可以设计各种数据采集系统、自适应控制系统等。例如温度的自动控制、电压电流的数据采集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计算机控制及通信技术。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系列单片机都集成有串行通信接口，可以通过该接口和计算机的串行接口进行通信，实现计算机的程序控制和通信等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最新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内核单片机介绍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自世界上第一片单片机诞生以来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不断推陈出新，目前已有几十个系列、上百种型号。这些新产品都基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内核，各个型号基本都兼容。以下是一些典型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美国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nte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CS—4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CS—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CS—9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美国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tme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T89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美国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otorol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680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680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680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680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68HC1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美国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Zilog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Z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uper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美国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Fairchil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F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87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美国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I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MS700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美国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N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NS807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日本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NE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μPD780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日本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Hitachi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HD630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HD630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3.1  ATMEL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单片机介绍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79080" y="1447920"/>
            <a:ext cx="7108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mel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公司的产品非常丰富，除了基本的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系列单片机外，还包括针对不同设计领域的专用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内核单片机。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mel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内核单片机有如下几类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单周期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内核单片机。这类单片机具有单周期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内核，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Flash ISP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在系统编程调试，片内集成了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SPI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UART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模拟比较器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PWM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以及内部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RC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振荡器等资源。主要有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LP213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LP214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LP216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LP205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LP405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Flash ISP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在系统编程单片机。这类单片机主要特点是内部集成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Flash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，可以实现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ISP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在系统编程，使用方便。包括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C5115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C51AC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C51AC3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C51ED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C51IC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C51ID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C51RB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C51RC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C51RD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C51RE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LS5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LS52 AT89S205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S405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S5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S5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S8253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USB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接口单片机。这类单片机片内集成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USB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接口，基于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微处理器，另外还具备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TWI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SPI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UART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PCA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DC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等资源。包括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3C5134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3C5135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3C5136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C5130A-M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C5131A-L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C5131A-M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C513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智能卡接口单片机。这类单片机基于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微处理器，带有串行接口和智能卡接口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DC/DC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转换、以及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EEPROM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等资源。包括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3C512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T83C512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3C512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3C5123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3C5127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3EC5123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5C512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T85C512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5C512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5EC512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C512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T89C512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MP3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专用单片机。这类单片机基于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内核，具备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USB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多媒体卡接口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DC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DAC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TWI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UART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SPI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MP3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WMA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JPEG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以及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MPEG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的编解码电路等。包括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5C51SND3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C51SND2C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3SND2C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9C51SND1C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3SND1C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AT80C51SND1C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3.2  CYPRESS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单片机介绍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pres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公司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内核单片机主要集中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US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接口上，有如下几类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US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嵌入式主机。包括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720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730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L811HST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US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全速设备。包括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N21xx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4013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421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431x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434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435x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471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US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高速设备。包括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800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8013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8014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8015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8016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802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802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803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803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US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低速设。包括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30xx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31xx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32xx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33xx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3413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3513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3613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37xx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Y7C638xx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.3.3  Infineon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单片机介绍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nfineo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公司的产品包括标准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内核以及符合工业标准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片机。主要有如下几类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XC8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。新型高级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XC8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家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微控制器采用高性能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内核、片上集成闪存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O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器以及功能强大的外设组，如增强型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APCOM6(CC6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A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I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D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具有多种产品型号可供选择。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XC886/888CL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XC886/888L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XC86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00/C8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。这类单片机是基于工业标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架构的微处理器，具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A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P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等资源。包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5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05C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86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2:08:04Z</dcterms:created>
  <dc:creator>cheng</dc:creator>
  <dc:description/>
  <dc:language>en-US</dc:language>
  <cp:lastModifiedBy>cheng</cp:lastModifiedBy>
  <dcterms:modified xsi:type="dcterms:W3CDTF">2008-10-13T05:16:37Z</dcterms:modified>
  <cp:revision>3</cp:revision>
  <dc:subject/>
  <dc:title>第1章  51系列单片机概述</dc:title>
</cp:coreProperties>
</file>