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762-3A54-4C19-BB99-BE3D2E49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113-FCC3-440A-BD35-AC9422D3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059-DE53-4F49-8844-302A4691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715-4A91-41CF-8F47-E46AF19E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EF8-897A-4D18-9B63-F35A0E93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D31-8E34-4917-9A75-C52FB8B3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874-CF5D-4577-8419-A49FD1A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89B-BB96-44F5-B251-238CE195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F8D-FFC9-4306-ADFB-69608338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111-4A29-4C64-8A96-0F03422F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315-409A-4636-9DC7-DC5B8AFC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735-F607-476B-8F35-7C5D7599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6EA8-9192-44B0-9E04-093E652566D4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和流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操作命令，用于使单片机完成特定的功能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源程序是由一系列的语句组成的，这些语句可以完成变量声明、赋值和控制输入输出等操作。一条完整的语句必须以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束。由于单片机能识别的是机器指令，因此一般一条语句经过编译后生成若干条机器指令来执行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语句包括说明、表达式语句、循环语句、条件语句、开关语句、复合语句、空语句和返回语句等，下面分别进行说明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单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371600"/>
            <a:ext cx="7108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单分支结构的条件语句只有一个语句分支或者语句块分支，其一般形式为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，当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条件语句表达式的结果为真时，就执行分支语句，执行完后，继续执行后续程序；当表达式为假时，就跳过分支语句，执行后续程序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程序，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a,b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变量声明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a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b=1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 (a==b) a++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if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单分支结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a=%d\n",a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双分支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双分支结构的条件语句包含两个语句分支，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表达式为真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；当表达式为假时，就执行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执行完后，继续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后面的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阶梯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-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是一种多分支结构，其可以包含多个分支语句，其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if 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)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是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-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组成的嵌套，可以实现多方向条件分支。该语句从上到下逐个对条件进行判断，一旦条件为真，就执行与其相关的分支语句，并跳过剩余的阶梯；如果没有一个条件为真，则执行最后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支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+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开关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开关语句主要用于在程序中实现多个语句分支处理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中，开关语句以关键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来标识。开关语句的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1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ase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; break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+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跳转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跳转语句主要用于程序执行顺序的跳转和转移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跳转语句主要有三种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1  goto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是一个无条件的转向语句，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程序执行到这个语句时，程序指针就会无条件地跳转到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后的标号所在的程序段。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在很多高级语言中都会有，其一般形式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其中的语句标号为一个带冒号的标识符。使用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 i=0,total=0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: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句标号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total = total +i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执行运算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f(i&lt;=100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如果满足条件则转向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loo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goto loop;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printf("1+2+……+100=%d\n", total);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2  break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通常用在循环语句和开关语句中，用来跳出循环程序块。其使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主要用于如下两种情况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于开关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时，可使程序跳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后的语句。如果没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，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将成为一个死循环而无法退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中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联在一起使用，可以实现满足条件时便跳出循环的操作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7.3  continue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是用来跳过循环体中剩余的语句而强行执行下一次循环。其使用的一般形式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言中，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只用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等循环体中，常与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条件语句一起使用，可以提前结束本次循环。使用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语句的程序示例如下：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har ch[]={'s','S','r','R','t'}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初始化字符数组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nt i=-1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while(i&lt;4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进入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++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if(ch[i]&gt;='A' &amp;&amp; ch[i]&lt;='Z')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如果是大写字符则退出本次循环，进入下次循环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continue;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printf("ch[%d]=%c\n",i,ch[i]);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输出小写字符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8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函数调用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2453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函数调用语句用于调用系统函数或者用户自定义函数。在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语言中，函数调用语句比较简单，在函数名后面加上分号便可构成函数调用语句。这里需要注意的是函数调用格式的问题，这将在后面的章节详细介绍。下面仅举一个例子加以说明：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yprint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hello world.\n"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Add(int a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定义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return a+1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返回值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int i=2,j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初始化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myprint (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j=Add(i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调用带有返回值的函数语句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printf("%d+1=%d\n",i,j);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输出结果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9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空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空语句是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语言中有一个特殊的表达式语句，其仅由一个分号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组成。在实际程序设计时，有时为了语法的正确，要求有一个语句，但这个语句又没有实际的运行效果，那么这时就要有一个空语句。最典型的使用空语句的例子便是程序延时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程序中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构成的循环语句后面加一个分号，可以形成一个不执行其他操作的空循环体。常用来编写等待事件发生以及延时的程序。示例如下：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#include &lt;stdio.h&gt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头文件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void main(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函数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First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for (;a&lt;50000;a++);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printf("Delay some times and output");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输出字符串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说明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说明语句一般是用来定义声明变量，可以说明其的类型和初始值。一般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类型说明符 变量名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(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初始值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其中，类型说明符指定变量的类型，变量名即变量的标示符，如果在声明变量的时候进行赋值，则需要使用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指定初始值。典型的说明语句示例如下，其中分别进行了变量声明以及初始化赋值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int a=1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整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float c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浮点型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char p[6]="first"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字符数组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sfr P1=0x80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并初始化寄存器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bit third;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声明位变量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0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返回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返回语句用于终止当前函数的执行，并强制返回到程序调用该函数的位置。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返回语句主要有以下两种形式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者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对于带有返回值的函数，则使用第一种返回语句，表达式的值便是函数的返回值。如果函数没有返回值，则可以缺省表达式，而采用第二种返回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1  C51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的流程控制结构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的程序设计中，为了控制好模块间的顺序关系，一般采用的是模块化程序结构，这时需要采用一定的流程控制结构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程序支持多种流程控制结构，比较常见的是顺序结构、分支结构和循环结构等三种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顺序结构的程序按代码的顺序自上而下执行，没有代码的跳跃。这种结构比较简单，常用于实现不是很复杂的任务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选择结构的程序通过判断表达式的值来决定执行哪一段程序，一般采用条件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开关语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来构成。这种结构常用于判断、决策等代码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循环结构的程序循环重复执行同一段代码，一般由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构成。这种结构常用于需要多次执行某项任务处理的场合，可以简化代码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1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详细讲述了单片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的各种语句结构，包括说明语句、表达式语句、复合语句、循环语句、条件语句、开关语句、跳转语句、函数调用语句、空语句和返回语句。这些语句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的重要组成部分。灵活利用这些语句，可以实现不同的程序流程控制结构：顺序结构、选择结构和循环结构等，以达到简化程序的目的。熟练掌握本章内容是进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表达式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表达式语句是用来描述算术运算、逻辑运算或使单片机产生特定的操作。表达式语句是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最基本的一种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b=b*20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X=’A’;Y=’B’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P=(a+b)/a-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以上的都是合法的表达式语句。一般来说，任何表达式在末尾加上分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便可以构成语句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表达式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=a+8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赋值语句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复合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是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将一组语句组合在一起而构成的语句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由单个表达式和末尾的分号构成的语句是简单语句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是允许嵌套的，即就是在花括号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也是复合语句。复合语句在程序运行时，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的各行单语句是依次顺序执行的。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使用复合语句需要注意如下几点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语言中，复合语句在语法上等同于一条单语句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复合语句中不但可以由可执行语句组成，还可以用变量定义等语句组成。要注意的是在复合语句中所定义的变量，称为“局部变量”，所谓局部变量就是指它的有效范围只在复合语句中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于一个函数而言，函数体就是一个复合语句，函数内定义的变量有效范围只在函数内部。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循环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语句经常用于需要反复多次执行的操作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基本的循环语句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。这几个语句同样都是起到循环作用，但具体的作用和用法又不大一样。下面分别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1  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循环语句的一般使用形式为：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其中的表达式值为真时，便执行语句，然后再次判断表达式的值，直到表达式的值为假时，才结束循环，并继续执行循环外的后续语句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特点是先判断条件，后执行语句。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hile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语句的循环过程如图所示。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19051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2  do-while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是先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然后再判断表达式是否为真，如果表达式为真，返回再次执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，直到表达式为假时，才结束循环，并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特点是先执行语句，后判断条件。因此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至少执行一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面的语句。同样，由多个语句构成语句体时，必须用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}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括起来，表示成复合语句的形式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4.3  for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的一般形式为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for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;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赋值语句，给循环变量进行初始化赋值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个关系逻辑表达式，作为判断循环条件的真假；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循环变量每次循环后按什么方式变化。当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初始化循环变量后，则由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确定循环次数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求解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，判断循环条件，即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真假，若条件为真，则执行下面的循环语句和表达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直到循环条件为假时，才结束循环，然后继续执行循环外的后续语句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3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条件语句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常用于需要根据某些条件来决定执行流向的程序中。其是由关键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构成，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条件语句。条件语句又被称为“分支语句”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提供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形式的条件语句，下面分别进行介绍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6:25Z</dcterms:created>
  <dc:creator>cheng</dc:creator>
  <dc:description/>
  <dc:language>en-US</dc:language>
  <cp:lastModifiedBy>cheng</cp:lastModifiedBy>
  <dcterms:modified xsi:type="dcterms:W3CDTF">2008-10-13T06:39:19Z</dcterms:modified>
  <cp:revision>2</cp:revision>
  <dc:subject/>
  <dc:title>第13章  C51语句和流程</dc:title>
</cp:coreProperties>
</file>