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0599-3512-46DF-872A-0BD3559C4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79080" y="402228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FE97-3A6D-4B86-B20D-29428A759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2192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E2B8-4D81-4D9C-B992-3B0FFE9CC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8280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8652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7908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8280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8652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792C-D655-4679-B03D-CBCD63FAF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BF52-4492-4B25-8334-F4452E4AD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329A-344E-40BB-838E-BD3ADBD62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BFA2-3CF8-4B0D-AE48-B69826FA4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D24C-D2C8-4A8F-BE3E-60205EE7F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8CFA-C59C-4471-AD8C-CF7803B3A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2ABD-84B5-4901-8288-A4B143057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2192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AEF4-0849-435E-B737-CE25404A8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36BF-55D1-465B-AC92-57E04988B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03640" y="2924280"/>
            <a:ext cx="3600720" cy="33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B933B-7744-41F4-BE44-27D1755A7035}" type="slidenum"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2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章  道路交通灯控制系统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实时多任务操作系统（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OS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常用于处理复杂的多任务控制系统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80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单片机支持典型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实时多任务操作系统。通过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任务管理工具，可以使单个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统微处理器可以管理多个任务或者进程。目前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最常用的是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实时多任务操作系统。本章通过一个道路交通灯控制系统，来讲解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实时多任务操作系统的设计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2.3.4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获取命令函数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获取命令函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getlin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用来编辑从串口接收到的字符，该函数位于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GETCOMMAND.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文件中。这里通过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_getkey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函数获取串行口输入的命令，然后对不同的命令进行不同的处理。程序规定了如下几个命令键及其代码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NTLQ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对应的字符代码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0x1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NTLS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对应的字符代码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0x1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EL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对应的字符代码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0x7F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BACKSPAC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对应的字符代码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0x08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R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对应的字符代码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0x0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F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对应的字符代码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0x0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000" spc="-1" strike="noStrike">
                <a:solidFill>
                  <a:srgbClr val="000000"/>
                </a:solidFill>
                <a:latin typeface="宋体"/>
              </a:rPr>
              <a:t>32.4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小结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本章详细讲述了道路交通灯的运行原理，以及如何使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程序来实现道路交通灯的控制模拟。本章给出了详细的电路图，以及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多任务程序。通过本章的学习，可以掌握实时多任务操作系统的设计，尤其是基于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80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单片机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程序设计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2.1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交通灯控制系统概述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道路交通灯也就是常说的红绿灯，这是最常见的一种控制系统，在一般的道路交叉口都可以看到。道路交通灯的控制综合了一般测控系统常用的功能，包括按键输入、时钟控制、显示以及串口通信等。下面介绍道路交通灯的基本原理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2.1.1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道路交通灯概述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典型的道路交通灯示意图，如图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32.1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所示。其中主干道为双向的交通线路，和其垂直的辅路可供行人行走。主干道上的红绿灯指挥车辆的行驶，辅路上的红绿灯指挥行人的通过与禁止。行人按钮用于行人通过马路的申请，当按下该按钮后，主干道变为红灯，禁止车辆通过，此后行人路灯变为绿灯，行人便可以通过马路。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286000" y="2913120"/>
            <a:ext cx="4800600" cy="34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2.1.2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交通灯控制系统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道路交通灯使用一般的单进程程序很难简洁有效地实现，如果采用实时多任务系统则可以很容易达到很好的效果。在一个用户定义的时间段里，交通灯受系统控制。在规定时间段之外，黄灯闪烁。如果一个行人按下了行人按钮，交通灯立即进入行人过马路状态，表示行人需要穿过马路。否则，交通灯持续不断地工作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如果采用实时多任务操作系统，则道路交通灯控制系统至少应该包括如下几个任务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任务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：初始化系统，并且启动所有其他的任务；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任务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：完成交通灯控制器的命令处理；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任务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：控制系统时钟；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任务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：如果时间在活跃的时间段之外，使黄色灯闪烁；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任务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：当时间在活跃的时间段（在开始和结束时间之间）里以后，控制交通灯的交变显示；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任务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：读取行人按钮是否按下，并且执行相应的处理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2.2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交通灯控制系统原理图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道路交通灯控制系统原理图，如图所示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676520" y="2057400"/>
            <a:ext cx="624816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2.3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多任务交通灯控制系统程序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这里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Keil μVison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集成开发环境中，使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Keil C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言进行道路交通灯控制系统的设计。其中采用了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实时多任务操作系统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2.3.1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建立项目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首先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Keil μVison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集成开发环境中建立项目，具体操作步骤如下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057400" y="2514600"/>
            <a:ext cx="5267160" cy="38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2.3.2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多任务划分及程序设计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使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实时多任务操作系统进行交通灯控制，整个系统将被分成如下几个任务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任务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：用于初始化串口，并且启动所有其他的任务；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任务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：用于完成交通灯控制器的命令处理，并负责控制和处理接收到的串行命令；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任务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：用于控制系统时钟；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任务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：如果时间在活跃的时间段之外，黄色灯闪烁；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任务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：当时间落在活跃的时间段（在开始和结束时间之间）里以后，控制交通灯的交错变化；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任务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：读取行人按钮是否按下，如果按钮按下则向任务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发送信号；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任务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：如果在串行指令里遇到了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ES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字符，则向任务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发送一个信号，并且终止显示命令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2.3.3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串行通信函数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串行通信函数用于处理串行口的中断数据通信。其函数包含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ERIAL_Communication.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文件中。这里包含基本的串行口初始化、字符输入输出以及串行中断处理等。下面在介绍各个函数之前，首先给出程序需要用到的一些头文件及预定于，示例如下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详细内容请参照本书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3T03:08:33Z</dcterms:created>
  <dc:creator>cheng</dc:creator>
  <dc:description/>
  <dc:language>en-US</dc:language>
  <cp:lastModifiedBy>cheng</cp:lastModifiedBy>
  <dcterms:modified xsi:type="dcterms:W3CDTF">2008-10-13T09:02:02Z</dcterms:modified>
  <cp:revision>2</cp:revision>
  <dc:subject/>
  <dc:title>第32章  道路交通灯控制系统</dc:title>
</cp:coreProperties>
</file>