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AB9-476A-448D-87A2-2F8FA78A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8EC-AF1B-4333-9897-D229AC7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463-7B72-4305-8F55-F73B0096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280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6520" y="159984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280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6520" y="4022280"/>
            <a:ext cx="2288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488-030E-459D-A265-89A549E8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AFA-3BC8-42FB-81BD-CC2E0C0A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CE1-6264-4EB4-82AD-952E21B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AE8-157B-4B05-8E7E-35AC2CA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351-62CE-4CE8-B33E-6C6A973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F2F-85B1-4482-AE0E-4401C85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C95-EC5B-45A6-9B15-189DC62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920" y="402228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B25-7785-4474-B9CF-6AD24F4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920" y="1599840"/>
            <a:ext cx="3468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4022280"/>
            <a:ext cx="71089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7FA-8C9A-49ED-93A7-FC1FC0A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3640" y="2924280"/>
            <a:ext cx="3600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344-A48D-4101-8ED5-2C04A1652423}" type="slidenum"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章  联合、枚举、类型说明和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除了数组和指针外，还定义了联合和枚举两种聚合数据类型，这是特殊形式的数据类型。下面分别进行讲解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4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类型说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说明是指由用户自己定义类型说明符，也就是说允许由用户为数据类型取新类型名。类型说明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类型名 新类型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类型定义符，原类型名中含有定义部分，新类型名一般用大写表示，以便于区别。例如，有整型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声明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整型变量的类型说明符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完整写法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nteg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为了增加程序的可读性，可把整型声明符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新定义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ypedef int INTEGER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”是把一个字节中的二进位划分为几个不同的区域，并说明每个区域的位数。每个域有一个域名，允许在程序中按域名进行操作。这样就可以把几个不同的对象用一个字节的二进制位来表示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因为有些信息在存储时，只需占几个或一个二进制位，而并不需要占用一个完整的字节。例如在存放一个开关量时，只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种状态，用一位二进位即可。因此，采用位域可以节省存储空间，并使处理简便。位域数据结构，也常称为“位段”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的定义和位域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定义与结构定义相似，其一般形式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位域结构名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类型说明符 位域名：位域长度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关键字，在位域结构中说明了位域名的类型以及位域的长度。示例如下：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struct btest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a:4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b:1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just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int c:3;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5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位域变量的使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的位域名引用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变量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位域允许用各种格式输出，也可以使用指针。位域变量在程序中的使用，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详细内容请参照本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6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小结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章主要介绍了几种特性形式的聚合数据类型，包括联合类型、枚举类型、类型说明以及位域。这些特殊的数据类型是对基本数据类型的有效扩充。灵活运用这些特殊数据类型，可以方便单片机的程序设计。因此，熟练掌握本章内容是单片机程序设计的基础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类型，是指将不同的变量组织成一个整体的数据类型。其中的这些变量在内存中占用同一段存储单元，而在不同的时间保存不同的数据类型和不同长度的变量。因此，联合类型也称为共用体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和联合变量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的定义与结构十分相似，其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union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据类型 成员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1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联合变量成员的引用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联合体变量成员的引用方法与结构体完全相同。例如，对于前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成员引用为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Test.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示例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4743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结构和联合的区别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和联合在很多方面都很相似，但它们之间有本质的区别。结构和联合的区别主要体现在如下几点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于由多个不同数据类型成员组成的结构变量和联合变量，在任何同一时刻，结构的所有成员都存在，而联合变量中只存放了一个被选中的成员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变量的不同成员赋值是互不影响的，而对于联合变量的不同成员赋值，将会对其他成员重写，原来成员的值就不存在了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类型主要用于将变量的取值限定在一个有限的范围内的场合。枚举类型在定义中列举出所有可能的取值，被声明为该类型的变量取值不能超过定义的范围。枚举类型是一种基本数据类型，而不是一种构造类型。例如，一个星期内只有七天、一年只有十二个月、一个班每周有六门课程等。如果把这些量说明为整型、字符型或其他类型显然是不妥当的。此时，采用枚举类型则不但可以简洁明了地表示其取值，又节省存储空间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1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的定义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类型定义的一般形式如下：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名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识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整型常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枚举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关键字，枚举名即所定义的枚举类型，标识符是枚举类型的取值范围，枚举变量是声明为该枚举类型的变量。每个枚举元素后的结束符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而不是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且最后一个元素后的结束符可以省略不写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2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变量的声明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447920"/>
            <a:ext cx="7108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5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语言中，枚举变量的声明可以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方式。这里假设有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声明为上面定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，分别采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种声明方式如下。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2819520" cy="158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3543480" cy="186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5812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10.3.3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枚举类型变量的赋值</a:t>
            </a:r>
            <a:endParaRPr b="0" lang="en-US" sz="3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71089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枚举类型在定义时如果没有初始化，即省去“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整型常数”，枚举元素本身由系统定义了一个表示序号的数值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始顺序定义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…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如果枚举中的某元素被赋值后，其后成员按依次加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的规则，确定其值。例如：在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week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中，依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Mo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Tues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，…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Sunday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值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2674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2:20:38Z</dcterms:created>
  <dc:creator>cheng</dc:creator>
  <dc:description/>
  <dc:language>en-US</dc:language>
  <cp:lastModifiedBy>cheng</cp:lastModifiedBy>
  <dcterms:modified xsi:type="dcterms:W3CDTF">2008-10-13T06:16:58Z</dcterms:modified>
  <cp:revision>3</cp:revision>
  <dc:subject/>
  <dc:title>第10章  联合、枚举、类型说明和位域</dc:title>
</cp:coreProperties>
</file>