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52F-1AAE-4DB9-93FF-FC5DA2A0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E1B-13F9-43A9-89CA-6FFA8B12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4B4-FA45-4D1F-8124-70CBE8AC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3C6-E93F-4A99-905B-B8241D52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016-D5FF-4D1E-9CEF-040C9A55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768-F92C-4BC7-8DD5-BB82CABA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990-D280-4FD3-BA97-49B1910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35A-9637-4538-A885-D08889B5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1AD-E091-4C0C-919B-EE7C82F8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641-26C5-4FB8-BA64-32EAE4D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0E3-17AD-4E83-90C3-080FBDBC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353-727C-4C3E-BF86-65780B0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72D8-A256-4631-A6C4-D95921299F00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面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硬件控制系统开发语言，其和单片机的硬件资源有着密切的联系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经过编译后，是要在单片机上运行的。因此，程序代码以及数据都是需要按照一定的存储类型保存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特定存储区中的。存储结构的组织形式是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很重要的组成部分。本章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存储结构、存储类型和动态内存分配函数等相关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5  x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关键字，标识符为变量的类型。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寻址，须装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地址，因此尽量将外部数据存放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。例如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reg51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1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2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while(1)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1=P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2=P3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6  cod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code text[]=”Hello everyone!”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定义字符串数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定义数据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会将其定义在程序代码储存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P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上面几种存储类型时，因为访问内部数据存储器比访问外部数据存储器快，所以应将频繁使用的变量放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将很少使用的变量放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扩展数据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扩展数据类型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器所特有的，不属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S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。这些类型的数据可以操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而不能用指针对其进行存取。扩展数据类型可由以下几种关键字说明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节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0=0x8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，且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必须低位在低字节，高位在紧跟德高字节才行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T2=0xCC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1  sf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sfr16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用于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。特殊功能寄存器的定义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=0xA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，其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=0xCC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地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L=C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H=CD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2  sb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定义可位寻址对象，例如特殊功能寄存器某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，有如下几种定义方法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地址。该语句用于将位地址赋值给位变量名，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位的绝对地址赋给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需要注意的是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地址必须位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使用符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来获得位数据，并赋值给位变量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定义一个特殊功能寄存器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P1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位变量名所在的位置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和第二种方法是一样的，只是将特殊功能寄存器名用位地址常数直接表示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0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3  bi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型变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变量可用于变量类型、函数声明、函数返回值等场合，其定义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的位变量存放于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位变量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里是外部变量，但编译系统不对其初始化，必须在程序中初始化位变量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bit b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是编译环境中指定的变量的存储区形式。一般来说，如果在定义变量时默认存储类型，编译系统将按照存储模式所规定的默认存储区来指定变量、函数参数等的存储区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系统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模式共三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1  Sma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访问速度快，缺点是空间有限，需要节约使用存储空间，只适用于规模较小的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2  Compac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的一页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yt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内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存储空间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宽裕，缺点是访问速度要慢些，但较下面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要快，是一种中间状态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适用于变量不超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，可以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指定地址的高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3  Larg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放在多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4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空间大，可存变量多，缺点是速度较慢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使用数据指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对变量进行寻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结构是存储器的组织形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采用哈佛结构，将程序代码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分开，各自遵循各自的寻址机构和寻址方式。这里概括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器的硬件构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的选择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一般是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选项中进行选择，也可以在程序中指定。在程序中指定存储模式的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fun1(void) small{ 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该语句声明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un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函数内部变量全部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对于一些经常使用的和特别耗时的地方可以这样声明，有利于提高运行速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支持一般指针和存储器指针。对变量进行声明时可以指定变量的存储类型。同样，在对于指针变量声明的时候，也可以指定存储类型。下面分别进行介绍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般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的声明在前面已经介绍过，不过同时还可以说明指针的存储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 * stat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a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的指针，则依存储模式存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*xdata p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一个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的指针，放于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可存放于任何存储器中，其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存放，分别为存储器类型、高位偏移、低位偏移量。使用一般指针时，可以访问数据而不用考虑其在存储器的位置，因此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指针在声明时指定了存储类型，其总是指向特定的存储区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data *s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数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 *pow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o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存储器的类型已经指定了，因此这种指针存放时，只需存放偏移量即可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只需一个字节，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.5.3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的关系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是不同的概念，在使用时一定要注意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的内存空间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=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保存在外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访问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节来寻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空间，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键字，所以编译器将其编译成指向内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指针变量了。最后的赋值语句便是错误的。上面的语句可以改为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 = 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内存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内存分配用于对一些动态结构进行存储空间的分配。其中这些动态结构可以是树和链表等。对于大多数情况，应尽可能在编译的时候确定所需要的内存空间，并进行分配，例如数组的大小需要明确指定。而对于一些程序，采用动态内存分配可以实现数据的灵活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动态分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提供了多个动态内存分配函数。这些函数要求用户声明一个字节数组作为堆，根据所需要的动态内存大小来决定数组的长度，被声明的数组存放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中，库函数可以使用特定指针来进行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的动态分配函数示例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初始化动态内存区的程序源代码。可以指定动态内存的位置及大小，只有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 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才可以调回其他函数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是给数组分配内存，可以指定单位数据类型及该单元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分配一段固定大小的内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调整当前分配动态内存的大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重新分配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2  m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都是用来动态分配内存空间的。但两者在使用时稍有区别，主要体现在函数形式以及内存空间的分配上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具有不同的使用形式，下面分别进行讲解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包含一个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要分配的内存空间的大小，该函数返回一个指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calloc(size_t numElements,size_t sizeOfElement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7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存储器结构、存储类型、存储模式以及存储器指针等，后面还介绍了动态内存分配。数据的存储模式是单片机系统特有的概念，这里的内容涉及单片机的硬件资源比较多，用户应该对照着单片机的介绍来进行学习，这样可以加深理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存储区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及其兼容单片机在物理上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存储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早期的单片机片内存储器比较小，最近新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单片机在存储器方面有了很大的扩展。每个存储区的大小和用法，可以参阅不同型号单片机的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片内数据存储器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中的变量一般保存在片内数据存储器，这样取址速度快。当然变量也可以保存在片外数据存储区，这将在后面进行介绍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区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片内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F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特殊功能寄存器区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，又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区域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通用寄存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位寻址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用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类型是指程序中变量和常量等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硬件系统中的存放方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编译器完全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结构，可完全访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硬件系统的所有部分，并将数据定位在不同的硬件存储区中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支持的存储类型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几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系统中，存储类型与存储区关系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737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1  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系统中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寻址是最快的。所以一般来说，应将频繁使用的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ch[5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string[6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oa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flo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yTyp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newtyp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定义的数据类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2  b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是可位寻址数据存储器，可以将要求可位寻址的数据定义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ie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mn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整型数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[10]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5=ie^5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位变量来可寻址对象其中一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8=mn[1]^8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3  i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为间接寻址片内数据存储区，可访问片内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空间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flo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t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浮点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可以定义浮点型变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4  p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存储在分页寻址外部数据存储区，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pun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u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8:24Z</dcterms:created>
  <dc:creator>cheng</dc:creator>
  <dc:description/>
  <dc:language>en-US</dc:language>
  <cp:lastModifiedBy>cheng</cp:lastModifiedBy>
  <dcterms:modified xsi:type="dcterms:W3CDTF">2008-10-13T06:44:38Z</dcterms:modified>
  <cp:revision>3</cp:revision>
  <dc:subject/>
  <dc:title>第15章  C51的存储结构</dc:title>
</cp:coreProperties>
</file>