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0BB-88CF-4F75-8B45-41872ECE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929-6DF4-4798-98D4-DC02876E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04-DDBC-4F86-8DF1-9F07808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45A-5344-4704-AB94-3D6A1CA1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9E5-9B7C-436C-BFBC-E9F0122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2B4-C4A4-4AF2-8A1D-2EC8A70C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2F2-DFE5-497E-9DA2-445DF782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7C5-0146-4CD1-9A28-621F2A2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985-CDAC-4F36-84E1-1C30A5C9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D08-5563-487A-ACEB-A870CD5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CF1-62A5-4FCF-8E4F-F2EC927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6B4-415A-403B-8428-0F2E8BD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8C3-05A4-4DBF-A5DB-08FD1CAC6370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的程序调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除了能够仿真单片机各种片上资源和寄存器外，还具有完备的程序调试器。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，可以程序进行单步调试、断点调试、代码覆盖分析以及性能分析和优化等。本章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调试器的各种调试功能，包括性能分析器、代码覆盖分析器和断点等。同时本章还详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指令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命令可以用来显示或修改存储器内容。存储器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391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的程序调试功能，包括性能分析器、代码覆盖分析器和断点等。本章还详细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提供的调试命令，这些调试命令大大扩展了单片机程序的仿真调试。合理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各种调试功能及调试命令，可以在程序设计和调试时达到事半功倍的效果。因此，熟练掌握本章内容有助于读者分析和优化单片机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1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程序调试器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成开发环境具有完备的程序调试功能，结合硬件资源的仿真，便可以实现无需外部硬件的完善仿真调试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调试器除具有最基本的调试功能外，还包含一些高级调试工具才具有的代码覆盖分析等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调试器的主要特性如下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整的符号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源代码级别的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断点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带有条件的复杂断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扩充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调试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性能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代码覆盖分析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两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atchpoin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完善的调试命令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样化的调试函数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外部硬件无缝接口，实现程序的在线调试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性能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性能分析器。其可以在程序运行时，统计各个函数或者程序模块的执行次数及运行时间。这样，通过性能分析器的统计结果，便可以找到程序最耗时的部分，进行优化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9528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代码覆盖分析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代码覆盖分析器。其可以在程序运行时，统计已执行的程序代码的比例，结果以百分数显示。使用性能分析器的步骤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71629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集成开发环境中，内建了完善的断点调试功能。最简单的断点可以双击源代码的某一行，来放置一个断点。断点以红色块显示，如图所示。简单断点也可以通过工具栏、右键菜单或者主菜单来实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38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  Keil μVison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调试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完善的调试命令，这些调试命令可分为以下几大类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通用命令：提供多种调试操作。例如进行系统复位，退出调试模式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命令：用于执行目标程序，分析程序运行性能。例如跳出当前函数，停止程序运行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命令：用于进行断点操作。断点命令用来控制断点，例如开启或关闭断点，删除或添加断点等。当程序运行到某条指令时，可以通过断点停止程序运行，此时可以执行调试命令或执行用户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器命令：用来显示和更改存储器的内容。例如显示存储器中的内容，在线编译代码等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通用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用命令提供多种调试操作，使用通用命令使得调试程序更加灵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的通用命令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7391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命令可以在命令窗口运行代码和程序指令，使用程序命令大大提高了程序调试的灵活性和方便性。程序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7467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2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断点命令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提供的断点命令可以管理调试断点。断点命令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73054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45:16Z</dcterms:created>
  <dc:creator>cheng</dc:creator>
  <dc:description/>
  <dc:language>en-US</dc:language>
  <cp:lastModifiedBy>cheng</cp:lastModifiedBy>
  <dcterms:modified xsi:type="dcterms:W3CDTF">2008-10-13T07:56:51Z</dcterms:modified>
  <cp:revision>3</cp:revision>
  <dc:subject/>
  <dc:title>第22章  Keil μVison3中的程序调试</dc:title>
</cp:coreProperties>
</file>