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611-87A7-49E8-BA03-F12B2EA0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522-2D62-41D3-B5FD-04E75780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5B81-F742-4066-8966-35C6C880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029-FB2A-4899-B36B-254C57C8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0C7-AD03-4B8F-BE34-213E9413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FE8-3B91-4EF2-8977-AE6AB19D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3FE-40A0-4FB6-8BAB-68C91DAA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995-0B6C-49DC-84AD-9ACDD620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7FF-1230-453C-8867-B820C46D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02A-173F-48F1-8EC4-A3EC0195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844-C287-4D21-BEAC-3067715A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127-3DE5-44FC-9A5C-85E5A6CE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780F-682B-482F-99E1-A034C7B7D5D1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实时时钟芯片应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一些测控系统或者手持式设备，经常需要显示以及设定时间。目前，市场上有多种实时时钟芯片提供了这类功能。这种可编程的实时时钟芯片内置了可编程的日历时钟以及一定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，用于设定以及保存时间。另外，实时时钟芯片一般内置闰年补偿系统，计时很准确。其采用备份电池供电，在系统断电时仍可以工作。实时时钟芯片的这些优点，使得其广泛应用于需要时间显示的场合。本章详细介绍了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功能、控制指令以及时间的操作。本章通过一个具体的实例，讲解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读写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的程序功能是首先初始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然后通过输入不同的字符来分别执行初始化、时钟操作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操作。分别介绍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进入时钟操作。此时可以选择显示时间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或者写时钟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进入初始化操作。此时可以详细设置时间和日期等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进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操作。此时可以选择单字节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、多字节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或者多字节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复位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位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set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现对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硬件复位操作。程序中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T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来进行复位操作，其程序代码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ResetDS1302()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 = 0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TB = 0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TB = 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字节读取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读取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adByte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内部数据。该函数中，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时钟下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逐位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的字节数据，并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ur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返回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riteByteDS130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写入寄存器地址或者数据。该函数中，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引脚时钟下，通过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引脚逐位写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的字节数据。其程序代码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WriteByteDS1302(uchar W_Byte)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char i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or(i = 0; i &lt; 8; ++i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循环逐位写入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_O = 0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f(W_Byte &amp; 0x01) I_O = 1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K = 0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时钟操作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K = 1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_Byte &gt;&gt;= 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移位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初始化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初始化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it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时钟寄存器进行初始化操作。该函数中，分别输入需要设置的年、月、星期、日、小时、分钟和秒的数值，然后调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set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复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并允许涓流充电，最后以多字节突发方式写入时钟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时钟字节写入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字节写入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ClkByte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时钟寄存器执行写操作。该函数中，首先获取时钟寄存器地址以及时钟数据，然后分别调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Byte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来执行写寄存器地址和写数据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9  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RamByte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执行写操作。该函数中，首先获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地址以及时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，然后分别调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Byte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来执行写寄存器地址和写数据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0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时钟寄存器内容显示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寄存器内容显示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lay(uchar loop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读取并显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部时钟寄存器中的数据。该函数中，首先复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然后采用多字节突发方式读取时钟寄存器中的数据，然后每秒显示一次结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字节突发方式读取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字节突发方式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rstReadRAM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据。该函数中，首先以多字节突发方式来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并将数据保存在数组中，接着将各个数据输出显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字节突发方式写入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字节突发方式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rstWriteRAM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执行写操作。该函数中，首先获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，然后采用多字节突发方式来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宋体"/>
              </a:rPr>
              <a:t>30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的一款实时时钟芯片。其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线串行接口，芯片内部集成了可编程日历时钟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字节的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日历时钟可自动进行闰年补偿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自身还具有对备份电池进行涓流充电功能，可有效长备份电池的使用寿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其计时准确、接口简单、使用方便、工作电压范围宽和低功耗等优点，得到了广泛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命令字节和数据格式，并介绍了两种数据传输方式：单字节传输方式和多字节突发传输方式。本章通过一个具体的实例，讲解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控制，在该实例中分别采用了单字节传输方式和多字节传输方式来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时钟寄存器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操作。实时时钟常用于需要时间设定和显示的场合，在单片机应用系统中很常见，熟练掌握本章可以轻松实现单片机的时钟显示扩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排列，如图所示。其中各个引脚功能如下所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44956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命令字节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从器件，由外部微处理器来控制数据传输。每次传送时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写入一个命令字节开始，后面是数据字节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439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数据格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格式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时钟两种操作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6520" y="2666880"/>
            <a:ext cx="609588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0.1.4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数据传输方式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外部微处理器之间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传送同步串行数据。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串行通信时的位同步时钟，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脉冲传送一位数据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每次数据传送时以字节为单位，先发送低位，再发送高位，因此传送一个字节需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脉冲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据传输可采用单字节或多字节突发方式进行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81080" y="4648320"/>
            <a:ext cx="620568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读写实时时钟芯片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串行接口，只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引脚便可以完成操作，其使用非常方便。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作为外部微处理器，来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控制。当然也可以选择其它兼容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给出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写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电路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057400" y="2438280"/>
            <a:ext cx="609588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编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的程序，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控制。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47242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2:31Z</dcterms:created>
  <dc:creator>cheng</dc:creator>
  <dc:description/>
  <dc:language>en-US</dc:language>
  <cp:lastModifiedBy>cheng</cp:lastModifiedBy>
  <dcterms:modified xsi:type="dcterms:W3CDTF">2008-10-13T08:52:34Z</dcterms:modified>
  <cp:revision>2</cp:revision>
  <dc:subject/>
  <dc:title>第30章  实时时钟芯片应用</dc:title>
</cp:coreProperties>
</file>