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058-8AA8-489A-B30B-5695B38D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DD2-DEC5-4730-85D3-BE4CAF9A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DFA-BD54-41A1-8459-531C5DC9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432-0993-4AB2-AC1B-8F9405AA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7DB-C94D-4EA1-B9B9-74615DE0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276A-BA4B-430F-8885-E3351F0F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26D-0313-42EE-AFD3-97F4F838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6E1-08ED-4977-8F9E-8EB2FC1E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E7B-8F20-45A1-A088-9107C156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D15-1DA1-4544-A7D8-6B18FC9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9B0-A12D-4245-966D-9FEDE268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6CD-1A3F-4EAB-B864-F5AF46F3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0D59-55BD-43AD-B26C-0AE4AE98CDE3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下的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实时多任务操作系统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适用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一种微处理器实时多任务操作系统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在一般性的小型单片机程序中，采用单一进程并配以中断处理则可以完成大部分的设计需求。但是，对于一些复杂的设计项目，需要同时执行多个任务或者进程。此时，传统的设计方式使得程序比较复杂，而且性能难以满足要求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一个强大的任务管理工具，其可以在单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管理多个任务或者进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得复杂的多任务程序设计变得简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将主要介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，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种类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任务管理及配置、系统函数等。本章最后通过一个简单的实例来讲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多任务操作系统的设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5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其他特性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实时多任务操作系统，完全不同于一般的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有自己独特的概念和特点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中断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可以使用中断，其中断函数以并行方式工作。中断函数可以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核通信，并可以将信号或者消息发送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指定任务中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，中断一般配置为一个任务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信息传递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支持任务之间的信息交换，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recv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sr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messag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实现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信息是一个可以被存储器看作是数字或者指针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数值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可以支持使用存储器库系统的变量信息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：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集成了一个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通信模块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/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可以轻松地实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总线的通信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作为一个任务来使用，可以通过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来实现信息的传递，其他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终端可以配置为一般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程序，也可以是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实时操作系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: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集成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控制器和从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BU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任务主要用于支持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l 804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间的信息传递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事件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系统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简化版本，其可以完成绝大多数的实时多任务操作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。这些函数主要用于任务管理、任务通信以及其他服务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可以直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调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中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可以被任务专用，而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头的函数则表示可以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函数专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函数时，需要在程序中加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51TNY.h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头文件。在该头文件中，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函数的说明以及所有常数声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isr_send_signal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sr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2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清除指定任务的信号标志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clear_signal 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所需要清除信号标志的任务号。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标志清除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信号标志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指定任务的信号标志，主要用于选择所定义的输出状态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clearsignal 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clear_signal 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除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信号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crea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启动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crea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启动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启动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启动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无法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删除指定任务号的任务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delete_task (unsigned char taskid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所需要删除任务的任务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与任务描述的数字相一致，可取值的范围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删除任务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删除任务成功，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指向的任务不存在或者任务没有启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0.3.5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获得当前运行任务的任务号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running_task_id (vo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当前任务号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running_task_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返回值表示当前任务的任务号。使用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delete_tas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void task_ osrunningtaskid (void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 rid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d= os_running_task_id(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intf(“rid=%d\n”,rid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send_signal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主要用于向一个任务发送信号。其函数原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os_send_signal(unsigned char taskid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示接收信号的任务号。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信号发送成功，如果返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则表示指向的任务不存在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在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askid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所指定的任务发送信号时，如果该任务正在等待信号，则信号到达后，任务再次执行。如果任务正在执行其他操作，则信号将被存储在所访问的任务信号标志中。使用函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程序示例如下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#include &lt;RTX51TNY.h&gt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void task_ossendsignal(void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_task_ 2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send_signal(3)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向任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发送信号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(unsigned char event_sel, unsigned char ticks, unsigned int dummy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超时，即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暂停当前任务，等待信号的到来。其函数原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os_wait1(unsigned char event_sel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等待发生的事件，其不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，只能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G_EVE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信号被成功接受；如果返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OT_O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表示该函数中所设置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参数无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时多任务操作系统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复杂的微处理应用项目中，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时执行多个任务或者进程。实时多任务操作系统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O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以灵活地为各个任务分配系统资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内存以及时间等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可以运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使用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编写程序，可以运行于所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身提供了灵活的时间分配，以及任务的响应和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os_wait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待函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要用于暂停当前任务，等待一个或多个事件发生。其函数原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har os_wait2(unsigned char event_sel, unsigned char ticks)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参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示等待发生的事件。可以选择的事件有如下几种形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IV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间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SI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信号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_TM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等待的时间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些事件可以单独使用，也可以在一起组合使用，示例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TMO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event_sel=K_SIG | K_IVL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管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个子集，其任务管理继承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性，又有自身的特点。这里首先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状态，然后介绍所支持的事件以及任务切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1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状态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任务状态，任何一个任务必须处于其中一个确定的状态。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状态分别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等待运行。其前面的任务完成后，按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规则开始运行处于等待状态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UN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规定，每一个时刻只能有一个任务处于正在运行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AIT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正在处于等待状态。当指定的事件发生时，任务进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LETE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删除，不开始执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任务被一个循环超时所中断，该状态与状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相似。所不同的是，这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操作系统的内部循环任务切换操作而产生的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事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支持的事件包括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时间间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这些事件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中使用，下面分别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多任务之间通信的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统中，使用系统函数置位或者清除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一个任务在运行前可以使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来等待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，如果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未置位，则该任务将不执行，直到信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GN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置位后才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，并可以被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再次执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超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延时，由定时器脉冲来确定持续时间。如果某个任务调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函数时带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参数，则其将被挂起直到延时结束，接着将返回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状态并可以被再次运行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主要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函数开始的时间间隔，由定时器脉冲来确定间隔延时时间。这里需要指出的是，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定时器是不复位的，因此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与一直处于运行状态的定时器一起工作，这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不同。如果某个任务是在同步间隔内执行的，则其可以使用时间间隔事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ERVA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4.3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循环任务切换允许“准平行”地执行多个循环或者任务。所谓“准平行”，即各个任务并不是一直并行运行的，而是各自在一段预定的时间内运行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执行时间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划分为多个时间段，并为每个任务分配一个时间段。一个任务只能在其分配的时间段内执行，然后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切换到另一个任务执行。各个时间段的持续时间可以在系统的配置文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设置，对应的变量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MESHARIN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也可以通过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来通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允许另外一个任务来执行，这样便不用等待一个任务的时间段结束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主要是将当前执行的任务挂起，以等待一个特定的事件发生，在等待过程中，便可以运行任何其他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5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配置文件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一般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按照默认的参数设置来运行。但是，其系统定时器间隔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等都可以重新配置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参数配置文件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F_TNY.A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在该配置文件中，用户可以进行自由配置的参数有如下几个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使用的系统时钟中断的寄存器组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系统定时器间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循环切换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IMEOU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值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内部数据存储器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启动后自由堆栈的大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及限定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用户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上运行实时多任务操作系统提供了便利，然而其对编译环境及硬件有特定的要求。另外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函数、指针和寄存器的选择同普通的单片机程序也有所区别，这些在使用时都要及时注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要求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在编译环境和硬件系统方面的要求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编译环境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实时任务操作系统时，在计算机软件方面，需要以下支持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译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L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定位器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宏汇编器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硬件系统要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的运行，需要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进行合理的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多种存储器模式，存储器模式的选择仅影响应用程序目标文件的定位，可以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环境中进行设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应用程序可以在外部存储器中存取，当然也可以在没有外部扩展数据存储器的单片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统中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6.2  RTX-51 Tiny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注意事项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上述要求外，在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时，还需要注意以下一些事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任务定义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寄存器组选择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处理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再入函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库函数的使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数据指针和算术处理器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0.7  RTX-51 FUL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系统函数及技术参数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对实时多任务操作系统更多的功能支持，下面主要介绍一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系统函数以及相关的技术参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目前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 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μVison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支持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两个版本：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别介绍如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运行时，允许多达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优先权任务的切换和循环，并能够并行地利用单片机的中断功能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还支持程序中的信号传递，以及与系统邮箱（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Mailbox System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信号量之间的消息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中断、超时、中断或任务的信号、中断或任务的消息以及信号量的事件等待。同时，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还可以进行存储器分配及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一个精简子集，主要运行在没有外部存储器扩展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系统中。但是，使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可以访问外部的存储器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样允许任务的切换、中断功能的并行应用以及信号传递。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函数可以支持超时、时间间隔以及来自中断或任务的信号等待事件。在</a:t>
            </a:r>
            <a:r>
              <a:rPr b="0" sz="20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不能进行占先式任务处理、消息处理以及存储器的分配和释放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1  RTX-51 FU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一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的系统函数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同样有，同时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还拥有一些特有的函数。常用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函数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62481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7.2  RTX-51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技术参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，其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特点进行了特定的优化和限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技术参数要求，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70581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介绍了运行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硬件平台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不同于普通的单片机程序，这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任务调度、系统函数、任务管理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配置进行了详细的阐述。熟练掌握和运用本章内容，可以简化负责的多任务单片机系统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1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与单任务程序的比较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不同的设计任务，可以采用不同的方式来完成。前面几章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，均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程序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开始执行，是一个单一的进程，除非有中断打断。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操作系统的程序，则允许多个进程并行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简单的单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多任务循环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多任务操作系统的程序结构和以前介绍的标准单进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有很大的区别。本节将主要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任务调度方式：循环任务调度、事件任务调度、信号任务调度和抢先任务切换。另外，还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一些其他的特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1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是按照预先划分的时间片来循环轮流执行多个任务的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使用一个定时子程序，其中断驱动由单片机的硬件定时器来完成。这个定时子程序产生周期性的中断，用来驱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钟实现时间片的划分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任务调度中，程序不要求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自动从任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开始执行。上一节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任务程序便是采用的这种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某些多任务程序，如果包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函数，则需要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create_tas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tart_syste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函数来人工启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时操作系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2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事件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任务调度是使用事件来实现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事件可以用来更加灵活地为各个任务分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间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内核发送事件，暂停当前的任务，从而可以实现在等待指定的事件时可以执行其他的任务。最典型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件是时钟信号的超时周期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发送中断事件的程序示例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3  RTX-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信号任务调度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信号任务调度是使用信号来完成多任务之间切换的调度方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信号同样用来调度系统中的多任务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统中，可以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send_sign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向另一个任务发送信号，接收信号的任务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信号。当任务接收到信号后，便结束等待状态，开始向下执行。如果，任务在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s_wa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等待接收信号之前，信号已经发送过来，那么该任务将立即继续执行，不会再等待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0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优先级及抢先任务切换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提供了优先级设置及抢先的任务切换，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Tin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则不具备这个功能。在默认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有的任务优先级均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这是系统中最低的优先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 FU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优先级可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~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当高优先级的任务生效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TX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中断低优先级的任务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8:47Z</dcterms:created>
  <dc:creator>cheng</dc:creator>
  <dc:description/>
  <dc:language>en-US</dc:language>
  <cp:lastModifiedBy>cheng</cp:lastModifiedBy>
  <dcterms:modified xsi:type="dcterms:W3CDTF">2008-10-13T07:39:56Z</dcterms:modified>
  <cp:revision>2</cp:revision>
  <dc:subject/>
  <dc:title>第20章  C51下的RTX-51实时多任务操作系统</dc:title>
</cp:coreProperties>
</file>