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F4D-A3D8-4616-8FF0-A75074F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CA-A146-46CB-B201-3AF0E25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6D7-10ED-433C-8D79-319D72E7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29E-BF34-4F36-95A4-1C16990E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849-07F9-4A43-8F2E-8153177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BBD-096A-4E07-B167-CF0CB199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EF4-B4C3-4CBA-8204-CAA10C17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81-4FC1-4E0C-A9B7-09FBCC93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775-96C5-43D4-9E14-009FD9E5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B3E-6810-4EB4-926B-65A7D41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B40-88D2-4DB6-8F77-7F27393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215-21D6-46C1-A6CE-1FA54ED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331B-929F-44F5-94E4-11B03DF45CA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道路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常用于处理复杂的多任务控制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支持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管理工具，可以使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微处理器可以管理多个任务或者进程。目前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本章通过一个道路交通灯控制系统，来讲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lin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来编辑从串口接收到的字符，该函数位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COMMAND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getke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获取串行口输入的命令，然后对不同的命令进行不同的处理。程序规定了如下几个命令键及其代码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7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CKSPA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道路交通灯的运行原理，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来实现道路交通灯的控制模拟。本章给出了详细的电路图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多任务程序。通过本章的学习，可以掌握实时多任务操作系统的设计，尤其是基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也就是常说的红绿灯，这是最常见的一种控制系统，在一般的道路交叉口都可以看到。道路交通灯的控制综合了一般测控系统常用的功能，包括按键输入、时钟控制、显示以及串口通信等。下面介绍道路交通灯的基本原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道路交通灯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典型的道路交通灯示意图，如图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2.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所示。其中主干道为双向的交通线路，和其垂直的辅路可供行人行走。主干道上的红绿灯指挥车辆的行驶，辅路上的红绿灯指挥行人的通过与禁止。行人按钮用于行人通过马路的申请，当按下该按钮后，主干道变为红灯，禁止车辆通过，此后行人路灯变为绿灯，行人便可以通过马路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2913120"/>
            <a:ext cx="4800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道路交通灯使用一般的单进程程序很难简洁有效地实现，如果采用实时多任务系统则可以很容易达到很好的效果。在一个用户定义的时间段里，交通灯受系统控制。在规定时间段之外，黄灯闪烁。如果一个行人按下了行人按钮，交通灯立即进入行人过马路状态，表示行人需要穿过马路。否则，交通灯持续不断地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采用实时多任务操作系统，则道路交通灯控制系统至少应该包括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初始化系统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完成交通灯控制器的命令处理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使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在活跃的时间段（在开始和结束时间之间）里以后，控制交通灯的交变显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并且执行相应的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控制系统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24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交通灯控制系统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道路交通灯控制系统的设计。其中采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实时多任务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67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划分及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进行交通灯控制，整个系统将被分成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初始化串口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完成交通灯控制器的命令处理，并负责控制和处理接收到的串行命令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落在活跃的时间段（在开始和结束时间之间）里以后，控制交通灯的交错变化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如果按钮按下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信号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在串行指令里遇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符，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一个信号，并且终止显示命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通信函数用于处理串行口的中断数据通信。其函数包含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RIAL_Communication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包含基本的串行口初始化、字符输入输出以及串行中断处理等。下面在介绍各个函数之前，首先给出程序需要用到的一些头文件及预定于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8:33Z</dcterms:created>
  <dc:creator>cheng</dc:creator>
  <dc:description/>
  <dc:language>en-US</dc:language>
  <cp:lastModifiedBy>cheng</cp:lastModifiedBy>
  <dcterms:modified xsi:type="dcterms:W3CDTF">2008-10-13T09:02:02Z</dcterms:modified>
  <cp:revision>2</cp:revision>
  <dc:subject/>
  <dc:title>第32章  道路交通灯控制系统</dc:title>
</cp:coreProperties>
</file>