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557-A53C-45DC-B9CB-FDCFBF5E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2D3-526A-4AE3-9084-4B1B01AB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975-F0DF-47E7-9EA1-42A1DBF7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E43-9123-4DC4-BF06-E80CB387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CB7-E2FB-4DD4-9CB6-CA1D3610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C18-5D65-4DE1-9F41-AB17C3BB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B82-2719-4609-8D90-DB26F051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192-19D6-4550-A0BB-E589E424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E12-6178-4B42-91E8-DDA377D9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F7A-4453-4621-9F8E-C04C7760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785-B199-4F07-8F8A-1EE7A0A3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F25-6773-4034-9034-A42DD172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BCF2-61D2-4914-8FB4-AAC5A4FD7EA4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控制系统中，经常需要控制一些模拟信号，例如精确可调的电压电流输出、显示器亮度的调节以及激光二极管偏置电压等等。而一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外部总线接口为数字信号，无法直接产生需要的模拟信号。因此，需要将单片机的控制信号转换为期望的电压或电流等模拟信号。这便用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提供了良好的数字接口，可以和单片机的并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直接相连，由单片机来控制，使其输出要求的模拟量电压或模拟量电流等。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原理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类型以及技术参数。本章还介绍了一款性能优秀的电压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最后通过一个实际应用的例子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控制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电路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的测控系统中，很多设备或器件需要输入模拟的电压或电流来进行控制。在光通信领域中，经常需要对信号的强度以及相位进行精确的控制。其中便用到光纤型相位调制器，可以通过改变输入的电压，从而使通过的光信号的相位得到改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将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来设计光纤型相位调制器的驱动电路，实现精确的调制电压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相位调制的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位调制在光通信领域中主要用于改变输出光的相位。目前比较多的是利用线性电光效应实现光的相位调制，其利用模拟电压在调制器中产生的电场来改变器件的折射率，从而达到改变光的相位的目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线性电光效应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光纤型相位调制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77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调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介绍一种常用的电压调制系统，系统的原理图，如图所示。系统采用重复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脉冲激光器，即每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产生一个光脉冲。光脉冲在经过光纤相位调制器时被调制，并将调制后的光脉冲信号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5162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调制系统的电路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68436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6.4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光通信电压调制电路实例——程序部分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程序所实现的功能是，系统在上电的时候首先设置调制电压，即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的输出电压，然后将扫描按键输入，根据按键输入来执行不同的调制输出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状态编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根据前面电路图中的接线方式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控制了整个系统的运行模式。程序中采用状态转移的方式进行控制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的控制状态的编码具有如下几种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0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E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0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0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B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1 0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7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0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0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调制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程序。首先建立项目，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124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6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0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.1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1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F7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参数设置，无调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gital/Analog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转换也称为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，其进行的是数字量和模拟量之间的转换。一般来说，能够提供数字量转换为模拟量的器件，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或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器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技术可以利用成熟方便的数字处理技术，来产生和精确控制各种模拟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随着半导体工艺的发展，各种类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层出不穷。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在精度、转换速度、可靠性和方便性等方面都日趋成熟，并且其特有的数字接口可以很方便地和单片机相连，便于控制，从而很好地满足了各种测控系统的需求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相关知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.2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2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E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.3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3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D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阶梯波调制模式，这里分别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，来依次输出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函数的示例代码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ModeFun4(void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5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仿真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上面的程序，在实际进行硬件电路设计前可以进行程序的仿真，以保证程序运行的正确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程序编译通过后，便可以进行程序仿真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通过模拟按键输入来仿真不同调制模式的执行，通过观察各个引脚电平的变化，便可以判断程序执行的正确性。仿真的操作步骤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进入仿真调试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eripherals”→“I/O-Ports”→“Port 0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仿真窗口。以同样的操作可以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程序代码窗口，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逐条执行程序，观察并行端口的电平是否按规定的时序进行变化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的仿真窗口中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引脚置为低电平，仿真按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按下，即选择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用半波电压进行调制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执行程序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中，可以看到程序执行进入第二个分支，执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。从中可以看出在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端口输出是否正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运行效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这个电路中，采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现了对要求的模拟调制电压信号的输出。通过实际测试对光脉冲进行调制，取得了很好的效果。电路实际的调制电压输出，可以在示波器上看到，如图所示。其中显示了在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下，电路输出的阶梯电压调制的情形。从图中可以看出该电路系统的输出完全符合要求，具有很高的波形质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8102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首先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基本知识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原理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类型及技术参数，然后介绍了一个高速易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最后通过一个具体的实例，介绍了如何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光通信领域中完成对光信号的相位的精确调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在测控领域有着广泛的应用，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处理模拟信号的能力，是现代电子设计中不可缺少的一部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基本功能是，将一个数字量按照比例转换成模拟量（电压或者电流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所采用的基本方法是，将数字量转化成二进制数据，其每一位产生一个相应的电压或者电流，而这个电压或者电流的大小正比于相应的二进制位的权，最后将这些电压或者电流相加并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个数字量是由数字代码按位组合而成的，每一位数字代表一定的“权”，一个数字与对应的权相结合，就代表了一个具体的数值，把所有的数值相加，便得到该数的数字量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正是使用了这一点，其要求该数字量对应一个模拟量，则只需将各位数字量分别转换成相应的模拟量，然后将所有的模拟量相加，所得到的总和即是该数字量相对应的模拟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2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照不同的用途及特性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不同的类型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输出模拟量的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数字量的位数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接口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内部是否集成锁存器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3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技术参数很多，如分辨率、量程、转换建立时间等。下面分别介绍这些技术参数的具体含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分辨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精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标称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实际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转换建立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尖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D55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市场上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很多种型号，在选择时需要考虑其的精度、量程范围以及转换建立时间等参数，同时还要注意使用的方便性。这里介绍一款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，具有高的转换速度以及简单方便的控制接口的电压输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1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引脚分配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内部功能框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主要性能指标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并行数字量输入宽度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两种电压的输出范围，分别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相对精度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S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转换建立时间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一电源供电，电源电压的范围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+4.5V~+16.5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具有基准电压源，不用外接基准源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集成有数据输入锁存器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低功耗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5mW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4038480"/>
            <a:ext cx="57150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2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输出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模拟电压输出范围，供不同的场合使用。其输出范围的选择依赖于简单的外部接线方式，使用起来很方便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须外部调整便可以获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±1/2L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精度的输出电压。下面分别介绍如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两种电压输出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4691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3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锁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一款内部集成数据输入锁存器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器，在数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模拟量转换时可以将输入数据锁存，减少干扰，而且可以方便地将多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连接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数据总线上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数据锁存由片选信号和芯片使能信号来控制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逻辑功能图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57:45Z</dcterms:created>
  <dc:creator>cheng</dc:creator>
  <dc:description/>
  <dc:language>en-US</dc:language>
  <cp:lastModifiedBy>cheng</cp:lastModifiedBy>
  <dcterms:modified xsi:type="dcterms:W3CDTF">2008-10-13T08:27:17Z</dcterms:modified>
  <cp:revision>2</cp:revision>
  <dc:subject/>
  <dc:title>第26章  D/A转换实例</dc:title>
</cp:coreProperties>
</file>