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8A37-A845-4E45-B3EF-1A6518834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B8EF-557C-4C9D-922F-2576BF59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E9E9-439D-4325-B3E1-3188B7561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7EC2-6A08-4C26-8D26-36CAD4A2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D0D8-C672-4C75-A65A-F6935B8B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6543-BA6E-4593-9ED3-569117E5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267B-FFF5-4226-9DE2-5A97E2C8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9D0A-D573-453A-9D34-1DA47C85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4892-B906-4EDA-B159-E5A74D68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DC8F-5108-4BB0-8706-0D6592BF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30AB-A282-4A61-B9EE-97DAD7E5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2BCA-306C-403D-B3DE-C6116E0C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C15B-6743-4876-A6CA-31B7E8AFEC30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串行总线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应用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同步串行总线接口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ational Semiconduct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提出的串行同步双工通讯接口。由于其采用三根信号线，所以常称为三线制同步串行总线接口。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同步串行总线接口最早应用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ational Semiconduct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HP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微控制器上，后来被广泛应用到其他微控制器、存储器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等领域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占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少，使用简单方便，可以提高系统的可靠性。本章主要介绍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接口，以及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接口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的使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4.3.3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读写子函数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的操作需要严格遵守总线协议。这里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93C6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所用到的操作指令封装为子函数，方便调用。这些子函数不仅适用于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同样适用于其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接口的器件。下面分别进行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4.3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主程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通过调用前面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读写子函数来实现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93C6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操作。其中，在程序中指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2.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2.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2.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2.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。主函数中首先初始化串行口为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波特率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800bit/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接着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循环语句来扫描串口输入，根据输入数据来调用函数执行不同的功能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了程序设计的方便，这里规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93C6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指令格式为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0001××A8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其中，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起始位，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××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指令的操作码，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8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地址码。这样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93C6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指令可以表示为如下所示的几种形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4.3.5  Microware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串行总线仿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提供了很好的信号仿真功能，下面就利用其进行程序的仿真分析。具体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828800" y="2840040"/>
            <a:ext cx="606744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4.4 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讲解了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，并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的操作指令及其操作时序。本章最后通过一个具体的实例，介绍了如何使用标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来在软件上仿真模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。其中给出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读写的子函数以及一个完整的实例。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减少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的使用，在实际电路设计中具有广泛的应用，读者应该熟练掌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4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三线制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串行总线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同步串行总线接口是一种串行同步双工通讯接口，由美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ational Semiconduct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最早提出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根信号线进行通讯，分别介绍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时钟信号线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数据输入线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数据输出线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362320" y="4267080"/>
            <a:ext cx="457200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4.2  Microware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串行总线接口的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EEPROM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由于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接口的优势，目前多家公司推出了各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接口的产品。其中，使用最多的便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接口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34.2.1  Microware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串行总线接口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一种可用电气方法在线擦除和写入的存储器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既有普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可读可写的特性，又具有非易失性存储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掉电后仍然能保持所存储数据的优点。许多大的半导体公司都生产可支持三线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串行总线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例如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ational Semiconducto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推出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M93C06/46/56/6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产品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icrochip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推出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93C06/46/56/6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93LC46/56/6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93AA06/46/5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以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93C46/56/57/6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产品。这些三线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串行总线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具有如下特点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一般采用单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+5V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电源供电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具有较低的功耗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具有三态输出，并可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T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电平兼容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擦除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写入时间不超过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m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擦除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写入周期寿命一般都可达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万次以上，有的产品已可达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万次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片内写入的数据保存寿命可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年以上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4.2.2  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接口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指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93C46/56/57/6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串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包含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指令，这些指令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串行总线兼容。其中，对于不同的型号，其具体的指令所代表的含义略有区别。下面分别进行介绍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93C4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具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K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比特的存储空间，可以按照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28×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4×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来使用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93C4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所支持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串行总线指令及其说明，如表所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769644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4.2.3  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接口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指令时序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前面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93C46/56/57/6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所支持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指令。下面分别介绍各个指令执行的时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A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WE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RAS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RIT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RA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RA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WD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4.3  5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系列单片机读写三线制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实例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基本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中，没有集成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。当其与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连接时，只能够采用软件模拟的方式来实现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机的操作。这里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93C6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例，介绍如何在软件上实现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的数据操作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4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路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来读写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93C6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系统电路图，如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4.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09680" y="2819520"/>
            <a:ext cx="470088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4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建立项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首先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建立项目，具体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286000" y="2590920"/>
            <a:ext cx="4962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3:10:04Z</dcterms:created>
  <dc:creator>cheng</dc:creator>
  <dc:description/>
  <dc:language>en-US</dc:language>
  <cp:lastModifiedBy>cheng</cp:lastModifiedBy>
  <dcterms:modified xsi:type="dcterms:W3CDTF">2008-10-13T09:12:36Z</dcterms:modified>
  <cp:revision>2</cp:revision>
  <dc:subject/>
  <dc:title>第34章  Microware串行总线EEPROM的应用</dc:title>
</cp:coreProperties>
</file>