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1915-DFA9-48FF-9270-9E3F132F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24E0-F262-4121-A93C-C160CB42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02AD-B861-4202-A146-CC0AE714C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AD86-B143-489E-B661-E8F71BBDF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1C6A-6FB7-4A3B-AE0A-B5E2E448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35C1-80DE-4277-8208-A9813FD0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2F64-8A0C-41F2-B213-6E84C959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BA19-0EBD-41DE-8BB6-D0D4BA43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C463-35A5-4A3E-8C1E-7AF41C2B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E9FE-D36C-41BE-A443-5A61671A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163E-8420-4C4D-8C93-B7BD4B51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F974-20BE-4726-A87A-9D669029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3F39-606A-4724-BD6B-FE6571236CB9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下的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实时多任务操作系统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是适用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的一种微处理器实时多任务操作系统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O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。在一般性的小型单片机程序中，采用单一进程并配以中断处理则可以完成大部分的设计需求。但是，对于一些复杂的设计项目，需要同时执行多个任务或者进程。此时，传统的设计方式使得程序比较复杂，而且性能难以满足要求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是一个强大的任务管理工具，其可以在单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上管理多个任务或者进程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使得复杂的多任务程序设计变得简单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本章将主要介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实时多任务操作系统，包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种类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任务管理及配置、系统函数等。本章最后通过一个简单的实例来讲解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实时多任务操作系统的设计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2.5  RTX-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其他特性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9080" y="1447920"/>
            <a:ext cx="71089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实时多任务操作系统，完全不同于一般的单片机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程序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有自己独特的概念和特点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中断：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统可以使用中断，其中断函数以并行方式工作。中断函数可以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内核通信，并可以将信号或者消息发送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指定任务中。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中，中断一般配置为一个任务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信息传递：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支持任务之间的信息交换，可以使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sr_recv_messag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sr_send_messag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send_messag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函数来实现。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统中，信息是一个可以被存储器看作是数字或者指针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数值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中还可以支持使用存储器库系统的变量信息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A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通信：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中集成了一个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A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总线通信模块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/CA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通过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/CA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可以轻松地实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A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总线的通信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CA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作为一个任务来使用，可以通过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A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网络来实现信息的传递，其他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A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终端可以配置为一般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程序，也可以是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实时操作系统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BITBUS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通信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:RTX-51 FUL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统中集成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BITBUS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主控制器和从控制器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BITBUS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任务主要用于支持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ntel 804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之间的信息传递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事件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3  RTX-51 Tiny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系统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一个简化版本，其可以完成绝大多数的实时多任务操作。这里首先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系统函数。这些函数主要用于任务管理、任务通信以及其他服务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系统函数可以直接被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调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系统函数中，以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开头的函数可以被任务专用，而以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sr_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开头的函数则表示可以被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中断函数专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系统函数时，需要在程序中加入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51TNY.h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头文件。在该头文件中，提供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统函数的说明以及所有常数声明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发送信号函数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isr_send_signal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发送信号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sr_send_signa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要用于向一个任务发送信号。其函数原型如下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 isr_send_signal(unsigned char taskid)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参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ask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示接收信号的任务号。发送信号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sr_send_signa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果返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表示信号发送成功，如果返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表示指向的任务不存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20.3.2  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清除信号标志函数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os_clear_signal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清除信号标志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clear_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主要用于清除指定任务的信号标志。其函数原型如下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har os_clear_signal (unsigned char taskid);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其中，参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aski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表示所需要清除信号标志的任务号。清除信号标志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clear_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返回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则表示信号标志清除成功，如果返回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-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则表示指向的任务不存在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清除信号标志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clear_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清除指定任务的信号标志，主要用于选择所定义的输出状态。使用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clear_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程序示例如下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#include &lt;RTX51TNY.h&gt;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void task_osclearsignal (void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_task_ 2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clear_signal (3)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清除任务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中的信号标志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3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启动任务函数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os_create_task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启动任务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create_tas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要用于启动指定任务号的任务。其函数原型如下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 os_create_task (unsigned char taskid)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参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ask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示所需要启动任务的任务号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ask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必须与任务描述的数字相一致，可取值的范围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~1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启动任务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create_tas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果返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表示启动任务成功，如果返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表示指向的任务不存在或者任务无法启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3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删除任务函数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os_delete_task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删除任务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delete_tas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要用于删除指定任务号的任务。其函数原型如下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 os_delete_task (unsigned char taskid)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参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ask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示所需要删除任务的任务号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ask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必须与任务描述的数字相一致，可取值的范围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~1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删除任务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delete_tas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果返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表示删除任务成功，如果返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表示指向的任务不存在或者任务没有启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20.3.5  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当前任务号函数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os_running_task_id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当前任务号函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os_running_task_i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主要用于获得当前运行任务的任务号。其函数原型如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har os_running_task_id (void)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其中，当前任务号函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os_running_task_i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返回值表示当前任务的任务号。使用函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os_delete_task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程序示例如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#include &lt;RTX51TNY.h&gt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void task_ osrunningtaskid (void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_task_ 2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nsigned char rid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id= os_running_task_id()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rintf(“rid=%d\n”,rid)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3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发送信号函数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os_send_signal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发送信号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send_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主要用于向一个任务发送信号。其函数原型如下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har os_send_signal(unsigned char taskid);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其中，参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aski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表示接收信号的任务号。发送信号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send_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返回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则表示信号发送成功，如果返回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-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则表示指向的任务不存在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发送信号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send_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在向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aski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所指定的任务发送信号时，如果该任务正在等待信号，则信号到达后，任务再次执行。如果任务正在执行其他操作，则信号将被存储在所访问的任务信号标志中。使用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send_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程序示例如下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#include &lt;RTX51TNY.h&gt;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void task_ossendsignal(void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_task_ 2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send_signal(3)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向任务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发送信号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3.7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等待函数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os_wai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待函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主要用于暂停当前任务，等待一个或多个事件发生。其函数原型如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har os_wait(unsigned char event_sel, unsigned char ticks, unsigned int dummy)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其中，参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vent_se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表示等待发生的事件。可以选择的事件有如下几种形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_IV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等待的时间间隔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_SI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等待的信号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_TM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超时，即等待的时间到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这些事件可以单独使用，也可以在一起组合使用，示例如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vent_sel=K_TMO | K_IVL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vent_sel=K_SIG | K_IVL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3.8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等待函数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os_wait1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待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wai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要用于暂停当前任务，等待信号的到来。其函数原型如下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 os_wait1(unsigned char event_sel)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参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vent_s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示等待发生的事件，其不同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，只能设置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_SIG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待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wai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果返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IG_EVEN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表示信号被成功接受；如果返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OT_O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表示该函数中所设置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vent_s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参数无效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1  RTX-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实时多任务操作系统简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复杂的微处理应用项目中，需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同时执行多个任务或者进程。实时多任务操作系统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O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可以灵活地为各个任务分配系统资源，包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内存以及时间等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中，可以运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多任务实时操作系统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多任务操作系统使用标准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来编写程序，可以运行于所有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中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自身提供了灵活的时间分配，以及任务的响应和切换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3.9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等待函数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os_wait2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待函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os_wait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主要用于暂停当前任务，等待一个或多个事件发生。其函数原型如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har os_wait2(unsigned char event_sel, unsigned char ticks)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其中，参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vent_se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表示等待发生的事件。可以选择的事件有如下几种形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_IV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等待的时间间隔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_SI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等待的信号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_TM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等待的时间到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这些事件可以单独使用，也可以在一起组合使用，示例如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vent_sel=K_TMO | K_IVL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vent_sel=K_SIG | K_IVL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4  RTX-51 Tiny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任务管理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作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一个子集，其任务管理继承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特性，又有自身的特点。这里首先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任务状态，然后介绍所支持的事件以及任务切换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4.1  RTX-51 Tiny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任务状态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支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种任务状态，任何一个任务必须处于其中一个确定的状态。这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种状态分别如下所述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EAD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任务正在等待运行。其前面的任务完成后，按照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规则开始运行处于等待状态的任务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UNIN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任务正在运行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规定，每一个时刻只能有一个任务处于正在运行状态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WAITIN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任务正在处于等待状态。当指定的事件发生时，任务进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EAD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状态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ELET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任务被删除，不开始执行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IMEOU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任务被一个循环超时所中断，该状态与状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EAD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相似。所不同的是，这是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操作系统的内部循环任务切换操作而产生的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4.2  RTX-51 Tiny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事件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中支持的事件包括信号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超时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IMEOU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时间间隔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NTERV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这些事件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函数中使用，下面分别介绍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信号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：主要用于多任务之间通信的位。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统中，使用系统函数置位或者清除信号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一个任务在运行前可以使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函数来等待信号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置位，如果信号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未置位，则该任务将不执行，直到信号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置位后才返回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EAD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状态，并可以被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再次执行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超时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IMEOU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：主要用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函数开始的时间延时，由定时器脉冲来确定持续时间。如果某个任务调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函数函数时带有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IMEOU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参数，则其将被挂起直到延时结束，接着将返回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EAD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状态并可以被再次运行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时间间隔事件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NTERV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：主要用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函数开始的时间间隔，由定时器脉冲来确定间隔延时时间。这里需要指出的是，由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定时器是不复位的，因此事件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NTERV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将与一直处于运行状态的定时器一起工作，这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IMEOU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不同。如果某个任务是在同步间隔内执行的，则其可以使用时间间隔事件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NTERV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4.3  RTX-51 Tiny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任务切换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循环任务切换允许“准平行”地执行多个循环或者任务。所谓“准平行”，即各个任务并不是一直并行运行的，而是各自在一段预定的时间内运行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执行时间被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划分为多个时间段，并为每个任务分配一个时间段。一个任务只能在其分配的时间段内执行，然后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核切换到另一个任务执行。各个时间段的持续时间可以在系统的配置文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ONF_TNY.A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设置，对应的变量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IMESHARIN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另外，也可以通过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函数来通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允许另外一个任务来执行，这样便不用等待一个任务的时间段结束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函数主要是将当前执行的任务挂起，以等待一个特定的事件发生，在等待过程中，便可以运行任何其他的任务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5  RTX-51 Tiny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配置文件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一般情况下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统按照默认的参数设置来运行。但是，其系统定时器间隔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IMEOU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值等都可以重新配置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参数配置文件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NF_TNY.A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在该配置文件中，用户可以进行自由配置的参数有如下几个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所使用的系统时钟中断的寄存器组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系统定时器间隔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于循环切换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IMEOU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值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统内部数据存储器的大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统启动后自由堆栈的大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6  RTX-51 Tiny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要求及限定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用户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上运行实时多任务操作系统提供了便利，然而其对编译环境及硬件有特定的要求。另外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的函数、指针和寄存器的选择同普通的单片机程序也有所区别，这些在使用时都要及时注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6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使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要求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使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时，在编译环境和硬件系统方面的要求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编译环境要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使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实时任务操作系统时，在计算机软件方面，需要以下支持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编译器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L5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连接定位器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宏汇编器 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硬件系统要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一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统的运行，需要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进行合理的设置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支持多种存储器模式，存储器模式的选择仅影响应用程序目标文件的定位，可以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编译环境中进行设置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的应用程序可以在外部存储器中存取，当然也可以在没有外部扩展数据存储器的单片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统中运行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6.2  RTX-51 Tiny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注意事项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除了上述要求外，在进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程序设计时，还需要注意以下一些事项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任务定义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寄存器组选择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中断处理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再入函数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库函数的使用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多数据指针和算术处理器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0.7  RTX-51 FUL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系统函数及技术参数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提供了对实时多任务操作系统更多的功能支持，下面主要介绍一下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的系统函数以及相关的技术参数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1.1  RTX-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种类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23520"/>
            <a:ext cx="710892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目前，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eil 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支持的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有两个版本：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分别介绍如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运行时，允许多达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优先权任务的切换和循环，并能够并行地利用单片机的中断功能。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还支持程序中的信号传递，以及与系统邮箱（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Mailbox System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信号量之间的消息传递。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的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函数可以支持中断、超时、中断或任务的信号、中断或任务的消息以及信号量的事件等待。同时，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还可以进行存储器分配及释放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一个精简子集，主要运行在没有外部存储器扩展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系统中。但是，使用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也可以访问外部的存储器。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同样允许任务的切换、中断功能的并行应用以及信号传递。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函数可以支持超时、时间间隔以及来自中断或任务的信号等待事件。在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，不能进行占先式任务处理、消息处理以及存储器的分配和释放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7.1  RTX-51 FULL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函数一览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中的系统函数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中同样有，同时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中还拥有一些特有的函数。常用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函数，如表所示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62481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7.2  RTX-51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技术参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多任务操作系统运行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硬件平台，其根据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特点进行了特定的优化和限定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技术参数要求，如表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95280" y="3352680"/>
            <a:ext cx="705816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8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介绍了运行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硬件平台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多任务操作系统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程序不同于普通的单片机程序，这里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任务调度、系统函数、任务管理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配置进行了详细的阐述。熟练掌握和运用本章内容，可以简化负责的多任务单片机系统设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1.2  RTX-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与单任务程序的比较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不同的设计任务，可以采用不同的方式来完成。前面几章介绍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程序，均包含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ai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函数。程序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ai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开始执行，是一个单一的进程，除非有中断打断。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多任务操作系统的程序，则允许多个进程并行执行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简单的单任务程序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多任务循环程序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多任务程序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2  RTX-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任务调度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多任务操作系统的程序结构和以前介绍的标准单进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程序有很大的区别。本节将主要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多任务程序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任务调度方式：循环任务调度、事件任务调度、信号任务调度和抢先任务切换。另外，还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一些其他的特性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2.1  RTX-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循环任务调度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循环任务调度是按照预先划分的时间片来循环轮流执行多个任务的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，使用一个定时子程序，其中断驱动由单片机的硬件定时器来完成。这个定时子程序产生周期性的中断，用来驱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钟实现时间片的划分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循环任务调度中，程序不要求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ai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函数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内核自动从任务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来开始执行。上一节中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多任务程序便是采用的这种方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某些多任务程序，如果包含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ai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函数，则需要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create_tas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start_syste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函数来人工启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操作系统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2.2  RTX-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事件任务调度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事件任务调度是使用事件来实现多任务之间切换的调度方式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事件可以用来更加灵活地为各个任务分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间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统中，可以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向内核发送事件，暂停当前的任务，从而可以实现在等待指定的事件时可以执行其他的任务。最典型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事件是时钟信号的超时周期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统中，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发送中断事件的程序示例如下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详细请参照本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2.3  RTX-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信号任务调度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信号任务调度是使用信号来完成多任务之间切换的调度方式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信号同样用来调度系统中的多任务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统中，可以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send_signa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向另一个任务发送信号，接收信号的任务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等待信号。当任务接收到信号后，便结束等待状态，开始向下执行。如果，任务在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等待接收信号之前，信号已经发送过来，那么该任务将立即继续执行，不会再等待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2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优先级及抢先任务切换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提供了优先级设置及抢先的任务切换，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则不具备这个功能。在默认情况下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所有的任务优先级均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这是系统中最低的优先级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优先级可以设置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~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当高优先级的任务生效时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将中断低优先级的任务执行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38:47Z</dcterms:created>
  <dc:creator>cheng</dc:creator>
  <dc:description/>
  <dc:language>en-US</dc:language>
  <cp:lastModifiedBy>cheng</cp:lastModifiedBy>
  <dcterms:modified xsi:type="dcterms:W3CDTF">2008-10-13T07:39:56Z</dcterms:modified>
  <cp:revision>2</cp:revision>
  <dc:subject/>
  <dc:title>第20章  C51下的RTX-51实时多任务操作系统</dc:title>
</cp:coreProperties>
</file>