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1D02-0893-4EF8-8DA1-9ACCBC344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B58A-72D4-4159-BD97-2963C4E3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9AF4-B0A4-4CBD-A347-BAE797B8B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6E8A-4249-453F-817D-76251B7E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BE1F-9CB4-4228-8A63-FAF011C2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A228-536E-4689-98A6-C32D0489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FD1E-1866-4AB8-B05C-4AC4A409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C237-1AC6-4A3F-A452-9E74C196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ED05-6D9B-4FAD-B86F-6EDD3E32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9EDE-3D6F-457E-AF72-E00B6B53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E085-B03F-4071-8F53-0B5ECD30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2642-2B61-4053-9384-FF0BAE2B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91E2-C2C9-4B98-868E-9ECC0ED17BE6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静态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器应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由于单片机内部存储器容量的限制，在单片机应用系统中，经常需要外扩程序存储器或者数据存储器。外部扩展的程序存储器可以用于复杂系统的程序代码的存储，而外部扩展的数据存储器可以用于保存采集或者传输的数据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最常用的存储器为可读写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，包括静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和动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两种。其中，静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以其接口简单方便、读写速度快等优点，在单片机系统中得到广泛的应用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本章详细介绍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的特点以及常用的静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这里还对串行通信接口进行了详细的介绍。本章通过一个具体的实例，讲解了如何通过计算机的串行通信接口以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来实现静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读写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2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统电路原理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电路原理图，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90720" y="2160720"/>
            <a:ext cx="76960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2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建立项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进行程序设计。首先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建立项目，具体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666880" y="3124080"/>
            <a:ext cx="426744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2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主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程序的流程图，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971800" y="2209680"/>
            <a:ext cx="32576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2.7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统运行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上位机的程序可以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C++ 6.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进行开发，由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方面的程序设计不是本书的重点，这里不再具体介绍程序的设计步骤，用户可以参阅其它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介绍串口程序设计的书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上位机软件的主要功能是选择特定的文件，并将其通过串行口发送给单片机，同时还可以接收单片机返回的数据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讲述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的种类和特点，并重点讲解了应用最为广泛的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。本章还对一款常用的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进行了详细介绍。最后，通过一个综合的实例介绍了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的读写。实例中使用了计算机的串行通信接口，以及单片机的串行接口设计。通过本章的讲解，读者可以掌握单片机系统中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的读写以及计算机串行的应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静态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器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是计算机或者单片机的记忆部件。微处理器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执行的程序、处理的数据以及中间结果等都存放在存储器中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目前常用的存储器芯片几乎全部采用半导体存储器。其有两个指标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容量，反映了存储记忆信息的多少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取时间，反映了工作速度的快慢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半导体存储器芯片根据应用可分为读写存储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RAM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只读存储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ROM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两大类。其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同时支持读和写的操作，因此应用十分广泛。这里主要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1.1  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器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又称随机存取存储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Random Access Memory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简称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它能够在存储器中任意指定的地方随时写入或读出信息；当电源掉电时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里的内容即消失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根据存储单元的工作原理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又分为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动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触发器作为存储单元存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存取速度快，只要不掉电即可持续保持内容不变。一般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集成度较低，成本较高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动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基本存储电路为带驱动晶体管的电容。电容上有无电荷状态被视为逻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随着时间的推移，电容上的电荷会逐渐减少，为保持其内容必须周期性地对其进行刷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电容充电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以维持其中所存的数据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静态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芯片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HM628128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I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封装的引脚示意图，如图所示。该芯片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MO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内部共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8k×8b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8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节的存储空间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2654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1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静态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芯片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读写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读写操作由引脚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S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和等来实现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读写操作的逻辑功能表，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3880" y="3733920"/>
            <a:ext cx="696276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静态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器读写实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单片机测控系统中，静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常用于程序存储器和数据存储器。这里通过一个具体的实例，讲解如何使用静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作为外部数据存储器，以及静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的读写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目前，在测控领域，计算机的应用越来越广泛。使用计算机做远程控制、数据采集、数据处理等十分方便。计算机在完成这些任务的时候，需要和外部设备进行通信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由于一般的计算机上都集成有串行接口，可以采用串行接口和外部设备进行通信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内部也集成有一个全双工的串行异步通信接口，因此，在本实例中采用单片机作为桥梁，实现计算机和外部设备的通信，并完成静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的读写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统原理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这里，我们通过计算机读写静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芯片，这里单片机作为计算机与外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存储器通信的桥梁。这个例子，涉及知识面比较广。其中用到单片机串行接口的设计、静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芯片的读写、计算机串行接口设计等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首先介绍一下整个系统设计的框架，如图所示。其中上位机，即计算机，需要将一批数据保存到外部的静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芯片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中。上位机和单片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通过串行通信接口相连，单片机在读写外部静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芯片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时，采用并行接口方式读写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整个系统的数据流向是，上位机将数据通过串行通信接口逐个发送给单片机，单片机接收到数据后，将数据依次写入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存储单元，直至写满。当数据发送完毕后，计算机再将数据从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HM62812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中读取出来，并送回上位机，以验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中数据的正确性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819520" y="4419720"/>
            <a:ext cx="374328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串行通信接口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目前计算机以及绝大多数的测控设备中都配备有异步串行通信接口，主要包括以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基本串行通信接口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232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232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232C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增强型串行通信接口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44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42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42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485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0m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电流环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因此，通过这些标准接口，能够方便地将单片机和外部测控设备、计算机或测量仪器等连接起来，构成一个完整的控制、通信系统。下面分别介绍这几种接口标准，其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232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最常用的，本章实例将使用该接口标准和单片机进行通信设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1.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与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RS-232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接口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例中需要采用单片机作为数据通信的桥梁。前面介绍过计算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232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口的电平范围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15V~+15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由于单片机的接口电路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T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信号，因此单片机与具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-232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准的串行接口（例如计算机）进行通信的时候，首先要解决的便是电平转换的问题。一般来说，可以选择一些专用的集成电路芯片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单向的串行数据传输，可以选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C148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N7518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芯片来实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I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电平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T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电平的转换，也可以选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C148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N7518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芯片来实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T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电平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I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电平的转换。这些芯片只能实行单方向的电平转换，并且使用时需要提供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±12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电源电压，这对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供电的单片机系统来说，不是很方便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3:07:43Z</dcterms:created>
  <dc:creator>cheng</dc:creator>
  <dc:description/>
  <dc:language>en-US</dc:language>
  <cp:lastModifiedBy>cheng</cp:lastModifiedBy>
  <dcterms:modified xsi:type="dcterms:W3CDTF">2008-10-13T08:57:02Z</dcterms:modified>
  <cp:revision>2</cp:revision>
  <dc:subject/>
  <dc:title>第31章  静态RAM存储器应用</dc:title>
</cp:coreProperties>
</file>